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FEEB-3A12-4712-9CE4-2EA2C46B4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4D82-5B71-4967-979E-3BDD7D75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7C48-AA2F-485A-A883-AEFE90FCF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2878-3D8D-4E22-BA2B-A8B47CCEC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C29D-527D-42EE-AC5A-CF8D32EB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5833-5C61-469B-98AF-88F3C466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169B-A4AC-41F5-B9A4-115B4FCF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C299-2322-45BA-AE15-8FE1C24C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18EF-6F69-4316-9FF0-6C6F2A72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06A8-DCF4-44F6-AAD4-4961C67E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1A7D-D66F-4985-94C6-93ED71E0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F6D1-285C-4468-879E-4774F368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8894-EFF9-4B62-A792-A6A2D1C9E2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785880" y="357120"/>
            <a:ext cx="7715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Calibri"/>
              </a:rPr>
              <a:t>Дворцовые переворот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8000" spc="-1" strike="noStrike">
                <a:solidFill>
                  <a:srgbClr val="000000"/>
                </a:solidFill>
                <a:latin typeface="Calibri"/>
              </a:rPr>
              <a:t>в России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8000" spc="-1" strike="noStrike">
                <a:solidFill>
                  <a:srgbClr val="000000"/>
                </a:solidFill>
                <a:latin typeface="Calibri"/>
              </a:rPr>
              <a:t>XVIII</a:t>
            </a:r>
            <a:r>
              <a:rPr b="1" i="1" lang="ru-RU" sz="8000" spc="-1" strike="noStrike">
                <a:solidFill>
                  <a:srgbClr val="000000"/>
                </a:solidFill>
                <a:latin typeface="Calibri"/>
              </a:rPr>
              <a:t> в.)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3"/>
          <p:cNvSpPr/>
          <p:nvPr/>
        </p:nvSpPr>
        <p:spPr>
          <a:xfrm>
            <a:off x="500040" y="428760"/>
            <a:ext cx="82868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шающая роль в дворцовых переворотах принадлежала гвард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 время переворотов дворяне получили много привилегий. Укрепился союз дворян с монархией, который достиг своей вершины при Екатерине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3"/>
          <p:cNvSpPr/>
          <p:nvPr/>
        </p:nvSpPr>
        <p:spPr>
          <a:xfrm>
            <a:off x="1071720" y="500040"/>
            <a:ext cx="70005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ичи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ворцовых переворо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1071720" y="1928880"/>
            <a:ext cx="735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 усиление роли гвардии, которая состояла из дворян, в решении государственных де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1071720" y="3071880"/>
            <a:ext cx="714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 действие царского указа о престолонаследии, по которому власть могла быть передана царствующим императором фактически любому л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3"/>
          <p:cNvSpPr/>
          <p:nvPr/>
        </p:nvSpPr>
        <p:spPr>
          <a:xfrm>
            <a:off x="1071720" y="857160"/>
            <a:ext cx="7358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и информ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исимов Е. В., Каменский А. Б. Россия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ервой половин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ка: История. Историк. Документ. М. : Мирос, 199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ючевский В.О. Курс русской истории. — М.: 198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рганов А. Л., Кацва Л. А. История Росси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VI – XV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.в. М.: Мирос, 199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сия и Романовы. Очерки из русской истории за время с 1613 по 1913 год. Под ред. П. Н. Жуковича. Москва.: «Россия», ростов – на – Дону: А/О «Танаис», 199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2726280" y="1357200"/>
            <a:ext cx="30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renatar.livejourna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5"/>
          <p:cNvSpPr/>
          <p:nvPr/>
        </p:nvSpPr>
        <p:spPr>
          <a:xfrm>
            <a:off x="3087000" y="171468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ages.google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714240" y="642960"/>
            <a:ext cx="4145040" cy="485784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5286240" y="642960"/>
            <a:ext cx="350064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ётр Великий скончался 28 января 1725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мирал он тяжело, его мучили сильные боли. «Отец Отечества» скончался и не назвал наследника. Однако, ещё в 1722 г. Пётр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издал указ о престолонаследии, согласно которому император мог завещать престол любому члену правящего дома Романов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714240" y="5643720"/>
            <a:ext cx="421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ётр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– первый император Росс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1071720" y="642960"/>
            <a:ext cx="707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смерти Петр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ступил период дворцовых переворо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1f497d"/>
                </a:solidFill>
                <a:latin typeface="Arial"/>
              </a:rPr>
              <a:t>Что такое дворцовые переворо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5"/>
          <p:cNvSpPr/>
          <p:nvPr/>
        </p:nvSpPr>
        <p:spPr>
          <a:xfrm>
            <a:off x="1000080" y="2286000"/>
            <a:ext cx="7215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Дворцовые перевороты – это борьба за власть верхушки господствующего клас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Дворянские группировки, опираясь на гвардию, сменяли друг дру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1071720" y="4714920"/>
            <a:ext cx="72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1f497d"/>
                </a:solidFill>
                <a:latin typeface="Arial"/>
              </a:rPr>
              <a:t>Почему происходили дворцовые переворо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3786120" cy="5307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571680" y="6000840"/>
            <a:ext cx="36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мператрица Екатерина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4572000" y="571680"/>
            <a:ext cx="42148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ереворот возглавил ближайший сподвижник Петра Великого светлейший князь А. Д. Меншиков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оддержке гвардии на русский престол была возведена Екатери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вдова Пет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Она была неглупа, но делами государства никогда не занималась. А. Меншиков правил государством сам через созданный им Верховный тайный со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 мая 1727 г. Екатери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мер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1357200" y="285840"/>
            <a:ext cx="192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1725 – 1727 г.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6072120" y="1571760"/>
            <a:ext cx="1643040" cy="19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857160" y="714240"/>
            <a:ext cx="3222720" cy="4572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642960" y="542916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мператор Пётр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1428840" y="357120"/>
            <a:ext cx="21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1727 – 1730 г.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4572000" y="1000080"/>
            <a:ext cx="38577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727 г. корона перешла к внуку Пет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царевичу Петру Алексеевичу (Петр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е влияние при дворе получили князья Долгорукие. По их требованию А. Меншиков с семьёй был сослан в Сибирь.  К власти пришли князья Долгорукие и князья Голицыны. Столицу перенесли в Москву, где Пёт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е дожив до 15 лет, умер. С ним пресеклась по мужской линии династия Романов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рики считают, что так произошёл новый переворо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2877840" cy="357192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428760" y="4572000"/>
            <a:ext cx="292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мператрица Анна Иоанн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1143000" y="357120"/>
            <a:ext cx="17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1730 – 1740 г.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3429000" y="428760"/>
            <a:ext cx="5357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астники Верховного тайного совета пригласили на престол из Курляндии Анну Иоанновну, племянницу Петр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Совет ограничил власть герцогини Курляндской «кондициями» – особыми условиями правления. Но вскоре, опираясь на поддержку дворян, она разорвала «кондиции» и ликвидировала Верховный совет, что стало очередным переворо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на Иоанновна окружила себя немцами, главную роль играл её фаворит Бирон (Эрнст Иоганн) – высокомерный, грубый, жестокий временщи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енью 1740 г. Анна Иоанновна заболела и наследником провозгласила сына племянницы Анны Леопольдовны  - Ивана Антоновича,  регентом при младенце назначен был Бир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1740 г. Бирон был свергнут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регентшей (1740 – 1741г.г.) стала Анна Леопольдовна, мать Ива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новый переворо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5500800" y="3214800"/>
            <a:ext cx="785880" cy="11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00040" y="785880"/>
            <a:ext cx="3500640" cy="435780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>
            <a:off x="357120" y="528624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мператрица Елизавета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1500120" y="428760"/>
            <a:ext cx="21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1741 – 1761 г.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4214880" y="571680"/>
            <a:ext cx="442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ряне были недовольны засилием немцев в России и совершили очередной дворцовый перевор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лизавета Петровна (дочь Пет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пришла в казармы Преображенского полка и призвала солдат служить ей так же, как они служили её отцу.  Во дворец гвардейцы внесли её на плеч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сь 20-летнее царствование дочери Петра Вели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лизавет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юбила всё русское. Она отстранила от двора иностранцев и, управляя государством, старалась идти по стопам от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мнению С. М. Соловьёва при Елизавете «Россия пришла в себ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3571920" cy="4653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6"/>
          <p:cNvSpPr/>
          <p:nvPr/>
        </p:nvSpPr>
        <p:spPr>
          <a:xfrm>
            <a:off x="1214280" y="5429160"/>
            <a:ext cx="242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мператор Пётр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1714680" y="357120"/>
            <a:ext cx="178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1761 – 1762 г.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4214880" y="285840"/>
            <a:ext cx="4572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лизавета Петровна назначила наследником Пет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ына Анны Петров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ный наследник был приверженцем прусского короля Фридрих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его полити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не сумел наладить отношения с гвардией и собирался вывести гвардейские части из столицы. Всё это лишило Петра   поддержки дворянства. Как позже писала Екатери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что у её мужа «не было более лютого врага. чем он сам»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вардейцы убили Пет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возвели на престол его жену, немецкую принцессу Софью Августу Фредерику Ангальт – Цербстскую – Екатерин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вновь  произошёл дворцовый перевор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571680" y="714240"/>
            <a:ext cx="3663720" cy="485784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571680" y="557208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мператрица Екатерин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1500120" y="285840"/>
            <a:ext cx="16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1762 – 1796 г.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4643280" y="785880"/>
            <a:ext cx="41436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катери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авила более 3-х десятилет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лантливая, образованная,  литературно одарённая, она умела многое – и управлять огромной империей, и ладить с людьми, приближать к себе талантливых, одарённых лю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арствование Екатери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характеризуется как период «просвещённого абсолютизма». В своей политике Екатери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старалась опираться на русское дворянство, и особенно её «сливки» – гвардию. Недаром российские дворяне называли её правление «золотым веком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11:43:32Z</dcterms:created>
  <dc:creator>Дима</dc:creator>
  <dc:description/>
  <dc:language>en-US</dc:language>
  <cp:lastModifiedBy>WIN7XP</cp:lastModifiedBy>
  <dcterms:modified xsi:type="dcterms:W3CDTF">2021-04-11T11:19:11Z</dcterms:modified>
  <cp:revision>35</cp:revision>
  <dc:subject/>
  <dc:title>Слайд 1</dc:title>
</cp:coreProperties>
</file>