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909-D464-4E44-9725-E7F3847A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46C-0276-44D4-B22E-1788297D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A44-7B1F-4C2C-8F33-E7FD8F16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A87-F9E8-42A4-8060-9DFE50C8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C8F-50A9-4CB4-8AD6-573C8B7E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B6C-96FC-4F8A-8750-D94FA453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E8A-BB73-4D28-8869-4B4E3FB6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653-A7E7-4E3E-82C8-D9E4B15F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DFA-5359-4332-A775-AB4CA4E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12B-44CF-4089-B36C-DBCF68A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E24-8DE3-4F48-895D-A648149C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424-CD02-4E7C-B651-A3F8316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C92-7A2A-4425-9A69-867C09D12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357120"/>
            <a:ext cx="7715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Дворцовые переворот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в Росси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80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i="1" lang="ru-RU" sz="80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4287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ающая роль в дворцовых переворотах принадлежала гвар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время переворотов дворяне получили много привилегий. Укрепился союз дворян с монархией, который достиг своей вершины при Екатерин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1071720" y="500040"/>
            <a:ext cx="7000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ч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орцовых перевор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071720" y="192888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усиление роли гвардии, которая состояла из дворян, в решении государственных д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071720" y="307188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действие царского указа о престолонаследии, по которому власть могла быть передана царствующим императором фактически любому 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071720" y="857160"/>
            <a:ext cx="7358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ин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симов Е. В., Каменский А. Б. Росси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вой половин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: История. Историк. Документ. М. : Мирос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ский В.О. Курс русской истории. — М.: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ганов А. Л., Кацва Л. А. История Росс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I – XV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в. М.: Мирос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и Романовы. Очерки из русской истории за время с 1613 по 1913 год. Под ред. П. Н. Жуковича. Москва.: «Россия», ростов – на – Дону: А/О «Танаис»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726280" y="13572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enatar.livejourna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087000" y="17146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googl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4145040" cy="48578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286240" y="642960"/>
            <a:ext cx="35006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ётр Великий скончался 28 января 172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мирал он тяжело, его мучили сильные боли. «Отец Отечества» скончался и не назвал наследника. Однако, ещё в 1722 г. Пётр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здал указ о престолонаследии, согласно которому император мог завещать престол любому члену правящего дома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14240" y="5643720"/>
            <a:ext cx="42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ётр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– первый император Росс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071720" y="64296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тупил период дворцовых перевор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Что такое дворцовые перевор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1000080" y="2286000"/>
            <a:ext cx="7215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орцовые перевороты – это борьба за власть верхушки господствующего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ворянские группировки, опираясь на гвардию, сменяли друг др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071720" y="47149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</a:rPr>
              <a:t>Почему происходили дворцовые переворо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786120" cy="5307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6000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ператрица 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0" y="571680"/>
            <a:ext cx="4214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ереворот возглавил ближайший сподвижник Петра Великого светлейший князь А. Д. Меншик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ддержке гвардии на русский престол была возведен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дова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была неглупа, но делами государства никогда не занималась. А. Меншиков правил государством сам через созданный им Верховный тайный со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мая 1727 г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мер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357200" y="285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25 – 1727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6072120" y="1571760"/>
            <a:ext cx="1643040" cy="19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3222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642960" y="5429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ор Пёт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28840" y="35712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27 – 173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572000" y="1000080"/>
            <a:ext cx="385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727 г. корона перешла к внуку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царевичу Петру Алексеевичу (Пет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при дворе получили князья Долгорукие. По их требованию А. Меншиков с семьёй был сослан в Сибирь.  К власти пришли князья Долгорукие и князья Голицыны. Столицу перенесли в Москву, где Пё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е дожив до 15 лет, умер. С ним пресеклась по мужской линии династия Романо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и считают, что так произошёл новый переворо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877840" cy="3571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28760" y="45720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ператрица Анна Иоанн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143000" y="35712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30 – 1740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429000" y="428760"/>
            <a:ext cx="5357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ники Верховного тайного совета пригласили на престол из Курляндии Анну Иоанновну, племянницу Петр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овет ограничил власть герцогини Курляндской «кондициями» – особыми условиями правления. Но вскоре, опираясь на поддержку дворян, она разорвала «кондиции» и ликвидировала Верховный совет, что стало очередным переворо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на Иоанновна окружила себя немцами, главную роль играл её фаворит Бирон (Эрнст Иоганн) – высокомерный, грубый, жестокий временщ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енью 1740 г. Анна Иоанновна заболела и наследником провозгласила сына племянницы Анны Леопольдовны  - Ивана Антоновича,  регентом при младенце назначен был Би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740 г. Бирон был свергну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егентшей (1740 – 1741г.г.) стала Анна Леопольдовна, мать Ива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овый переворо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500800" y="3214800"/>
            <a:ext cx="78588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50064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357120" y="52862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рица Елизавет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500120" y="42876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41 – 1761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4214880" y="571680"/>
            <a:ext cx="44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яне были недовольны засилием немцев в России и совершили очередной дворцовый пере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Петровна (дочь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ишла в казармы Преображенского полка и призвала солдат служить ей так же, как они служили её отцу.  Во дворец гвардейцы внесли её на плеч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сь 20-летнее царствование дочери Петра Вели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юбила всё русское. Она отстранила от двора иностранцев и, управляя государством, старалась идти по стопам от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нению С. М. Соловьёва при Елизавете «Россия пришла в себ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571920" cy="4653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1214280" y="5429160"/>
            <a:ext cx="24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мператор Пётр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714680" y="35712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61 – 1762 г.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214880" y="2858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изавета Петровна назначила наследником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ына Анны Петров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ный наследник был приверженцем прусского короля Фридрих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его поли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е сумел наладить отношения с гвардией и собирался вывести гвардейские части из столицы. Всё это лишило Петра   поддержки дворянства. Как позже писал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что у её мужа «не было более лютого врага. чем он сам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вардейцы убили П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озвели на престол его жену, немецкую принцессу Софью Августу Фредерику Ангальт – Цербстскую – Екатерин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вновь  произошёл дворцовый перевор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71680" y="714240"/>
            <a:ext cx="366372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71680" y="55720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ператрица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500120" y="28584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1762 – 1796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643280" y="785880"/>
            <a:ext cx="4143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авила более 3-х десятиле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ливая, образованная,  литературно одарённая, она умела многое – и управлять огромной империей, и ладить с людьми, приближать к себе талантливых, одарённы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ствование Екатер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изуется как период «просвещённого абсолютизма». В своей политике Екатер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таралась опираться на русское дворянство, и особенно её «сливки» – гвардию. Недаром российские дворяне называли её правление «золотым веко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32Z</dcterms:created>
  <dc:creator>Дима</dc:creator>
  <dc:description/>
  <dc:language>en-US</dc:language>
  <cp:lastModifiedBy>WIN7XP</cp:lastModifiedBy>
  <dcterms:modified xsi:type="dcterms:W3CDTF">2021-04-11T11:19:11Z</dcterms:modified>
  <cp:revision>35</cp:revision>
  <dc:subject/>
  <dc:title>Слайд 1</dc:title>
</cp:coreProperties>
</file>