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67A-AB13-4033-8512-B039D2CD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2721-8423-4280-B136-D45C33E8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10CA-1A07-4BC3-AB89-7BF158B9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10CC-1E3F-4878-88EB-0AED6303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0D20-2170-4E7B-87C1-8F17ED92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CA28-260D-4BE0-AB3A-310A3EBA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E240-0E31-437A-A143-FA0FEF13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8B08-0204-414C-BD47-ADE197FF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8E70-8117-4485-A943-AF7088A9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C9F0-5880-49B0-ACD7-758C4D59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53BC-D09D-4FC1-9FDD-E1DB5A73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6BB6-1E3B-4D64-8658-7CBB76DA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BCDF-10BC-4E37-97EA-C81FC409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6564-D559-42D0-9963-E55A3FC1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E7A3-D96F-4CFE-BC64-158BD615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D02E-E565-4D32-A132-279CD01E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29EA-ACE2-43B1-B94B-17D9E33B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B4E29-8C91-4B7F-9A55-C18429AF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DD8F3-9F8C-4B7C-9179-07D21FE6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0C5B5-7024-4CD9-83BA-F903BB88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D2E89-71F7-4508-9BCC-4C53DE82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67BF5-0FC3-4B93-86C9-18157F1C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995C-B05C-4C43-BC58-58732898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BC3E0-E59B-4C51-9219-E15AF3D2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63035-24E6-472B-9A14-DD27FE76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FC0F6-7501-4F94-9EFE-8045D347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810B1-A736-418B-9EE1-8643F918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B99A5-B6EA-4069-A0B4-4B80E398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B628E-B3E4-4A4E-9EC8-4106263E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EA8B0-892E-42B3-B546-352B43A1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481C2-8C7E-4440-AA1B-DC1280D9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53681-9A81-4467-A403-3FD69A22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5C205-6170-42B9-A5D6-3B2D9C39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5F75-6484-422A-9F9B-4209C049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878E0-0734-41A6-9729-CBAC0AE7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D79B2-0D5B-487C-A8FE-4768741B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01CB2-BF13-4749-86ED-B1CBA1CE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709F2-32E8-4F8C-B819-DD14F244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0EB49-8B7E-4115-BFC0-A0066CE5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8F4BB-5257-46A1-BE85-04CD7AA6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F3540-F639-4C1D-9552-7BB8D99D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4DF5E-116C-4760-AC96-46BC4126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B8ADE-1838-4365-B791-58CC96B9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B3CBC-0E5D-4451-8030-B7DB30EE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BF3-F41B-4BE0-A82C-5D09A315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D6461-6918-458C-A2AD-77CC00B6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3E2FF-0A68-4C90-9AA5-F77D99CD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D18C1-08E9-4FB2-9B84-42BBB9DF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33833-4445-4DC4-842B-3CA640E3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69045-7279-463B-BAE7-F21061B9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359F0-3EF9-4506-A292-C707AFF1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696AD-D526-4ECF-8A2B-232BCD86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76586-0EC6-49FC-BBA1-23976B8F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E771D-E9F5-445F-A014-ABF37610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85247-6305-469E-9658-642F2F64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EE33-6F3A-4419-A929-30856841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E42CB-B902-4949-ABD7-49139CB2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8E28E-0076-432A-BA13-E48CAC4E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7EB90-F168-4E78-8849-C4B31A95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CB8A9-2F6A-4BDD-BF82-514F682C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F6FA3-F0A6-4763-9294-C900F188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148CA-A14A-4D5E-B6A3-64780A90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F180D-4F8F-42EC-B7B6-D0DFE016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BAEB4-0090-4F35-B76C-5D80B7F2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8787E-D894-42B2-8ABB-3E5A8679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86999-34AB-484E-9C9A-2509BE06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7B05-421C-442B-BA94-95DEC694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FC6DC-37B3-40AC-B543-D986FD33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DF5C0-A02E-4B93-8B61-EDC6F557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84738-D8DF-4B88-8D1D-09859C88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5FEC6-1A5B-4FED-99C3-DEA877D0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3F954-D0AC-4B36-A6CD-F29DBA50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EF664-DD74-424A-B551-8A7CE5E9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49A25-3B62-430C-8E40-ED629AA6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0FF6E-2C26-422F-8318-A6A272D4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2556F-A259-4B31-9CB4-BE8E86D7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0FDA1-2F1D-4B5B-BA51-0C7252AB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0EB2-D574-4F5C-8EDB-2B336EA3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2EA52-1B83-438F-A8C3-E57F6ED5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DFA5E-94D0-48B5-BCB7-2832EBF0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7A401-E6EC-456C-9D53-E20AAC3A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6B51B-3CC2-4865-909A-E5528800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F3E61-6CB2-4591-9F6C-BC5DB9A3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D5D-E9CF-4961-AA28-B24A54B9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5518-2443-4E0D-B23A-C4B98A11F7D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F05E-320D-4573-999C-79EC1063B6B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218D-13C6-4D24-99DB-2A059DAABA0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338F-D090-4E61-9F84-81B2DFA57F9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BD57-8EED-44D7-8383-A4CB4995D9A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297C-96BD-4C63-A673-12ADEDF99CD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7A5F-CF67-4E6B-AF44-626C82D76FB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ЖИВАЯ ОБУВ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7" name="Picture 2" descr="C:\Users\user\Desktop\флэха 27\мероприятие валенки\валенки фото от Вани\download.do.ext.bezprazdnikov (82).jpg"/>
          <p:cNvPicPr/>
          <p:nvPr/>
        </p:nvPicPr>
        <p:blipFill>
          <a:blip r:embed="rId1"/>
          <a:stretch/>
        </p:blipFill>
        <p:spPr>
          <a:xfrm>
            <a:off x="684360" y="1160640"/>
            <a:ext cx="8064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4" name="Picture 2" descr="C:\Users\user\Desktop\флэха 27\мероприятие валенки\валенки фото от Вани\download.do.ext.bezprazdnikov (7).jpg"/>
          <p:cNvPicPr/>
          <p:nvPr/>
        </p:nvPicPr>
        <p:blipFill>
          <a:blip r:embed="rId2"/>
          <a:stretch/>
        </p:blipFill>
        <p:spPr>
          <a:xfrm>
            <a:off x="108000" y="404640"/>
            <a:ext cx="89280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…</a:t>
            </a: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и в печь отправляют!!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7" name="Picture 2" descr="C:\Users\user\Desktop\флэха 27\мероприятие валенки\валенки фото от Вани\download.do.ext.bezprazdnikov (24).jpg"/>
          <p:cNvPicPr/>
          <p:nvPr/>
        </p:nvPicPr>
        <p:blipFill>
          <a:blip r:embed="rId2"/>
          <a:srcRect l="16211" t="0" r="12272" b="0"/>
          <a:stretch/>
        </p:blipFill>
        <p:spPr>
          <a:xfrm>
            <a:off x="324000" y="1197000"/>
            <a:ext cx="8496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0" name="Picture 2" descr="C:\Users\user\Desktop\флэха 27\мероприятие валенки\валенки фото от Вани\download.do.ext.bezprazdnikov (81).jpg"/>
          <p:cNvPicPr/>
          <p:nvPr/>
        </p:nvPicPr>
        <p:blipFill>
          <a:blip r:embed="rId2"/>
          <a:stretch/>
        </p:blipFill>
        <p:spPr>
          <a:xfrm>
            <a:off x="395280" y="260280"/>
            <a:ext cx="8353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Земляк-пимокат Иван Петрович Плахута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на «Саянском кольце»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0" name="Picture 2" descr="C:\Users\user\Desktop\мероприятие валенки\валенки фото от Вани\download.do.ext.bezprazdnikov (80).jpg"/>
          <p:cNvPicPr/>
          <p:nvPr/>
        </p:nvPicPr>
        <p:blipFill>
          <a:blip r:embed="rId2"/>
          <a:stretch/>
        </p:blipFill>
        <p:spPr>
          <a:xfrm>
            <a:off x="250920" y="1413000"/>
            <a:ext cx="864216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3" name="Picture 2" descr="C:\Users\user\Desktop\флэха 27\мероприятие валенки\валенки фото от Вани\download.do.ext.bezprazdnikov (45).jpg"/>
          <p:cNvPicPr/>
          <p:nvPr/>
        </p:nvPicPr>
        <p:blipFill>
          <a:blip r:embed="rId2"/>
          <a:srcRect l="0" t="0" r="16978" b="0"/>
          <a:stretch/>
        </p:blipFill>
        <p:spPr>
          <a:xfrm>
            <a:off x="249120" y="217440"/>
            <a:ext cx="849960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6" name="Picture 2" descr="C:\Users\user\Desktop\флэха 27\мероприятие валенки\валенки фото от Вани\download.do.ext.bezprazdnikov (46).jpg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9" name="Picture 2" descr="C:\Users\user\Desktop\флэха 27\мероприятие валенки\валенки фото от Вани\download.do.ext.bezprazdnikov (47).jpg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Сырьё к работе готово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3" descr="C:\Users\user\Desktop\флэха 27\мероприятие валенки\валенки фото от Вани\download.do.ext.bezprazdnikov (53).jpg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…</a:t>
            </a: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и мнут,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5" name="Picture 2" descr="C:\Users\user\Desktop\флэха 27\мероприятие валенки\валенки фото от Вани\download.do.ext.bezprazdnikov (9).jpg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…</a:t>
            </a: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и варят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,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8" name="Picture 2" descr="C:\Users\user\Desktop\флэха 27\мероприятие валенки\валенки фото от Вани\download.do.ext.bezprazdnikov (37).jpg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… </a:t>
            </a: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и катают,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1" name="Picture 2" descr="C:\Users\user\Desktop\флэха 27\мероприятие валенки\валенки фото от Вани\download.do.ext.bezprazdnikov (39).jpg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10:16:50Z</dcterms:created>
  <dc:creator>user</dc:creator>
  <dc:description/>
  <dc:language>en-US</dc:language>
  <cp:lastModifiedBy>user</cp:lastModifiedBy>
  <dcterms:modified xsi:type="dcterms:W3CDTF">2013-04-15T06:21:26Z</dcterms:modified>
  <cp:revision>6</cp:revision>
  <dc:subject/>
  <dc:title>ЖИВАЯ ОБУВЬ</dc:title>
</cp:coreProperties>
</file>