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A63-4F9C-489C-92A7-BF027ADB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4E37-4812-4114-8A0F-C2774B2B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CEA-C098-4AAC-BED9-8D61BE7F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CF2-E5E5-4DCA-9608-F543723C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EF07-3D9A-423D-9274-9F9EDFAD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8A34-F21E-4C7E-A9C7-AF904BDC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0E9F-5A2B-429C-A301-8B80A0C6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869B-62F1-4E33-A117-23BB6736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2A50-1A89-45A7-93EF-71BD18AB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11E5-DE84-4E49-8435-3EA9F550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DD80-A0E4-4BDC-8753-9E31C2BE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D5FA-38B6-4490-9DAA-E122295E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9036-F274-4FC1-838F-087DC72B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052D-1DCD-4CB4-B767-A38E3EE3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DE45-1B6D-49E2-9EAD-655DD602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78C1-3E5D-4DE2-9CAC-0CC38A50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6620-2F8D-45BF-8943-1E05674F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82A79-C612-424E-BA0F-9486688D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EDFC0-31F2-44E8-9FAB-5D7B3C84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1554F-A3BD-44F1-980B-319D1764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A6EC1-464D-4122-A59E-71C24A63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7411D-5D35-4405-A176-88B14EB1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4F65-054C-45B0-9502-815E9103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CC5F-D8C3-489A-9C56-34CB9413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62368-69BE-4DAF-A9C5-53413643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05FC5-58F9-4C95-B017-A53B71A0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C5FF-E649-47DF-BE5F-F084302E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3810F-4F8F-4B1A-ADDB-2597643A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FC939-3252-406B-98BB-949A21C7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0C1A2-65D4-44E1-9A53-14F597B6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2B9F6-817F-45C5-8789-CCC6E892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3F81B-8BEF-4BC4-BA8A-BA69E8AD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5C746-37E3-4E3C-B649-CFDD73D0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B02-80A5-4780-A5F3-11CBEA63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7CFBC-D5F0-4AE8-8004-6D2989EC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E5C6B-69F9-491B-AEF2-CFD8DEE0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118F3-8196-450F-9A0D-C3675641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A896B-B055-4B0F-AB60-9ECE8AAC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5DCB6-00A8-4CF5-A386-122ADA65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D568B-3BBE-4276-8029-BE727B92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3B910-78CF-4A5C-B354-9DCF4FD7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8E6A2-781E-47A5-9CE4-1AF580C0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563B7-C754-4EBC-80EB-EF01807B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93058-3EF6-453D-9C8D-769EF931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EDE-38CB-43D8-B834-B26FCC80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7079E-C419-4254-AB1D-BE23ACAE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B89EB-8311-4511-BEFD-29BAF1CD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5C324-6DFF-4F80-84E9-6753DA9D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ED235-34AD-4666-8F30-D50CF064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AD5CA-9060-4921-9EBF-B27EE00F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26644-5189-4791-93C7-5C1F7E90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D8F10-534E-4F10-AE49-AABB8644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490B8-FBDC-40A7-A3FE-0539B88A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C3780-DB54-47EC-852C-A73BA064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99E6D-3440-42AB-A197-782D3478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582-F6C1-468E-85DB-D6369C68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6F55B-A4E0-4840-905C-AA31E6A9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D2C05-46F0-4D97-8EF5-06419A54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B1574-59ED-48CA-8B42-4B8D5B17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039D5-1B26-43B6-B243-F516B6FF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367A1-B314-4AD4-BBC3-18168E98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557FE-3441-4C0E-9B88-8DCE66E5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A7EA4-D884-438A-A0E3-2D46F31A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27D65-A203-404B-AE31-F003AE84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34A72-575C-47F1-97D7-5865E381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7B9E4-FD94-4408-B9C0-0845EE8A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0E3-0112-4ABA-A8BF-45291026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121DC-B13B-474F-BC38-ECB26974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8F6F5-33C8-4C6A-9759-0A713F69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F9E73-CAE7-4CC7-852F-2C034DE4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976E1-7DF9-4F0E-9029-E1512D61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3766F-EC3B-4C0B-8BE1-23708683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0195B-CB35-4B8A-86E9-5BC2A698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FB192-DFA2-4FAF-96E0-155B9C10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8D106-7D10-472B-B304-F8D4DDDA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9471F-DAEA-447E-B210-9E050905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D6846-0E02-47BF-A914-3B033AB5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072-319F-4BA5-BF0C-228721DA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BF8A9-DD30-467C-AD00-9E0A8C25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E068D-E2A5-4CB8-9F86-191E5945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484C1-2F0A-48B5-98A0-CBFD329E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4A36A-0DCC-45FA-B0D2-0393E6CE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1E2EF-519B-4303-B77B-CDA5A76C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F72-8891-4F3D-AC55-4E38F207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7B9F-F62E-4F63-8AEC-94126AFF39E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182E-7F44-4A4B-AFCB-48E17885D94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86CA-9A9D-4FE1-B3E7-BD2B6AE3114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48BD-AD58-4CFF-B833-A4657B3D9A0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E255-FA7A-471E-BD6C-79A44A58C67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0C05-687C-4AD1-8297-2F52FE2E532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FBAA-86E8-4C4A-AF56-24CE88FC796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ЖИВАЯ ОБУВ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7" name="Picture 2" descr="C:\Users\user\Desktop\флэха 27\мероприятие валенки\валенки фото от Вани\download.do.ext.bezprazdnikov (82).jpg"/>
          <p:cNvPicPr/>
          <p:nvPr/>
        </p:nvPicPr>
        <p:blipFill>
          <a:blip r:embed="rId1"/>
          <a:stretch/>
        </p:blipFill>
        <p:spPr>
          <a:xfrm>
            <a:off x="684360" y="1160640"/>
            <a:ext cx="8064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Picture 2" descr="C:\Users\user\Desktop\флэха 27\мероприятие валенки\валенки фото от Вани\download.do.ext.bezprazdnikov (7).jpg"/>
          <p:cNvPicPr/>
          <p:nvPr/>
        </p:nvPicPr>
        <p:blipFill>
          <a:blip r:embed="rId2"/>
          <a:stretch/>
        </p:blipFill>
        <p:spPr>
          <a:xfrm>
            <a:off x="108000" y="404640"/>
            <a:ext cx="8928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…</a:t>
            </a: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и в печь отправляют!!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7" name="Picture 2" descr="C:\Users\user\Desktop\флэха 27\мероприятие валенки\валенки фото от Вани\download.do.ext.bezprazdnikov (24).jpg"/>
          <p:cNvPicPr/>
          <p:nvPr/>
        </p:nvPicPr>
        <p:blipFill>
          <a:blip r:embed="rId2"/>
          <a:srcRect l="16211" t="0" r="12272" b="0"/>
          <a:stretch/>
        </p:blipFill>
        <p:spPr>
          <a:xfrm>
            <a:off x="324000" y="1197000"/>
            <a:ext cx="8496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0" name="Picture 2" descr="C:\Users\user\Desktop\флэха 27\мероприятие валенки\валенки фото от Вани\download.do.ext.bezprazdnikov (81).jpg"/>
          <p:cNvPicPr/>
          <p:nvPr/>
        </p:nvPicPr>
        <p:blipFill>
          <a:blip r:embed="rId2"/>
          <a:stretch/>
        </p:blipFill>
        <p:spPr>
          <a:xfrm>
            <a:off x="395280" y="260280"/>
            <a:ext cx="8353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Земляк-пимокат Иван Петрович Плахут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на «Саянском кольце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Picture 2" descr="C:\Users\user\Desktop\мероприятие валенки\валенки фото от Вани\download.do.ext.bezprazdnikov (80).jpg"/>
          <p:cNvPicPr/>
          <p:nvPr/>
        </p:nvPicPr>
        <p:blipFill>
          <a:blip r:embed="rId2"/>
          <a:stretch/>
        </p:blipFill>
        <p:spPr>
          <a:xfrm>
            <a:off x="250920" y="1413000"/>
            <a:ext cx="864216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Picture 2" descr="C:\Users\user\Desktop\флэха 27\мероприятие валенки\валенки фото от Вани\download.do.ext.bezprazdnikov (45).jpg"/>
          <p:cNvPicPr/>
          <p:nvPr/>
        </p:nvPicPr>
        <p:blipFill>
          <a:blip r:embed="rId2"/>
          <a:srcRect l="0" t="0" r="16978" b="0"/>
          <a:stretch/>
        </p:blipFill>
        <p:spPr>
          <a:xfrm>
            <a:off x="249120" y="217440"/>
            <a:ext cx="849960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Picture 2" descr="C:\Users\user\Desktop\флэха 27\мероприятие валенки\валенки фото от Вани\download.do.ext.bezprazdnikov (46).jpg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Picture 2" descr="C:\Users\user\Desktop\флэха 27\мероприятие валенки\валенки фото от Вани\download.do.ext.bezprazdnikov (47).jpg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Сырьё к работе готово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3" descr="C:\Users\user\Desktop\флэха 27\мероприятие валенки\валенки фото от Вани\download.do.ext.bezprazdnikov (53).jpg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…</a:t>
            </a: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и мнут,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2" descr="C:\Users\user\Desktop\флэха 27\мероприятие валенки\валенки фото от Вани\download.do.ext.bezprazdnikov (9).jpg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…</a:t>
            </a: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и варят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,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Picture 2" descr="C:\Users\user\Desktop\флэха 27\мероприятие валенки\валенки фото от Вани\download.do.ext.bezprazdnikov (37).jpg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… </a:t>
            </a: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и катают,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Picture 2" descr="C:\Users\user\Desktop\флэха 27\мероприятие валенки\валенки фото от Вани\download.do.ext.bezprazdnikov (39).jpg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10:16:50Z</dcterms:created>
  <dc:creator>user</dc:creator>
  <dc:description/>
  <dc:language>en-US</dc:language>
  <cp:lastModifiedBy>user</cp:lastModifiedBy>
  <dcterms:modified xsi:type="dcterms:W3CDTF">2013-04-15T06:21:26Z</dcterms:modified>
  <cp:revision>6</cp:revision>
  <dc:subject/>
  <dc:title>ЖИВАЯ ОБУВЬ</dc:title>
</cp:coreProperties>
</file>