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784-469E-4AAA-9C80-A3BF7E38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560-811B-43E3-9D87-BE048894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85D-9161-4551-9FC0-F5AA409B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C97-E0D9-4990-BF87-3BBC13EE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B1EC-1B9B-45EC-A8C9-D822C547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6A1B-2C78-4BC6-8013-088C2E01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8027-D1FE-49A7-B19A-F02F83C1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BAF5-E4E0-47CD-91DA-69330897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5FDD-761C-4E16-9D18-4CD3EA39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65EB-987C-4291-90B5-727AD2B9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593-BA59-4167-8266-94AD85E4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DD0-5962-470C-B1B8-64CCFE4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71B-BF43-4691-93D8-DDCCA5D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5BF4-3AE5-4978-86D2-0FB2A4EC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D713-7C35-4319-BE78-0B096FE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864D-35F1-4C95-8B14-4B177B1F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6BBC-3E92-4872-A44F-34A25BB5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53E6-49D5-4094-BF56-C6833906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FF3C-3B1A-4B79-8E55-4894B999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B5D8D-F9B9-4842-B615-49E0B71C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668E-08A2-436B-B7F8-6900075F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274E-EA9B-4904-A5F1-C78CB6F1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0544-2BFD-41A3-928B-81344BC9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06F5-052C-4A5C-B6EB-54E33313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B4F5-9D3B-4B18-864B-4AF05ED4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A686-2072-4630-89FD-11D019AE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FD59-15F7-40E4-806C-4C31771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4BB7-8B51-4733-9C1C-402A295A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09C92-9D8A-45FA-9D9F-35792B98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D889-7717-496D-9DB3-175EF23D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B48A-8E42-4CE3-B802-550A26B8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46C1-C514-46D2-9292-9DF1BE30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68FD-4003-42E3-825B-7A5119CB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5B3-ADEE-44AD-9B23-77BF6E2A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58E5-2109-4009-8C4F-39F2EF5F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4C9C5-236B-400E-BCF5-BD5BC208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8033E-6A50-4BD9-822F-105347AB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3670-D360-417D-AAA6-E830312B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B3F3-37B0-4B09-AA5D-010C1D4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C2094-6769-4BBC-A620-B332766B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AA54E-EA4F-44FC-8AC4-8F900B7C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6D8EE-A543-4962-8FD7-89B65263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14E9-81BF-426D-BAF4-0F5D619C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940-BAA9-4055-ABB8-347C7F64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C2E-CBC0-4DAD-ADB8-0FBE37E3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AD3D-C0E4-4DA8-A08B-E0C6699C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004-1E4C-48BC-BE18-70A816D7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1C7-FC93-4474-A0A2-F44FCC29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3BD2-AD19-4EC3-A3F1-B23A45F8F7E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3AAD-B9EA-4C1B-96D9-46C2853A6F0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E8E1-7A44-4C68-BA92-BBB61384580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B99-601C-4CEB-A354-7A0A85190AA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5480" y="188640"/>
            <a:ext cx="8643960" cy="43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БОТКА  НАКЛАДНОГО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МАНА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32000" y="407664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3333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0240" y="4289400"/>
            <a:ext cx="846756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ковые срезы       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07640" y="-139680"/>
            <a:ext cx="8962920" cy="4572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858160" y="5589360"/>
            <a:ext cx="460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Содержимое 5" descr="сканирование0054.jpg"/>
          <p:cNvPicPr/>
          <p:nvPr/>
        </p:nvPicPr>
        <p:blipFill>
          <a:blip r:embed="rId2"/>
          <a:stretch/>
        </p:blipFill>
        <p:spPr>
          <a:xfrm>
            <a:off x="2779560" y="858960"/>
            <a:ext cx="3438720" cy="3359160"/>
          </a:xfrm>
          <a:prstGeom prst="rect">
            <a:avLst/>
          </a:prstGeom>
          <a:ln w="0">
            <a:noFill/>
          </a:ln>
        </p:spPr>
      </p:pic>
      <p:sp>
        <p:nvSpPr>
          <p:cNvPr id="251" name="Стрелка влево 3"/>
          <p:cNvSpPr/>
          <p:nvPr/>
        </p:nvSpPr>
        <p:spPr>
          <a:xfrm rot="9481800">
            <a:off x="1495080" y="1931760"/>
            <a:ext cx="857160" cy="28548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99cc00"/>
          </a:solidFill>
          <a:ln cap="rnd" w="1908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Стрелка влево 4"/>
          <p:cNvSpPr/>
          <p:nvPr/>
        </p:nvSpPr>
        <p:spPr>
          <a:xfrm rot="1681200">
            <a:off x="6638400" y="2003040"/>
            <a:ext cx="85752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cap="rnd" w="1908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1498320"/>
            <a:ext cx="27910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4" name="Объект 4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176720" cy="4753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43280" y="307440"/>
            <a:ext cx="4608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ов вподгибку с закрытым срез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ов вподгибку с  открытым срез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256" name="Прямая со стрелкой 6"/>
          <p:cNvCxnSpPr/>
          <p:nvPr/>
        </p:nvCxnSpPr>
        <p:spPr>
          <a:xfrm flipH="1">
            <a:off x="2410920" y="1426680"/>
            <a:ext cx="2305440" cy="106596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cxnSp>
        <p:nvCxnSpPr>
          <p:cNvPr id="257" name="Прямая со стрелкой 15"/>
          <p:cNvCxnSpPr/>
          <p:nvPr/>
        </p:nvCxnSpPr>
        <p:spPr>
          <a:xfrm flipH="1" flipV="1">
            <a:off x="2833200" y="3497040"/>
            <a:ext cx="2106000" cy="79272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  <p:cxnSp>
        <p:nvCxnSpPr>
          <p:cNvPr id="258" name="Прямая со стрелкой 19"/>
          <p:cNvCxnSpPr/>
          <p:nvPr/>
        </p:nvCxnSpPr>
        <p:spPr>
          <a:xfrm flipH="1">
            <a:off x="2090520" y="4436640"/>
            <a:ext cx="2769120" cy="3420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250920" y="1413000"/>
            <a:ext cx="871380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аметать нижние и боковые срезы кармана по намеченным линиям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иутюжить карман с изнаночной сторон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аметать и застрочить верхний срез кармана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250920" y="44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едовательность технологических операций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208720" cy="16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62180d"/>
                </a:solidFill>
                <a:latin typeface="Trebuchet MS"/>
              </a:rPr>
              <a:t>Декорирование-(от французского слова -</a:t>
            </a:r>
            <a:r>
              <a:rPr b="1" lang="en-US" sz="4000" spc="-1" strike="noStrike">
                <a:solidFill>
                  <a:srgbClr val="62180d"/>
                </a:solidFill>
                <a:latin typeface="Trebuchet MS"/>
              </a:rPr>
              <a:t>decoratio</a:t>
            </a:r>
            <a:r>
              <a:rPr b="1" lang="ru-RU" sz="4000" spc="-1" strike="noStrike">
                <a:solidFill>
                  <a:srgbClr val="62180d"/>
                </a:solidFill>
                <a:latin typeface="Trebuchet MS"/>
              </a:rPr>
              <a:t>- украшение)- художественное украшение предмета или помещения.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2" name="Объект 1" descr=""/>
          <p:cNvPicPr/>
          <p:nvPr/>
        </p:nvPicPr>
        <p:blipFill>
          <a:blip r:embed="rId1"/>
          <a:stretch/>
        </p:blipFill>
        <p:spPr>
          <a:xfrm>
            <a:off x="0" y="3357720"/>
            <a:ext cx="3276720" cy="3671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"/>
          <p:cNvPicPr/>
          <p:nvPr/>
        </p:nvPicPr>
        <p:blipFill>
          <a:blip r:embed="rId2"/>
          <a:stretch/>
        </p:blipFill>
        <p:spPr>
          <a:xfrm>
            <a:off x="3708360" y="2565360"/>
            <a:ext cx="51116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115920"/>
            <a:ext cx="729000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Декорирование карманов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ышивкой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5" name="Рисунок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386240" cy="5184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"/>
          <p:cNvPicPr/>
          <p:nvPr/>
        </p:nvPicPr>
        <p:blipFill>
          <a:blip r:embed="rId2"/>
          <a:stretch/>
        </p:blipFill>
        <p:spPr>
          <a:xfrm>
            <a:off x="4932360" y="1336680"/>
            <a:ext cx="41767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191919"/>
                </a:solidFill>
                <a:latin typeface="Trebuchet MS"/>
              </a:rPr>
              <a:t>Кружев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8" name="Рисунок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321440" cy="52293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3" descr=""/>
          <p:cNvPicPr/>
          <p:nvPr/>
        </p:nvPicPr>
        <p:blipFill>
          <a:blip r:embed="rId2"/>
          <a:stretch/>
        </p:blipFill>
        <p:spPr>
          <a:xfrm>
            <a:off x="4643280" y="1974960"/>
            <a:ext cx="4321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191919"/>
                </a:solidFill>
                <a:latin typeface="Trebuchet MS"/>
              </a:rPr>
              <a:t>Бисеро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1" name="Рисунок 3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4165560" cy="460872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4392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191919"/>
                </a:solidFill>
                <a:latin typeface="Trebuchet MS"/>
              </a:rPr>
              <a:t>Аппликацией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4" name="Объект 2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600360" cy="44640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46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7" name="Объект 3" descr=""/>
          <p:cNvPicPr/>
          <p:nvPr/>
        </p:nvPicPr>
        <p:blipFill>
          <a:blip r:embed="rId1"/>
          <a:stretch/>
        </p:blipFill>
        <p:spPr>
          <a:xfrm>
            <a:off x="1476360" y="0"/>
            <a:ext cx="5234040" cy="38815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4" descr=""/>
          <p:cNvPicPr/>
          <p:nvPr/>
        </p:nvPicPr>
        <p:blipFill>
          <a:blip r:embed="rId2"/>
          <a:stretch/>
        </p:blipFill>
        <p:spPr>
          <a:xfrm>
            <a:off x="324000" y="3551400"/>
            <a:ext cx="3647880" cy="32414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5" descr=""/>
          <p:cNvPicPr/>
          <p:nvPr/>
        </p:nvPicPr>
        <p:blipFill>
          <a:blip r:embed="rId3"/>
          <a:stretch/>
        </p:blipFill>
        <p:spPr>
          <a:xfrm>
            <a:off x="4643280" y="3530520"/>
            <a:ext cx="43927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700280"/>
            <a:ext cx="75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115920"/>
            <a:ext cx="7290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Функции карманов 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98560" y="2263320"/>
            <a:ext cx="356544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918655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24000" y="3516480"/>
            <a:ext cx="2411280" cy="273672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3"/>
          <p:cNvSpPr/>
          <p:nvPr/>
        </p:nvSpPr>
        <p:spPr>
          <a:xfrm>
            <a:off x="108000" y="4916520"/>
            <a:ext cx="878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2"/>
          <a:stretch/>
        </p:blipFill>
        <p:spPr>
          <a:xfrm>
            <a:off x="3381480" y="2852640"/>
            <a:ext cx="2354040" cy="33321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8" descr=""/>
          <p:cNvPicPr/>
          <p:nvPr/>
        </p:nvPicPr>
        <p:blipFill>
          <a:blip r:embed="rId3"/>
          <a:stretch/>
        </p:blipFill>
        <p:spPr>
          <a:xfrm>
            <a:off x="6135840" y="2330280"/>
            <a:ext cx="2930400" cy="396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db6d7fc4eaf8439441bb947f16139435"/>
          <p:cNvPicPr/>
          <p:nvPr/>
        </p:nvPicPr>
        <p:blipFill>
          <a:blip r:embed="rId4"/>
          <a:stretch/>
        </p:blipFill>
        <p:spPr>
          <a:xfrm>
            <a:off x="1042920" y="525600"/>
            <a:ext cx="2228760" cy="2841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mediasubs.ru/group/uploads/um/umnyij-otdyih-lyubimyie-pritchi-i-aforizmyi/image2/00ZjE4LWI.jpg"/>
          <p:cNvPicPr/>
          <p:nvPr/>
        </p:nvPicPr>
        <p:blipFill>
          <a:blip r:embed="rId5"/>
          <a:stretch/>
        </p:blipFill>
        <p:spPr>
          <a:xfrm>
            <a:off x="4067280" y="587520"/>
            <a:ext cx="3870360" cy="15490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47440" y="115920"/>
            <a:ext cx="7289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маны везде: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00" y="1052640"/>
            <a:ext cx="4225680" cy="62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абочей одежд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ртивно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92800" y="980640"/>
            <a:ext cx="356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                   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елово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90360" indent="-90360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нарядно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236520" y="1395360"/>
            <a:ext cx="3239640" cy="2770200"/>
            <a:chOff x="236520" y="1395360"/>
            <a:chExt cx="3239640" cy="277020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tretch/>
          </p:blipFill>
          <p:spPr>
            <a:xfrm>
              <a:off x="236520" y="1395360"/>
              <a:ext cx="3239640" cy="27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4"/>
            <p:cNvSpPr/>
            <p:nvPr/>
          </p:nvSpPr>
          <p:spPr>
            <a:xfrm>
              <a:off x="236520" y="1395360"/>
              <a:ext cx="3239640" cy="27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958680" y="4565520"/>
            <a:ext cx="2391120" cy="210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3"/>
          <a:stretch/>
        </p:blipFill>
        <p:spPr>
          <a:xfrm>
            <a:off x="4943520" y="1265400"/>
            <a:ext cx="2662200" cy="3000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"/>
          <p:cNvPicPr/>
          <p:nvPr/>
        </p:nvPicPr>
        <p:blipFill>
          <a:blip r:embed="rId4"/>
          <a:stretch/>
        </p:blipFill>
        <p:spPr>
          <a:xfrm>
            <a:off x="6470640" y="4165560"/>
            <a:ext cx="22701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964360" cy="449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правильно обрабатывать накладной карман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42600" y="4220640"/>
            <a:ext cx="7929720" cy="6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918655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4240" y="3078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Прямоугольны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Содержимое 3" descr="сканирование0055.jpg"/>
          <p:cNvPicPr/>
          <p:nvPr/>
        </p:nvPicPr>
        <p:blipFill>
          <a:blip r:embed="rId1"/>
          <a:stretch/>
        </p:blipFill>
        <p:spPr>
          <a:xfrm>
            <a:off x="714240" y="2421000"/>
            <a:ext cx="7674120" cy="4248000"/>
          </a:xfrm>
          <a:prstGeom prst="rect">
            <a:avLst/>
          </a:prstGeom>
          <a:ln w="9360">
            <a:solidFill>
              <a:srgbClr val="2c3c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Овальны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Рисунок 4" descr="сканирование0055.jpg"/>
          <p:cNvPicPr/>
          <p:nvPr/>
        </p:nvPicPr>
        <p:blipFill>
          <a:blip r:embed="rId1"/>
          <a:stretch/>
        </p:blipFill>
        <p:spPr>
          <a:xfrm>
            <a:off x="179280" y="1916280"/>
            <a:ext cx="8785440" cy="4825800"/>
          </a:xfrm>
          <a:prstGeom prst="rect">
            <a:avLst/>
          </a:prstGeom>
          <a:ln w="9360">
            <a:solidFill>
              <a:srgbClr val="2c3c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Фигурны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8" name="Рисунок 5" descr="сканирование0055.jpg"/>
          <p:cNvPicPr/>
          <p:nvPr/>
        </p:nvPicPr>
        <p:blipFill>
          <a:blip r:embed="rId1"/>
          <a:stretch/>
        </p:blipFill>
        <p:spPr>
          <a:xfrm>
            <a:off x="173160" y="1628640"/>
            <a:ext cx="8854920" cy="5229360"/>
          </a:xfrm>
          <a:prstGeom prst="rect">
            <a:avLst/>
          </a:prstGeom>
          <a:ln w="9360">
            <a:solidFill>
              <a:srgbClr val="2c3c4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хний срез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0" name="Содержимое 5" descr="сканирование0054.jpg"/>
          <p:cNvPicPr/>
          <p:nvPr/>
        </p:nvPicPr>
        <p:blipFill>
          <a:blip r:embed="rId1"/>
          <a:stretch/>
        </p:blipFill>
        <p:spPr>
          <a:xfrm>
            <a:off x="2523960" y="3067200"/>
            <a:ext cx="3438720" cy="3357360"/>
          </a:xfrm>
          <a:prstGeom prst="rect">
            <a:avLst/>
          </a:prstGeom>
          <a:ln w="0">
            <a:noFill/>
          </a:ln>
        </p:spPr>
      </p:pic>
      <p:sp>
        <p:nvSpPr>
          <p:cNvPr id="241" name="Стрелка влево 6"/>
          <p:cNvSpPr/>
          <p:nvPr/>
        </p:nvSpPr>
        <p:spPr>
          <a:xfrm rot="16200000">
            <a:off x="3814560" y="2274840"/>
            <a:ext cx="85752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cap="rnd" w="1908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4800600"/>
            <a:ext cx="63486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жний срез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120" y="609120"/>
            <a:ext cx="6348600" cy="38451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5367240"/>
            <a:ext cx="6348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Содержимое 5" descr="сканирование0054.jpg"/>
          <p:cNvPicPr/>
          <p:nvPr/>
        </p:nvPicPr>
        <p:blipFill>
          <a:blip r:embed="rId2"/>
          <a:stretch/>
        </p:blipFill>
        <p:spPr>
          <a:xfrm>
            <a:off x="2706840" y="476280"/>
            <a:ext cx="3438360" cy="3357360"/>
          </a:xfrm>
          <a:prstGeom prst="rect">
            <a:avLst/>
          </a:prstGeom>
          <a:ln w="0">
            <a:noFill/>
          </a:ln>
        </p:spPr>
      </p:pic>
      <p:sp>
        <p:nvSpPr>
          <p:cNvPr id="246" name="Стрелка влево 5"/>
          <p:cNvSpPr/>
          <p:nvPr/>
        </p:nvSpPr>
        <p:spPr>
          <a:xfrm rot="5400000">
            <a:off x="4140000" y="4119480"/>
            <a:ext cx="85752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cap="rnd" w="1908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2:17:59Z</dcterms:created>
  <dc:creator>Марина</dc:creator>
  <dc:description/>
  <cp:keywords/>
  <dc:language>en-US</dc:language>
  <cp:lastModifiedBy>user</cp:lastModifiedBy>
  <dcterms:modified xsi:type="dcterms:W3CDTF">2021-04-11T18:29:22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