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2A0-17E0-46B4-97F8-6179EBE6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553-7AB8-4B81-8BEE-947F7166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744-D314-4692-8772-431E50D5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0D0-2422-428A-990A-974BC6BD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C4D5-39D8-4675-952B-9588E8B7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5114-2C04-4F9F-90BC-C9228AEF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CA0C-5C7F-4BD8-82AA-4B21CCBE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8F5E-CCD0-4A3A-BAFD-C1472133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657F-A7BB-4A50-B0F9-5850F581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F59F-DB41-4419-9639-00DDBCA7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D80C-2331-4E3D-B19E-37623BD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7F1-E23B-4F72-99C8-21EF70FC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769C-6669-4D82-90D4-C5AEC505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FAF6-9B79-4458-B042-278EFACA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A62F-37F6-4F63-91CB-F89D2592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DCA7-F03A-4C41-939A-E1848FFD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F8DC-605A-4B0E-9CB7-E05978BD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B37C-90D2-4C46-AD13-2F873DEF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2F7FC-F597-449C-89DE-C4B7E045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4EBB-397E-41D2-B2FA-2BBC3B25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FD6B-4381-4F72-BDA0-4A1B70B0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B79BA-DE6D-4B82-A2BB-D0742A21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E32-DB0E-4B10-B59D-C0FC94C3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022D-64E9-4EA9-A81C-632BE3F5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F4143-AFA0-43EA-ABDD-B1C7BC9D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99A2-7DEB-488A-9C49-11D4A459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8704-2DF1-4641-B613-6F3B5A0C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B763-C068-4D3C-A9F8-13D511F4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4421-84CA-4596-9E50-AA53AFAF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127A-F776-4F10-99EC-32334456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BA71B-3D9F-4747-89B7-75D8AB1F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3BFB-20A9-4144-97A4-E3EE5659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E0D8-EAF2-490D-A952-94950ADB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530-AD48-4A85-9EB0-EDDE2F20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978E5-2D77-468B-AA3A-3C24D014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F9D2-796A-4E83-840F-03C99777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5A75-4ABE-4DB0-AF42-6B1FF2A7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4950-BA3A-413E-8424-414416B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7E852-2C92-4343-90EA-4C20D2B0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CED7-184C-421D-AD28-766D4434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89997-0F8D-4F48-96C4-7E7B08A3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948C-541F-4B8F-BC47-FD141E8B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B1F4A-E2BA-4D37-8C09-AAFADFF2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A98-2798-4EDB-8841-38D98792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D69-577F-47DF-86D4-2CD54C0F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CEF-1382-43FB-BACF-7E7BDF7F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524-F42D-46C3-9B81-D0615A9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6BB-4B61-4A14-BD7B-E6A6513E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09CE-648A-4454-832D-7AA097650F8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455E-6C7D-4E48-AD1D-9CAEA603418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1B42-705A-4912-8E43-A884AD5FF0F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F7F0-7DF5-4766-BE25-79DA2A9CF30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5480" y="188640"/>
            <a:ext cx="8643960" cy="43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БОТКА  НАКЛАДНОГО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МАНА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32000" y="407664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3333c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0240" y="4289400"/>
            <a:ext cx="846756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ковые срезы       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7640" y="-139680"/>
            <a:ext cx="8962920" cy="4572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858160" y="5589360"/>
            <a:ext cx="4608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Содержимое 5" descr="сканирование0054.jpg"/>
          <p:cNvPicPr/>
          <p:nvPr/>
        </p:nvPicPr>
        <p:blipFill>
          <a:blip r:embed="rId2"/>
          <a:stretch/>
        </p:blipFill>
        <p:spPr>
          <a:xfrm>
            <a:off x="2779560" y="858960"/>
            <a:ext cx="3438720" cy="3359160"/>
          </a:xfrm>
          <a:prstGeom prst="rect">
            <a:avLst/>
          </a:prstGeom>
          <a:ln w="0">
            <a:noFill/>
          </a:ln>
        </p:spPr>
      </p:pic>
      <p:sp>
        <p:nvSpPr>
          <p:cNvPr id="251" name="Стрелка влево 3"/>
          <p:cNvSpPr/>
          <p:nvPr/>
        </p:nvSpPr>
        <p:spPr>
          <a:xfrm rot="9481800">
            <a:off x="1495080" y="1931760"/>
            <a:ext cx="857160" cy="28548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99cc00"/>
          </a:solidFill>
          <a:ln cap="rnd" w="1908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Стрелка влево 4"/>
          <p:cNvSpPr/>
          <p:nvPr/>
        </p:nvSpPr>
        <p:spPr>
          <a:xfrm rot="1681200">
            <a:off x="6638400" y="2003040"/>
            <a:ext cx="85752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cap="rnd" w="1908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498320"/>
            <a:ext cx="2791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Объект 4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176720" cy="4753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43280" y="307440"/>
            <a:ext cx="4608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ов вподгибку с закрытым срез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ов вподгибку с  открытым срез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cxnSp>
        <p:nvCxnSpPr>
          <p:cNvPr id="256" name="Прямая со стрелкой 6"/>
          <p:cNvCxnSpPr/>
          <p:nvPr/>
        </p:nvCxnSpPr>
        <p:spPr>
          <a:xfrm flipH="1">
            <a:off x="2410920" y="1426680"/>
            <a:ext cx="2305440" cy="106596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cxnSp>
        <p:nvCxnSpPr>
          <p:cNvPr id="257" name="Прямая со стрелкой 15"/>
          <p:cNvCxnSpPr/>
          <p:nvPr/>
        </p:nvCxnSpPr>
        <p:spPr>
          <a:xfrm flipH="1" flipV="1">
            <a:off x="2833200" y="3497040"/>
            <a:ext cx="2106000" cy="79272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cxnSp>
        <p:nvCxnSpPr>
          <p:cNvPr id="258" name="Прямая со стрелкой 19"/>
          <p:cNvCxnSpPr/>
          <p:nvPr/>
        </p:nvCxnSpPr>
        <p:spPr>
          <a:xfrm flipH="1">
            <a:off x="2090520" y="4436640"/>
            <a:ext cx="2769120" cy="3420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250920" y="1413000"/>
            <a:ext cx="871380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заметать нижние и боковые срезы кармана по намеченным линиям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иутюжить карман с изнаночной сторон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заметать и застрочить верхний срез кармана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Прямоугольник 2"/>
          <p:cNvSpPr/>
          <p:nvPr/>
        </p:nvSpPr>
        <p:spPr>
          <a:xfrm>
            <a:off x="250920" y="44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едовательность технологических операций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08720" cy="16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2180d"/>
                </a:solidFill>
                <a:latin typeface="Trebuchet MS"/>
              </a:rPr>
              <a:t>Декорирование-(от французского слова -</a:t>
            </a:r>
            <a:r>
              <a:rPr b="1" lang="en-US" sz="4000" spc="-1" strike="noStrike">
                <a:solidFill>
                  <a:srgbClr val="62180d"/>
                </a:solidFill>
                <a:latin typeface="Trebuchet MS"/>
              </a:rPr>
              <a:t>decoratio</a:t>
            </a:r>
            <a:r>
              <a:rPr b="1" lang="ru-RU" sz="4000" spc="-1" strike="noStrike">
                <a:solidFill>
                  <a:srgbClr val="62180d"/>
                </a:solidFill>
                <a:latin typeface="Trebuchet MS"/>
              </a:rPr>
              <a:t>- украшение)- художественное украшение предмета или помещения.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2" name="Объект 1" descr=""/>
          <p:cNvPicPr/>
          <p:nvPr/>
        </p:nvPicPr>
        <p:blipFill>
          <a:blip r:embed="rId1"/>
          <a:stretch/>
        </p:blipFill>
        <p:spPr>
          <a:xfrm>
            <a:off x="0" y="3357720"/>
            <a:ext cx="3276720" cy="36716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"/>
          <p:cNvPicPr/>
          <p:nvPr/>
        </p:nvPicPr>
        <p:blipFill>
          <a:blip r:embed="rId2"/>
          <a:stretch/>
        </p:blipFill>
        <p:spPr>
          <a:xfrm>
            <a:off x="3708360" y="2565360"/>
            <a:ext cx="51116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115920"/>
            <a:ext cx="7290000" cy="14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Декорирование карманов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ышивкой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Рисунок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386240" cy="51847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"/>
          <p:cNvPicPr/>
          <p:nvPr/>
        </p:nvPicPr>
        <p:blipFill>
          <a:blip r:embed="rId2"/>
          <a:stretch/>
        </p:blipFill>
        <p:spPr>
          <a:xfrm>
            <a:off x="4932360" y="1336680"/>
            <a:ext cx="41767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191919"/>
                </a:solidFill>
                <a:latin typeface="Trebuchet MS"/>
              </a:rPr>
              <a:t>Кружев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8" name="Рисунок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321440" cy="52293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3" descr=""/>
          <p:cNvPicPr/>
          <p:nvPr/>
        </p:nvPicPr>
        <p:blipFill>
          <a:blip r:embed="rId2"/>
          <a:stretch/>
        </p:blipFill>
        <p:spPr>
          <a:xfrm>
            <a:off x="4643280" y="1974960"/>
            <a:ext cx="43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191919"/>
                </a:solidFill>
                <a:latin typeface="Trebuchet MS"/>
              </a:rPr>
              <a:t>Бисер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1" name="Рисунок 3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4165560" cy="46087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191919"/>
                </a:solidFill>
                <a:latin typeface="Trebuchet MS"/>
              </a:rPr>
              <a:t>Аппликацие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4" name="Объект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600360" cy="44640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3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446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7" name="Объект 3" descr=""/>
          <p:cNvPicPr/>
          <p:nvPr/>
        </p:nvPicPr>
        <p:blipFill>
          <a:blip r:embed="rId1"/>
          <a:stretch/>
        </p:blipFill>
        <p:spPr>
          <a:xfrm>
            <a:off x="1476360" y="0"/>
            <a:ext cx="5234040" cy="38815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4" descr=""/>
          <p:cNvPicPr/>
          <p:nvPr/>
        </p:nvPicPr>
        <p:blipFill>
          <a:blip r:embed="rId2"/>
          <a:stretch/>
        </p:blipFill>
        <p:spPr>
          <a:xfrm>
            <a:off x="324000" y="3551400"/>
            <a:ext cx="3647880" cy="32414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5" descr=""/>
          <p:cNvPicPr/>
          <p:nvPr/>
        </p:nvPicPr>
        <p:blipFill>
          <a:blip r:embed="rId3"/>
          <a:stretch/>
        </p:blipFill>
        <p:spPr>
          <a:xfrm>
            <a:off x="4643280" y="3530520"/>
            <a:ext cx="43927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1700280"/>
            <a:ext cx="75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</a:t>
            </a:r>
            <a:br>
              <a:rPr sz="6600"/>
            </a:b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115920"/>
            <a:ext cx="7290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Функции карманов 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98560" y="2263320"/>
            <a:ext cx="356544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918655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324000" y="3516480"/>
            <a:ext cx="2411280" cy="27367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3"/>
          <p:cNvSpPr/>
          <p:nvPr/>
        </p:nvSpPr>
        <p:spPr>
          <a:xfrm>
            <a:off x="108000" y="4916520"/>
            <a:ext cx="878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3381480" y="2852640"/>
            <a:ext cx="2354040" cy="33321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8" descr=""/>
          <p:cNvPicPr/>
          <p:nvPr/>
        </p:nvPicPr>
        <p:blipFill>
          <a:blip r:embed="rId3"/>
          <a:stretch/>
        </p:blipFill>
        <p:spPr>
          <a:xfrm>
            <a:off x="6135840" y="2330280"/>
            <a:ext cx="2930400" cy="396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db6d7fc4eaf8439441bb947f16139435"/>
          <p:cNvPicPr/>
          <p:nvPr/>
        </p:nvPicPr>
        <p:blipFill>
          <a:blip r:embed="rId4"/>
          <a:stretch/>
        </p:blipFill>
        <p:spPr>
          <a:xfrm>
            <a:off x="1042920" y="525600"/>
            <a:ext cx="2228760" cy="2841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mediasubs.ru/group/uploads/um/umnyij-otdyih-lyubimyie-pritchi-i-aforizmyi/image2/00ZjE4LWI.jpg"/>
          <p:cNvPicPr/>
          <p:nvPr/>
        </p:nvPicPr>
        <p:blipFill>
          <a:blip r:embed="rId5"/>
          <a:stretch/>
        </p:blipFill>
        <p:spPr>
          <a:xfrm>
            <a:off x="4067280" y="587520"/>
            <a:ext cx="3870360" cy="15490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47440" y="115920"/>
            <a:ext cx="7289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рманы везде: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00" y="1052640"/>
            <a:ext cx="4225680" cy="62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абочей одежд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ртивно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92800" y="980640"/>
            <a:ext cx="3565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елово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нарядно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25" name="Group 2"/>
          <p:cNvGrpSpPr/>
          <p:nvPr/>
        </p:nvGrpSpPr>
        <p:grpSpPr>
          <a:xfrm>
            <a:off x="236520" y="1395360"/>
            <a:ext cx="3239640" cy="2770200"/>
            <a:chOff x="236520" y="1395360"/>
            <a:chExt cx="3239640" cy="277020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tretch/>
          </p:blipFill>
          <p:spPr>
            <a:xfrm>
              <a:off x="236520" y="1395360"/>
              <a:ext cx="3239640" cy="27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4"/>
            <p:cNvSpPr/>
            <p:nvPr/>
          </p:nvSpPr>
          <p:spPr>
            <a:xfrm>
              <a:off x="236520" y="1395360"/>
              <a:ext cx="3239640" cy="27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958680" y="4565520"/>
            <a:ext cx="2391120" cy="210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4943520" y="1265400"/>
            <a:ext cx="2662200" cy="3000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"/>
          <p:cNvPicPr/>
          <p:nvPr/>
        </p:nvPicPr>
        <p:blipFill>
          <a:blip r:embed="rId4"/>
          <a:stretch/>
        </p:blipFill>
        <p:spPr>
          <a:xfrm>
            <a:off x="6470640" y="4165560"/>
            <a:ext cx="22701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964360" cy="449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правильно обрабатывать накладной карман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42600" y="4220640"/>
            <a:ext cx="7929720" cy="6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918655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4240" y="3078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Прямоугольны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Содержимое 3" descr="сканирование0055.jpg"/>
          <p:cNvPicPr/>
          <p:nvPr/>
        </p:nvPicPr>
        <p:blipFill>
          <a:blip r:embed="rId1"/>
          <a:stretch/>
        </p:blipFill>
        <p:spPr>
          <a:xfrm>
            <a:off x="714240" y="2421000"/>
            <a:ext cx="7674120" cy="4248000"/>
          </a:xfrm>
          <a:prstGeom prst="rect">
            <a:avLst/>
          </a:prstGeom>
          <a:ln w="9360">
            <a:solidFill>
              <a:srgbClr val="2c3c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Овальны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Рисунок 4" descr="сканирование0055.jpg"/>
          <p:cNvPicPr/>
          <p:nvPr/>
        </p:nvPicPr>
        <p:blipFill>
          <a:blip r:embed="rId1"/>
          <a:stretch/>
        </p:blipFill>
        <p:spPr>
          <a:xfrm>
            <a:off x="179280" y="1916280"/>
            <a:ext cx="8785440" cy="4825800"/>
          </a:xfrm>
          <a:prstGeom prst="rect">
            <a:avLst/>
          </a:prstGeom>
          <a:ln w="9360">
            <a:solidFill>
              <a:srgbClr val="2c3c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Фигурны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8" name="Рисунок 5" descr="сканирование0055.jpg"/>
          <p:cNvPicPr/>
          <p:nvPr/>
        </p:nvPicPr>
        <p:blipFill>
          <a:blip r:embed="rId1"/>
          <a:stretch/>
        </p:blipFill>
        <p:spPr>
          <a:xfrm>
            <a:off x="173160" y="1628640"/>
            <a:ext cx="8854920" cy="5229360"/>
          </a:xfrm>
          <a:prstGeom prst="rect">
            <a:avLst/>
          </a:prstGeom>
          <a:ln w="9360">
            <a:solidFill>
              <a:srgbClr val="2c3c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хний срез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0" name="Содержимое 5" descr="сканирование0054.jpg"/>
          <p:cNvPicPr/>
          <p:nvPr/>
        </p:nvPicPr>
        <p:blipFill>
          <a:blip r:embed="rId1"/>
          <a:stretch/>
        </p:blipFill>
        <p:spPr>
          <a:xfrm>
            <a:off x="2523960" y="3067200"/>
            <a:ext cx="3438720" cy="3357360"/>
          </a:xfrm>
          <a:prstGeom prst="rect">
            <a:avLst/>
          </a:prstGeom>
          <a:ln w="0">
            <a:noFill/>
          </a:ln>
        </p:spPr>
      </p:pic>
      <p:sp>
        <p:nvSpPr>
          <p:cNvPr id="241" name="Стрелка влево 6"/>
          <p:cNvSpPr/>
          <p:nvPr/>
        </p:nvSpPr>
        <p:spPr>
          <a:xfrm rot="16200000">
            <a:off x="3814560" y="2274840"/>
            <a:ext cx="85752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cap="rnd" w="1908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4800600"/>
            <a:ext cx="63486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жний срез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120" y="609120"/>
            <a:ext cx="6348600" cy="38451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5367240"/>
            <a:ext cx="6348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Содержимое 5" descr="сканирование0054.jpg"/>
          <p:cNvPicPr/>
          <p:nvPr/>
        </p:nvPicPr>
        <p:blipFill>
          <a:blip r:embed="rId2"/>
          <a:stretch/>
        </p:blipFill>
        <p:spPr>
          <a:xfrm>
            <a:off x="2706840" y="476280"/>
            <a:ext cx="3438360" cy="3357360"/>
          </a:xfrm>
          <a:prstGeom prst="rect">
            <a:avLst/>
          </a:prstGeom>
          <a:ln w="0">
            <a:noFill/>
          </a:ln>
        </p:spPr>
      </p:pic>
      <p:sp>
        <p:nvSpPr>
          <p:cNvPr id="246" name="Стрелка влево 5"/>
          <p:cNvSpPr/>
          <p:nvPr/>
        </p:nvSpPr>
        <p:spPr>
          <a:xfrm rot="5400000">
            <a:off x="4140000" y="4119480"/>
            <a:ext cx="85752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cap="rnd" w="1908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2:17:59Z</dcterms:created>
  <dc:creator>Марина</dc:creator>
  <dc:description/>
  <cp:keywords/>
  <dc:language>en-US</dc:language>
  <cp:lastModifiedBy>user</cp:lastModifiedBy>
  <dcterms:modified xsi:type="dcterms:W3CDTF">2021-04-11T18:29:22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