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dt" idx="4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4" name="PlaceHolder 5"/>
          <p:cNvSpPr>
            <a:spLocks noGrp="1"/>
          </p:cNvSpPr>
          <p:nvPr>
            <p:ph type="ftr" idx="4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6"/>
          <p:cNvSpPr>
            <a:spLocks noGrp="1"/>
          </p:cNvSpPr>
          <p:nvPr>
            <p:ph type="sldNum" idx="4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E93F7-22A1-426C-BE09-F1071470069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игинальные шаблоны для презентаций: https://presentation-creation.ru/powerpoint-templates.htm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сплатно и без регист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C870E-3C2A-4481-BF98-A9300EDCFB4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EBD0-7CD0-44B2-B98F-B8A7AD7B4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971A-86E4-4A48-B26C-75DDF936E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76541B-A64D-431F-8BB8-5D8480BEE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2D8CB6-2E85-4E0F-89BC-230B5F67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1DBDD4-1ACE-4652-812F-A037D63D2F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B3E7DD-3180-4997-B595-2A5D5D180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F90ED3-C334-4664-B03B-1FDDFD78E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E8DCAA-A007-4567-81F1-4631DEFBA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4C90C6-47A5-48EA-8DE1-7E73493C7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19B8FA-BA07-4E72-95A2-FA0D946863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614E5D-D61F-478C-9C29-B46F8D806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13AF1B-E5CF-4F37-985E-369ACD01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DE5A2-6A82-48AC-8D4A-8C1C384F3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65E030-A0C4-4C48-9F3E-BD179F994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E0AD6F-2720-4E6A-BE2A-450459E0F0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756329-CC5E-4C56-9ECB-29ADA8007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BC4E467-A317-4710-9BF9-A9259D7C1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F33541-7B1A-47B6-BCB5-91FB63C87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48DF057-64CD-4D7F-98DC-54899E958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E233D0-ACC1-4678-8EB4-8397A8E11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299034-D1FB-4FD4-9AE7-435AA57920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3429E6-70DD-4D4E-BAB9-624CE23EF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0B7A60-36C6-4FA9-B144-4EABFFB79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9665E-57D2-4872-830D-6417DB46E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19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0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FAEFE6-769E-461F-B2CF-E6405ED09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ADE2B3D-342C-4DA5-B128-02DB4FDF9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9A54CE-CAFE-470B-A24C-56A7B353C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81DE62-0769-4A97-9066-6E8AC8EDF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B7E993C-6F90-406A-857D-E62AD9AF92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A9A4ABF-BBBA-4952-A46D-50FAA188F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C469412-6977-4D25-B4C5-FCB285421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07EDB4-23CD-4CAF-B4B8-7F1336200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BD984D4-8A02-4707-8693-46258749F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01BD5A4-7699-476E-B8BF-F898C66947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8AEE07-F3A8-44E6-980D-AFF6809D19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71A223-397C-4B23-A311-CC93526A35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9E7E63-2BEE-48AF-9F7B-923F46C09B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1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2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A8085ED-C2D5-4893-A78C-0A9E065CE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6787986-15A6-41B9-87A8-B3A2CE2CA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23F8A4-2A69-4246-893C-46C949A5A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908E81E-96E9-4F27-8C88-514B47E41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EE56469-10B4-4B02-8364-EA37EFB67D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3CA7D34-C6C2-4C79-A43D-2171D42080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756B28-812E-4A4C-A34B-40B4A2122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3D47153-AE6C-44B1-BBF0-300ACDD5D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05B2B-482A-43B2-9AF6-48FF522CC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36B871-5020-4B28-B31C-FB1A48FFF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481245-33CD-40C8-AE7C-75ECCF19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BECC50-FA62-4F97-A516-F0480752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0078D34-5172-484C-891B-4C1FB4C82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2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3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4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618E62-08D2-44E7-B5AA-BAB3FFC39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6E74E8E-D99B-4584-A9A1-1DED0E6985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8F17C4-191F-4D99-8EDA-DB6704913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660EE0-0EE2-4CD3-A208-1F0EC90AC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4FF0773-471C-4DE7-AE67-D2B1C7779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8E5A21-860D-4204-BB4B-128E34A04F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465FE3-3AF3-4260-8379-C793071AB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CCAB8D2-65A9-48E0-8C6D-9F6B3B0521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D151EF3-29D4-41FF-8503-E15D024CB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871ACF2-5A66-494A-A547-4E85555EC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E4AB87-F2D8-4C59-B7B6-19723FC2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1F1E761-4FE1-4599-859D-D72781E3B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BCF303-A88C-455D-AB7A-04EF4DC37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4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5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6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B7F4272-BDD3-4A3D-BFC4-4BDBE580E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6D49D7-CCF6-4A1F-92CE-50AB2E958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52DD11-DED7-4F3B-97E1-8B16C292B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80ACC6D-C033-4CE6-8B92-EF5B2B655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76297-8EA2-4788-AA26-9ECCC1FE8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53E478-AAAB-4D49-B0F3-E773FCD57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C119A6-9A0D-47A7-9B3A-5D0D6AC859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84033B0-6474-4564-AAD5-855B79EF2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3707167-BFE2-4BC1-AF21-DF7F5BBB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6CD2F2-DF01-46FB-889A-B80811EB7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EB2F473-F076-4106-B401-9DCFB046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A3CFE3-FF94-403E-A0B5-17CB273EB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9785E9-66D5-46AF-96F3-744CE1D93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75091CF-AD3B-4736-B235-84AF7D23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A028A-B2E0-4305-9C51-F8AF02E7B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38885E-5D66-478E-A1CE-DD0663DA3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1135F-B64F-4498-9C24-09AE81148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25CC-D708-4881-9BA1-E31775282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24881-7550-489E-B1DB-4BD8890D6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5D46D-8763-462F-B488-339DB8089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B2168A-A6D1-4DD1-AC69-10E9AA1F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E979D1-F646-48FA-82E5-D56B184189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AFB1CC-EC8F-42A6-967C-7BBD2A66B1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C5B508-AA14-498C-875E-452B542AF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D588-DCD8-44B5-B227-42E02A42B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ED22D7-DC78-4755-932A-ADF35840B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A8E717-84C2-49BE-B6E4-958D9A643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BBC659-F7BF-492B-B0A6-E97CDC8A9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F646-DBF4-4935-8920-F92E53666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61B92-7F26-42C7-929F-4CBAD0468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5448BE-B2AE-41FD-8DF5-FA30CFA865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C64EF3-6A1D-4230-9968-60523120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156310-3323-4D95-983B-61C772C2A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AC4016-C121-4200-B0BD-9B2CA71E8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6BD5E-CC5C-4A36-9E4F-B69A706CA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651F28-89CE-4D4C-8271-88EFA0B7F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1591-504B-4438-8503-600959700D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6141A64-BC09-48BF-9713-9AE2B2475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1909AB-CD01-4309-9858-ED5AA347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9343-2EEC-4728-ACCA-F20CC6F83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9D65AC-28D7-4070-B756-1598EE4FD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F2BFF8-B09A-4E3C-BFCA-A388F4FBBD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2E482-B1F3-4DAC-91A6-57DBC9525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9A268E-9F00-4815-A22A-91776939F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637190-9379-4A93-9460-5315EE0F7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54FB3-6AF6-43AC-9B8A-0068D207B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FFB133-7197-4F2B-A4AA-B0B88366E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AE9C17-709F-4FF6-BF7F-EC48C3EC17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2F1285-F263-4D69-B1A0-1724F3B07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ABFB9D9-B865-4F8C-9A23-6E0A9B8917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0CE24-FBFC-405C-9C8E-D28BB6B8A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F582B0-5446-4457-B620-1147F625A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986014-E7E2-4206-99B6-2D42DD1D3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6AE4B9-BC59-46C8-99A1-9F1BA31A8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B0A7650-9744-46D9-A37C-8F70B07F4D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D8758-2AC1-4CC8-A1D4-56B3D770AE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145FB5-8062-4EFB-9312-CD97D930E9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DB4F782-D7AB-4491-8287-2A8626653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6627E2-53DE-4620-A766-4BE4D11F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C897E4-C9BA-4263-A57A-283825BAA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275C6B-9ED2-4452-8403-A264B5E6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A80E6-6127-469A-86DB-09D8F24500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D84F73-1254-440D-BF98-722DD6B9C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869886-2B88-4A9D-972D-1B3E2905A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0E44AB-90B0-4F27-A4AC-D89752883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514B53-909D-4648-AAEE-6609F54F1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A8B0FE-4467-4B38-B4A6-C7363217C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EB7CC3-74FF-4895-B539-A7B39BE07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A07D55-77E4-4628-86B4-B5FD87360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0FA9CA-E4AC-4E63-94EB-305FB048E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3222E65-B1DB-43D4-A0D3-FAE44FBB5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FDFBBAB-8C30-4309-965A-68F4BC3D7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2E6B-7B54-4E99-9C49-388C73E1E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2B3108-B237-4065-9B21-2523EA64C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648A98-B508-4917-B38A-03E7925F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145DCC6-4787-433B-B711-8543E100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5F081E6-2E44-4561-91BA-3758015337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B7E80E-0FD1-4B8F-BD24-20D74D65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F910B-08AF-40A8-84BD-24C02D187E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BF59759-7298-4CED-8880-CE36E7C0E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7F203C-3D57-4E17-922F-F9799CB93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ACE2457-BF10-41EB-9810-4488C8BC5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483F041-0278-4611-BC82-94762013D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79C2-5F6B-4700-BAA6-A850E67DC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F7FAC8-7655-423E-880B-D0629D800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3B564-3698-43F4-9935-59096D353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61BCD62-1955-4564-90A2-5983C3E3B3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2D95BD-1E61-460F-9289-BD2A51DDC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8BB98C-01AE-4920-9561-A01A8EA756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759C775-A79C-4394-B860-B09DAEEACD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FE00A7-0987-43CB-B2D7-DC728F31A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A64627-CA34-403D-809F-7C0E15520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E9680-5BB8-40B7-84A7-8A387FBA7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726F855-8575-4BAF-811F-BBBCAE6C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FDC7F-9F39-4693-9709-682A49DC7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403280" y="115560"/>
            <a:ext cx="7561440" cy="50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171121-05E7-4890-AB9E-C8AE67CC8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3DD211-1914-455B-B6D9-A8C7A6C7B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4DC98A-247B-4363-BB3F-8030EEE5F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3505310-F102-4618-971C-46C5C13F5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908000" y="3969720"/>
            <a:ext cx="705672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B2C4D5D-DE46-4A9D-8D42-1E6CE0E7B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5523840" y="141264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90800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5523840" y="3969720"/>
            <a:ext cx="344340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EDA7E37-BD73-44C6-ABF6-FB3ACDC79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29408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6679800" y="141264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9080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29408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6679800" y="3969720"/>
            <a:ext cx="2271960" cy="23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E1A6FD-4093-4A4A-A58E-43D88CA3BA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CCB984-768A-4868-BB2C-115EF301C2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D002FE-57FB-4A3A-9CFA-9B9AA6448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88CEEF-1C57-4E0A-82D2-D808579AA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图片 2" descr="1"/>
          <p:cNvPicPr/>
          <p:nvPr/>
        </p:nvPicPr>
        <p:blipFill>
          <a:blip r:embed="rId2"/>
          <a:srcRect l="0" t="0" r="0" b="-64"/>
          <a:stretch/>
        </p:blipFill>
        <p:spPr>
          <a:xfrm>
            <a:off x="0" y="512640"/>
            <a:ext cx="9144000" cy="58168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6778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2626D-9CD1-4A42-948F-E5353546249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9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6FC81-BA31-4D38-8767-204E73EFCAD1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75495-6A9B-40D0-8F19-DB30C8D5CF44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4584C-11A8-4BF0-B96B-13252898A318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 type="ftr" idx="3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 type="sldNum" idx="3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99B2-1452-4A9A-81C0-93F839F57383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 type="dt" idx="4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42551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 type="ftr" idx="4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5"/>
          <p:cNvSpPr>
            <a:spLocks noGrp="1"/>
          </p:cNvSpPr>
          <p:nvPr>
            <p:ph type="sldNum" idx="4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BC1B38-3789-4B17-8F7B-007E942BB351}" type="slidenum">
              <a:rPr b="0" lang="ru-RU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14B13-DEEB-4878-8253-271602F3FA7E}" type="slidenum">
              <a:rPr b="0" lang="zh-CN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42551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59BAB-F37D-4072-A910-DAF4BC8A20BB}" type="slidenum">
              <a:rPr b="0" lang="zh-CN" sz="1200" spc="-1" strike="noStrike">
                <a:solidFill>
                  <a:srgbClr val="42551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27" name="Номер слайда 5"/>
          <p:cNvSpPr/>
          <p:nvPr/>
        </p:nvSpPr>
        <p:spPr>
          <a:xfrm>
            <a:off x="6705720" y="650880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1c485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E662C-EA80-42AE-8E5B-8C998B52079E}" type="slidenum">
              <a:rPr b="0" lang="zh-CN" sz="1200" spc="-1" strike="noStrike">
                <a:solidFill>
                  <a:srgbClr val="1c485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131AD-C4C0-44A8-8038-7CF27EFD9773}" type="slidenum">
              <a:rPr b="0" lang="zh-CN" sz="12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2f2f2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14AC9-A69C-4831-9263-7E431D5BAC63}" type="slidenum">
              <a:rPr b="0" lang="zh-CN" sz="1200" spc="-1" strike="noStrike">
                <a:solidFill>
                  <a:srgbClr val="f2f2f2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9"/>
          </p:nvPr>
        </p:nvSpPr>
        <p:spPr>
          <a:xfrm>
            <a:off x="1374840" y="6409800"/>
            <a:ext cx="12160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20"/>
          </p:nvPr>
        </p:nvSpPr>
        <p:spPr>
          <a:xfrm>
            <a:off x="4154400" y="6356520"/>
            <a:ext cx="1649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21"/>
          </p:nvPr>
        </p:nvSpPr>
        <p:spPr>
          <a:xfrm>
            <a:off x="7470720" y="6356520"/>
            <a:ext cx="1216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9DB95-BE73-4413-81A4-D249CA15B179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AB034-225D-4D8C-A4D8-EDED1E365BFD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Рисунок 6" descr=""/>
          <p:cNvPicPr/>
          <p:nvPr/>
        </p:nvPicPr>
        <p:blipFill>
          <a:blip r:embed="rId3"/>
          <a:stretch/>
        </p:blipFill>
        <p:spPr>
          <a:xfrm>
            <a:off x="-1620720" y="46080"/>
            <a:ext cx="757080" cy="757080"/>
          </a:xfrm>
          <a:prstGeom prst="rect">
            <a:avLst/>
          </a:prstGeom>
          <a:ln w="0">
            <a:noFill/>
          </a:ln>
        </p:spPr>
      </p:pic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25519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42551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42551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42551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5519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898c3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1C3B9-DDDF-4C3F-A951-4EA1B2472083}" type="slidenum">
              <a:rPr b="0" lang="zh-CN" sz="1200" spc="-1" strike="noStrike">
                <a:solidFill>
                  <a:srgbClr val="8898c3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57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78552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униципальное казённое дошкольное образовательное учреждение детский сад № 29 муниципального образования Усть-Лабинский район</a:t>
            </a:r>
            <a:br>
              <a:rPr sz="1600"/>
            </a:br>
            <a:endParaRPr b="1" lang="en-US" sz="1600" spc="-1" strike="noStrike">
              <a:solidFill>
                <a:srgbClr val="008000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 type="subTitle"/>
          </p:nvPr>
        </p:nvSpPr>
        <p:spPr>
          <a:xfrm>
            <a:off x="1371600" y="1642680"/>
            <a:ext cx="6400800" cy="39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езентация на конкурс стендов (уголков) :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Эколята-Молодые защитники Природы!»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21г.</a:t>
            </a: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Прямоугольник 3"/>
          <p:cNvSpPr/>
          <p:nvPr/>
        </p:nvSpPr>
        <p:spPr>
          <a:xfrm>
            <a:off x="7215120" y="4000680"/>
            <a:ext cx="171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宋体"/>
              </a:rPr>
              <a:t>Выполнила воспитатель  М.В Одинцов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7000"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7" name="Picture 2" descr=""/>
          <p:cNvPicPr/>
          <p:nvPr/>
        </p:nvPicPr>
        <p:blipFill>
          <a:blip r:embed="rId1"/>
          <a:stretch/>
        </p:blipFill>
        <p:spPr>
          <a:xfrm>
            <a:off x="1857240" y="1000080"/>
            <a:ext cx="6843960" cy="53085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9" name="Picture 2" descr=""/>
          <p:cNvPicPr/>
          <p:nvPr/>
        </p:nvPicPr>
        <p:blipFill>
          <a:blip r:embed="rId1"/>
          <a:stretch/>
        </p:blipFill>
        <p:spPr>
          <a:xfrm>
            <a:off x="1857240" y="1071720"/>
            <a:ext cx="6648480" cy="52369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1547640" y="5957280"/>
            <a:ext cx="64440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4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21" name="Прямоугольник 2"/>
          <p:cNvSpPr/>
          <p:nvPr/>
        </p:nvSpPr>
        <p:spPr>
          <a:xfrm>
            <a:off x="3322800" y="1214280"/>
            <a:ext cx="345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лагодарю за внимание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3" descr="D:\Рабочий стол\планета.png"/>
          <p:cNvPicPr/>
          <p:nvPr/>
        </p:nvPicPr>
        <p:blipFill>
          <a:blip r:embed="rId1"/>
          <a:stretch/>
        </p:blipFill>
        <p:spPr>
          <a:xfrm>
            <a:off x="2214720" y="1143000"/>
            <a:ext cx="4929120" cy="535788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ктуальность экологического воспитания</a:t>
            </a: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0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я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настоящее время является основой формирования нового образа жизни. Началом формирования экологической направленности личности считается дошкольное детство. Это воспитание в детях способности понимать и любить окружающий мир и бережно относиться к нему. Экологическое образование дошкольников — это не просто дань «модному» направлению в педагогике.  Только экологическое мировоззрение, экологическая культура ныне живущих людей могут вывести планету и человечество из того катастрофического состояния, в котором они пребывают сейчас. Таким образом, обострение экологической проблемы в стране и в мире диктует необходимость интенсивной просветительской работы по формированию у детей экологического сознания, культуры природопользования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1403280" y="-142920"/>
            <a:ext cx="756144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ь экологического воспитания :</a:t>
            </a:r>
            <a:br>
              <a:rPr sz="20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ирование экологической культуры</a:t>
            </a:r>
            <a:br>
              <a:rPr sz="2000"/>
            </a:b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2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дачи: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звивать у детей дошкольного возраста экологические представления, знания о ценности природы и правилах поведения в ней, умение созерцать красоту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Формировать умение и становление экологически ориентированного взаимодействия с объектами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капливать с детьми эмоционально позитивный опыт от общения с природой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спитывать у детей элементы экологического сознания, ценностные ориентиры в поведении и деятельности, обеспечивающие ответственное отношение к окружающей социальной и природной среде и здоровью (собственному и окружающих людей)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Следовать экологическим правилам в доступных для ребёнка форма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1403280" y="428760"/>
            <a:ext cx="7561440" cy="1071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ы организации деятельности детей :</a:t>
            </a:r>
            <a:endParaRPr b="0" lang="en-US" sz="2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4" name=""/>
          <p:cNvSpPr txBox="1"/>
          <p:nvPr/>
        </p:nvSpPr>
        <p:spPr>
          <a:xfrm>
            <a:off x="1908000" y="1071360"/>
            <a:ext cx="7056720" cy="523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1" i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блюдение за животными и растениями в уголке природы, на прогулке, за трудом взрослы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руд по уходу за растениями и животными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зобразительная деятельность экологической тематики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идумывание экологических сказок, составление, рассказав о природных объектах и явлениях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евые прогулки в природу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тение художественной литературы, рассказ воспитателя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седы и разговоры с детьми на экологические тем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ы, поисковая деятельность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в уголке природы и на участке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дение календарей природы, дневников наблюдений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досуги и праздники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5614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исание стенда</a:t>
            </a: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6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 « Эколята – друзья и защитники Природы!» находится в холле, родители с детьми  имеют возможность полюбоваться красотой оформленного стенда, ознакомиться с его содержанием.  Стенд выполнен на ватмане  с изображением природы- неба, солнца, деревьев, насекомых, травы. Изображение выполнено акварельными красками ярких и сочных цветов, использована бумага фоамиран, цветная. В оформление  стенда включены материалы разработанные лично и  информация ,заимствованная из интернет ресурсов.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тенде изображены: логотип «Эколята» и образы всех сказочных героев «Эколят» 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ервой части стенда « Эколенок» Тихоня, который любит цветы и природу  представляет для  детей и взрослых задания, игры, рекомендации: «Правила поведения в лесу», «Птицы, занесённые в красную книгу», дидактические игры «Дикие животные наших лесов» и приготовил  «медаль» юному защитнику природы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1403280" y="115920"/>
            <a:ext cx="7561440" cy="81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08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торую часть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енда представляет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«Елочка», она хочет рассказать об экологической безопасности, бережном отношении к природе. Здесь представлено задание для детей «Что наносит вред природе?»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фото выступления детей на поселковом конкурсе с инсценировкой песни «От улыбки станет всем теплей».Это яркое выступление ,к которому родители готовили костюмы, помогали с оформлением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0" lang="ru-RU" sz="2000" spc="-1" strike="noStrike">
                <a:solidFill>
                  <a:srgbClr val="425519"/>
                </a:solidFill>
                <a:latin typeface="Times New Roman"/>
                <a:ea typeface="Times New Roman"/>
              </a:rPr>
              <a:t>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следующей части «Умница» делится полезной информацией о проведённых мероприятиях с родителями : конкурс плакатов «День леса!», выставка поделок  из природного материала, экологическая неделя для родителей и детей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sp>
        <p:nvSpPr>
          <p:cNvPr id="610" name=""/>
          <p:cNvSpPr txBox="1"/>
          <p:nvPr/>
        </p:nvSpPr>
        <p:spPr>
          <a:xfrm>
            <a:off x="1908000" y="1412640"/>
            <a:ext cx="7056720" cy="48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следнюю часть стенда представляет«Шалун» , весельчак и затейник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грает с детьми, проводит конкурсы, развлечения с познавательной целью. И представляет отчёт  о проведённых мероприятиях: «Огород на окне», аппликация «Наш сад», беседа «Зимующие птицы», дефиле костюмов «Фрукты ,ягоды», наблюдение в огороде за всходами.</a:t>
            </a:r>
            <a:endParaRPr b="0" lang="en-US" sz="2000" spc="-1" strike="noStrike">
              <a:solidFill>
                <a:srgbClr val="425519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403280" y="-44280"/>
            <a:ext cx="756144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2" name="Picture 4" descr=""/>
          <p:cNvPicPr/>
          <p:nvPr/>
        </p:nvPicPr>
        <p:blipFill>
          <a:blip r:embed="rId1"/>
          <a:stretch/>
        </p:blipFill>
        <p:spPr>
          <a:xfrm>
            <a:off x="714240" y="714240"/>
            <a:ext cx="828684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403280" y="115560"/>
            <a:ext cx="7561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425519"/>
              </a:solidFill>
              <a:latin typeface="Calibri"/>
            </a:endParaRPr>
          </a:p>
        </p:txBody>
      </p:sp>
      <p:pic>
        <p:nvPicPr>
          <p:cNvPr id="614" name="Picture 2" descr=""/>
          <p:cNvPicPr/>
          <p:nvPr/>
        </p:nvPicPr>
        <p:blipFill>
          <a:blip r:embed="rId1"/>
          <a:stretch/>
        </p:blipFill>
        <p:spPr>
          <a:xfrm>
            <a:off x="357120" y="357120"/>
            <a:ext cx="4286160" cy="6143760"/>
          </a:xfrm>
          <a:prstGeom prst="rect">
            <a:avLst/>
          </a:prstGeom>
          <a:ln w="0">
            <a:noFill/>
          </a:ln>
        </p:spPr>
      </p:pic>
      <p:pic>
        <p:nvPicPr>
          <p:cNvPr id="615" name="Picture 3" descr=""/>
          <p:cNvPicPr/>
          <p:nvPr/>
        </p:nvPicPr>
        <p:blipFill>
          <a:blip r:embed="rId2"/>
          <a:stretch/>
        </p:blipFill>
        <p:spPr>
          <a:xfrm>
            <a:off x="4929120" y="357120"/>
            <a:ext cx="3571920" cy="61437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30T20:58:23Z</dcterms:created>
  <dc:creator/>
  <dc:description/>
  <cp:keywords/>
  <dc:language>en-US</dc:language>
  <cp:lastModifiedBy>RePack by Diakov</cp:lastModifiedBy>
  <cp:lastPrinted>1899-12-30T00:00:00Z</cp:lastPrinted>
  <dcterms:modified xsi:type="dcterms:W3CDTF">2021-04-11T15:57:07Z</dcterms:modified>
  <cp:revision>20</cp:revision>
  <dc:subject/>
  <dc:title>Заголовок слайд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8.1.0.3377</vt:lpwstr>
  </property>
  <property fmtid="{D5CDD505-2E9C-101B-9397-08002B2CF9AE}" pid="3" name="NXTAG2">
    <vt:lpwstr>000800fa100000000000010290310207f7000400038000</vt:lpwstr>
  </property>
</Properties>
</file>