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46AE-E6D0-428D-A51F-EEF7D6BD34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гинальные шаблоны для презентаций: https://presentation-creation.ru/powerpoint-templates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о и без рег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3568-8E23-4F4A-B46C-ED62485A8A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E315-2DD4-4412-B88A-59C34E3D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5411-4CB2-4789-9471-CBCEAE929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C31BC-D7E8-4FA5-9AB0-12F555BF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B8CFDE-A983-4D76-BE42-5A0E42F1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C9ED2-7869-4182-B53D-3783A4176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EC7CEB-29AF-43C6-9161-831E0A9F8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31F81D-C925-4CFE-A78A-BB9D294A1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0A67B2-299D-4D75-BC36-5875E0B5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C9402D-3A2E-4F3D-B770-5A86CAF3A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192AD5-3F08-4D73-8B70-486AD18A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3E1E7D-59CE-4377-ACB6-0EF0690D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5D67BB-5A14-4FFF-AFB0-C3EF597F6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DA3B-53AC-4630-B6D3-DA32B7C5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DEA67-A39E-46B1-86F8-5622E1F1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5EB879-5B85-4C33-B85F-D45573738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6CC9EE-B3CD-4528-A722-63FA4925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2C358-4792-4CC7-9E18-76273F5A9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5D56A5-DE6E-462F-A2FA-2EDEF48D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58B9D-4EF8-4704-862C-736FE431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E7AE96-C5F6-475B-A70D-9900DA165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0B5CA-DEB7-43B2-8644-914E4B94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2E6EC-488A-47E2-8AEF-4DB678B0C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5C604B-8A83-4C45-AA5A-68BDB660E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3B45-2D0D-440E-9BF2-ED846966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FBE06C-C6A2-449F-A2B1-72FD1AB4B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FDC484-5A47-4154-8B32-657D86885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98CE73-F38F-4B9A-8628-0CAF177D2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21D452-4377-4A19-9395-B117238B8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1709E6-387E-4C60-9426-C599E396C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160CB0-AD3C-493E-A076-1ED6460C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483FAF-3B1B-474B-82A4-0EADF3D9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37751-9590-49BC-ADC6-114399EB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03EFC4-3B69-4D27-B49F-74F3DA7D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1429AA-35B0-4747-8BE6-A5B2269D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61BE-F874-4564-A92D-370C63FBA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09E2F0-B6EA-45DD-9F1F-5476A2D1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381739-2DEE-4F7C-91E1-CD282E1CF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F76C4C-147C-4C19-8848-E0FD4CE5E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72C17C-7D6E-403D-A6C7-5EC06ED63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D18D1-CF45-46E0-A666-C696E386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936260-5FD8-4616-B3D2-C237557E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A79B2D-D9CD-4932-8A0A-28CC0597B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59ADF7-1EBE-4B67-B160-8D34DA0C2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3045E-9C56-43B7-B6FA-09B1F2D7B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421485-F157-48B6-B0C6-8F73377A3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78802-7111-4A22-AC52-E1A4EF85C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ABE5B9-525A-4B0C-B51A-E39C1277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5498E-7DDB-429D-A2A3-03D5E38A3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A4FD3-0137-40FF-B08C-AC163082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75C328-F755-495C-A2B0-D4F30A782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624E4F-34E5-4285-8479-883D90F53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A3744-509F-434A-A831-30F797397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421A10-03A7-4770-BA2D-ACC972F3D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784F69-E9D5-4B72-A3D6-0385C062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6DAC38-02A0-41FC-BBF7-E4966D6FF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71DD04-BF09-43C9-8E5F-9B4B12FF8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6F720-AD84-4A93-80AE-6BC74842C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C2C0EC-C003-4025-A6D4-00982DA45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66139C-B717-42F3-BFF2-DAC10F2E8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CDF9DA-0B8B-40C9-A29D-4A2851F47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2875B0-10F7-442F-B932-A3D3604C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CC24E7-2D90-421F-9544-7FB1CFEF0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C28BB5-B67B-40BB-B0AA-6DC62762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70233-DDAC-4C02-811E-60A5B7900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08F18F-39B1-4CDB-B0ED-6C45071F8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3176A1-26C4-4456-B728-95437D90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267E2-6D14-457A-BBCA-FC1CE4545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93596-8B67-44D3-BE7D-F040ED069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737F75-07CE-4FA3-A82C-D9BFA1FD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4AEE72-3330-446D-97D8-4EE0D7327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9FD60EF-72DF-4DBD-BBEE-71F8260B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F7C4A3-4B33-48EC-8939-2D0F59FE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0B08BC-3385-45CE-8488-85F7D25A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9CE9DFE-8E65-4A46-8194-28DFD620A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A562A3-7AFB-4B0E-BF99-E0D23034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487B0B-E280-41E9-8176-B64EFAB71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AE2995-0715-46B1-BF4E-4FBCF223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D5C0C-90FF-41B6-B3A0-A0C2547F6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E6261-86B3-49C9-99FD-D0DBD63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4B91C-EBC9-45F1-ACB2-839D5B6F2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4FEB-99A2-45B6-84CC-3F078779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A60A8-19B6-4CB2-958E-12F555B6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C62E8-FAD4-4AEF-A0FB-46A4C76F5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F189-94AF-42A6-88EB-E22814AD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D8DB-3E01-4560-B0CE-BF9C9BE4C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96EAD-C87A-4D9B-BE7A-D52954A11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9E91F3-6673-4C13-95A6-83B9AF940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5AE228-5C5F-4359-AC3D-3D9C52073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CCF29-ABE0-4A48-AD93-9750F9D4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EB5BE-214A-4C71-AC59-4B5ACC99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909438-19C7-41D3-B5C9-CA60702FD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4D1B-A0A1-46BF-B454-5C350093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266C14-C1F0-4174-91C4-FB3B76ABA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BB321-C5CB-4EF3-A1F2-30D8F7AFB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5E05-E70D-4078-B5CF-67DF2D77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E26F5-EF01-4353-AF5D-A963512E9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543E34-BCF3-45D4-B421-6D21B25B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A27B9-BBC9-4AFC-83C6-17BEFC859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9081C1-4757-476D-84B1-ACBC46410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94004C-3CED-4035-BE51-8E289A544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FBD42-092B-426A-81F2-104717F4F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CA89D-2A10-4A88-AB4D-1000167C6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7DB3-14AD-460A-96BD-6286EE8D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32608-BA2B-4D80-86A0-D320DDA8A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5D9DA-113C-4E4F-9BC6-034F3DE6C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1317F4-A608-40FE-9DBA-2A3E91C8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721FB-BB59-462A-B891-46AFBDAD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8512A-3885-458B-B7FD-8192AC38E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007E9B-2FC2-493D-8EA8-87D3510E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450168-5206-4095-A105-CA0EE9983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9D157-856C-43BD-AB4C-4153EF221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D0B16-C90A-45EA-9A88-FCE019A5B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33DF1-EC28-49C6-9C63-CDD4F2BA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6EE8-F607-4B0A-896E-334F74B11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7FEE63-452B-429A-B7C5-94EC8291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18D80-B205-4B45-881A-DB763B43A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AB9EA1-4CD0-4CE8-A324-99F85985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B5E2E-42F1-44EC-B1E9-5ABAB6975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331094-29D7-45A7-AFB3-2CF9E6FF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9621BD-4B6C-470E-AB0D-E5931D68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7BF622-7F45-4525-A710-7B18A0693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8DF7A2-63F3-40A0-81C5-0C63A63A1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ECE08-1A4E-4C1E-BBFA-3CFF6236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D72B00-74B2-44D4-AF51-65522C15E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C31E-9B1C-40C0-9510-07877A635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AF63D-AEE6-473B-9655-5321BB576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B1A9E-E268-428B-8213-921B9CD66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5ED90D-1DA2-480B-83DD-4249C4FA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BEB7ED-4EBE-4175-8F26-07A32C69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3C0B2-B039-4B4C-8B4D-5B829FE2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A6AA2-9AE5-444E-BD28-347DA8ECF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0CBC7-81A3-424B-9D4E-0F56C8DC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F5803-237F-4213-AC18-17344D94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A2B54-2DFE-4375-89AE-12D0762AF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2A1F8-A3C7-46D0-BBBD-6E92E6F73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14F5-3DEC-4D32-86B7-308BF0958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75B55C-D3E0-4379-82A3-09CF8039D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AB53F3-0DF6-4219-A001-EE6294232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BAB29-94B2-404A-BF11-4FD4809E3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19624-AFA3-4857-9570-BF229D5BC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3A9EB-D84F-4390-9187-F99E0647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6E429-9E95-4EA5-BA32-16E81E23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045F88-D682-4E3B-886F-261F7C223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30DC4-6574-406C-8052-A71AD019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808AC5-06D8-4F80-849E-07407E407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140BD1-E5E2-4BFC-ADDB-32E4B70E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91555-9408-44C7-ABEF-B21F94B2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2C39A5-E8C7-4988-A577-546760C3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EE52C-DC5F-4684-9FA9-9AB4B119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B68BE-47DD-42A4-B838-320620E32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631886-FC4F-43A1-8000-C624BB39C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D3927-08E1-46C8-9197-F54F7B4A7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41C89-7300-4C4C-B54F-58022CDD0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A68C00-5E86-4F76-9DDF-2DABC4D56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9C2194-C1B3-40DD-AE1F-822457D8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954F55-087B-4E12-8D46-4E5FECEC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4CC3D3-781F-46DF-ADEC-8A028581A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A3DC-083F-4992-A47B-F8D9BDB5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84286-6B4C-4911-8184-6A956BE8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4966C-6D55-4E8F-B96D-BF92E346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29FF6C-C409-46B3-AE36-9980E4A8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F85C54-B4AB-4250-A4BB-081D75F2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BCBF8C-F4C3-4A76-B56C-CB53498DA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7FFF0F-EDD9-412D-8BF3-30347E684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C8E129-2673-47E9-B378-AABAB1041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63C316-A54E-47CC-9A79-BDF98321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D83C86-C737-43A2-8534-A5C71861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B49E09-998C-4072-928F-DC805C04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1"/>
          <p:cNvPicPr/>
          <p:nvPr/>
        </p:nvPicPr>
        <p:blipFill>
          <a:blip r:embed="rId2"/>
          <a:srcRect l="0" t="0" r="0" b="-64"/>
          <a:stretch/>
        </p:blipFill>
        <p:spPr>
          <a:xfrm>
            <a:off x="0" y="512640"/>
            <a:ext cx="9144000" cy="58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C64A-0A85-42D8-9282-1BCC2867AD7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D0D2-AB78-4D0B-AE2C-8C16AFD474E5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1DA0-ACA2-4DCA-861D-F7DF583DB1E5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A4DB-42A4-4E22-93C8-9030128EE8CD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2B83E-AF45-455D-8F42-C68BB735F7DD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551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551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55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602D-BD61-4B66-9A88-292DCB0754BE}" type="slidenum">
              <a:rPr b="0" lang="ru-RU" sz="1200" spc="-1" strike="noStrike">
                <a:solidFill>
                  <a:srgbClr val="4255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255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EDD4D-7457-4140-BC6A-9ED8808133FA}" type="slidenum">
              <a:rPr b="0" lang="zh-CN" sz="1200" spc="-1" strike="noStrike">
                <a:solidFill>
                  <a:srgbClr val="4255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255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A5237-B26D-46CD-B449-CE3FB6E91827}" type="slidenum">
              <a:rPr b="0" lang="zh-CN" sz="1200" spc="-1" strike="noStrike">
                <a:solidFill>
                  <a:srgbClr val="4255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48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03B3-463F-446D-A9BD-E08D3062DF6E}" type="slidenum">
              <a:rPr b="0" lang="zh-CN" sz="1200" spc="-1" strike="noStrike">
                <a:solidFill>
                  <a:srgbClr val="1c48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650D-6761-4DAC-A333-56F09DDF6D59}" type="slidenum">
              <a:rPr b="0" lang="zh-CN" sz="12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6981-8F85-445E-87C7-038B072F65A1}" type="slidenum">
              <a:rPr b="0" lang="zh-CN" sz="12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1374840" y="6409800"/>
            <a:ext cx="1216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154400" y="6356520"/>
            <a:ext cx="164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470720" y="635652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9A924-BB80-45EC-8827-E82F1BCC6166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43DE-7EF0-44A5-A053-FF90A3F8719A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ACABC-C2A2-42B3-8449-42C8273C6239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ённое дошкольное образовательное учреждение детский сад № 29 муниципального образования Усть-Лабинский район</a:t>
            </a:r>
            <a:br>
              <a:rPr sz="1600"/>
            </a:b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1642680"/>
            <a:ext cx="64008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на конкурс стендов (уголков) 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ята-Молодые защитники Природы!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3"/>
          <p:cNvSpPr/>
          <p:nvPr/>
        </p:nvSpPr>
        <p:spPr>
          <a:xfrm>
            <a:off x="7215120" y="400068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ыполнила воспитатель  М.В Одинц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857240" y="1000080"/>
            <a:ext cx="6843960" cy="53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857240" y="1071720"/>
            <a:ext cx="6648480" cy="523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47640" y="5957280"/>
            <a:ext cx="64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21" name="Прямоугольник 2"/>
          <p:cNvSpPr/>
          <p:nvPr/>
        </p:nvSpPr>
        <p:spPr>
          <a:xfrm>
            <a:off x="3322800" y="121428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D:\Рабочий стол\планета.png"/>
          <p:cNvPicPr/>
          <p:nvPr/>
        </p:nvPicPr>
        <p:blipFill>
          <a:blip r:embed="rId1"/>
          <a:stretch/>
        </p:blipFill>
        <p:spPr>
          <a:xfrm>
            <a:off x="2214720" y="1143000"/>
            <a:ext cx="492912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экологического воспит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является основой формирования нового образа жизни. Началом формирования экологической направленности личности считается дошкольное детство. Это воспитание в детях способности понимать и любить окружающий мир и бережно относиться к нему. Экологическое образование дошкольников — это не просто дань «модному» направлению в педагогике.  Только экологическое мировоззрение, экологическая культура ныне живущих людей могут вывести планету и человечество из того катастрофического состояния, в котором они пребывают сейчас. Таким образом, обострение экологической проблемы в стране и в мире диктует необходимость интенсивной просветительской работы по формированию у детей экологического сознания, культуры природопользования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03280" y="-142920"/>
            <a:ext cx="7561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экологического воспитания :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ологической культуры</a:t>
            </a:r>
            <a:br>
              <a:rPr sz="2000"/>
            </a:b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 детей дошкольного возраста экологические представления, знания о ценности природы и правилах поведения в ней, умение созерцать красоту природы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мение и становление экологически ориентированного взаимодействия с объектами природы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пливать с детьми эмоционально позитивный опыт от общения с природой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у детей элементы экологического сознания, ценностные ориентиры в поведении и деятельности, обеспечивающие ответственное отношение к окружающей социальной и природной среде и здоровью (собственному и окружающих людей)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едовать экологическим правилам в доступных для ребёнка формах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03280" y="428760"/>
            <a:ext cx="75614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рганизации деятельности детей :</a:t>
            </a:r>
            <a:endParaRPr b="0" lang="en-US" sz="2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908000" y="1071360"/>
            <a:ext cx="705672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животными и растениями в уголке природы, на прогулке, за трудом взрослых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 по уходу за растениями и животными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бразительная деятельность экологической тематики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думывание экологических сказок, составление, рассказав о природных объектах и явлениях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евые прогулки в природу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, рассказ воспитателя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и разговоры с детьми на экологические темы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, поисковая деятельность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уголке природы и на участке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календарей природы, дневников наблюдений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досуги и праздники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5614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стенда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 « Эколята – друзья и защитники Природы!» находится в холле, родители с детьми  имеют возможность полюбоваться красотой оформленного стенда, ознакомиться с его содержанием.  Стенд выполнен на ватмане  с изображением природы- неба, солнца, деревьев, насекомых, травы. Изображение выполнено акварельными красками ярких и сочных цветов, использована бумага фоамиран, цветная. В оформление  стенда включены материалы разработанные лично и  информация ,заимствованная из интернет ресурсов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нде изображены: логотип «Эколята» и образы всех сказочных героев «Эколят»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асти стенда « Эколенок» Тихоня, который любит цветы и природу  представляет для  детей и взрослых задания, игры, рекомендации: «Правила поведения в лесу», «Птицы, занесённые в красную книгу», дидактические игры «Дикие животные наших лесов» и приготовил  «медаль» юному защитнику природы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561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ую ча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а представляе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Елочка», она хочет рассказать об экологической безопасности, бережном отношении к природе. Здесь представлено задание для детей «Что наносит вред природе?»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фото выступления детей на поселковом конкурсе с инсценировкой песни «От улыбки станет всем теплей».Это яркое выступление ,к которому родители готовили костюмы, помогали с оформлением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ующей части «Умница» делится полезной информацией о проведённых мероприятиях с родителями : конкурс плакатов «День леса!», выставка поделок  из природного материала, экологическая неделя для родителей и детей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юю часть стенда представляет«Шалун» , весельчак и затейни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ет с детьми, проводит конкурсы, развлечения с познавательной целью. И представляет отчёт  о проведённых мероприятиях: «Огород на окне», аппликация «Наш сад», беседа «Зимующие птицы», дефиле костюмов «Фрукты ,ягоды», наблюдение в огороде за всходами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03280" y="-44280"/>
            <a:ext cx="7561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5519"/>
              </a:solidFill>
              <a:latin typeface="Calibri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828684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4286160" cy="6143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4929120" y="357120"/>
            <a:ext cx="357192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20:58:23Z</dcterms:created>
  <dc:creator/>
  <dc:description/>
  <cp:keywords/>
  <dc:language>en-US</dc:language>
  <cp:lastModifiedBy>RePack by Diakov</cp:lastModifiedBy>
  <cp:lastPrinted>1899-12-30T00:00:00Z</cp:lastPrinted>
  <dcterms:modified xsi:type="dcterms:W3CDTF">2021-04-11T15:57:07Z</dcterms:modified>
  <cp:revision>20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77</vt:lpwstr>
  </property>
  <property fmtid="{D5CDD505-2E9C-101B-9397-08002B2CF9AE}" pid="3" name="NXTAG2">
    <vt:lpwstr>000800fa100000000000010290310207f7000400038000</vt:lpwstr>
  </property>
</Properties>
</file>