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6.wmf" ContentType="image/x-wmf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0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38869-FD5E-48B8-B894-53B8FBFABEE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4958-C710-40FF-913B-321C1BC72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F7F3-5801-4A4D-B418-96E586659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0B7D-3FF4-454B-B188-F83E3DD67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DEBE-2D01-4A21-A8B9-75DC4BF76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CA546C-9026-48B7-925D-7F9E16294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1AEBEA-60E1-40B3-835B-0AB2BCFE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2DFE31-760B-4CC0-B50E-4E921629D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EB2406-4DF2-45E5-A276-A44E32F9A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9B4985-99D6-40D4-A171-5989C048E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D65867-5633-464A-8673-DF654012E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BB3DA4-8DBC-4B4E-9F00-F4E4180C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FF70-F149-4584-A7A9-01A745C80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76AE5A-A4F9-4532-801C-0361632B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7736FE-15C6-4E61-A522-330F1288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3FFD6A-54A5-4296-8285-656513E55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F44CCF-CE94-42F6-B08E-D6FAE95B7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E32CB6-C663-4D5D-96C2-49257BD62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C811-0C76-43E7-8667-065DCBDAC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60E2-7FDD-4D82-9A3F-A43F0F0F1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D877-C162-48A9-BB0B-F0CEAB3CE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BF88-35AC-4A6E-B3A4-7BB7AB658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1F48-B525-41AA-82F4-FE3D41A9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EF72-2B10-4F7F-B008-C5C36715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4CBB-7EA9-4F86-B549-3A1C5CE6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A7E55-D3F9-4436-A5DD-CA0FADE0EC6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E9B70-FD8A-47E0-A56A-CEC6526C791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extBox 6" descr=""/>
          <p:cNvPicPr/>
          <p:nvPr/>
        </p:nvPicPr>
        <p:blipFill>
          <a:blip r:embed="rId1"/>
          <a:stretch/>
        </p:blipFill>
        <p:spPr>
          <a:xfrm>
            <a:off x="-60480" y="3376440"/>
            <a:ext cx="9326880" cy="136080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1"/>
          <p:cNvSpPr/>
          <p:nvPr/>
        </p:nvSpPr>
        <p:spPr>
          <a:xfrm>
            <a:off x="2195640" y="5589720"/>
            <a:ext cx="488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ГКОУ Шуйская коррекционная школа-интерн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дготовила: педагог-психо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Шарапова С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357120" y="357120"/>
            <a:ext cx="2857680" cy="2500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C:\Users\User\Desktop\uchim-detej-prosit-o-pomoshhi-v-trudnyh-situatsiyah.jpg"/>
          <p:cNvPicPr/>
          <p:nvPr/>
        </p:nvPicPr>
        <p:blipFill>
          <a:blip r:embed="rId3"/>
          <a:stretch/>
        </p:blipFill>
        <p:spPr>
          <a:xfrm>
            <a:off x="4788000" y="333360"/>
            <a:ext cx="3960720" cy="26416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5" descr=""/>
          <p:cNvPicPr/>
          <p:nvPr/>
        </p:nvPicPr>
        <p:blipFill>
          <a:blip r:embed="rId1"/>
          <a:stretch/>
        </p:blipFill>
        <p:spPr>
          <a:xfrm>
            <a:off x="6000840" y="785880"/>
            <a:ext cx="2133360" cy="18795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"/>
          <p:cNvPicPr/>
          <p:nvPr/>
        </p:nvPicPr>
        <p:blipFill>
          <a:blip r:embed="rId2"/>
          <a:stretch/>
        </p:blipFill>
        <p:spPr>
          <a:xfrm>
            <a:off x="5791320" y="3505320"/>
            <a:ext cx="3047760" cy="2309760"/>
          </a:xfrm>
          <a:prstGeom prst="rect">
            <a:avLst/>
          </a:prstGeom>
          <a:ln w="0">
            <a:noFill/>
          </a:ln>
        </p:spPr>
      </p:pic>
      <p:sp>
        <p:nvSpPr>
          <p:cNvPr id="146" name="AutoShape 7"/>
          <p:cNvSpPr/>
          <p:nvPr/>
        </p:nvSpPr>
        <p:spPr>
          <a:xfrm>
            <a:off x="214200" y="1214280"/>
            <a:ext cx="3276720" cy="1447920"/>
          </a:xfrm>
          <a:prstGeom prst="wedgeEllipseCallout">
            <a:avLst>
              <a:gd name="adj1" fmla="val 129888"/>
              <a:gd name="adj2" fmla="val 82379"/>
            </a:avLst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Если вору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79280" y="2781360"/>
            <a:ext cx="576432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Book Antiqua"/>
              </a:rPr>
              <a:t>Правила для педагогов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е «разбирать» поступок ребенка в присутствии большого числа люде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казать на возможность наказания и социального неодобрен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ыяснить характер отношений ребенка с другими детьм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е  стремиться вызвать у ребенка открытое чувство вины, не разрушать психологические защиты ребенк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казать ребенку эмоциональную поддержк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еобходимо выяснить причину, которая побудила ребенка совершить воровство и вместе с ребенком выработать иные пути достижения цел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Прямоугольник 6"/>
          <p:cNvSpPr/>
          <p:nvPr/>
        </p:nvSpPr>
        <p:spPr>
          <a:xfrm>
            <a:off x="428760" y="324000"/>
            <a:ext cx="5072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Book Antiqua"/>
              </a:rPr>
              <a:t>КАК  РЕАГИРОВАТЬ НА ТРУДНОЕ ПОВЕДЕНИЕ РЕБ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Необходимо проявлять сдержанную доброжелательность и открыт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Подчеркнуть значимость родителя в воспитании ребен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Показать родителю свою положительную настроенность по отношению к ребенк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Не прибегать к давлени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Обсуждайте проблему, а не личные качества ребен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Выразить уверенность в успешном решении проблемы при совместной работе педагога и родител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Заголовок 1"/>
          <p:cNvSpPr/>
          <p:nvPr/>
        </p:nvSpPr>
        <p:spPr>
          <a:xfrm>
            <a:off x="2124000" y="404640"/>
            <a:ext cx="532944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равила конструктивного диалога с родителе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280" y="2349360"/>
            <a:ext cx="5329440" cy="7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Качества педагог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рямоугольник 2"/>
          <p:cNvSpPr/>
          <p:nvPr/>
        </p:nvSpPr>
        <p:spPr>
          <a:xfrm>
            <a:off x="179280" y="3071880"/>
            <a:ext cx="6408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юбовь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ез любви нет восп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важение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важение к личности реб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олерантность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рпимость к каждому ребен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птимизм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ера в лучшие качества воспитан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мпатия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ознанное сопереживание текущему эмоциональному состоянию другого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ммуникативность и педагогический так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8" descr="C:\Users\User\Desktop\AdobeStock_78455688_1.jpeg"/>
          <p:cNvPicPr/>
          <p:nvPr/>
        </p:nvPicPr>
        <p:blipFill>
          <a:blip r:embed="rId1"/>
          <a:stretch/>
        </p:blipFill>
        <p:spPr>
          <a:xfrm>
            <a:off x="4643280" y="260280"/>
            <a:ext cx="4124520" cy="274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"/>
          <p:cNvSpPr/>
          <p:nvPr/>
        </p:nvSpPr>
        <p:spPr>
          <a:xfrm>
            <a:off x="0" y="52304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7" descr="PE02278_"/>
          <p:cNvPicPr/>
          <p:nvPr/>
        </p:nvPicPr>
        <p:blipFill>
          <a:blip r:embed="rId1"/>
          <a:stretch/>
        </p:blipFill>
        <p:spPr>
          <a:xfrm>
            <a:off x="2643120" y="285840"/>
            <a:ext cx="357192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C:\Users\User\Desktop\2768493.jpg"/>
          <p:cNvPicPr/>
          <p:nvPr/>
        </p:nvPicPr>
        <p:blipFill>
          <a:blip r:embed="rId1"/>
          <a:stretch/>
        </p:blipFill>
        <p:spPr>
          <a:xfrm>
            <a:off x="4859280" y="3645000"/>
            <a:ext cx="4013280" cy="3009960"/>
          </a:xfrm>
          <a:prstGeom prst="rect">
            <a:avLst/>
          </a:prstGeom>
          <a:ln w="0">
            <a:noFill/>
          </a:ln>
        </p:spPr>
      </p:pic>
      <p:sp>
        <p:nvSpPr>
          <p:cNvPr id="94" name="TextBox 2"/>
          <p:cNvSpPr/>
          <p:nvPr/>
        </p:nvSpPr>
        <p:spPr>
          <a:xfrm>
            <a:off x="104760" y="260280"/>
            <a:ext cx="5950440" cy="52146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Кто-то когда-то должен ответи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Высветив правду, истину вскры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Что же такое – «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трудные дети»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Вечный вопрос и больной, как нары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Вот он сидит перед нами, глядит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Сжался пружиной, отчаялся о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С миром оборваны тонкие ни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Словно стена без дверей и без ок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Вот они, главные истины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Book Antiqua"/>
              </a:rPr>
              <a:t>эти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Поздно заметили… поздно учл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Нет! Не рождаются «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трудные дети»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Просто им вовремя не помог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 Antiqua"/>
              </a:rPr>
              <a:t>(С. Давидович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1199520" y="189000"/>
            <a:ext cx="6932160" cy="5814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чины трудного поведения ребе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900000" y="1268280"/>
            <a:ext cx="1943280" cy="1008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сутствие других моделей пове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трелка вправо 3"/>
          <p:cNvSpPr/>
          <p:nvPr/>
        </p:nvSpPr>
        <p:spPr>
          <a:xfrm>
            <a:off x="2987640" y="134136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4067280" y="1052640"/>
            <a:ext cx="4608360" cy="131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беритесь терп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кажите о ваших ожидан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вайте позитивные мод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ощряйте правильное пове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0"/>
          <p:cNvSpPr/>
          <p:nvPr/>
        </p:nvSpPr>
        <p:spPr>
          <a:xfrm>
            <a:off x="900000" y="3789360"/>
            <a:ext cx="3672000" cy="28382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вышенные требования к ребен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достаток эмоционального теп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рушение детско-родительских отнош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нфликты в сем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силие, жестокое обращ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2"/>
          <p:cNvSpPr/>
          <p:nvPr/>
        </p:nvSpPr>
        <p:spPr>
          <a:xfrm>
            <a:off x="5952600" y="5013360"/>
            <a:ext cx="26661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менение ситу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авая фигурная скобка 16"/>
          <p:cNvSpPr/>
          <p:nvPr/>
        </p:nvSpPr>
        <p:spPr>
          <a:xfrm>
            <a:off x="4859280" y="4292640"/>
            <a:ext cx="720720" cy="1800360"/>
          </a:xfrm>
          <a:custGeom>
            <a:avLst/>
            <a:gdLst>
              <a:gd name="textAreaLeft" fmla="*/ 0 w 720720"/>
              <a:gd name="textAreaRight" fmla="*/ 260280 w 720720"/>
              <a:gd name="textAreaTop" fmla="*/ 18720 h 1800360"/>
              <a:gd name="textAreaBottom" fmla="*/ 178164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61"/>
                  <a:pt x="10800" y="721"/>
                </a:cubicBezTo>
                <a:lnTo>
                  <a:pt x="10800" y="10079"/>
                </a:lnTo>
                <a:cubicBezTo>
                  <a:pt x="10800" y="10440"/>
                  <a:pt x="16200" y="10800"/>
                  <a:pt x="21600" y="10800"/>
                </a:cubicBezTo>
                <a:cubicBezTo>
                  <a:pt x="16200" y="10800"/>
                  <a:pt x="10800" y="11161"/>
                  <a:pt x="10800" y="11521"/>
                </a:cubicBezTo>
                <a:lnTo>
                  <a:pt x="10800" y="20879"/>
                </a:lnTo>
                <a:cubicBezTo>
                  <a:pt x="10800" y="2124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7964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Выгнутая влево стрелка 17"/>
          <p:cNvSpPr/>
          <p:nvPr/>
        </p:nvSpPr>
        <p:spPr>
          <a:xfrm>
            <a:off x="179280" y="549360"/>
            <a:ext cx="731880" cy="1216080"/>
          </a:xfrm>
          <a:custGeom>
            <a:avLst/>
            <a:gdLst>
              <a:gd name="textAreaLeft" fmla="*/ 97920 w 731880"/>
              <a:gd name="textAreaRight" fmla="*/ 633960 w 731880"/>
              <a:gd name="textAreaTop" fmla="*/ 235440 h 1216080"/>
              <a:gd name="textAreaBottom" fmla="*/ 889200 h 1216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63" stAng="-5400000" swAng="-5400000"/>
                <a:lnTo>
                  <a:pt x="0" y="11613"/>
                </a:lnTo>
                <a:arcTo wR="21600" hR="8363" stAng="10800000" swAng="-3377999"/>
                <a:lnTo>
                  <a:pt x="16200" y="21334"/>
                </a:lnTo>
                <a:lnTo>
                  <a:pt x="21600" y="18350"/>
                </a:lnTo>
                <a:lnTo>
                  <a:pt x="16200" y="14834"/>
                </a:lnTo>
                <a:lnTo>
                  <a:pt x="16200" y="16459"/>
                </a:lnTo>
                <a:arcTo wR="21600" hR="8363" stAng="7422001" swAng="3114862"/>
                <a:lnTo>
                  <a:pt x="412" y="9988"/>
                </a:lnTo>
                <a:arcTo wR="21600" hR="8363" stAng="-10536863" swAng="5136863"/>
                <a:close/>
              </a:path>
              <a:path fill="darkenLess" w="21600" h="21600">
                <a:moveTo>
                  <a:pt x="21600" y="0"/>
                </a:moveTo>
                <a:arcTo wR="21600" hR="8363" stAng="-5400000" swAng="-5400000"/>
                <a:lnTo>
                  <a:pt x="0" y="8363"/>
                </a:lnTo>
                <a:arcTo wR="21600" hR="8363" stAng="10800000" swAng="-263137"/>
                <a:lnTo>
                  <a:pt x="412" y="9988"/>
                </a:lnTo>
                <a:arcTo wR="21600" hR="8363" stAng="-10536863" swAng="5136863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Выгнутая влево стрелка 20"/>
          <p:cNvSpPr/>
          <p:nvPr/>
        </p:nvSpPr>
        <p:spPr>
          <a:xfrm>
            <a:off x="250920" y="549360"/>
            <a:ext cx="731880" cy="3806640"/>
          </a:xfrm>
          <a:custGeom>
            <a:avLst/>
            <a:gdLst>
              <a:gd name="textAreaLeft" fmla="*/ 97920 w 731880"/>
              <a:gd name="textAreaRight" fmla="*/ 633960 w 731880"/>
              <a:gd name="textAreaTop" fmla="*/ 883080 h 3806640"/>
              <a:gd name="textAreaBottom" fmla="*/ 2832120 h 38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10022" stAng="-5400000" swAng="-5400000"/>
                <a:lnTo>
                  <a:pt x="0" y="11060"/>
                </a:lnTo>
                <a:arcTo wR="21600" hR="10022" stAng="10800000" swAng="-3654209"/>
                <a:lnTo>
                  <a:pt x="16200" y="21282"/>
                </a:lnTo>
                <a:lnTo>
                  <a:pt x="21600" y="20562"/>
                </a:lnTo>
                <a:lnTo>
                  <a:pt x="16200" y="19206"/>
                </a:lnTo>
                <a:lnTo>
                  <a:pt x="16200" y="19725"/>
                </a:lnTo>
                <a:arcTo wR="21600" hR="10022" stAng="7145791" swAng="3571513"/>
                <a:lnTo>
                  <a:pt x="29" y="10541"/>
                </a:lnTo>
                <a:arcTo wR="21600" hR="10022" stAng="-10717304" swAng="5317304"/>
                <a:close/>
              </a:path>
              <a:path fill="darkenLess" w="21600" h="21600">
                <a:moveTo>
                  <a:pt x="21600" y="0"/>
                </a:moveTo>
                <a:arcTo wR="21600" hR="10022" stAng="-5400000" swAng="-5400000"/>
                <a:lnTo>
                  <a:pt x="0" y="10022"/>
                </a:lnTo>
                <a:arcTo wR="21600" hR="10022" stAng="10800000" swAng="-82696"/>
                <a:lnTo>
                  <a:pt x="29" y="10541"/>
                </a:lnTo>
                <a:arcTo wR="21600" hR="10022" stAng="-10717304" swAng="5317304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4"/>
          <p:cNvSpPr/>
          <p:nvPr/>
        </p:nvSpPr>
        <p:spPr>
          <a:xfrm>
            <a:off x="1318320" y="3357720"/>
            <a:ext cx="27259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чины кроются в сем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654372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Основные причины серьезных нарушений поведения дет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5600" cy="447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орьба за внимани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борьба за самоутверждени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желание отомстит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8000"/>
                <a:tab algn="l" pos="557280"/>
                <a:tab algn="l" pos="1006560"/>
                <a:tab algn="l" pos="1455840"/>
                <a:tab algn="l" pos="1905120"/>
                <a:tab algn="l" pos="2354400"/>
                <a:tab algn="l" pos="2803680"/>
                <a:tab algn="l" pos="3252960"/>
                <a:tab algn="l" pos="3701880"/>
                <a:tab algn="l" pos="4151160"/>
                <a:tab algn="l" pos="4600440"/>
                <a:tab algn="l" pos="5049720"/>
                <a:tab algn="l" pos="5499000"/>
                <a:tab algn="l" pos="5948280"/>
                <a:tab algn="l" pos="6397560"/>
                <a:tab algn="l" pos="6846840"/>
                <a:tab algn="l" pos="7296120"/>
                <a:tab algn="l" pos="7745400"/>
                <a:tab algn="l" pos="8194680"/>
                <a:tab algn="l" pos="864396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потеря веры в собственный успех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8" descr=""/>
          <p:cNvPicPr/>
          <p:nvPr/>
        </p:nvPicPr>
        <p:blipFill>
          <a:blip r:embed="rId1"/>
          <a:stretch/>
        </p:blipFill>
        <p:spPr>
          <a:xfrm>
            <a:off x="4572000" y="4076640"/>
            <a:ext cx="2687760" cy="2781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"/>
          <p:cNvPicPr/>
          <p:nvPr/>
        </p:nvPicPr>
        <p:blipFill>
          <a:blip r:embed="rId2"/>
          <a:stretch/>
        </p:blipFill>
        <p:spPr>
          <a:xfrm>
            <a:off x="6948360" y="476280"/>
            <a:ext cx="1982880" cy="352908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3"/>
          <p:cNvSpPr/>
          <p:nvPr/>
        </p:nvSpPr>
        <p:spPr>
          <a:xfrm>
            <a:off x="4952880" y="2057400"/>
            <a:ext cx="3660840" cy="3776760"/>
          </a:xfrm>
          <a:custGeom>
            <a:avLst/>
            <a:gdLst>
              <a:gd name="textAreaLeft" fmla="*/ 360 w 3660840"/>
              <a:gd name="textAreaRight" fmla="*/ 3660480 w 3660840"/>
              <a:gd name="textAreaTop" fmla="*/ 360 h 3776760"/>
              <a:gd name="textAreaBottom" fmla="*/ 3776400 h 3776760"/>
            </a:gdLst>
            <a:ahLst/>
            <a:rect l="textAreaLeft" t="textAreaTop" r="textAreaRight" b="textAreaBottom"/>
            <a:pathLst>
              <a:path w="21600" h="22284">
                <a:moveTo>
                  <a:pt x="9" y="0"/>
                </a:moveTo>
                <a:arcTo wR="9" hR="9" stAng="16200000" swAng="-5400000"/>
                <a:lnTo>
                  <a:pt x="0" y="22275"/>
                </a:lnTo>
                <a:arcTo wR="9" hR="9" stAng="10800000" swAng="-5400000"/>
                <a:lnTo>
                  <a:pt x="21591" y="22284"/>
                </a:lnTo>
                <a:arcTo wR="9" hR="9" stAng="5400000" swAng="-5400000"/>
                <a:lnTo>
                  <a:pt x="21600" y="9"/>
                </a:lnTo>
                <a:arcTo wR="9" hR="9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5"/>
          <p:cNvSpPr/>
          <p:nvPr/>
        </p:nvSpPr>
        <p:spPr>
          <a:xfrm>
            <a:off x="5364000" y="2997360"/>
            <a:ext cx="1873440" cy="1223640"/>
          </a:xfrm>
          <a:prstGeom prst="wedgeEllipseCallout">
            <a:avLst>
              <a:gd name="adj1" fmla="val 46398"/>
              <a:gd name="adj2" fmla="val -85282"/>
            </a:avLst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н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6"/>
          <p:cNvSpPr/>
          <p:nvPr/>
        </p:nvSpPr>
        <p:spPr>
          <a:xfrm>
            <a:off x="6659640" y="5040360"/>
            <a:ext cx="2160360" cy="1439640"/>
          </a:xfrm>
          <a:prstGeom prst="wedgeEllipseCallout">
            <a:avLst>
              <a:gd name="adj1" fmla="val -98861"/>
              <a:gd name="adj2" fmla="val -37541"/>
            </a:avLst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"/>
          <p:cNvSpPr/>
          <p:nvPr/>
        </p:nvSpPr>
        <p:spPr>
          <a:xfrm rot="871200">
            <a:off x="4344840" y="1619280"/>
            <a:ext cx="2509920" cy="1365120"/>
          </a:xfrm>
          <a:prstGeom prst="wedgeEllipseCallout">
            <a:avLst>
              <a:gd name="adj1" fmla="val 64685"/>
              <a:gd name="adj2" fmla="val -7550"/>
            </a:avLst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дра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8000" y="3212640"/>
            <a:ext cx="3217680" cy="7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Кувшин 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эмоц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1695600" y="404640"/>
            <a:ext cx="610236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560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45080" y="1980720"/>
            <a:ext cx="4037040" cy="18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5080" y="3997080"/>
            <a:ext cx="4037040" cy="18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Прямоугольник 5"/>
          <p:cNvSpPr/>
          <p:nvPr/>
        </p:nvSpPr>
        <p:spPr>
          <a:xfrm>
            <a:off x="428760" y="324000"/>
            <a:ext cx="5072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Book Antiqua"/>
              </a:rPr>
              <a:t>КАК  РЕАГИРОВАТЬ НА ТРУДНОЕ ПОВЕДЕНИЕ РЕБ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324000" y="1268280"/>
            <a:ext cx="3360600" cy="2000520"/>
          </a:xfrm>
          <a:prstGeom prst="wedgeEllipseCallout">
            <a:avLst>
              <a:gd name="adj1" fmla="val 74583"/>
              <a:gd name="adj2" fmla="val 56745"/>
            </a:avLst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Если тревож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9"/>
          <p:cNvSpPr/>
          <p:nvPr/>
        </p:nvSpPr>
        <p:spPr>
          <a:xfrm>
            <a:off x="179280" y="3429000"/>
            <a:ext cx="7561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 Antiqua"/>
              </a:rPr>
              <a:t>Памятка для педагога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Противоречивые треб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Неадекватные требования (чаще всего завышенны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Негативные требования, которые унижают ребенка, ставят его в зависимое полож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C:\Users\User\Desktop\trevognost.jpg"/>
          <p:cNvPicPr/>
          <p:nvPr/>
        </p:nvPicPr>
        <p:blipFill>
          <a:blip r:embed="rId1"/>
          <a:stretch/>
        </p:blipFill>
        <p:spPr>
          <a:xfrm>
            <a:off x="4356000" y="692280"/>
            <a:ext cx="4560840" cy="30589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5"/>
          <p:cNvSpPr/>
          <p:nvPr/>
        </p:nvSpPr>
        <p:spPr>
          <a:xfrm>
            <a:off x="428760" y="324000"/>
            <a:ext cx="5072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Book Antiqua"/>
              </a:rPr>
              <a:t>КАК  РЕАГИРОВАТЬ НА ТРУДНОЕ ПОВЕДЕНИЕ РЕБ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C:\Users\User\Desktop\thinkstockphotos-155888013.jpg"/>
          <p:cNvPicPr/>
          <p:nvPr/>
        </p:nvPicPr>
        <p:blipFill>
          <a:blip r:embed="rId1"/>
          <a:stretch/>
        </p:blipFill>
        <p:spPr>
          <a:xfrm>
            <a:off x="4572000" y="260280"/>
            <a:ext cx="4214880" cy="314496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4"/>
          <p:cNvSpPr/>
          <p:nvPr/>
        </p:nvSpPr>
        <p:spPr>
          <a:xfrm>
            <a:off x="324000" y="1268280"/>
            <a:ext cx="3360600" cy="2000520"/>
          </a:xfrm>
          <a:prstGeom prst="wedgeEllipseCallout">
            <a:avLst>
              <a:gd name="adj1" fmla="val 74583"/>
              <a:gd name="adj2" fmla="val 56745"/>
            </a:avLst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Если драчли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9"/>
          <p:cNvSpPr/>
          <p:nvPr/>
        </p:nvSpPr>
        <p:spPr>
          <a:xfrm>
            <a:off x="-112320" y="3429000"/>
            <a:ext cx="8109720" cy="32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 Antiqua"/>
              </a:rPr>
              <a:t>Памятка для педагога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Book Antiqua"/>
              </a:rPr>
              <a:t>Конфликтная обстановка в семь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Book Antiqua"/>
              </a:rPr>
              <a:t>Непринятие детей родителям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Book Antiqua"/>
              </a:rPr>
              <a:t>Ревность в семь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Book Antiqua"/>
              </a:rPr>
              <a:t>Чрезмерный контроль со стороны родителе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Book Antiqua"/>
              </a:rPr>
              <a:t>Полное отсутствие контрол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Book Antiqua"/>
              </a:rPr>
              <a:t>Не знает других способ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Book Antiqua"/>
              </a:rPr>
              <a:t>Запрет на физическую активнос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3" descr=""/>
          <p:cNvPicPr/>
          <p:nvPr/>
        </p:nvPicPr>
        <p:blipFill>
          <a:blip r:embed="rId1"/>
          <a:stretch/>
        </p:blipFill>
        <p:spPr>
          <a:xfrm>
            <a:off x="214200" y="2754360"/>
            <a:ext cx="5386680" cy="35053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3" descr=""/>
          <p:cNvPicPr/>
          <p:nvPr/>
        </p:nvPicPr>
        <p:blipFill>
          <a:blip r:embed="rId2"/>
          <a:stretch/>
        </p:blipFill>
        <p:spPr>
          <a:xfrm>
            <a:off x="3352680" y="3429000"/>
            <a:ext cx="2467080" cy="27338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990000"/>
                </a:solidFill>
                <a:latin typeface="Book Antiqua"/>
              </a:rPr>
              <a:t>Особенности интеллектуального</a:t>
            </a:r>
            <a:br>
              <a:rPr sz="2900"/>
            </a:br>
            <a:r>
              <a:rPr b="1" i="1" lang="ru-RU" sz="2900" spc="-1" strike="noStrike">
                <a:solidFill>
                  <a:srgbClr val="990000"/>
                </a:solidFill>
                <a:latin typeface="Book Antiqua"/>
              </a:rPr>
              <a:t> развития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304920" y="3276720"/>
            <a:ext cx="2438280" cy="1218960"/>
          </a:xfrm>
          <a:prstGeom prst="wedgeRectCallout">
            <a:avLst>
              <a:gd name="adj1" fmla="val 90430"/>
              <a:gd name="adj2" fmla="val 48439"/>
            </a:avLst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достаточная сформированность мышления, воображения, памя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6"/>
          <p:cNvSpPr/>
          <p:nvPr/>
        </p:nvSpPr>
        <p:spPr>
          <a:xfrm>
            <a:off x="1828800" y="1523880"/>
            <a:ext cx="1981080" cy="685800"/>
          </a:xfrm>
          <a:prstGeom prst="wedgeRectCallout">
            <a:avLst>
              <a:gd name="adj1" fmla="val 70273"/>
              <a:gd name="adj2" fmla="val 178472"/>
            </a:avLst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граниченный запас зн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304920" y="2362320"/>
            <a:ext cx="2438280" cy="685800"/>
          </a:xfrm>
          <a:prstGeom prst="wedgeRectCallout">
            <a:avLst>
              <a:gd name="adj1" fmla="val 92513"/>
              <a:gd name="adj2" fmla="val 105555"/>
            </a:avLst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изкая умственная работоспособ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9"/>
          <p:cNvSpPr/>
          <p:nvPr/>
        </p:nvSpPr>
        <p:spPr>
          <a:xfrm>
            <a:off x="304920" y="4648320"/>
            <a:ext cx="2438280" cy="990360"/>
          </a:xfrm>
          <a:prstGeom prst="wedgeRectCallout">
            <a:avLst>
              <a:gd name="adj1" fmla="val 84050"/>
              <a:gd name="adj2" fmla="val -32694"/>
            </a:avLst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держка психического разви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0"/>
          <p:cNvSpPr/>
          <p:nvPr/>
        </p:nvSpPr>
        <p:spPr>
          <a:xfrm>
            <a:off x="304920" y="5867280"/>
            <a:ext cx="2438280" cy="762120"/>
          </a:xfrm>
          <a:prstGeom prst="wedgeRectCallout">
            <a:avLst>
              <a:gd name="adj1" fmla="val 86458"/>
              <a:gd name="adj2" fmla="val -79583"/>
            </a:avLst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дагогическая запущ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4495680" y="1752480"/>
            <a:ext cx="2819520" cy="533520"/>
          </a:xfrm>
          <a:prstGeom prst="wedgeRoundRectCallout">
            <a:avLst>
              <a:gd name="adj1" fmla="val -39416"/>
              <a:gd name="adj2" fmla="val 224402"/>
              <a:gd name="adj3" fmla="val 16667"/>
            </a:avLst>
          </a:prstGeom>
          <a:gradFill rotWithShape="0">
            <a:gsLst>
              <a:gs pos="0">
                <a:srgbClr val="c6f8aa"/>
              </a:gs>
              <a:gs pos="100000">
                <a:srgbClr val="ffffff"/>
              </a:gs>
            </a:gsLst>
            <a:lin ang="2700000"/>
          </a:gra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зитивное общ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8"/>
          <p:cNvSpPr/>
          <p:nvPr/>
        </p:nvSpPr>
        <p:spPr>
          <a:xfrm>
            <a:off x="6300720" y="3284640"/>
            <a:ext cx="2438640" cy="1066680"/>
          </a:xfrm>
          <a:prstGeom prst="wedgeRoundRectCallout">
            <a:avLst>
              <a:gd name="adj1" fmla="val -87500"/>
              <a:gd name="adj2" fmla="val -597"/>
              <a:gd name="adj3" fmla="val 16667"/>
            </a:avLst>
          </a:prstGeom>
          <a:gradFill rotWithShape="0">
            <a:gsLst>
              <a:gs pos="0">
                <a:srgbClr val="c6f8aa"/>
              </a:gs>
              <a:gs pos="100000">
                <a:srgbClr val="ffffff"/>
              </a:gs>
            </a:gsLst>
            <a:lin ang="2700000"/>
          </a:gra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тимулирование познавательных интере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9"/>
          <p:cNvSpPr/>
          <p:nvPr/>
        </p:nvSpPr>
        <p:spPr>
          <a:xfrm>
            <a:off x="6172200" y="5589720"/>
            <a:ext cx="2971800" cy="914400"/>
          </a:xfrm>
          <a:prstGeom prst="wedgeRoundRectCallout">
            <a:avLst>
              <a:gd name="adj1" fmla="val -60472"/>
              <a:gd name="adj2" fmla="val -94791"/>
              <a:gd name="adj3" fmla="val 16667"/>
            </a:avLst>
          </a:prstGeom>
          <a:gradFill rotWithShape="0">
            <a:gsLst>
              <a:gs pos="0">
                <a:srgbClr val="c6f8aa"/>
              </a:gs>
              <a:gs pos="100000">
                <a:srgbClr val="ffffff"/>
              </a:gs>
            </a:gsLst>
            <a:lin ang="2700000"/>
          </a:gra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рганизация специальных форм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WordArt 21"/>
          <p:cNvSpPr txBox="1"/>
          <p:nvPr/>
        </p:nvSpPr>
        <p:spPr>
          <a:xfrm rot="20162400">
            <a:off x="228600" y="1371600"/>
            <a:ext cx="2543040" cy="1523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5265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Проблемы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39" name="WordArt 22"/>
          <p:cNvSpPr txBox="1"/>
          <p:nvPr/>
        </p:nvSpPr>
        <p:spPr>
          <a:xfrm rot="1176000">
            <a:off x="5867280" y="1371240"/>
            <a:ext cx="2971800" cy="1276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0635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Реш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Прямоугольник 5"/>
          <p:cNvSpPr/>
          <p:nvPr/>
        </p:nvSpPr>
        <p:spPr>
          <a:xfrm>
            <a:off x="428760" y="324000"/>
            <a:ext cx="5072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Book Antiqua"/>
              </a:rPr>
              <a:t>КАК  РЕАГИРОВАТЬ НА ТРУДНОЕ ПОВЕДЕНИЕ РЕБ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4"/>
          <p:cNvSpPr/>
          <p:nvPr/>
        </p:nvSpPr>
        <p:spPr>
          <a:xfrm>
            <a:off x="468360" y="1268280"/>
            <a:ext cx="3360600" cy="2000520"/>
          </a:xfrm>
          <a:prstGeom prst="wedgeEllipseCallout">
            <a:avLst>
              <a:gd name="adj1" fmla="val 74583"/>
              <a:gd name="adj2" fmla="val 56745"/>
            </a:avLst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Если не желает учи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C:\Users\User\Desktop\lazy-learn.jpg"/>
          <p:cNvPicPr/>
          <p:nvPr/>
        </p:nvPicPr>
        <p:blipFill>
          <a:blip r:embed="rId1"/>
          <a:stretch/>
        </p:blipFill>
        <p:spPr>
          <a:xfrm>
            <a:off x="4788000" y="476280"/>
            <a:ext cx="3927240" cy="2598840"/>
          </a:xfrm>
          <a:prstGeom prst="rect">
            <a:avLst/>
          </a:prstGeom>
          <a:ln w="0">
            <a:noFill/>
          </a:ln>
        </p:spPr>
      </p:pic>
      <p:sp>
        <p:nvSpPr>
          <p:cNvPr id="143" name="TextBox 9"/>
          <p:cNvSpPr/>
          <p:nvPr/>
        </p:nvSpPr>
        <p:spPr>
          <a:xfrm>
            <a:off x="324000" y="3573360"/>
            <a:ext cx="720072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 Antiqua"/>
              </a:rPr>
              <a:t>Правила для педагог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 Antiqua"/>
              </a:rPr>
              <a:t>Правильно оценивайте возможности и способности реб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 Antiqua"/>
              </a:rPr>
              <a:t>Будьте доброжелательными и щедрыми на похва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 Antiqua"/>
              </a:rPr>
              <a:t>Поддерживайте </a:t>
            </a:r>
            <a:r>
              <a:rPr b="1" i="1" lang="ru-RU" sz="2600" spc="-1" strike="noStrike">
                <a:solidFill>
                  <a:srgbClr val="000000"/>
                </a:solidFill>
                <a:latin typeface="Book Antiqua"/>
              </a:rPr>
              <a:t>его уверенность в своих сила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21-04-11T06:58:04Z</dcterms:modified>
  <cp:revision>172</cp:revision>
  <dc:subject/>
  <dc:title>Слайд 1</dc:title>
</cp:coreProperties>
</file>