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AB4A-5C2D-4C2A-A8C2-779B051C8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1AD-60E2-4474-A46E-D7358A9E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25B-F0C2-41B9-B6B1-7F55BCB4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D13-C2BA-4EF1-840C-7A4779F3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182-9C22-4F8C-BF1B-E2D2A5DC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C86E-A753-44D3-8837-253D86AF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2D17-505C-4F82-BA66-1BC9C32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02E5-5A95-45E8-B4A1-DE1724A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E7B8B-F2FD-4432-A0E1-0C4B02A0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AC7B3-FB3B-4FD1-AE92-210DBFBC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556A-F019-451B-B44C-DEE4EBB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D20A-6BA0-4E85-9643-BFB5EA5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592-F4D6-40F4-A8D2-67EBE29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D1E72-E80D-47F1-A1FF-1941B91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3D22-32A4-487E-B0A6-3E49D37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9232-4A28-41E2-B619-4EDF635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2F71-0F1F-47D7-87F3-544C2C53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1D1A-99E6-4FE3-AE81-0BD01E82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BA3-1545-4348-BBD5-91848448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393-17ED-4473-A2DC-D78AE522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F59-E151-4746-A868-859222B1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36D-F593-40E6-8CD7-F3388939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D54-E8D1-4499-90B4-5EA24D2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A3D-50BA-4E30-A505-84436CF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DAD-C90C-48AA-B52C-D31F7CF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551-2670-4A18-A397-5803E4E82D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099-9E86-4FC5-B4F6-8DF5FB2603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6" descr=""/>
          <p:cNvPicPr/>
          <p:nvPr/>
        </p:nvPicPr>
        <p:blipFill>
          <a:blip r:embed="rId1"/>
          <a:stretch/>
        </p:blipFill>
        <p:spPr>
          <a:xfrm>
            <a:off x="-60480" y="3376440"/>
            <a:ext cx="9326880" cy="1360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195640" y="55897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КОУ Шуйская коррекционная школа-интер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: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арапо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2857680" cy="2500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User\Desktop\uchim-detej-prosit-o-pomoshhi-v-trudnyh-situatsiyah.jpg"/>
          <p:cNvPicPr/>
          <p:nvPr/>
        </p:nvPicPr>
        <p:blipFill>
          <a:blip r:embed="rId3"/>
          <a:stretch/>
        </p:blipFill>
        <p:spPr>
          <a:xfrm>
            <a:off x="4788000" y="333360"/>
            <a:ext cx="3960720" cy="264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000840" y="785880"/>
            <a:ext cx="2133360" cy="187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214200" y="1214280"/>
            <a:ext cx="3276720" cy="1447920"/>
          </a:xfrm>
          <a:prstGeom prst="wedgeEllipseCallout">
            <a:avLst>
              <a:gd name="adj1" fmla="val 129888"/>
              <a:gd name="adj2" fmla="val 82379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вор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2781360"/>
            <a:ext cx="57643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Правила для педагог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«разбирать» поступок ребенка в присутствии большого числа люд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зать на возможность наказания и социального неодобр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снить характер отношений ребенка с другими деть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 стремиться вызвать у ребенка открытое чувство вины, не разрушать психологические защиты ребе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азать ребенку эмоциональную поддерж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обходимо выяснить причину, которая побудила ребенка совершить воровство и вместе с ребенком выработать иные пути достижения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обходимо проявлять сдержанную доброжелательность и открыт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дчеркнуть значимость родителя в воспитании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казать родителю свою положительную настроенность по отношению к реб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 прибегать к да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суждайте проблему, а не личные качества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ыразить уверенность в успешном решении проблемы при совместной работе педагога и род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2124000" y="404640"/>
            <a:ext cx="5329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вила конструктивного диалога с родител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32944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чества педаго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179280" y="3071880"/>
            <a:ext cx="64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любви нет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ажени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ение к лич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ерантност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пимость к каждому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тимиз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а в лучшие качества воспит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патия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е сопереживание текущему эмоциональному состоянию друг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муникативность и педагогический так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Users\User\Desktop\AdobeStock_78455688_1.jpeg"/>
          <p:cNvPicPr/>
          <p:nvPr/>
        </p:nvPicPr>
        <p:blipFill>
          <a:blip r:embed="rId1"/>
          <a:stretch/>
        </p:blipFill>
        <p:spPr>
          <a:xfrm>
            <a:off x="4643280" y="260280"/>
            <a:ext cx="412452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0" y="5230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E02278_"/>
          <p:cNvPicPr/>
          <p:nvPr/>
        </p:nvPicPr>
        <p:blipFill>
          <a:blip r:embed="rId1"/>
          <a:stretch/>
        </p:blipFill>
        <p:spPr>
          <a:xfrm>
            <a:off x="2643120" y="285840"/>
            <a:ext cx="35719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esktop\2768493.jpg"/>
          <p:cNvPicPr/>
          <p:nvPr/>
        </p:nvPicPr>
        <p:blipFill>
          <a:blip r:embed="rId1"/>
          <a:stretch/>
        </p:blipFill>
        <p:spPr>
          <a:xfrm>
            <a:off x="4859280" y="3645000"/>
            <a:ext cx="4013280" cy="3009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04760" y="260280"/>
            <a:ext cx="5950440" cy="5214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то-то когда-то должен отве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ысветив правду, истину вскры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Что же такое – 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рудные дети»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ечный вопрос и больной, как нары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т он сидит перед нами, гля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жался пружиной, отчаялся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 миром оборваны тонкие ни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овно стена без дверей и без ок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т они, главные исти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 Antiqua"/>
              </a:rPr>
              <a:t>эти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здно заметили… поздно уч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т! Не рождаются 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рудные дети»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осто им вовремя не помог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(С. Давид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199520" y="189000"/>
            <a:ext cx="693216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 трудного поведения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900000" y="1268280"/>
            <a:ext cx="1943280" cy="1008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других моделей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2987640" y="1341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067280" y="1052640"/>
            <a:ext cx="46083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еритесь терп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те о ваших ожид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вайте позити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йте правиль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900000" y="3789360"/>
            <a:ext cx="3672000" cy="2838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ышенные требования к реб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ок эмоциональног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детско-родительски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ы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илие, жестокое об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5952600" y="5013360"/>
            <a:ext cx="2666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авая фигурная скобка 16"/>
          <p:cNvSpPr/>
          <p:nvPr/>
        </p:nvSpPr>
        <p:spPr>
          <a:xfrm>
            <a:off x="4859280" y="4292640"/>
            <a:ext cx="720720" cy="180036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1800360"/>
              <a:gd name="textAreaBottom" fmla="*/ 17816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1"/>
                </a:cubicBezTo>
                <a:lnTo>
                  <a:pt x="10800" y="10079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1"/>
                </a:cubicBezTo>
                <a:lnTo>
                  <a:pt x="10800" y="20879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Выгнутая влево стрелка 17"/>
          <p:cNvSpPr/>
          <p:nvPr/>
        </p:nvSpPr>
        <p:spPr>
          <a:xfrm>
            <a:off x="179280" y="549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лево стрелка 20"/>
          <p:cNvSpPr/>
          <p:nvPr/>
        </p:nvSpPr>
        <p:spPr>
          <a:xfrm>
            <a:off x="250920" y="549360"/>
            <a:ext cx="731880" cy="3806640"/>
          </a:xfrm>
          <a:custGeom>
            <a:avLst/>
            <a:gdLst>
              <a:gd name="textAreaLeft" fmla="*/ 97920 w 731880"/>
              <a:gd name="textAreaRight" fmla="*/ 633960 w 731880"/>
              <a:gd name="textAreaTop" fmla="*/ 883080 h 3806640"/>
              <a:gd name="textAreaBottom" fmla="*/ 2832120 h 38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2" stAng="-5400000" swAng="-5400000"/>
                <a:lnTo>
                  <a:pt x="0" y="11060"/>
                </a:lnTo>
                <a:arcTo wR="21600" hR="10022" stAng="10800000" swAng="-3654209"/>
                <a:lnTo>
                  <a:pt x="16200" y="21282"/>
                </a:lnTo>
                <a:lnTo>
                  <a:pt x="21600" y="20562"/>
                </a:lnTo>
                <a:lnTo>
                  <a:pt x="16200" y="19206"/>
                </a:lnTo>
                <a:lnTo>
                  <a:pt x="16200" y="19725"/>
                </a:lnTo>
                <a:arcTo wR="21600" hR="10022" stAng="7145791" swAng="3571513"/>
                <a:lnTo>
                  <a:pt x="29" y="10541"/>
                </a:lnTo>
                <a:arcTo wR="21600" hR="10022" stAng="-10717304" swAng="5317304"/>
                <a:close/>
              </a:path>
              <a:path fill="darkenLess" w="21600" h="21600">
                <a:moveTo>
                  <a:pt x="21600" y="0"/>
                </a:moveTo>
                <a:arcTo wR="21600" hR="10022" stAng="-5400000" swAng="-5400000"/>
                <a:lnTo>
                  <a:pt x="0" y="10022"/>
                </a:lnTo>
                <a:arcTo wR="21600" hR="10022" stAng="10800000" swAng="-82696"/>
                <a:lnTo>
                  <a:pt x="29" y="10541"/>
                </a:lnTo>
                <a:arcTo wR="21600" hR="10022" stAng="-10717304" swAng="5317304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318320" y="3357720"/>
            <a:ext cx="272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 кроютс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65437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новные причины серьезных нарушений поведе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рьба за вним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борьба за самоутвержд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ние отомсти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отеря веры в собственный успех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572000" y="4076640"/>
            <a:ext cx="2687760" cy="278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98288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>
            <a:off x="4952880" y="2057400"/>
            <a:ext cx="3660840" cy="3776760"/>
          </a:xfrm>
          <a:custGeom>
            <a:avLst/>
            <a:gdLst>
              <a:gd name="textAreaLeft" fmla="*/ 360 w 3660840"/>
              <a:gd name="textAreaRight" fmla="*/ 3660480 w 3660840"/>
              <a:gd name="textAreaTop" fmla="*/ 360 h 3776760"/>
              <a:gd name="textAreaBottom" fmla="*/ 3776400 h 3776760"/>
            </a:gdLst>
            <a:ahLst/>
            <a:rect l="textAreaLeft" t="textAreaTop" r="textAreaRight" b="textAreaBottom"/>
            <a:pathLst>
              <a:path w="21600" h="22284">
                <a:moveTo>
                  <a:pt x="9" y="0"/>
                </a:moveTo>
                <a:arcTo wR="9" hR="9" stAng="16200000" swAng="-5400000"/>
                <a:lnTo>
                  <a:pt x="0" y="22275"/>
                </a:lnTo>
                <a:arcTo wR="9" hR="9" stAng="10800000" swAng="-5400000"/>
                <a:lnTo>
                  <a:pt x="21591" y="22284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364000" y="2997360"/>
            <a:ext cx="1873440" cy="1223640"/>
          </a:xfrm>
          <a:prstGeom prst="wedgeEllipseCallout">
            <a:avLst>
              <a:gd name="adj1" fmla="val 46398"/>
              <a:gd name="adj2" fmla="val -85282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5040360"/>
            <a:ext cx="2160360" cy="1439640"/>
          </a:xfrm>
          <a:prstGeom prst="wedgeEllipseCallout">
            <a:avLst>
              <a:gd name="adj1" fmla="val -98861"/>
              <a:gd name="adj2" fmla="val -37541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871200">
            <a:off x="4344840" y="1619280"/>
            <a:ext cx="2509920" cy="1365120"/>
          </a:xfrm>
          <a:prstGeom prst="wedgeEllipseCallout">
            <a:avLst>
              <a:gd name="adj1" fmla="val 64685"/>
              <a:gd name="adj2" fmla="val -7550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3212640"/>
            <a:ext cx="321768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увшин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мо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695600" y="404640"/>
            <a:ext cx="610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5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5080" y="1980720"/>
            <a:ext cx="403704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5080" y="3997080"/>
            <a:ext cx="40370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400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трев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79280" y="342900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амятка для педаго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тиворечив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адекватные требования (чаще всего завыше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гативные требования, которые унижают ребенка, ставят его в зависим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User\Desktop\trevognost.jpg"/>
          <p:cNvPicPr/>
          <p:nvPr/>
        </p:nvPicPr>
        <p:blipFill>
          <a:blip r:embed="rId1"/>
          <a:stretch/>
        </p:blipFill>
        <p:spPr>
          <a:xfrm>
            <a:off x="4356000" y="692280"/>
            <a:ext cx="4560840" cy="3058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User\Desktop\thinkstockphotos-155888013.jpg"/>
          <p:cNvPicPr/>
          <p:nvPr/>
        </p:nvPicPr>
        <p:blipFill>
          <a:blip r:embed="rId1"/>
          <a:stretch/>
        </p:blipFill>
        <p:spPr>
          <a:xfrm>
            <a:off x="4572000" y="260280"/>
            <a:ext cx="4214880" cy="31449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32400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драч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-112320" y="3429000"/>
            <a:ext cx="81097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амятка для педаго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Конфликтная обстановка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Непринятие детей родите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Ревность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Чрезмерный контроль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Полное отсутствие контро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Не знает других способ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Запрет на физическую актив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3" descr=""/>
          <p:cNvPicPr/>
          <p:nvPr/>
        </p:nvPicPr>
        <p:blipFill>
          <a:blip r:embed="rId1"/>
          <a:stretch/>
        </p:blipFill>
        <p:spPr>
          <a:xfrm>
            <a:off x="214200" y="2754360"/>
            <a:ext cx="538668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467080" cy="273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90000"/>
                </a:solidFill>
                <a:latin typeface="Book Antiqua"/>
              </a:rPr>
              <a:t>Особенности интеллектуального</a:t>
            </a:r>
            <a:br>
              <a:rPr sz="2900"/>
            </a:br>
            <a:r>
              <a:rPr b="1" i="1" lang="ru-RU" sz="2900" spc="-1" strike="noStrike">
                <a:solidFill>
                  <a:srgbClr val="990000"/>
                </a:solidFill>
                <a:latin typeface="Book Antiqua"/>
              </a:rPr>
              <a:t> разви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04920" y="3276720"/>
            <a:ext cx="2438280" cy="1218960"/>
          </a:xfrm>
          <a:prstGeom prst="wedgeRectCallout">
            <a:avLst>
              <a:gd name="adj1" fmla="val 90430"/>
              <a:gd name="adj2" fmla="val 48439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статочная сформированность мышления, воображения,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828800" y="1523880"/>
            <a:ext cx="1981080" cy="685800"/>
          </a:xfrm>
          <a:prstGeom prst="wedgeRectCallout">
            <a:avLst>
              <a:gd name="adj1" fmla="val 70273"/>
              <a:gd name="adj2" fmla="val 178472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аниченный запас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04920" y="2362320"/>
            <a:ext cx="2438280" cy="685800"/>
          </a:xfrm>
          <a:prstGeom prst="wedgeRectCallout">
            <a:avLst>
              <a:gd name="adj1" fmla="val 92513"/>
              <a:gd name="adj2" fmla="val 105555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ая умственная раб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04920" y="4648320"/>
            <a:ext cx="2438280" cy="990360"/>
          </a:xfrm>
          <a:prstGeom prst="wedgeRectCallout">
            <a:avLst>
              <a:gd name="adj1" fmla="val 84050"/>
              <a:gd name="adj2" fmla="val -326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ержка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304920" y="5867280"/>
            <a:ext cx="2438280" cy="762120"/>
          </a:xfrm>
          <a:prstGeom prst="wedgeRectCallout">
            <a:avLst>
              <a:gd name="adj1" fmla="val 86458"/>
              <a:gd name="adj2" fmla="val -79583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ая запущ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495680" y="1752480"/>
            <a:ext cx="2819520" cy="533520"/>
          </a:xfrm>
          <a:prstGeom prst="wedgeRoundRectCallout">
            <a:avLst>
              <a:gd name="adj1" fmla="val -39416"/>
              <a:gd name="adj2" fmla="val 224402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итивн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6300720" y="3284640"/>
            <a:ext cx="2438640" cy="1066680"/>
          </a:xfrm>
          <a:prstGeom prst="wedgeRoundRectCallout">
            <a:avLst>
              <a:gd name="adj1" fmla="val -87500"/>
              <a:gd name="adj2" fmla="val -597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имулирование познавательных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6172200" y="5589720"/>
            <a:ext cx="2971800" cy="914400"/>
          </a:xfrm>
          <a:prstGeom prst="wedgeRoundRectCallout">
            <a:avLst>
              <a:gd name="adj1" fmla="val -60472"/>
              <a:gd name="adj2" fmla="val -94791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специальных форм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1"/>
          <p:cNvSpPr txBox="1"/>
          <p:nvPr/>
        </p:nvSpPr>
        <p:spPr>
          <a:xfrm rot="20162400">
            <a:off x="228600" y="1371600"/>
            <a:ext cx="254304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265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робле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WordArt 22"/>
          <p:cNvSpPr txBox="1"/>
          <p:nvPr/>
        </p:nvSpPr>
        <p:spPr>
          <a:xfrm rot="1176000">
            <a:off x="5867280" y="1371240"/>
            <a:ext cx="297180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35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836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не желает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User\Desktop\lazy-learn.jpg"/>
          <p:cNvPicPr/>
          <p:nvPr/>
        </p:nvPicPr>
        <p:blipFill>
          <a:blip r:embed="rId1"/>
          <a:stretch/>
        </p:blipFill>
        <p:spPr>
          <a:xfrm>
            <a:off x="4788000" y="476280"/>
            <a:ext cx="3927240" cy="2598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324000" y="3573360"/>
            <a:ext cx="7200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равила для педаго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равильно оценивайте возможности и способ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Будьте доброжелательными и щедрыми на похв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оддерживайт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его уверенность в своих си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4-11T06:58:04Z</dcterms:modified>
  <cp:revision>172</cp:revision>
  <dc:subject/>
  <dc:title>Слайд 1</dc:title>
</cp:coreProperties>
</file>