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CB9-3F20-4E83-AEF9-57565EB5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97C-EB37-4C02-B086-3FBDACF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25C-EB14-4A38-840A-2BD75C00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2F4-238F-4597-8ACC-D8E5EE3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874-7554-4A53-BEDF-ED405D41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54F-4C38-4666-9907-10A2229A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797-B8E6-4EDE-A189-60A036B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1238-B273-4132-9886-966F382B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090-F635-4105-8421-02EDD98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BBA-3DA7-4C58-A9B2-CC5CE0C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49A-81A9-45D1-B7D3-FBDA52CB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D2D-0759-4793-8B03-022B0A4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F0CE-E905-4FBF-8379-9C8493D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7568-B51A-4588-BB8B-CBE0037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4A43-6256-48A6-BFAF-0CEEE4E7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2AEB-AA00-4733-84B2-052C0E2F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73AD-6994-4316-9307-9F9A731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CDF-4C07-4C6A-8706-783F2C9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2BB-69AE-441C-86AF-71F4574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5C1-7DA8-4889-AF8B-1DDC4AD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054-67D6-440E-8F47-B63CA27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D54-DF53-4107-889F-CE26080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78D-E292-4D1E-8A13-7D7B085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388-3377-4EB6-A7F5-47364DB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594A-0737-48D1-AD55-999009C4F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A02-83E6-4D0C-A3F5-4841D239A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tv.by/novosti-rossii/nasledniki-yuriya-gagarina-kak-vyglyadyat-deti-i-vnuki-pervogo-cheloveka-v-kosmos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66720" y="388620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емья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Юрия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Гагари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25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Валентина Ивановна Горяче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Валентина Ивановна Гагарина с дочерьми."/>
          <p:cNvPicPr/>
          <p:nvPr/>
        </p:nvPicPr>
        <p:blipFill>
          <a:blip r:embed="rId1"/>
          <a:stretch/>
        </p:blipFill>
        <p:spPr>
          <a:xfrm>
            <a:off x="2209680" y="3689280"/>
            <a:ext cx="5410440" cy="299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280" y="764280"/>
            <a:ext cx="88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17 марта 202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ушла из жизни вдова первого космонавта Земли, Валентина Ивановна Горячева. Ей было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84 го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С 196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г работала  в лабораторию Медицинского управления Центра управления полетами до выхода на пенсию в середине 1990-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эти годы она продолжала жить в квартире Звездного г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В 201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алентина Ивановна по инициативе областной администрации была удостоена звания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почетного гражданина Московской област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Елена Гагар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96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Елена Гагар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на  радовала родителей отличной учебой в школе. Окончив школу с золотой медалью, поступила в МГУ, получила специальность искусствоведа. Позднее защитила кандидатскую степ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е 20 лет Елена Юрьевна работала в Музее изобразительных искусств имени А.С. Пушкина, в отделе английской граф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2000-х Елена Гагарина была назначена директором музея-заповедника "Московский Кремль", где работает по се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86600" y="5526000"/>
            <a:ext cx="17524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Галина Гагари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Галина Гагар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школы Галина Юрьевна Гагарина окончила Российский экономический университет им.                                     Г.В. Плех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вшись работать в родном ВУЗе, получила звание профессора, степень доктора экономических нау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йчас Галина - заведующая кафедры РЭУ, заслуженный работник высшей школы. Галина Юрьевна Гагарина, профессор РЭУ им. Плеха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2001 году Галина Юрьевн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зарегистрировала товарный зна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"Юрий Алексеевич Гагар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ее словам, сделала она это для того, чтобы никто не мог заработать на имени ее от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9:01:00Z</dcterms:created>
  <dc:creator>Валентина</dc:creator>
  <dc:description/>
  <dc:language>en-US</dc:language>
  <cp:lastModifiedBy>Валентина</cp:lastModifiedBy>
  <dcterms:modified xsi:type="dcterms:W3CDTF">2021-04-09T19:29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