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B3F-D611-49DC-94E4-62AB62FE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58A-A9BB-46AF-B0B3-6272715C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A7C-1500-4C48-A789-88BC53C8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436-E043-430F-948D-04DF9714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7126-E19E-42D6-BB62-5576C57C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92EF-4805-4A6B-9137-FFF8E1FB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B1E-0AFC-4E70-A151-F150587F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F98-C65B-47A8-80E9-7A391D7A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AD73-0452-490C-A57D-0E2AC9C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D2D-6128-4450-A471-85B2FAB6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722-A142-432E-A98E-367ED03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D81-2590-4AEC-9436-9785DEC5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78B-7EEB-4A51-B391-F3B5F51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FE6F-32BF-45AD-AF2D-AC90B26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BB79-2828-4A09-A9C8-C3055A63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6272-9C2D-44B8-BF25-26B3D8B6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4AC-453E-4EE5-84B5-0BB3EFB6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3DC-A294-4452-AA99-F61396E7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3E6-5FBF-44FC-A775-F403683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066-C5B9-4D97-8B2C-8186A73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F6E-D8CC-4E29-BECD-15C57C49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B86-A59F-4C04-9830-BB0C6A0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4A5-E0C9-42D2-9FB4-178FE06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23E-1DEB-490E-8903-2EFEFBA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2374-A813-40A1-A37A-277A74613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C32-4636-4B49-904F-F09F6DE37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tv.by/novosti-rossii/nasledniki-yuriya-gagarina-kak-vyglyadyat-deti-i-vnuki-pervogo-cheloveka-v-kosmos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66720" y="388620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емья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Юрия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Гагарин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25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Arial"/>
              </a:rPr>
              <a:t>Валентина Ивановна Горяче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Валентина Ивановна Гагарина с дочерьми."/>
          <p:cNvPicPr/>
          <p:nvPr/>
        </p:nvPicPr>
        <p:blipFill>
          <a:blip r:embed="rId1"/>
          <a:stretch/>
        </p:blipFill>
        <p:spPr>
          <a:xfrm>
            <a:off x="2209680" y="3689280"/>
            <a:ext cx="5410440" cy="2990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52280" y="764280"/>
            <a:ext cx="88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17 марта 202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ушла из жизни вдова первого космонавта Земли, Валентина Ивановна Горячева. Ей было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84 год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С 196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г работала  в лабораторию Медицинского управления Центра управления полетами до выхода на пенсию в середине 1990-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 эти годы она продолжала жить в квартире Звездного г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В 201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Валентина Ивановна по инициативе областной администрации была удостоена звания 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почетного гражданина Московской област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Елена Гагари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960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Елена Гагар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на  радовала родителей отличной учебой в школе. Окончив школу с золотой медалью, поступила в МГУ, получила специальность искусствоведа. Позднее защитила кандидатскую степ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ее 20 лет Елена Юрьевна работала в Музее изобразительных искусств имени А.С. Пушкина, в отделе английской граф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чале 2000-х Елена Гагарина была назначена директором музея-заповедника "Московский Кремль", где работает по сей д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86600" y="5526000"/>
            <a:ext cx="17524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Галина Гагарин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Галина Гагар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школы Галина Юрьевна Гагарина окончила Российский экономический университет им.                                     Г.В. Плехано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вшись работать в родном ВУЗе, получила звание профессора, степень доктора экономических нау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йчас Галина - заведующая кафедры РЭУ, заслуженный работник высшей школы. Галина Юрьевна Гагарина, профессор РЭУ им. Плехан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2001 году Галина Юрьевн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зарегистрировала товарный знак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</a:rPr>
              <a:t>"Юрий Алексеевич Гагари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ее словам, сделала она это для того, чтобы никто не мог заработать на имени ее от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0" y="4876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9:01:00Z</dcterms:created>
  <dc:creator>Валентина</dc:creator>
  <dc:description/>
  <dc:language>en-US</dc:language>
  <cp:lastModifiedBy>Валентина</cp:lastModifiedBy>
  <dcterms:modified xsi:type="dcterms:W3CDTF">2021-04-09T19:29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