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215-DC8B-4171-B6AC-460D0691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57B-53A8-476B-9BBA-7EF3FE2C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A86-EBEA-474A-94E4-2587D056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43A-39B3-48BE-BAA7-3920203C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C0E-A002-4162-8E1E-58E323AA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BE3-3964-4A74-A413-BE859BFE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A50-CAD6-4422-A636-938B0A00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B78-5EF2-4952-96BB-0A4236EE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187-2506-468C-B790-A034F037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C25-B795-40FF-B9CA-60932F7F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975-B3DE-487D-8911-F3519264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F5D-1AD2-4DC8-B419-1649D038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20AB-3B6F-4A50-B99E-F4E535AB45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000" y="765000"/>
            <a:ext cx="81356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Calibri"/>
              </a:rPr>
              <a:t>Синонимы и антоним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3924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30002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удёный    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еркают    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ркое        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неслась 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3500280" y="1143000"/>
            <a:ext cx="2928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олод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я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зоблачн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мчала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5" descr="597864246.gif"/>
          <p:cNvPicPr/>
          <p:nvPr/>
        </p:nvPicPr>
        <p:blipFill>
          <a:blip r:embed="rId1"/>
          <a:stretch/>
        </p:blipFill>
        <p:spPr>
          <a:xfrm>
            <a:off x="6222960" y="4500720"/>
            <a:ext cx="2440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65008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моря дул холодный вете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2"/>
          <p:cNvSpPr/>
          <p:nvPr/>
        </p:nvSpPr>
        <p:spPr>
          <a:xfrm>
            <a:off x="2500200" y="2357280"/>
            <a:ext cx="6286680" cy="4143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.      сущ.      глаг.          прил.                    сущ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мор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дул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холодны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етер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тер (какой?) холод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ул (откуда?) с моря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3" descr="839367035.gif"/>
          <p:cNvPicPr/>
          <p:nvPr/>
        </p:nvPicPr>
        <p:blipFill>
          <a:blip r:embed="rId1"/>
          <a:stretch/>
        </p:blipFill>
        <p:spPr>
          <a:xfrm>
            <a:off x="7429680" y="5214960"/>
            <a:ext cx="10951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1.gif"/>
          <p:cNvPicPr/>
          <p:nvPr/>
        </p:nvPicPr>
        <p:blipFill>
          <a:blip r:embed="rId1"/>
          <a:stretch/>
        </p:blipFill>
        <p:spPr>
          <a:xfrm>
            <a:off x="4572000" y="2714760"/>
            <a:ext cx="37670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карандаш смешной.jpg"/>
          <p:cNvPicPr/>
          <p:nvPr/>
        </p:nvPicPr>
        <p:blipFill>
          <a:blip r:embed="rId1"/>
          <a:stretch/>
        </p:blipFill>
        <p:spPr>
          <a:xfrm>
            <a:off x="285840" y="2928960"/>
            <a:ext cx="2303280" cy="3638520"/>
          </a:xfrm>
          <a:prstGeom prst="rect">
            <a:avLst/>
          </a:prstGeom>
          <a:ln w="0">
            <a:noFill/>
          </a:ln>
        </p:spPr>
      </p:pic>
      <p:sp>
        <p:nvSpPr>
          <p:cNvPr id="44" name="Выноска-облако 2"/>
          <p:cNvSpPr/>
          <p:nvPr/>
        </p:nvSpPr>
        <p:spPr>
          <a:xfrm>
            <a:off x="250920" y="0"/>
            <a:ext cx="7345440" cy="2879640"/>
          </a:xfrm>
          <a:prstGeom prst="cloudCallout">
            <a:avLst>
              <a:gd name="adj1" fmla="val -20129"/>
              <a:gd name="adj2" fmla="val 625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ему  будете учиться на урок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ятно 2 3"/>
          <p:cNvSpPr/>
          <p:nvPr/>
        </p:nvSpPr>
        <p:spPr>
          <a:xfrm>
            <a:off x="2771640" y="1844640"/>
            <a:ext cx="8533080" cy="54450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ходить синонимы и антонимы, подбирать синонимы и антонимы,  правильно употреблять 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реч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28760" y="428400"/>
            <a:ext cx="8175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Есть общее название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Природы состояния,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От времени год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Зависит …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3695760" y="2584440"/>
            <a:ext cx="303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ог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2909880"/>
            <a:ext cx="230508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ньше слово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г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зывали только хорошее, ясное, сухое время. Люди тогда говорили: «Сей под погоду, будешь есть хлеб год от году». А время, когда шёл дождь или мела метель, называл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погод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«Зашумела, разгулялась в поле непогод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7"/>
          <p:cNvSpPr/>
          <p:nvPr/>
        </p:nvSpPr>
        <p:spPr>
          <a:xfrm>
            <a:off x="1547640" y="803160"/>
            <a:ext cx="62643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Антонимы 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это слова одной части речи, различные по звучанию, имеющие прямо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отивоположное значение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17557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Прямая со стрелкой 4"/>
          <p:cNvCxnSpPr/>
          <p:nvPr/>
        </p:nvCxnSpPr>
        <p:spPr>
          <a:xfrm flipH="1">
            <a:off x="1785600" y="1284840"/>
            <a:ext cx="1715040" cy="8578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4" name="Прямая со стрелкой 6"/>
          <p:cNvCxnSpPr/>
          <p:nvPr/>
        </p:nvCxnSpPr>
        <p:spPr>
          <a:xfrm flipH="1">
            <a:off x="3642480" y="1356840"/>
            <a:ext cx="429480" cy="7866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5" name="Прямая со стрелкой 9"/>
          <p:cNvCxnSpPr/>
          <p:nvPr/>
        </p:nvCxnSpPr>
        <p:spPr>
          <a:xfrm>
            <a:off x="4856760" y="1285560"/>
            <a:ext cx="500760" cy="8578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6" name="Прямая со стрелкой 11"/>
          <p:cNvCxnSpPr/>
          <p:nvPr/>
        </p:nvCxnSpPr>
        <p:spPr>
          <a:xfrm>
            <a:off x="5643720" y="1285560"/>
            <a:ext cx="1643760" cy="8578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57" name="TextBox 13" descr=""/>
          <p:cNvPicPr/>
          <p:nvPr/>
        </p:nvPicPr>
        <p:blipFill>
          <a:blip r:embed="rId1"/>
          <a:stretch/>
        </p:blipFill>
        <p:spPr>
          <a:xfrm>
            <a:off x="3425760" y="4962600"/>
            <a:ext cx="3151080" cy="1073160"/>
          </a:xfrm>
          <a:prstGeom prst="rect">
            <a:avLst/>
          </a:prstGeom>
          <a:ln w="0">
            <a:noFill/>
          </a:ln>
        </p:spPr>
      </p:pic>
      <p:sp>
        <p:nvSpPr>
          <p:cNvPr id="58" name="Правая фигурная скобка 15"/>
          <p:cNvSpPr/>
          <p:nvPr/>
        </p:nvSpPr>
        <p:spPr>
          <a:xfrm rot="5400000">
            <a:off x="4821840" y="1392840"/>
            <a:ext cx="428760" cy="6500880"/>
          </a:xfrm>
          <a:custGeom>
            <a:avLst/>
            <a:gdLst>
              <a:gd name="textAreaLeft" fmla="*/ 0 w 428760"/>
              <a:gd name="textAreaRight" fmla="*/ 154800 w 428760"/>
              <a:gd name="textAreaTop" fmla="*/ 20520 h 6500880"/>
              <a:gd name="textAreaBottom" fmla="*/ 6480360 h 650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8"/>
                </a:cubicBezTo>
                <a:lnTo>
                  <a:pt x="10800" y="10453"/>
                </a:lnTo>
                <a:cubicBezTo>
                  <a:pt x="10800" y="10562"/>
                  <a:pt x="16200" y="10671"/>
                  <a:pt x="21600" y="10671"/>
                </a:cubicBezTo>
                <a:cubicBezTo>
                  <a:pt x="16200" y="10671"/>
                  <a:pt x="10800" y="10780"/>
                  <a:pt x="10800" y="10889"/>
                </a:cubicBezTo>
                <a:lnTo>
                  <a:pt x="10800" y="21382"/>
                </a:lnTo>
                <a:cubicBezTo>
                  <a:pt x="10800" y="2149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0504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3377880" y="48744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10"/>
          <p:cNvSpPr/>
          <p:nvPr/>
        </p:nvSpPr>
        <p:spPr>
          <a:xfrm>
            <a:off x="428760" y="2214720"/>
            <a:ext cx="2000160" cy="1500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ьюга – снежная бур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14"/>
          <p:cNvSpPr/>
          <p:nvPr/>
        </p:nvSpPr>
        <p:spPr>
          <a:xfrm>
            <a:off x="2571840" y="2214720"/>
            <a:ext cx="2071440" cy="16430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ран – снежная буря, метель в степ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6858000" y="2214720"/>
            <a:ext cx="2071800" cy="2000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ря – ненастье с сильным разрушительным вет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4714920" y="2214720"/>
            <a:ext cx="2071800" cy="1928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ель – сильный ветер со снегом, вьюг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5"/>
          <p:cNvSpPr/>
          <p:nvPr/>
        </p:nvSpPr>
        <p:spPr>
          <a:xfrm>
            <a:off x="1763640" y="549360"/>
            <a:ext cx="691200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инонимы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это слова одной части речи, различные по звучанию и написанию, но имеющие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одинаковое или очень  близкое значение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. Они могут заменять друг друга по значению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17557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357192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тер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ный -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ивый     -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переди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́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-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у́жество    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3357720" y="928800"/>
            <a:ext cx="328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ни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ль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кра́с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у́с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«Грустный клоун громко плач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весёлый клоун скач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чет подвиг совершить –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чет рёву рассмешить»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«Долго рисовала Даш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тиц оранжевой гуашь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вмешался Дима в дело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Ворон – чёрный, голубь – белый»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3. «Очень толстый червячо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Яблоку погрыз бочо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С тонким он теперь сосед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О скворцах ведёт бесед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21-04-11T09:23:08Z</dcterms:modified>
  <cp:revision>54</cp:revision>
  <dc:subject/>
  <dc:title>Слайд 1</dc:title>
</cp:coreProperties>
</file>