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9D1-6B9A-4452-A406-387EEB86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54C-1328-4E0B-BC7C-53E9096A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AA9-8D67-448A-A859-ADF62921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ABA-3D65-40DA-8DBE-F241A428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04AD-E9F9-4BF0-BDEB-A4FC44BC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B4EB-5928-48B5-9C97-77353D0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D079-BD7B-4CAA-871C-3967B9AE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F810-DF6D-4365-8E72-690A9C17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DB26-226E-4069-AA39-0CEB5899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758E-4F62-43BC-847D-758ECD08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0ADB-D7EB-4CBF-947E-3656142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1BD-DED5-49B6-84F4-2EBF2B67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070D-EDC8-4E24-B2EB-6F0E8FB9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CF76-ED54-4504-B7BE-65F4FA3B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3DB1-9E73-40D9-9A20-EBA74936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5217-8374-4257-9FC2-3E8DAABF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192A-8CFB-46A5-B632-720EFF83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6B5-CD63-4180-8706-A59F2E76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258-4F59-4137-9480-34E6FEA5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584-90D6-44BF-81F8-BC3BDBD4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C53-C763-4A9C-9151-B82A82AB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A24-2307-4A58-908D-EFBE2AE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E17-E6F1-4206-9918-01787952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249-04D5-48D0-97AF-D2974D4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C89D-3AFB-4F3E-992B-3ED881178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9CB7-63F8-48F1-8DCF-B6E57A6307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daplus.info/directory-herbs/dandelion.html" TargetMode="External"/><Relationship Id="rId2" Type="http://schemas.openxmlformats.org/officeDocument/2006/relationships/hyperlink" Target="http://img-fotki.yandex.ru/get/6608/123155165.37/0_97944_a16594dc_XL" TargetMode="External"/><Relationship Id="rId3" Type="http://schemas.openxmlformats.org/officeDocument/2006/relationships/hyperlink" Target="http://img-fotki.yandex.ru/get/6102/111874181.c9/0_9cb9a_bffac7a6_XL" TargetMode="External"/><Relationship Id="rId4" Type="http://schemas.openxmlformats.org/officeDocument/2006/relationships/hyperlink" Target="https://interneturok.ru/okruj-mir/1-klass/zhivaya-priroda/derevya-kustarniki-travy" TargetMode="External"/><Relationship Id="rId5" Type="http://schemas.openxmlformats.org/officeDocument/2006/relationships/hyperlink" Target="https://www.kp.ru/guide/listvennye-rastenija.html" TargetMode="External"/><Relationship Id="rId6" Type="http://schemas.openxmlformats.org/officeDocument/2006/relationships/hyperlink" Target="http://rasteniya.dp.ua/ru/komnatnie-cveti/" TargetMode="External"/><Relationship Id="rId7" Type="http://schemas.openxmlformats.org/officeDocument/2006/relationships/hyperlink" Target="http://klumba-plus.ru/komnatnie-cveti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3880" y="1903320"/>
            <a:ext cx="7886880" cy="17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ращивание бархатцев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в комнатных условиях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5081760"/>
            <a:ext cx="58528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трудового обуч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-дефектолог Курьяно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бархатцы"/>
          <p:cNvPicPr/>
          <p:nvPr/>
        </p:nvPicPr>
        <p:blipFill>
          <a:blip r:embed="rId1"/>
          <a:stretch/>
        </p:blipFill>
        <p:spPr>
          <a:xfrm>
            <a:off x="6607080" y="3809880"/>
            <a:ext cx="2332080" cy="3048120"/>
          </a:xfrm>
          <a:prstGeom prst="rect">
            <a:avLst/>
          </a:prstGeom>
          <a:ln w="0">
            <a:noFill/>
          </a:ln>
        </p:spPr>
      </p:pic>
      <p:sp>
        <p:nvSpPr>
          <p:cNvPr id="214" name="Текст 1"/>
          <p:cNvSpPr/>
          <p:nvPr/>
        </p:nvSpPr>
        <p:spPr>
          <a:xfrm>
            <a:off x="1058760" y="509760"/>
            <a:ext cx="78868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енное казенное общеобразовательное учреждение Краснодарского края специальная (коррекционная) школа-интернат с. Ваннов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ев семян бархатце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посев сем в ст"/>
          <p:cNvPicPr/>
          <p:nvPr/>
        </p:nvPicPr>
        <p:blipFill>
          <a:blip r:embed="rId1"/>
          <a:stretch/>
        </p:blipFill>
        <p:spPr>
          <a:xfrm>
            <a:off x="4800600" y="2514600"/>
            <a:ext cx="4024440" cy="4024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посев в горш"/>
          <p:cNvPicPr/>
          <p:nvPr/>
        </p:nvPicPr>
        <p:blipFill>
          <a:blip r:embed="rId2"/>
          <a:stretch/>
        </p:blipFill>
        <p:spPr>
          <a:xfrm>
            <a:off x="228600" y="1295280"/>
            <a:ext cx="450540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становка на светлое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осв кл 2"/>
          <p:cNvPicPr/>
          <p:nvPr/>
        </p:nvPicPr>
        <p:blipFill>
          <a:blip r:embed="rId1"/>
          <a:stretch/>
        </p:blipFill>
        <p:spPr>
          <a:xfrm>
            <a:off x="228600" y="1295280"/>
            <a:ext cx="4024440" cy="537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осв класса 1"/>
          <p:cNvPicPr/>
          <p:nvPr/>
        </p:nvPicPr>
        <p:blipFill>
          <a:blip r:embed="rId2"/>
          <a:stretch/>
        </p:blipFill>
        <p:spPr>
          <a:xfrm>
            <a:off x="4419720" y="2362320"/>
            <a:ext cx="4510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ход за сеянцам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4" descr="23"/>
          <p:cNvPicPr/>
          <p:nvPr/>
        </p:nvPicPr>
        <p:blipFill>
          <a:blip r:embed="rId1"/>
          <a:stretch/>
        </p:blipFill>
        <p:spPr>
          <a:xfrm>
            <a:off x="4572000" y="990720"/>
            <a:ext cx="4400640" cy="2133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18"/>
          <p:cNvPicPr/>
          <p:nvPr/>
        </p:nvPicPr>
        <p:blipFill>
          <a:blip r:embed="rId2"/>
          <a:stretch/>
        </p:blipFill>
        <p:spPr>
          <a:xfrm>
            <a:off x="228600" y="990720"/>
            <a:ext cx="4056120" cy="5410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thumb_859"/>
          <p:cNvPicPr/>
          <p:nvPr/>
        </p:nvPicPr>
        <p:blipFill>
          <a:blip r:embed="rId3"/>
          <a:stretch/>
        </p:blipFill>
        <p:spPr>
          <a:xfrm>
            <a:off x="5029200" y="3276720"/>
            <a:ext cx="335268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пользуемые 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1"/>
              </a:rPr>
              <a:t>http://edaplus.info/directory-herbs/dandelion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2"/>
              </a:rPr>
              <a:t>http://img-fotki.yandex.ru/get/6608/123155165.37/0_97944_a16594dc_X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3"/>
              </a:rPr>
              <a:t>http://img-fotki.yandex.ru/get/6102/111874181.c9/0_9cb9a_bffac7a6_X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4"/>
              </a:rPr>
              <a:t>https://interneturok.ru/okruj-mir/1-klass/zhivaya-priroda/derevya-kustarniki-trav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5"/>
              </a:rPr>
              <a:t>https://www.kp.ru/guide/listvennye-rastenija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6"/>
              </a:rPr>
              <a:t>http://rasteniya.dp.ua/ru/komnatnie-cveti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7"/>
              </a:rPr>
              <a:t>http://klumba-plus.ru/komnatnie-cveti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ru.wikipedia.org/wiki/%D0%9A%D0%B0%D1%82%D0%B5%D0%B3%D0%BE%D1%80%D0%B8%D1%8F:%D0%9A%D0%BB%D1%83%D0%BC%D0%B1%D0%BE%D0%B2%D1%8B%D0%B5_%D1%80%D0%B0%D1%81%D1%82%D0%B5%D0%BD%D0%B8%D1%8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ru.wikipedia.org/wiki/%D0%9B%D0%B5%D0%BA%D0%B0%D1%80%D1%81%D1%82%D0%B2%D0%B5%D0%BD%D0%BD%D1%8B%D0%B5_%D1%80%D0%B0%D1%81%D1%82%D0%B5%D0%BD%D0%B8%D1%8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бархатцы 4"/>
          <p:cNvPicPr/>
          <p:nvPr/>
        </p:nvPicPr>
        <p:blipFill>
          <a:blip r:embed="rId1"/>
          <a:stretch/>
        </p:blipFill>
        <p:spPr>
          <a:xfrm>
            <a:off x="609480" y="914400"/>
            <a:ext cx="7620120" cy="56577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рта бархатца отклоненног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бархатцы бел"/>
          <p:cNvPicPr/>
          <p:nvPr/>
        </p:nvPicPr>
        <p:blipFill>
          <a:blip r:embed="rId1"/>
          <a:stretch/>
        </p:blipFill>
        <p:spPr>
          <a:xfrm>
            <a:off x="1828800" y="304920"/>
            <a:ext cx="5816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бархатцы зел"/>
          <p:cNvPicPr/>
          <p:nvPr/>
        </p:nvPicPr>
        <p:blipFill>
          <a:blip r:embed="rId1"/>
          <a:stretch/>
        </p:blipFill>
        <p:spPr>
          <a:xfrm>
            <a:off x="2438280" y="228600"/>
            <a:ext cx="4257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3"/>
          <p:cNvPicPr/>
          <p:nvPr/>
        </p:nvPicPr>
        <p:blipFill>
          <a:blip r:embed="rId1"/>
          <a:stretch/>
        </p:blipFill>
        <p:spPr>
          <a:xfrm>
            <a:off x="1371600" y="861840"/>
            <a:ext cx="670572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ращивание расса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ка инвента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ка земляной сме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ение стаканчиков земляной смес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в семян бархат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ка на светлое ме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ход за сеянц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готовка инвентар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инвентарь для посева"/>
          <p:cNvPicPr/>
          <p:nvPr/>
        </p:nvPicPr>
        <p:blipFill>
          <a:blip r:embed="rId1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посевные стаканчики"/>
          <p:cNvPicPr/>
          <p:nvPr/>
        </p:nvPicPr>
        <p:blipFill>
          <a:blip r:embed="rId2"/>
          <a:stretch/>
        </p:blipFill>
        <p:spPr>
          <a:xfrm>
            <a:off x="0" y="4680000"/>
            <a:ext cx="28195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готовка земляной смес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6286680" y="4876920"/>
            <a:ext cx="2857320" cy="173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rcRect l="0" t="0" r="0" b="54045"/>
          <a:stretch/>
        </p:blipFill>
        <p:spPr>
          <a:xfrm>
            <a:off x="6629400" y="1295280"/>
            <a:ext cx="1887480" cy="25718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8"/>
          <p:cNvGrpSpPr/>
          <p:nvPr/>
        </p:nvGrpSpPr>
        <p:grpSpPr>
          <a:xfrm>
            <a:off x="304920" y="1219320"/>
            <a:ext cx="5790600" cy="5409360"/>
            <a:chOff x="304920" y="1219320"/>
            <a:chExt cx="5790600" cy="5409360"/>
          </a:xfrm>
        </p:grpSpPr>
        <p:pic>
          <p:nvPicPr>
            <p:cNvPr id="229" name="Picture 9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5790600" cy="489924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sp>
          <p:nvSpPr>
            <p:cNvPr id="230" name="Text Box 10"/>
            <p:cNvSpPr/>
            <p:nvPr/>
          </p:nvSpPr>
          <p:spPr>
            <a:xfrm>
              <a:off x="697680" y="6108840"/>
              <a:ext cx="1502280" cy="505440"/>
            </a:xfrm>
            <a:prstGeom prst="rect">
              <a:avLst/>
            </a:prstGeom>
            <a:noFill/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егно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11"/>
            <p:cNvSpPr/>
            <p:nvPr/>
          </p:nvSpPr>
          <p:spPr>
            <a:xfrm>
              <a:off x="3511080" y="6120720"/>
              <a:ext cx="944640" cy="507960"/>
            </a:xfrm>
            <a:prstGeom prst="rect">
              <a:avLst/>
            </a:prstGeom>
            <a:noFill/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со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полнение стаканчиков земляной смесью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816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melev</cp:lastModifiedBy>
  <dcterms:modified xsi:type="dcterms:W3CDTF">2021-04-03T14:35:4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