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6CF-5B9E-4954-8459-276B3665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F67-D665-4D35-8F6E-0DB51162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E0E-8794-431D-B679-1A0ECE98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680-80F6-4580-9C51-49EA6404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03EC4-0E10-4E34-9E6B-3AF415F5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C2AD1-1100-4213-B7D3-1C7C8101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61994-205B-47B9-9421-EE4A730A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5E45-4D5C-4D47-B57C-1778A644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94116-B8B7-428B-A03D-4B652C05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B8D69-3D5D-4A5E-AD32-002BCB2F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316E2-D239-4921-A231-9AB352C1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4D4-1470-4619-BAE7-402127A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8C9E8-005D-40CA-AE52-4BE4E693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903CF-F1E5-427B-9925-83A9722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2274C-52EC-4CD7-82AC-B182D631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49CB1-5415-4593-83FF-7CD21F95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A39E-2EA2-4E0C-BAC4-6F431D30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A95-D8F8-486D-A35F-15A34133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EB3-1B57-4B99-B1F8-413DC2CF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3F4-AF4B-44E6-8895-9BC10BEF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870-672F-472F-8DB3-6845B7C8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DDF-DB0A-4C3F-9BD5-16059230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E8E-F028-4B7F-ABD8-ED7A86B9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300-EC09-47FA-90B3-50E3099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D2F-BE75-4CA1-9B28-FD1370DD5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4AFE-832E-4FCC-B6EC-125F1FB5A2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Tahoma"/>
              </a:rPr>
              <a:t>Воспитательная програм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ного руковод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У «СОШ №20» г. Калу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ровой Елены Михайлов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2057400" y="1828800"/>
            <a:ext cx="4724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3037e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ТРИ   К"</a:t>
            </a:r>
            <a:endParaRPr b="1" lang="en-US" sz="1800" spc="1" strike="noStrike">
              <a:ln w="9360">
                <a:solidFill>
                  <a:srgbClr val="c3037e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609480" y="914400"/>
            <a:ext cx="7905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личностно-ориентированны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дх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1600200" y="1143000"/>
            <a:ext cx="6172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ЛЛЕКТИВНО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абота с родител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Diagram 7"/>
          <p:cNvGrpSpPr/>
          <p:nvPr/>
        </p:nvGrpSpPr>
        <p:grpSpPr>
          <a:xfrm>
            <a:off x="1719360" y="2063880"/>
            <a:ext cx="5705280" cy="3039840"/>
            <a:chOff x="1719360" y="2063880"/>
            <a:chExt cx="5705280" cy="3039840"/>
          </a:xfrm>
        </p:grpSpPr>
        <p:sp>
          <p:nvSpPr>
            <p:cNvPr id="139" name="_s2052"/>
            <p:cNvSpPr/>
            <p:nvPr/>
          </p:nvSpPr>
          <p:spPr>
            <a:xfrm>
              <a:off x="3800520" y="2603520"/>
              <a:ext cx="1542960" cy="1542960"/>
            </a:xfrm>
            <a:prstGeom prst="ellipse">
              <a:avLst/>
            </a:prstGeom>
            <a:solidFill>
              <a:srgbClr val="00c600">
                <a:alpha val="50000"/>
              </a:srgbClr>
            </a:solidFill>
            <a:ln w="468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2053"/>
            <p:cNvSpPr/>
            <p:nvPr/>
          </p:nvSpPr>
          <p:spPr>
            <a:xfrm>
              <a:off x="3800520" y="206388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33"/>
                  </a:solidFill>
                  <a:latin typeface="Tahoma"/>
                  <a:ea typeface="Arial"/>
                </a:rPr>
                <a:t>Родительские собра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54"/>
            <p:cNvSpPr/>
            <p:nvPr/>
          </p:nvSpPr>
          <p:spPr>
            <a:xfrm>
              <a:off x="4308480" y="3484440"/>
              <a:ext cx="1542960" cy="15433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55"/>
            <p:cNvSpPr/>
            <p:nvPr/>
          </p:nvSpPr>
          <p:spPr>
            <a:xfrm>
              <a:off x="5881680" y="471816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ahoma"/>
                  <a:ea typeface="Arial"/>
                </a:rPr>
                <a:t>Родительски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ahoma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9900"/>
                  </a:solidFill>
                  <a:latin typeface="Tahoma"/>
                  <a:ea typeface="Arial"/>
                </a:rPr>
                <a:t>университет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2056"/>
            <p:cNvSpPr/>
            <p:nvPr/>
          </p:nvSpPr>
          <p:spPr>
            <a:xfrm>
              <a:off x="3290760" y="3483000"/>
              <a:ext cx="1543320" cy="154296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57"/>
            <p:cNvSpPr/>
            <p:nvPr/>
          </p:nvSpPr>
          <p:spPr>
            <a:xfrm>
              <a:off x="1719360" y="471816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cc"/>
                  </a:solidFill>
                  <a:latin typeface="Tahoma"/>
                  <a:ea typeface="Arial"/>
                </a:rPr>
                <a:t>Индивидуальны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cc"/>
                  </a:solidFill>
                  <a:latin typeface="Tahoma"/>
                  <a:ea typeface="Arial"/>
                </a:rPr>
                <a:t>консультац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685800" y="1752480"/>
            <a:ext cx="7543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кола полного дн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8"/>
          <p:cNvSpPr txBox="1"/>
          <p:nvPr/>
        </p:nvSpPr>
        <p:spPr>
          <a:xfrm>
            <a:off x="3124080" y="914400"/>
            <a:ext cx="261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госрочна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3352680" y="1752480"/>
            <a:ext cx="1914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 этапа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3581280" y="2286000"/>
            <a:ext cx="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WordArt 17"/>
          <p:cNvSpPr txBox="1"/>
          <p:nvPr/>
        </p:nvSpPr>
        <p:spPr>
          <a:xfrm>
            <a:off x="1905120" y="259092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этап-АДАПТ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18"/>
          <p:cNvSpPr txBox="1"/>
          <p:nvPr/>
        </p:nvSpPr>
        <p:spPr>
          <a:xfrm>
            <a:off x="2362320" y="3429000"/>
            <a:ext cx="458604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этап-СТАНОВЛ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19"/>
          <p:cNvSpPr txBox="1"/>
          <p:nvPr/>
        </p:nvSpPr>
        <p:spPr>
          <a:xfrm>
            <a:off x="3048120" y="4343400"/>
            <a:ext cx="41907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этап- РАСКРЫТ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8"/>
          <p:cNvSpPr/>
          <p:nvPr/>
        </p:nvSpPr>
        <p:spPr>
          <a:xfrm>
            <a:off x="838080" y="533520"/>
            <a:ext cx="3581640" cy="3047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114800" y="152280"/>
            <a:ext cx="4800600" cy="4114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990720" y="2895480"/>
            <a:ext cx="3581280" cy="3276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4343400" y="3276720"/>
            <a:ext cx="3962520" cy="3581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4"/>
          <p:cNvSpPr/>
          <p:nvPr/>
        </p:nvSpPr>
        <p:spPr>
          <a:xfrm>
            <a:off x="685800" y="228600"/>
            <a:ext cx="3276720" cy="327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762120" y="3276720"/>
            <a:ext cx="3504960" cy="3047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3733920" y="304920"/>
            <a:ext cx="4495680" cy="434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4038480" y="3733920"/>
            <a:ext cx="3276720" cy="3124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6"/>
          <p:cNvSpPr/>
          <p:nvPr/>
        </p:nvSpPr>
        <p:spPr>
          <a:xfrm>
            <a:off x="1600200" y="1066680"/>
            <a:ext cx="6324480" cy="487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286000" y="4724280"/>
            <a:ext cx="61452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88" name="WordArt 16"/>
          <p:cNvSpPr txBox="1"/>
          <p:nvPr/>
        </p:nvSpPr>
        <p:spPr>
          <a:xfrm>
            <a:off x="3809880" y="3581280"/>
            <a:ext cx="762120" cy="20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6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600"/>
              </a:solidFill>
              <a:latin typeface="Arial"/>
              <a:ea typeface="Arial"/>
            </a:endParaRPr>
          </a:p>
        </p:txBody>
      </p:sp>
      <p:sp>
        <p:nvSpPr>
          <p:cNvPr id="89" name="WordArt 17"/>
          <p:cNvSpPr txBox="1"/>
          <p:nvPr/>
        </p:nvSpPr>
        <p:spPr>
          <a:xfrm>
            <a:off x="5715000" y="2666880"/>
            <a:ext cx="990720" cy="28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8"/>
          <p:cNvSpPr/>
          <p:nvPr/>
        </p:nvSpPr>
        <p:spPr>
          <a:xfrm rot="2208600">
            <a:off x="1295280" y="837720"/>
            <a:ext cx="2438640" cy="2133720"/>
          </a:xfrm>
          <a:prstGeom prst="pie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319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9"/>
          <p:cNvSpPr/>
          <p:nvPr/>
        </p:nvSpPr>
        <p:spPr>
          <a:xfrm rot="8183400">
            <a:off x="5257080" y="685440"/>
            <a:ext cx="2514600" cy="219564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548640 h 2195640"/>
              <a:gd name="textAreaBottom" fmla="*/ 1647000 h 21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66ff66"/>
              </a:gs>
              <a:gs pos="100000">
                <a:srgbClr val="ffffff"/>
              </a:gs>
            </a:gsLst>
            <a:lin ang="188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0"/>
          <p:cNvSpPr/>
          <p:nvPr/>
        </p:nvSpPr>
        <p:spPr>
          <a:xfrm rot="5400000">
            <a:off x="2914200" y="2419200"/>
            <a:ext cx="3162240" cy="3809880"/>
          </a:xfrm>
          <a:custGeom>
            <a:avLst/>
            <a:gdLst>
              <a:gd name="textAreaLeft" fmla="*/ 395280 w 3162240"/>
              <a:gd name="textAreaRight" fmla="*/ 2766960 w 3162240"/>
              <a:gd name="textAreaTop" fmla="*/ 952560 h 3809880"/>
              <a:gd name="textAreaBottom" fmla="*/ 285768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WordArt 6"/>
          <p:cNvSpPr txBox="1"/>
          <p:nvPr/>
        </p:nvSpPr>
        <p:spPr>
          <a:xfrm rot="2107800">
            <a:off x="1752120" y="1676160"/>
            <a:ext cx="166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ра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 rot="19105200">
            <a:off x="5486040" y="1523520"/>
            <a:ext cx="1866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уль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581280" y="44956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реативнос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6"/>
          <p:cNvSpPr txBox="1"/>
          <p:nvPr/>
        </p:nvSpPr>
        <p:spPr>
          <a:xfrm>
            <a:off x="3124080" y="304920"/>
            <a:ext cx="2210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9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КУЛЬ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97" name="WordArt 14"/>
          <p:cNvSpPr txBox="1"/>
          <p:nvPr/>
        </p:nvSpPr>
        <p:spPr>
          <a:xfrm>
            <a:off x="5638680" y="762120"/>
            <a:ext cx="3124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еатив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24"/>
          <p:cNvSpPr txBox="1"/>
          <p:nvPr/>
        </p:nvSpPr>
        <p:spPr>
          <a:xfrm rot="21184800">
            <a:off x="2676240" y="3419640"/>
            <a:ext cx="170172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deded"/>
                    </a:gs>
                  </a:gsLst>
                  <a:lin ang="5814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deded"/>
                  </a:gs>
                </a:gsLst>
                <a:lin ang="5814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6"/>
          <p:cNvSpPr txBox="1"/>
          <p:nvPr/>
        </p:nvSpPr>
        <p:spPr>
          <a:xfrm rot="21089400">
            <a:off x="4076280" y="3604680"/>
            <a:ext cx="142560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790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0" name="WordArt 28"/>
          <p:cNvSpPr txBox="1"/>
          <p:nvPr/>
        </p:nvSpPr>
        <p:spPr>
          <a:xfrm>
            <a:off x="3200400" y="4724280"/>
            <a:ext cx="1905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29"/>
          <p:cNvSpPr txBox="1"/>
          <p:nvPr/>
        </p:nvSpPr>
        <p:spPr>
          <a:xfrm>
            <a:off x="228600" y="990720"/>
            <a:ext cx="2819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АСОТА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2209680" cy="82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19160" y="2438280"/>
            <a:ext cx="5715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храняя красоту, продолж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ть культуру, разви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еативность в каждом уче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ностирование учащихся, с целью выявления их психолого- педагогических особен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условий необходимых для самовыражения каждой лич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у учеников творческого начала и создание условий для его творческой ре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РИНЦИП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тима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еры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рет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7"/>
          <p:cNvGrpSpPr/>
          <p:nvPr/>
        </p:nvGrpSpPr>
        <p:grpSpPr>
          <a:xfrm>
            <a:off x="457200" y="457200"/>
            <a:ext cx="8228880" cy="5484600"/>
            <a:chOff x="457200" y="457200"/>
            <a:chExt cx="8228880" cy="5484600"/>
          </a:xfrm>
        </p:grpSpPr>
        <p:cxnSp>
          <p:nvCxnSpPr>
            <p:cNvPr id="109" name="_s16400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5459400" y="1434960"/>
              <a:ext cx="1082160" cy="3543840"/>
            </a:xfrm>
            <a:prstGeom prst="bentConnector3">
              <a:avLst>
                <a:gd name="adj1" fmla="val 499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6398"/>
            <p:cNvCxnSpPr>
              <a:stCxn id="113" idx="0"/>
              <a:endCxn id="111" idx="2"/>
            </p:cNvCxnSpPr>
            <p:nvPr/>
          </p:nvCxnSpPr>
          <p:spPr>
            <a:xfrm flipV="1" rot="16200000">
              <a:off x="4392360" y="2502000"/>
              <a:ext cx="1082160" cy="1410120"/>
            </a:xfrm>
            <a:prstGeom prst="bentConnector3">
              <a:avLst>
                <a:gd name="adj1" fmla="val 499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6397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3325680" y="2845080"/>
              <a:ext cx="1082160" cy="724320"/>
            </a:xfrm>
            <a:prstGeom prst="bentConnector3">
              <a:avLst>
                <a:gd name="adj1" fmla="val 499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6396"/>
            <p:cNvCxnSpPr>
              <a:stCxn id="117" idx="0"/>
              <a:endCxn id="111" idx="2"/>
            </p:cNvCxnSpPr>
            <p:nvPr/>
          </p:nvCxnSpPr>
          <p:spPr>
            <a:xfrm flipH="1" flipV="1" rot="5400000">
              <a:off x="2257920" y="1778040"/>
              <a:ext cx="1082160" cy="2858040"/>
            </a:xfrm>
            <a:prstGeom prst="bentConnector3">
              <a:avLst>
                <a:gd name="adj1" fmla="val 499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16392"/>
            <p:cNvSpPr/>
            <p:nvPr/>
          </p:nvSpPr>
          <p:spPr>
            <a:xfrm>
              <a:off x="2438280" y="457200"/>
              <a:ext cx="3580920" cy="220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635cbc"/>
                  </a:solidFill>
                  <a:latin typeface="Arial"/>
                </a:rPr>
                <a:t>МЕТОДЫ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_s16393"/>
            <p:cNvSpPr/>
            <p:nvPr/>
          </p:nvSpPr>
          <p:spPr>
            <a:xfrm>
              <a:off x="457200" y="3747960"/>
              <a:ext cx="1828440" cy="21938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93840"/>
                <a:gd name="textAreaBottom" fmla="*/ 2104920 h 2193840"/>
              </a:gdLst>
              <a:ahLst/>
              <a:rect l="textAreaLeft" t="textAreaTop" r="textAreaRight" b="textAreaBottom"/>
              <a:pathLst>
                <a:path w="21600" h="25916">
                  <a:moveTo>
                    <a:pt x="3600" y="0"/>
                  </a:moveTo>
                  <a:arcTo wR="3600" hR="3600" stAng="16200000" swAng="-5400000"/>
                  <a:lnTo>
                    <a:pt x="0" y="22316"/>
                  </a:lnTo>
                  <a:arcTo wR="3600" hR="3600" stAng="10800000" swAng="-5400000"/>
                  <a:lnTo>
                    <a:pt x="18000" y="25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Организац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деятельности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поручения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упражне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_s16394"/>
            <p:cNvSpPr/>
            <p:nvPr/>
          </p:nvSpPr>
          <p:spPr>
            <a:xfrm>
              <a:off x="2590560" y="3747960"/>
              <a:ext cx="1828440" cy="21938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93840"/>
                <a:gd name="textAreaBottom" fmla="*/ 2104920 h 2193840"/>
              </a:gdLst>
              <a:ahLst/>
              <a:rect l="textAreaLeft" t="textAreaTop" r="textAreaRight" b="textAreaBottom"/>
              <a:pathLst>
                <a:path w="21600" h="25916">
                  <a:moveTo>
                    <a:pt x="3600" y="0"/>
                  </a:moveTo>
                  <a:arcTo wR="3600" hR="3600" stAng="16200000" swAng="-5400000"/>
                  <a:lnTo>
                    <a:pt x="0" y="22316"/>
                  </a:lnTo>
                  <a:arcTo wR="3600" hR="3600" stAng="10800000" swAng="-5400000"/>
                  <a:lnTo>
                    <a:pt x="18000" y="25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e5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Формировани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сознания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рассказ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беседа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диспут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6395"/>
            <p:cNvSpPr/>
            <p:nvPr/>
          </p:nvSpPr>
          <p:spPr>
            <a:xfrm>
              <a:off x="4724280" y="3747960"/>
              <a:ext cx="1828440" cy="21938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93840"/>
                <a:gd name="textAreaBottom" fmla="*/ 2104920 h 2193840"/>
              </a:gdLst>
              <a:ahLst/>
              <a:rect l="textAreaLeft" t="textAreaTop" r="textAreaRight" b="textAreaBottom"/>
              <a:pathLst>
                <a:path w="21600" h="25916">
                  <a:moveTo>
                    <a:pt x="3600" y="0"/>
                  </a:moveTo>
                  <a:arcTo wR="3600" hR="3600" stAng="16200000" swAng="-5400000"/>
                  <a:lnTo>
                    <a:pt x="0" y="22316"/>
                  </a:lnTo>
                  <a:arcTo wR="3600" hR="3600" stAng="10800000" swAng="-5400000"/>
                  <a:lnTo>
                    <a:pt x="18000" y="25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Стимулиро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поведения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игры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соревнования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конкурсы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6399"/>
            <p:cNvSpPr/>
            <p:nvPr/>
          </p:nvSpPr>
          <p:spPr>
            <a:xfrm>
              <a:off x="6857640" y="3747960"/>
              <a:ext cx="1828440" cy="21938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93840"/>
                <a:gd name="textAreaBottom" fmla="*/ 2104920 h 2193840"/>
              </a:gdLst>
              <a:ahLst/>
              <a:rect l="textAreaLeft" t="textAreaTop" r="textAreaRight" b="textAreaBottom"/>
              <a:pathLst>
                <a:path w="21600" h="25916">
                  <a:moveTo>
                    <a:pt x="3600" y="0"/>
                  </a:moveTo>
                  <a:arcTo wR="3600" hR="3600" stAng="16200000" swAng="-5400000"/>
                  <a:lnTo>
                    <a:pt x="0" y="22316"/>
                  </a:lnTo>
                  <a:arcTo wR="3600" hR="3600" stAng="10800000" swAng="-5400000"/>
                  <a:lnTo>
                    <a:pt x="18000" y="25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ba3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Контроля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199"/>
                  </a:solidFill>
                  <a:latin typeface="Arial"/>
                </a:rPr>
                <a:t>c</a:t>
              </a: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амоконтроля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самооценки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наблюдение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анализ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" name="Diagram 27"/>
          <p:cNvGrpSpPr/>
          <p:nvPr/>
        </p:nvGrpSpPr>
        <p:grpSpPr>
          <a:xfrm>
            <a:off x="1307520" y="102600"/>
            <a:ext cx="6604200" cy="6480720"/>
            <a:chOff x="1307520" y="102600"/>
            <a:chExt cx="6604200" cy="6480720"/>
          </a:xfrm>
        </p:grpSpPr>
        <p:sp>
          <p:nvSpPr>
            <p:cNvPr id="120" name="_s1028"/>
            <p:cNvSpPr/>
            <p:nvPr/>
          </p:nvSpPr>
          <p:spPr>
            <a:xfrm flipH="1" flipV="1">
              <a:off x="3295440" y="2420280"/>
              <a:ext cx="657000" cy="52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1029"/>
            <p:cNvSpPr/>
            <p:nvPr/>
          </p:nvSpPr>
          <p:spPr>
            <a:xfrm>
              <a:off x="1794600" y="1052280"/>
              <a:ext cx="168336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Tahoma"/>
                  <a:ea typeface="Arial"/>
                </a:rPr>
                <a:t>поход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0"/>
            <p:cNvSpPr/>
            <p:nvPr/>
          </p:nvSpPr>
          <p:spPr>
            <a:xfrm flipH="1">
              <a:off x="2973240" y="3653280"/>
              <a:ext cx="816840" cy="189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_s1031"/>
            <p:cNvSpPr/>
            <p:nvPr/>
          </p:nvSpPr>
          <p:spPr>
            <a:xfrm>
              <a:off x="1307520" y="3188520"/>
              <a:ext cx="168264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  <a:ea typeface="Arial"/>
                </a:rPr>
                <a:t>игр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_s1032"/>
            <p:cNvSpPr/>
            <p:nvPr/>
          </p:nvSpPr>
          <p:spPr>
            <a:xfrm flipH="1">
              <a:off x="3883680" y="4223880"/>
              <a:ext cx="361440" cy="75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2675880" y="4900680"/>
              <a:ext cx="168264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ahoma"/>
                  <a:ea typeface="Arial"/>
                </a:rPr>
                <a:t>викторин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4974120" y="4223880"/>
              <a:ext cx="366480" cy="75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5"/>
            <p:cNvSpPr/>
            <p:nvPr/>
          </p:nvSpPr>
          <p:spPr>
            <a:xfrm>
              <a:off x="4865760" y="4898160"/>
              <a:ext cx="1682640" cy="168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ahoma"/>
                  <a:ea typeface="Arial"/>
                </a:rPr>
                <a:t>выставк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_s1036"/>
            <p:cNvSpPr/>
            <p:nvPr/>
          </p:nvSpPr>
          <p:spPr>
            <a:xfrm>
              <a:off x="5428800" y="3653280"/>
              <a:ext cx="819360" cy="18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7"/>
            <p:cNvSpPr/>
            <p:nvPr/>
          </p:nvSpPr>
          <p:spPr>
            <a:xfrm>
              <a:off x="6229080" y="3185640"/>
              <a:ext cx="1682640" cy="168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Tahoma"/>
                  <a:ea typeface="Arial"/>
                </a:rPr>
                <a:t>конкурс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_s1038"/>
            <p:cNvSpPr/>
            <p:nvPr/>
          </p:nvSpPr>
          <p:spPr>
            <a:xfrm flipV="1">
              <a:off x="5266440" y="2417760"/>
              <a:ext cx="657000" cy="52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741280" y="1052280"/>
              <a:ext cx="168336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праздник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_s1040"/>
            <p:cNvSpPr/>
            <p:nvPr/>
          </p:nvSpPr>
          <p:spPr>
            <a:xfrm flipV="1">
              <a:off x="4609800" y="1785240"/>
              <a:ext cx="0" cy="84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41"/>
            <p:cNvSpPr/>
            <p:nvPr/>
          </p:nvSpPr>
          <p:spPr>
            <a:xfrm>
              <a:off x="3768120" y="102600"/>
              <a:ext cx="168264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ahoma"/>
                  <a:ea typeface="Arial"/>
                </a:rPr>
                <a:t>экскурси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1042"/>
            <p:cNvSpPr/>
            <p:nvPr/>
          </p:nvSpPr>
          <p:spPr>
            <a:xfrm>
              <a:off x="3768120" y="2626920"/>
              <a:ext cx="1682640" cy="168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ahoma"/>
                  <a:ea typeface="Arial"/>
                </a:rPr>
                <a:t>ФОРМ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4:38:44Z</dcterms:created>
  <dc:creator>Учитель</dc:creator>
  <dc:description/>
  <dc:language>en-US</dc:language>
  <cp:lastModifiedBy>User</cp:lastModifiedBy>
  <dcterms:modified xsi:type="dcterms:W3CDTF">2021-04-11T11:19:0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