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4C3F-C029-4F95-A1FD-819EC6690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D040-7E1B-4093-BEFD-17351C5E1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CA0-A3CB-41EB-8C9E-EF8860C9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ADD-427C-42BD-9E7E-3B495F47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07D-6F49-4EBA-87A8-AEF878D0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3FA-DE34-4155-86EC-775BD98D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E89-0752-440A-983B-6AE88D8C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0F0A-D5EA-4CD3-84E8-105C87D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11EA-B183-4376-BA2D-AAC1891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D199-E2F3-4788-BDF4-316F782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7B1-2F01-456C-8773-925CA16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FC9E-20FA-47BC-A7D4-EE958D0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0EFE-7C6A-41C2-9AD6-653DCB2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2CB-1D77-4CA6-817F-CDDCC7A6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055-2E38-4A18-AF53-D14396B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72C2-0025-4673-B242-EA269812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2FF4-A699-4940-AF33-971302EF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3470-20FF-4E24-AD05-E3469001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25DA-8766-45A9-A6C0-2C9F486B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E37-1985-4DAB-BF62-CB8F040B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3A1-AAE6-40E8-80EB-AEF2AF75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99D-F0B4-430B-B61A-E16FBEDB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149-7995-4920-9D64-A7B54BBA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482-F259-4A37-A810-3F155121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8D1-1D0C-4E8C-A118-FC5B0FD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05A-BCDF-47E6-895D-0A1901D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FA9E-2EC7-42F9-8200-E607010FC5A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349-D2B9-401F-85BA-3458749379A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ro.ru/wp-content/uploads/2014/02/POOP_DO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971640" y="4292640"/>
            <a:ext cx="554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ыполнила: Попова Ксения Евгеньев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Воспитатель МАОУ «ОЦ 2 г. Челябинск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42920" y="2565360"/>
            <a:ext cx="7632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АРИАТИВНОСТЬ ДОШКОЛЬНОГО ОБРАЗОВАНИЯ В УСЛОВИЯХ ВВЕДЕНИЯ ФГОС ДО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ТРАДИЦИОННЫЕ РОССИЙСКИ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71640" y="1712880"/>
            <a:ext cx="40320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Н.Е.Вераксы, Т.С.Комаровой, М.А.Василье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ИСТО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Л.А. Парамоно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ДЕТСКИЙ САД – ДОМ РАДОСТ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.М. Крыл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5040360" y="1700280"/>
            <a:ext cx="1116000" cy="1598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www.bookin.org.ru/book/1068336.jpg"/>
          <p:cNvPicPr/>
          <p:nvPr/>
        </p:nvPicPr>
        <p:blipFill>
          <a:blip r:embed="rId2"/>
          <a:stretch/>
        </p:blipFill>
        <p:spPr>
          <a:xfrm>
            <a:off x="5083200" y="3371760"/>
            <a:ext cx="1073160" cy="1427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www.koipkro.kostroma.ru/Kostroma_EDU/mdou63/DocLib/_w/%D0%BF%D1%80%D0%BE%D0%B3%D1%80%D0%B0%D0%BC%D0%BC%D0%B0_jpg.jpg"/>
          <p:cNvPicPr/>
          <p:nvPr/>
        </p:nvPicPr>
        <p:blipFill>
          <a:blip r:embed="rId3"/>
          <a:stretch/>
        </p:blipFill>
        <p:spPr>
          <a:xfrm>
            <a:off x="6804000" y="1681200"/>
            <a:ext cx="1127160" cy="1617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Книга &quot;Примерная основная образовательная программа. В 2-х книгах. ФГОС&quot;. Купить книгу, читать рецензии ISBN 978-5-85939-853-0 Л"/>
          <p:cNvPicPr/>
          <p:nvPr/>
        </p:nvPicPr>
        <p:blipFill>
          <a:blip r:embed="rId4"/>
          <a:stretch/>
        </p:blipFill>
        <p:spPr>
          <a:xfrm>
            <a:off x="4608360" y="4803840"/>
            <a:ext cx="1144800" cy="1598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tc-sfera.ru/sites/default/files/styles/large/public/00-00004402_00-0000440b.jpg?itok=f3jW2vZ6"/>
          <p:cNvPicPr/>
          <p:nvPr/>
        </p:nvPicPr>
        <p:blipFill>
          <a:blip r:embed="rId5"/>
          <a:stretch/>
        </p:blipFill>
        <p:spPr>
          <a:xfrm>
            <a:off x="5786280" y="4799160"/>
            <a:ext cx="11908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ТРАДИЦИОННЫЕ РОССИЙСКИЕ ОБРАЗОВАТЕЛЬНЫЕ ПРОГРАМ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71640" y="1712880"/>
            <a:ext cx="40320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Н.Е.Вераксы, Т.С.Комаровой, М.А.Василье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ИСТОК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од ред. Л.А. Парамоново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ДЕТСКИЙ САД – ДОМ РАДОСТИ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Н.М. Крылов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1709640"/>
            <a:ext cx="1116000" cy="159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ttp://www.koipkro.kostroma.ru/Kostroma_EDU/mdou63/DocLib/_w/%D0%BF%D1%80%D0%BE%D0%B3%D1%80%D0%B0%D0%BC%D0%BC%D0%B0_jpg.jpg"/>
          <p:cNvPicPr/>
          <p:nvPr/>
        </p:nvPicPr>
        <p:blipFill>
          <a:blip r:embed="rId2"/>
          <a:stretch/>
        </p:blipFill>
        <p:spPr>
          <a:xfrm>
            <a:off x="7451640" y="1700280"/>
            <a:ext cx="1127160" cy="161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нига &quot;Примерная основная образовательная программа. В 2-х книгах. ФГОС&quot;. Купить книгу, читать рецензии ISBN 978-5-85939-853-0 Л"/>
          <p:cNvPicPr/>
          <p:nvPr/>
        </p:nvPicPr>
        <p:blipFill>
          <a:blip r:embed="rId3"/>
          <a:stretch/>
        </p:blipFill>
        <p:spPr>
          <a:xfrm>
            <a:off x="5083200" y="4799160"/>
            <a:ext cx="1144440" cy="1598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tc-sfera.ru/sites/default/files/upload/istoki_0.jpg"/>
          <p:cNvPicPr/>
          <p:nvPr/>
        </p:nvPicPr>
        <p:blipFill>
          <a:blip r:embed="rId4"/>
          <a:stretch/>
        </p:blipFill>
        <p:spPr>
          <a:xfrm>
            <a:off x="4859280" y="3375000"/>
            <a:ext cx="982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57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ЕТСТВ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визна программы определяется тем, что в ней впервые реализован подход к организации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целостного развития и воспитания ребенк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ошкольного возраста как субъекта детской деятельности и поведения. Органичное вхождение ребенка в современный мир обеспечивается в программе широким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взаимодействием дошкольников с различными сферами культуры: с изобразительным искусством и музыкой, детской литературой и родным языком, экологией, математикой, игрой и трудом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виз программы «Чувствовать — Познавать — Творить» определяет три взаимосвязанные линии развития ребенка, которые пронизывают все разделы программы, придавая ей целостность и единую направленность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" name="Picture 2" descr="http://www.detstvo-press.ru/files/big/11481.jpg"/>
          <p:cNvPicPr/>
          <p:nvPr/>
        </p:nvPicPr>
        <p:blipFill>
          <a:blip r:embed="rId1"/>
          <a:stretch/>
        </p:blipFill>
        <p:spPr>
          <a:xfrm>
            <a:off x="6443640" y="620640"/>
            <a:ext cx="21607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ЗОЛОТОЙ КЛЮЧИК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ред Г.Г. Кравц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43000" y="1557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"Золотой ключик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назначена дл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мейно-общественных детских центр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бразовательных учреждений для детей в возрасте от трех до десяти ле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ичительной особенностью педаго­гического процесса в детском центре является создание условий для органичного единства цен­ностей счастливой жизни ребенка и его оптимального развития. Задачи воспи­тания и образования решаются в контексте организации неотчужденной жиз­недеятельности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тельно-образовательный процесс в детском центре пред­полагает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одновременную работу в группе двух воспитателей-педагогов в течение целого дня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равномерную представленнос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каждой группе детей трех основных возрастных ступеней:  двух - четырех лет, пяти - семи и восьми - десяти л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43000" y="1557360"/>
            <a:ext cx="5445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ы: Л.А.Венгер, О.М.Дьяченко, А.И. Булычева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направлена на развит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щих способностей детей дошкольного возраста (познавательных, творческих, коммуникативных, регуляторных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Развитие» имеет серьезное теоретико-экспериментальное обоснование. В ее основе лежат: концепция А.В. Запорожца об амплификации развития в дошкольном возрасте (его обобщение, наполнение наиболее значимыми для дошкольника формами и способами деятельности);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Л.А. Венгера о развитии познавательных спосо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дошкольном детстве через овладение сенсорными эталонами, наглядно-образными и знаковыми моделями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ихологическая теория Л.С. Выготско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огласно которой наиболее существенная линия в развитии человека представлена становлением его созн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ТРОПИНКИ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В.Т.Кудрявцев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143000" y="1773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вивающего дошкольно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правлена на создание условий для общего психического развития детей 3 - 6 лет средствам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вития творческих способ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 частности, условий формирования у них готовности к современному (развивающему) школьному обучению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задачи программ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ициирование и психолого-педагогическое сопровождение процессов творческого освоения культуры детьми в рамках различных видов их деятельности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звитие творческого воображения дошкольников, основанной на нем системы творческих способностей ребенка (продуктивного мышления, рефлексии и др.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развитие и поддержание у детей специфической познавательной мотивации и интеллектуальных эмоци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http://www.sbooks.ru/images/goods/114009689_1.jpg"/>
          <p:cNvPicPr/>
          <p:nvPr/>
        </p:nvPicPr>
        <p:blipFill>
          <a:blip r:embed="rId1"/>
          <a:stretch/>
        </p:blipFill>
        <p:spPr>
          <a:xfrm>
            <a:off x="7027920" y="1555920"/>
            <a:ext cx="12970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ткрытиЯ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Е.Г. Юдиной; научный руководитель - А.Г. Асмолов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106640" y="1347840"/>
            <a:ext cx="5760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дходы и принципы программы «ОткрытиЯ» имеют общие корни с гуманистической философией программы дошкольного образования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Сообщество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редставляет собой российскую версию международной программы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Шаг за шагом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то же время, программа опирается на многолетний опыт работы дошкольных образовательных организаций множества регионов РФ. В частности, в тексте программы использованы материалы региональной программы </a:t>
            </a:r>
            <a:r>
              <a:rPr b="0" lang="ru-RU" sz="16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«Югорский трамплин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 которой уже несколько лет работают детские сады Ханты-Мансийского А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достоинство и ценность программы заключается в ее гуманистической направленности. Программа призван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ть уважение к личности каждого ребенка, создавать условия для развития его уверенности в себе, инициативности, творческих способностей, самостоятельности и ответствен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грамма в первую очередь направлена на социальное и эмоционально-личностное развитие ребенка, что и порождает одну из главных проблем на пути ее реализац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5" descr="http://msbook.ru/pictures/covers/978-5-43150-648-2.jpg?13.10.15.15.49.43"/>
          <p:cNvPicPr/>
          <p:nvPr/>
        </p:nvPicPr>
        <p:blipFill>
          <a:blip r:embed="rId1"/>
          <a:stretch/>
        </p:blipFill>
        <p:spPr>
          <a:xfrm>
            <a:off x="6943680" y="1341360"/>
            <a:ext cx="1649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ервые шаги / Авторы Е.О. Смирнова, Л.Н. Галигузова, С.Ю. Мещеряко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42920" y="1600200"/>
            <a:ext cx="549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грамма  основана на современных научных представлениях о закономерностях психического развития ребенка в раннем возрасте, ведущей роли предметной деятельности и общения со взрослым. Исходными теоретическими позициями программы являются положения концепции о генезисе коммуникативной деятельности, разработанной выдающимся детским психологом М.И.Лисиной.    Программа построена на гуманистических принципах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личностно-ориентированной педагогики, предполагающих признание самоценности каждого возрастного периода жизни человека, уважение к личности ребенка, создание условий для развития его активности, инициативности, творческого потенциал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При ее разработке авторы стремились использовать богатое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наследие народной педагогики, опыт отечественных и зарубежных педагогов в области воспитания детей раннего возраст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    Программа является комплексной, так как охватывает все образовательные области, представленные в ФГОСТ ДО: познавательное, речевое, социально-коммуникативное, художественно-эстетическое и физическо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" name="Picture 2" descr="Комплексная образовательная программа для детей раннего возраста &quot;Первые шаги&quot; . Смирнова Е.О., Галигузова Л.Н., Мещерекова С.Ю."/>
          <p:cNvPicPr/>
          <p:nvPr/>
        </p:nvPicPr>
        <p:blipFill>
          <a:blip r:embed="rId1"/>
          <a:stretch/>
        </p:blipFill>
        <p:spPr>
          <a:xfrm>
            <a:off x="7093080" y="1628640"/>
            <a:ext cx="1011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55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БРАЗОВАТЕЛЬНЫЕ ПРОГРАММЫ, РАЗРАБОТАННЫЕ ПОСЛЕ ПОЯВЛЕНИЯ ФГТ К СТРУКТУРЕ ООП Д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вариативности образовани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11. Федеральные государственные образовательные стандарты и федеральные государственные требования. Образовательные стандарт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и федеральные государственные требования обеспечивают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риативность содержания образовательных програм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ующего уровня образования, возможность формирования образовательных программ различных уровня сложности и направленности с учетом образовательных потребностей и способностей обучающихся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static.my-shop.ru/product/3/192/1912975.jpg"/>
          <p:cNvPicPr/>
          <p:nvPr/>
        </p:nvPicPr>
        <p:blipFill>
          <a:blip r:embed="rId1"/>
          <a:stretch/>
        </p:blipFill>
        <p:spPr>
          <a:xfrm>
            <a:off x="1042920" y="620640"/>
            <a:ext cx="3691080" cy="539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"/>
          <p:cNvSpPr/>
          <p:nvPr/>
        </p:nvSpPr>
        <p:spPr>
          <a:xfrm>
            <a:off x="4859280" y="6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уководитель авторского коллектива – Н.В. Федина, к. п. н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734000" y="1341360"/>
            <a:ext cx="3941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се содержание программы обеспечивает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ешность развития маленьких россиян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циально-коммуникативного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П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вательного и речевого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инства физического развития и воспитания культуры здоровья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дожественно-эстетическо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61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бразовательная программа дошкольного образования «ДИАЛОГ» / Под ред. О.Л. Соболевой, О.Г. Приходько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42920" y="1600200"/>
            <a:ext cx="549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грамма «Диалог»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ответствует принципам развивающего обучения и обеспечивает исчерпывающую реализацию пяти образовательных областей в соответствии с требованиями Стандарта. Авторский коллектив Программы, при формировании ее содержания, учел новую стратегию дошкольного воспитания: основными приоритетами Программы «Диалог» являются развитие игровой деятельности детей, а также физических, личностных и интеллектуальных качеств. Выделенные авторами приоритетные задачи рекомендуется решать в ходе совместной (партнерской) деятельности ребенка со взрослыми и другими детьми. Психолого-педагогические и методические технологии, обозначенные в Программе, обеспе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возможность мягкого перехода от традиционного занятия к формам совмест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2" descr="http://create.chitai-gorod.ru/upload/iblock/aee/aee81fb2e71a273c3aaea69ddc1272bb.jpg"/>
          <p:cNvPicPr/>
          <p:nvPr/>
        </p:nvPicPr>
        <p:blipFill>
          <a:blip r:embed="rId1"/>
          <a:stretch/>
        </p:blipFill>
        <p:spPr>
          <a:xfrm>
            <a:off x="6948360" y="1557360"/>
            <a:ext cx="1528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323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МИР ОТКРЫТИЙ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/ под редакцией Л.Г. Петерсон, И.А. Лыков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16000" y="1341360"/>
            <a:ext cx="561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отечественн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предлагающая конкретный педагогический инструментарий решения задач дошкольного образования в соответствии с запросом современного социум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временна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базирующаяся на общих законах организации и развития деятельности человека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развивающая программа, определяющая условия развивающего взаимодействия и саморазвития всех участников образовательных отношений: педагогов, детей и их родителей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здоровьесозидающая программа, направленная на объединение образовательно-оздоровительных ресурсов семьи и дошкольного образования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программа, обеспечивающая преемственность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ежду дошкольным и начальным уровнями общего образования с позиций самоценности каждого возраста и непрерывности образования на протяжении всей жизни человека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программа открытого типа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сширяющая возможности педагогов в использовании содержания, методического обеспечения, образовательных технологий с учетом реальной ситуации в дошкольной образовательной организации и особенностей развития детей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РАЗНОЦВЕТНАЯ ПЛАНЕТА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/ под ред. Е.А. Хамраевой, Д.Б. Юмат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поддержки и развития русского языка «РАЗНОЦВЕТНАЯ ПЛАНЕТА» создан специально для детей соотечественников, живущих за рубежом и на территории РФ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обеспечивает каждому ребенку возможность успешного обучения как на языке страны проживания, так и на русском языке.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Билингвальное и поликультурное построение проект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зволяет включить любой родной язык в учебное и воспитательное пространство. В рамках проекта ребенок получает возможность в равной степени задействовать оба языка — русский язык и язык страны проживания (или второй родной язык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948360" y="1628640"/>
            <a:ext cx="14623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556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ОБРАЗОВАТЕЛЬНЫЕ ПРОГРАММЫ, РАЗРАБОТАННЫЕ ПОСЛЕ ПОЯВЛЕНИЯ ФГОС Д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040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ДЕТСКИЙ САД ПО СИСТЕМЕ МАРИИ МОНТЕССОРИ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Е.А. Хилтунен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143000" y="1557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целом образовательная программа М.Монтессори соответствует целям, установленным ФГОС ДО. В качестве основных результатов образования и развития в образовательных организациях, работающих по такой программе, рассматриваются реальные жизненные умения, с которыми ребенок приходит во взрослую жизнь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" descr="http://montessori-club.webasyst.net/shop/products_pictures/%D0%9F%D1%80%D0%BE%D0%B3%D1%80%D0%B0%D0%BC%D0%BC%D0%B0%20%D0%94%D0%B5%D1%82%D1%81%D0%BA%D0%B8%D0%B9%20%D1%81%D0%B0%D0%B4%20%D0%BF%D0%BE%20%D1%81%D0%B8%D1%81%D1%82%D0%B5%D0%BC%D0%B5%20%D0%9C%D0%BE%D0%BD%D1%82%D0%B5%D1%81%D1%81%D0%BE%D1%80%D0%B8_enl.jpg"/>
          <p:cNvPicPr/>
          <p:nvPr/>
        </p:nvPicPr>
        <p:blipFill>
          <a:blip r:embed="rId1"/>
          <a:stretch/>
        </p:blipFill>
        <p:spPr>
          <a:xfrm>
            <a:off x="6948360" y="1197000"/>
            <a:ext cx="1700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БЕРЕЗКА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вальдорфской педагогик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ред. В.К. Загвоздкина, С.А. Трубицыно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43000" y="1773360"/>
            <a:ext cx="5445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льдорфский детский сад в организации своей жизни опирается на следующие принципы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дети имеют право на образова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каждый ребенок является личностью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строится сообразно возрасту и индивидуальным особенностям детей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дошкольников опирается на пример и подража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• образование создает здоровую телесную и душевную основу для развития личности в течение всей жизн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оссии вальдорфские образовательные организации педагогика развиваются с конца 80 годов ХХ века. В 1989 году открылся первый вальдорфский детский сад. В 1992 году – первые вальдорфские школы. На сегодня в России 70 вальдорфских групп и инициатив и 25 школ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579420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ВДОХНОВЕНИ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entury Gothic"/>
              </a:rPr>
              <a:t>/ под ред. И.Е. Федос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43000" y="1557360"/>
            <a:ext cx="566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ограмма предоставляет в распоряжение педагога современные данные о ребенке и его развитии, ставит ясные цели и предоставляет выверенные педагогические технологии и инструменты для их достижения. Открывая просторы для профессионального творчества, Программа в то же время позволяет выстроить полноценный, качественный образовательно-воспитательный процесс, сформировать современную и эффективную образовательную среду. Подходы дифференцированного обучения позволяют 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выстроить индивидуальную траекторию развития ребенка, обеспечивая работу в его зоне ближайшего развити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и при этом добиться высоких результатов всей группы. Инструменты педагогической диагностики, предлагаемые Программой, формируют надежную основу для принятия педагогических решений. 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Программа поддерживает игру во всех ее видах, исследовательскую активность ребенка, совместную деятельность взрослого и ребенк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. «Вдохновение» предусматривает вариативность форм реализации в зависимости от конкретной ситуации, места расположения детского сада, особенностей детей и их семе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http://n-obr.ru/upload/medialibrary/64f/%D0%9E%D0%B1%D0%BB%D0%BE%D0%B6%D0%BA%D0%B0%20%D0%92%D0%B4%D0%BE%D1%85%D0%BD%D0%BE%D0%B2%D0%B5%D0%BD%D0%B8%D0%B5.jpg"/>
          <p:cNvPicPr/>
          <p:nvPr/>
        </p:nvPicPr>
        <p:blipFill>
          <a:blip r:embed="rId1"/>
          <a:stretch/>
        </p:blipFill>
        <p:spPr>
          <a:xfrm>
            <a:off x="6765840" y="836640"/>
            <a:ext cx="1900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685440"/>
            <a:ext cx="7488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ИРЫ ДЕТСТВА: КОНСТРУИРОВАНИЕ ВОЗМОЖНОСТЕЙ / под редакцией Т.Н. Дорон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держание Программы заключается в описании новых средств, которые ранее широко не использовались   в образовательных программах или применялись эпизодически, и с помощью которых взрослый может направлять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нициативу ребенка в различных культурных практиках: игре, рисовании, исследовании, коммуникации, чтени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ДОШКОЛКА.РУ / Автор С.П. Циновск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79080" y="1599840"/>
            <a:ext cx="5257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пособствует развитию разных видов мышления у дошкольников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наглядно-действенного; наглядно-образного; словесно-логического; абстрактно-логического; пространственного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еспечивает формирование ручной умелости, развитие крупной и мелкой моторик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создает предпосылки для развития творчеств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в том числе и технического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ирует условия для совершенствования коммуникативных навыков у дошкольников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ивает благоприятный эмоциональный фон для детей в условиях детского сада, основанный на интересе, радости совместной деятельности и достижений в решении разнообразных задач, как непосредственно, так и опосредованно при использовании предлагаемой инновационной сред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7164360" y="1341360"/>
            <a:ext cx="1430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 образовательной программ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тья 2. Основные понятия, используемые в настоящем Федеральном закон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)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образовательн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учебного плана, календарного учебного графика, рабочих программ учебных предметов, курсов, дисциплин (модулей), иных компонентов, а также оценочных и методических материалов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МОЗАИКА / авторы В.Ю.Белькович, Н.В. Гребёнкина, И.А. Кильдышев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обенности программ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сутствие жёстко регламентированных форм организации дете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Обеспечение оптимального двигательного режим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свободное перемещение ребёнка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ибкий режим, позволяющий ребёнку включаться в режимные моменты без нарушения психофизиологического комфорт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093080" y="1628640"/>
            <a:ext cx="11714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БРАЗОВАНИЕ ДЛЯ ПРОЦВЕТАНИЯ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/ под руководством Т.С. Комарово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560" y="1628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грамма «Образование для процветания» является инновационным общеобразовательным программным документом для организаций, индивидуальных предпринимателей, осуществляющих образовательную деятельность по реализации общеобразовательной программы дошкольного образования, подготовленным с учетом новейших достижений науки и практики отечественного и зарубежного дошкольного образования и реализуемым с использованием ИКТ. Программа ориентирована на работу с одаренными детьми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20000" y="1557360"/>
            <a:ext cx="14349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НА КРЫЛЬЯХ ДЕТСТВА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Н.В. Микляев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42920" y="1628640"/>
            <a:ext cx="5761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является учебно-методическим документом, демонстрирующим для дошкольных  образовательных организаций и дошкольных отделений эффективную модель реализации ФГОС дошкольного образования и специфику методического сопровождения образовательного процесса с детьми раннего и дошкольного возраста, а также c обучающимися с особыми образовательными потребност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программе реализуется взгляд на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образование как на формирование и развитие целостной личности ребенка средствами, обеспечивающими его личностный, эмоциональный и интеллектуальный, социальный рос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рекомендована для руководителей дошкольных образовательных организаций и структурных руководителей дошкольных отделений школ, старших воспитателей и педагогов, работающих с детьми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6" descr="http://s40.radikal.ru/i089/1502/e2/ee43ace89dcd.jpg"/>
          <p:cNvPicPr/>
          <p:nvPr/>
        </p:nvPicPr>
        <p:blipFill>
          <a:blip r:embed="rId1"/>
          <a:stretch/>
        </p:blipFill>
        <p:spPr>
          <a:xfrm>
            <a:off x="6715080" y="1773360"/>
            <a:ext cx="952560" cy="156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http://tc-sfera.ru/sites/default/files/00-00005007b.jpg"/>
          <p:cNvPicPr/>
          <p:nvPr/>
        </p:nvPicPr>
        <p:blipFill>
          <a:blip r:embed="rId2"/>
          <a:stretch/>
        </p:blipFill>
        <p:spPr>
          <a:xfrm>
            <a:off x="7667640" y="19890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ЕРВОЦВЕТЫ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ред. Н.В. Микляев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042920" y="1628640"/>
            <a:ext cx="5761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качестве основных идей программы выступает понимание детской игры как феномена дошкольного детства и дошкольного образования как формы психолого-педагогической поддержки растущего человека в меняющемся мире, уровневая дифференциация задач, содержания и результатов образовательного процесса с учетом возрастных и индивидуальных особенностей детей, формирование и изменение образовательного пространства группы детского сада, его адаптации, модерации и трансформации в событийно ориентированное пространство детского сада. При этом спецификой программы выступает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концепция формирования интерактивной предметно-развивающей среды, событийная и блочно-модульная модели реализации содержания программы на практике, позволяющая выстроить модели образовательного процесса на день, неделю, месяц и год, отражающие специфику общения в дошкольной группе, формирование смыслов педагогического взаимодействия на основе ценностей общения ребенка и взрослого, формирование культурных практик как основы событийности совместной деятельности детей и взрослых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804000" y="1770120"/>
            <a:ext cx="18432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ПРОГРАММЫ КОРРЕКЦИОННОЙ НАПРАВЛЕННОСТИ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43000" y="1700280"/>
            <a:ext cx="5661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Подготовка к школе детей с задержкой психического развития» (С.Г. Шевченко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Подготовка к школе детей с общим недоразвитием речи в условиях специального детского сада» (Т.Б. Филичева, Г.В. Чирк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Обучение и воспитание детей с фонетико-фонематическим недоразвитием» (Т.Б. Филичева, Г.В. Чирк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Коррекционно-развивающее обучение и воспитание детей дошкольного возраста с нарушением интеллекта» (Е.А. Екжанова, Е.А. Стребелев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а «Коррекционная работа в детском саду для детей с нарушениями зрения» (Л.И. Плаксин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632720" cy="12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программы дошкольного образования для дошкольников с тяжелыми нарушениями речи / под ред. Л. В. Лопатино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79080" y="2276280"/>
            <a:ext cx="5257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грамма представляет собой адаптированную примерную основную образовательную программу для дошкольных образовательных организаций, в которых получают образовательные услуги дети с тяжелыми нарушениями реч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Цель реализации "Программы" -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проектирование модели коррекционно-развивающей психолого-педагогической работы, максимально обеспечивающей создание условий для развит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 ТНР, его позитивной социализации, личностного развития инициативы и творческих способностей на основе сотрудничества со взрослыми и сверстниками в соответствующих возрасту видах деятельност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3" name="Picture 2" descr="http://www.alma.ru/upload/iblock/4b2/adaptirovannay%20programma.jpg"/>
          <p:cNvPicPr/>
          <p:nvPr/>
        </p:nvPicPr>
        <p:blipFill>
          <a:blip r:embed="rId1"/>
          <a:stretch/>
        </p:blipFill>
        <p:spPr>
          <a:xfrm>
            <a:off x="6948360" y="1844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тельная программа дошкольного образования для детей с тяжелыми нарушениями речи (общим недоразвитием речи) с 3 до 7 лет / Автор Н.В. Нищев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ограмма разработана включает в себя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тодику проведения индивидуальной педагогической диагностик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ставляет описание задач и содержания образовательной и коррекционной деятельности в пяти образовательных областях для всех возрастных групп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одержит рекомендации  по организации жизнедеятельности и созданию предметно-пространственной развивающей среды в каждой возрастной группе с учетом особенностей развития детей с тяжелыми нарушениями речи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еет перечень дидактического материала, обучающих пособий, примерные списки детской литератур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 программе разработан полный 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6" name="Рисунок 3" descr=""/>
          <p:cNvPicPr/>
          <p:nvPr/>
        </p:nvPicPr>
        <p:blipFill>
          <a:blip r:embed="rId1"/>
          <a:stretch/>
        </p:blipFill>
        <p:spPr>
          <a:xfrm>
            <a:off x="6797520" y="1536840"/>
            <a:ext cx="170676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7086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АРЦИАЛЬНЫЕ ПРОГРАММ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42560" y="981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нческий и ранний возраст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ьева Г.Г., Груба Г.Г., Зворыгина Е.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 Крох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мийченко Л.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рогой света и добра (социально-коммуникативное развитие и социальное воспит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офеева Л.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культуры безопасност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това А.Д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е воспитание дошкольников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деева Н.Н., Князева О.Л., Стеркина Р.Б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безопасности детей дошкольного возраст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ева О.Л., Стеркина Р.Б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ТЫ, М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а «Умные пальчики» (конструиров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 С.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ный эколог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сон Л.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чемасова Е.Е. Игралочка (математическое развит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ш дом – природа (экологическое образование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ова Е.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 для малышей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7086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АРЦИАЛЬНЫЕ ПРОГРАММ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42560" y="981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акова О.С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речи и речевого общени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торому языку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сова Е.Ю., Родина М.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Little by Little» (обучение дошкольников иностранному языку)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нина А.И., Тютюнникова Т.Э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тти (музыкальное воспитание)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ынова О.П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шедевры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елые ручки (художественный труд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кова И.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ые ладошки (изобразительное творчество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кина М.Е., Коваленко В.С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 К здоровой семье через детский сад (сохранение и формирование здоровья детей и их родителей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кина Т.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плаванию в детском саду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ырина Л.Д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— дошкольникам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82040" cy="11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примерной основной образовательной программе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5810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татья 2. Основные понятия, используемые в настоящем Федеральном закон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имерная основная образовательная программ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781000"/>
            <a:ext cx="579096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Дошкольное образование 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6849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тья 64.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11280" y="609480"/>
            <a:ext cx="8137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 цели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81000"/>
            <a:ext cx="57909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разовательные программы дошкольного образования направлены н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азностороннее развитие детей дошкольного возраст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 учетом их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озрастных и индивидуальных особенносте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в том числе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достижени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тьми дошкольного возраст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уровня развития, необходимого и достаточного для успешного освоен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ми образовательных программ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ачального общего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на основе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индивидуального подхода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 детям дошкольного возраста и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специфичных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для детей дошкольного возраста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идов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Освоение образовательных программ дошкольного образования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не сопровождается проведением промежуточных аттестаций и итоговой аттестации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учающихс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6849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татья 64. Дошкольное образова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971640" y="609480"/>
            <a:ext cx="770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Федеральный Закон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Arial Black"/>
              </a:rPr>
              <a:t>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об образовательных программах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557000"/>
            <a:ext cx="57909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2. Стандарт разработан на основе Конституции Российской Федерации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 законодательства Российской Федерации и с учетом Конвенции ООН о правах ребенка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в основе которых заложены следующие основные принцип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оддержка разнообразия дет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 …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личностно-развивающий и гуманистический характе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заимодействия взрослых (родителей (законных представителей), педагогических и иных работников Организации) и дете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уважение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еализация Программы в формах, специфических для детей данной возрастной группы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режде всего в форме игры, познавательной и исследовательской деятельности, в форме творческой активности, обеспечивающей художественно-эстетическое развитие ребен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971640" y="609480"/>
            <a:ext cx="77040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Федеральный государственный образовательный стандарт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05000"/>
            <a:ext cx="57909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6. Стандарт направлен на решение следующих задач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) обеспечения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вариативности и разнообразия содержания Программ и организационных форм дошкольного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возможности формирования Программ различной направленности с учетом образовательных потребностей, способностей и состояния здоровья детей; … 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971640" y="609480"/>
            <a:ext cx="77040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 Black"/>
              </a:rPr>
              <a:t>Федеральный государственный образовательный стандарт до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632720" cy="11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ПРИМЕРНАЯ ОСНОВНАЯ ОБРАЗОВАТЕЛЬНАЯ ПРОГРАММА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971640" y="1844640"/>
            <a:ext cx="5761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ОДОБРЕНА решением федерального учебно-методического объединения по общему образованию (протокол от 20 мая 2015 г. № 2/1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Адрес на сайте ФГАУ «Федеральный институт развития образования»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firo.ru/wp-content/uploads/2014/02/POOP_DO.pd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с на сайте «</a:t>
            </a:r>
            <a:r>
              <a:rPr b="1" lang="ru-RU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Реестр примерных основных общеобразовательных программ Министерства образования и науки РФ»: </a:t>
            </a:r>
            <a:r>
              <a:rPr b="1" i="1" lang="en-US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fgosreestr.ru/registry/primernaya-osnovnaya-obrazovatelnaya-programma-doshkolnogo-obrazovaniya/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27:31Z</dcterms:created>
  <dc:creator>up</dc:creator>
  <dc:description/>
  <dc:language>en-US</dc:language>
  <cp:lastModifiedBy>User</cp:lastModifiedBy>
  <cp:lastPrinted>2014-03-19T16:14:36Z</cp:lastPrinted>
  <dcterms:modified xsi:type="dcterms:W3CDTF">2020-03-25T06:17:15Z</dcterms:modified>
  <cp:revision>87</cp:revision>
  <dc:subject/>
  <dc:title>Критерии оценки  результативности и  качества деятельности  учреждений для детей, нуждающихся в психолого-педагогической и медико-социальной помощ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