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4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0A08-CC28-47B6-BB49-341E27D5D0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16F1-DA16-473E-9EDC-0836AB9ED5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B01-7229-47CA-BC8D-9AAE5BAA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0DF-0057-4724-957E-D1AFDAB3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B9C3-383D-47A7-81D2-34804C27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42F0-F338-4AA3-8E36-BFC67E42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35B6-DAD0-4B2D-8D8C-D670A3FC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C6CA-A583-4F73-9078-0CF95109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0320-F4AA-4FC1-A382-6F8E0B4C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6E64-BE6A-434E-8CFB-29676C78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03F3-4A02-4C5D-B2B0-AAE54292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2527-AFB6-4940-83B6-C6A49D12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3A50-EEBC-4B75-9752-61D97A34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A9D7-9C40-489F-AACF-ECCCD9C3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6A37-B344-4889-9166-79DC3F3D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A686-5BD5-43F3-BC0F-71FBA3A6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A633-8DF6-4BED-9260-A8C81E4F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101A-CACE-4198-9181-CD9A993B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1786-562C-4F59-850B-B5BB0A05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1176-4FE6-42CC-B185-43F9B153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E05B-84AD-4E92-A8D6-741FEDD2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CD84-380B-4576-8EAB-80B21731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459B-7399-499B-80E1-A66FCE10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417C-14C3-4987-98CC-16D62087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5C2F-17CF-4CDD-B91D-46463266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F13-7BB8-4670-9AB1-7CC924C2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E567-00AE-46F3-A801-BE9A0E7A048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CBE3-5CEC-4FED-AFFD-8AE66C84A17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iro.ru/wp-content/uploads/2014/02/POOP_DO.pdf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971640" y="4292640"/>
            <a:ext cx="55450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Comic Sans MS"/>
              </a:rPr>
              <a:t>Выполнила: Попова Ксения Евгеньевн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Comic Sans MS"/>
              </a:rPr>
              <a:t>Воспитатель МАОУ «ОЦ 2 г. Челябинск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1042920" y="2565360"/>
            <a:ext cx="7632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63272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ВАРИАТИВНОСТЬ ДОШКОЛЬНОГО ОБРАЗОВАНИЯ В УСЛОВИЯХ ВВЕДЕНИЯ ФГОС ДО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632720" cy="11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 Black"/>
              </a:rPr>
              <a:t>ТРАДИЦИОННЫЕ РОССИЙСКИЕ ОБРАЗОВАТЕЛЬНЫЕ ПРОГРАММЫ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971640" y="1712880"/>
            <a:ext cx="40320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«ОТ РОЖДЕНИЯ ДО ШКОЛЫ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од ред. Н.Е.Вераксы, Т.С.Комаровой, М.А.Васильевой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«ИСТОКИ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од ред. Л.А. Парамоновой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«ДЕТСКИЙ САД – ДОМ РАДОСТИ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Н.М. Крылов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5040360" y="1700280"/>
            <a:ext cx="1116000" cy="1598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ttp://www.bookin.org.ru/book/1068336.jpg"/>
          <p:cNvPicPr/>
          <p:nvPr/>
        </p:nvPicPr>
        <p:blipFill>
          <a:blip r:embed="rId2"/>
          <a:stretch/>
        </p:blipFill>
        <p:spPr>
          <a:xfrm>
            <a:off x="5083200" y="3371760"/>
            <a:ext cx="1073160" cy="1427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://www.koipkro.kostroma.ru/Kostroma_EDU/mdou63/DocLib/_w/%D0%BF%D1%80%D0%BE%D0%B3%D1%80%D0%B0%D0%BC%D0%BC%D0%B0_jpg.jpg"/>
          <p:cNvPicPr/>
          <p:nvPr/>
        </p:nvPicPr>
        <p:blipFill>
          <a:blip r:embed="rId3"/>
          <a:stretch/>
        </p:blipFill>
        <p:spPr>
          <a:xfrm>
            <a:off x="6804000" y="1681200"/>
            <a:ext cx="1127160" cy="1617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Книга &quot;Примерная основная образовательная программа. В 2-х книгах. ФГОС&quot;. Купить книгу, читать рецензии ISBN 978-5-85939-853-0 Л"/>
          <p:cNvPicPr/>
          <p:nvPr/>
        </p:nvPicPr>
        <p:blipFill>
          <a:blip r:embed="rId4"/>
          <a:stretch/>
        </p:blipFill>
        <p:spPr>
          <a:xfrm>
            <a:off x="4608360" y="4803840"/>
            <a:ext cx="1144800" cy="1598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http://tc-sfera.ru/sites/default/files/styles/large/public/00-00004402_00-0000440b.jpg?itok=f3jW2vZ6"/>
          <p:cNvPicPr/>
          <p:nvPr/>
        </p:nvPicPr>
        <p:blipFill>
          <a:blip r:embed="rId5"/>
          <a:stretch/>
        </p:blipFill>
        <p:spPr>
          <a:xfrm>
            <a:off x="5786280" y="4799160"/>
            <a:ext cx="119088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632720" cy="11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 Black"/>
              </a:rPr>
              <a:t>ТРАДИЦИОННЫЕ РОССИЙСКИЕ ОБРАЗОВАТЕЛЬНЫЕ ПРОГРАММЫ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971640" y="1712880"/>
            <a:ext cx="40320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«ОТ РОЖДЕНИЯ ДО ШКОЛЫ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од ред. Н.Е.Вераксы, Т.С.Комаровой, М.А.Васильевой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«ИСТОКИ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од ред. Л.А. Парамоновой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«ДЕТСКИЙ САД – ДОМ РАДОСТИ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Н.М. Крылов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227640" y="1709640"/>
            <a:ext cx="1116000" cy="1598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http://www.koipkro.kostroma.ru/Kostroma_EDU/mdou63/DocLib/_w/%D0%BF%D1%80%D0%BE%D0%B3%D1%80%D0%B0%D0%BC%D0%BC%D0%B0_jpg.jpg"/>
          <p:cNvPicPr/>
          <p:nvPr/>
        </p:nvPicPr>
        <p:blipFill>
          <a:blip r:embed="rId2"/>
          <a:stretch/>
        </p:blipFill>
        <p:spPr>
          <a:xfrm>
            <a:off x="7451640" y="1700280"/>
            <a:ext cx="1127160" cy="1617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Книга &quot;Примерная основная образовательная программа. В 2-х книгах. ФГОС&quot;. Купить книгу, читать рецензии ISBN 978-5-85939-853-0 Л"/>
          <p:cNvPicPr/>
          <p:nvPr/>
        </p:nvPicPr>
        <p:blipFill>
          <a:blip r:embed="rId3"/>
          <a:stretch/>
        </p:blipFill>
        <p:spPr>
          <a:xfrm>
            <a:off x="5083200" y="4799160"/>
            <a:ext cx="1144440" cy="1598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ttp://tc-sfera.ru/sites/default/files/upload/istoki_0.jpg"/>
          <p:cNvPicPr/>
          <p:nvPr/>
        </p:nvPicPr>
        <p:blipFill>
          <a:blip r:embed="rId4"/>
          <a:stretch/>
        </p:blipFill>
        <p:spPr>
          <a:xfrm>
            <a:off x="4859280" y="3375000"/>
            <a:ext cx="9828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5761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ДЕТСТВО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овизна программы определяется тем, что в ней впервые реализован подход к организации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целостного развития и воспитания ребенка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ошкольного возраста как субъекта детской деятельности и поведения. Органичное вхождение ребенка в современный мир обеспечивается в программе широким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взаимодействием дошкольников с различными сферами культуры: с изобразительным искусством и музыкой, детской литературой и родным языком, экологией, математикой, игрой и трудом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евиз программы «Чувствовать — Познавать — Творить» определяет три взаимосвязанные линии развития ребенка, которые пронизывают все разделы программы, придавая ей целостность и единую направленность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6" name="Picture 2" descr="http://www.detstvo-press.ru/files/big/11481.jpg"/>
          <p:cNvPicPr/>
          <p:nvPr/>
        </p:nvPicPr>
        <p:blipFill>
          <a:blip r:embed="rId1"/>
          <a:stretch/>
        </p:blipFill>
        <p:spPr>
          <a:xfrm>
            <a:off x="6443640" y="620640"/>
            <a:ext cx="216072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632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ЗОЛОТОЙ КЛЮЧИК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ред Г.Г. Кравцов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143000" y="1557360"/>
            <a:ext cx="5445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рамма "Золотой ключик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едназначена дл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емейно-общественных детских центров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образовательных учреждений для детей в возрасте от трех до десяти ле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личительной особенностью педаго­гического процесса в детском центре является создание условий для органичного единства цен­ностей счастливой жизни ребенка и его оптимального развития. Задачи воспи­тания и образования решаются в контексте организации неотчужденной жиз­недеятельности детей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тельно-образовательный процесс в детском центре пред­полагает: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одновременную работу в группе двух воспитателей-педагогов в течение целого дня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равномерную представленность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каждой группе детей трех основных возрастных ступеней:  двух - четырех лет, пяти - семи и восьми - десяти л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632720" cy="11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Развит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143000" y="1557360"/>
            <a:ext cx="5445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вторы: Л.А.Венгер, О.М.Дьяченко, А.И. Булычева и др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а направлена на развити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щих способностей детей дошкольного возраста (познавательных, творческих, коммуникативных, регуляторных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а «Развитие» имеет серьезное теоретико-экспериментальное обоснование. В ее основе лежат: концепция А.В. Запорожца об амплификации развития в дошкольном возрасте (его обобщение, наполнение наиболее значимыми для дошкольника формами и способами деятельности);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нцепция Л.А. Венгера о развитии познавательных способност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дошкольном детстве через овладение сенсорными эталонами, наглядно-образными и знаковыми моделями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сихологическая теория Л.С. Выготског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согласно которой наиболее существенная линия в развитии человека представлена становлением его созна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ТРОПИНКИ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ред. В.Т.Кудрявцев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143000" y="1773360"/>
            <a:ext cx="5445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азвивающего дошкольного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правлена на создание условий для общего психического развития детей 3 - 6 лет средствами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звития творческих способност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 частности, условий формирования у них готовности к современному (развивающему) школьному обучению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е задачи программы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инициирование и психолого-педагогическое сопровождение процессов творческого освоения культуры детьми в рамках различных видов их деятельности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развитие творческого воображения дошкольников, основанной на нем системы творческих способностей ребенка (продуктивного мышления, рефлексии и др.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развитие и поддержание у детей специфической познавательной мотивации и интеллектуальных эмоций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" descr="http://www.sbooks.ru/images/goods/114009689_1.jpg"/>
          <p:cNvPicPr/>
          <p:nvPr/>
        </p:nvPicPr>
        <p:blipFill>
          <a:blip r:embed="rId1"/>
          <a:stretch/>
        </p:blipFill>
        <p:spPr>
          <a:xfrm>
            <a:off x="7027920" y="1555920"/>
            <a:ext cx="129708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632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ОткрытиЯ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 ред. Е.Г. Юдиной; научный руководитель - А.Г. Асмолов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106640" y="1347840"/>
            <a:ext cx="5760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дходы и принципы программы «ОткрытиЯ» имеют общие корни с гуманистической философией программы дошкольного образования 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«Сообщество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ая представляет собой российскую версию международной программы 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«Шаг за шагом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то же время, программа опирается на многолетний опыт работы дошкольных образовательных организаций множества регионов РФ. В частности, в тексте программы использованы материалы региональной программы 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«Югорский трамплин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 которой уже несколько лет работают детские сады Ханты-Мансийского А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достоинство и ценность программы заключается в ее гуманистической направленности. Программа призвана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ть уважение к личности каждого ребенка, создавать условия для развития его уверенности в себе, инициативности, творческих способностей, самостоятельности и ответственн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ограмма в первую очередь направлена на социальное и эмоционально-личностное развитие ребенка, что и порождает одну из главных проблем на пути ее реализаци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Picture 5" descr="http://msbook.ru/pictures/covers/978-5-43150-648-2.jpg?13.10.15.15.49.43"/>
          <p:cNvPicPr/>
          <p:nvPr/>
        </p:nvPicPr>
        <p:blipFill>
          <a:blip r:embed="rId1"/>
          <a:stretch/>
        </p:blipFill>
        <p:spPr>
          <a:xfrm>
            <a:off x="6943680" y="1341360"/>
            <a:ext cx="16495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Первые шаги / Авторы Е.О. Смирнова, Л.Н. Галигузова, С.Ю. Мещеряков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42920" y="1600200"/>
            <a:ext cx="549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ограмма  основана на современных научных представлениях о закономерностях психического развития ребенка в раннем возрасте, ведущей роли предметной деятельности и общения со взрослым. Исходными теоретическими позициями программы являются положения концепции о генезисе коммуникативной деятельности, разработанной выдающимся детским психологом М.И.Лисиной.    Программа построена на гуманистических принципах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личностно-ориентированной педагогики, предполагающих признание самоценности каждого возрастного периода жизни человека, уважение к личности ребенка, создание условий для развития его активности, инициативности, творческого потенциала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 При ее разработке авторы стремились использовать богатое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наследие народной педагогики, опыт отечественных и зарубежных педагогов в области воспитания детей раннего возраста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     Программа является комплексной, так как охватывает все образовательные области, представленные в ФГОСТ ДО: познавательное, речевое, социально-коммуникативное, художественно-эстетическое и физическое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9" name="Picture 2" descr="Комплексная образовательная программа для детей раннего возраста &quot;Первые шаги&quot; . Смирнова Е.О., Галигузова Л.Н., Мещерекова С.Ю."/>
          <p:cNvPicPr/>
          <p:nvPr/>
        </p:nvPicPr>
        <p:blipFill>
          <a:blip r:embed="rId1"/>
          <a:stretch/>
        </p:blipFill>
        <p:spPr>
          <a:xfrm>
            <a:off x="7093080" y="1628640"/>
            <a:ext cx="1011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640" y="1628280"/>
            <a:ext cx="75564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ОБРАЗОВАТЕЛЬНЫЕ ПРОГРАММЫ, РАЗРАБОТАННЫЕ ПОСЛЕ ПОЯВЛЕНИЯ ФГТ К СТРУКТУРЕ ООП ДО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632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 Black"/>
              </a:rPr>
              <a:t>Федеральный Закон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Arial Black"/>
              </a:rPr>
              <a:t>«Об образовании в Российской Федерации»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 вариативности образовани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988640"/>
            <a:ext cx="5810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тья 11. Федеральные государственные образовательные стандарты и федеральные государственные требования. Образовательные стандарты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едеральные государственные образовательные стандарты и федеральные государственные требования обеспечивают: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ариативность содержания образовательных програм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ответствующего уровня образования, возможность формирования образовательных программ различных уровня сложности и направленности с учетом образовательных потребностей и способностей обучающихся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ttp://static.my-shop.ru/product/3/192/1912975.jpg"/>
          <p:cNvPicPr/>
          <p:nvPr/>
        </p:nvPicPr>
        <p:blipFill>
          <a:blip r:embed="rId1"/>
          <a:stretch/>
        </p:blipFill>
        <p:spPr>
          <a:xfrm>
            <a:off x="1042920" y="620640"/>
            <a:ext cx="3691080" cy="53992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"/>
          <p:cNvSpPr/>
          <p:nvPr/>
        </p:nvSpPr>
        <p:spPr>
          <a:xfrm>
            <a:off x="4859280" y="692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уководитель авторского коллектива – Н.В. Федина, к. п. н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4734000" y="1341360"/>
            <a:ext cx="3941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се содержание программы обеспечивает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У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пешность развития маленьких россиян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циально-коммуникативного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П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знавательного и речевого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Е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инства физического развития и воспитания культуры здоровья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Х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дожественно-эстетическог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561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Образовательная программа дошкольного образования «ДИАЛОГ» / Под ред. О.Л. Соболевой, О.Г. Приходько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42920" y="1600200"/>
            <a:ext cx="549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ограмма «Диалог»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ответствует принципам развивающего обучения и обеспечивает исчерпывающую реализацию пяти образовательных областей в соответствии с требованиями Стандарта. Авторский коллектив Программы, при формировании ее содержания, учел новую стратегию дошкольного воспитания: основными приоритетами Программы «Диалог» являются развитие игровой деятельности детей, а также физических, личностных и интеллектуальных качеств. Выделенные авторами приоритетные задачи рекомендуется решать в ходе совместной (партнерской) деятельности ребенка со взрослыми и другими детьми. Психолого-педагогические и методические технологии, обозначенные в Программе, обеспечивают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возможность мягкого перехода от традиционного занятия к формам совместной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6" name="Picture 2" descr="http://create.chitai-gorod.ru/upload/iblock/aee/aee81fb2e71a273c3aaea69ddc1272bb.jpg"/>
          <p:cNvPicPr/>
          <p:nvPr/>
        </p:nvPicPr>
        <p:blipFill>
          <a:blip r:embed="rId1"/>
          <a:stretch/>
        </p:blipFill>
        <p:spPr>
          <a:xfrm>
            <a:off x="6948360" y="1557360"/>
            <a:ext cx="1528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3231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МИР ОТКРЫТИЙ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/ под редакцией Л.Г. Петерсон, И.А. Лыково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116000" y="1341360"/>
            <a:ext cx="5616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то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отечественная программа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, предлагающая конкретный педагогический инструментарий решения задач дошкольного образования в соответствии с запросом современного социума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современная программа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, базирующаяся на общих законах организации и развития деятельности человека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развивающая программа, определяющая условия развивающего взаимодействия и саморазвития всех участников образовательных отношений: педагогов, детей и их родителей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здоровьесозидающая программа, направленная на объединение образовательно-оздоровительных ресурсов семьи и дошкольного образования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программа, обеспечивающая преемственность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между дошкольным и начальным уровнями общего образования с позиций самоценности каждого возраста и непрерывности образования на протяжении всей жизни человека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программа открытого типа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, расширяющая возможности педагогов в использовании содержания, методического обеспечения, образовательных технологий с учетом реальной ситуации в дошкольной образовательной организации и особенностей развития детей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РАЗНОЦВЕТНАЯ ПЛАНЕТА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/ под ред. Е.А. Хамраевой, Д.Б. Юматово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ект поддержки и развития русского языка «РАЗНОЦВЕТНАЯ ПЛАНЕТА» создан специально для детей соотечественников, живущих за рубежом и на территории РФ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ект обеспечивает каждому ребенку возможность успешного обучения как на языке страны проживания, так и на русском языке.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Билингвальное и поликультурное построение проекта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зволяет включить любой родной язык в учебное и воспитательное пространство. В рамках проекта ребенок получает возможность в равной степени задействовать оба языка — русский язык и язык страны проживания (или второй родной язык)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6948360" y="1628640"/>
            <a:ext cx="146232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640" y="1628280"/>
            <a:ext cx="75564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ОБРАЗОВАТЕЛЬНЫЕ ПРОГРАММЫ, РАЗРАБОТАННЫЕ ПОСЛЕ ПОЯВЛЕНИЯ ФГОС ДО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7704000" cy="11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ДЕТСКИЙ САД ПО СИСТЕМЕ МАРИИ МОНТЕССОРИ</a:t>
            </a:r>
            <a:br>
              <a:rPr sz="20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 ред. Е.А. Хилтунен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143000" y="1557360"/>
            <a:ext cx="5445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целом образовательная программа М.Монтессори соответствует целям, установленным ФГОС ДО. В качестве основных результатов образования и развития в образовательных организациях, работающих по такой программе, рассматриваются реальные жизненные умения, с которыми ребенок приходит во взрослую жизнь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5" descr="http://montessori-club.webasyst.net/shop/products_pictures/%D0%9F%D1%80%D0%BE%D0%B3%D1%80%D0%B0%D0%BC%D0%BC%D0%B0%20%D0%94%D0%B5%D1%82%D1%81%D0%BA%D0%B8%D0%B9%20%D1%81%D0%B0%D0%B4%20%D0%BF%D0%BE%20%D1%81%D0%B8%D1%81%D1%82%D0%B5%D0%BC%D0%B5%20%D0%9C%D0%BE%D0%BD%D1%82%D0%B5%D1%81%D1%81%D0%BE%D1%80%D0%B8_enl.jpg"/>
          <p:cNvPicPr/>
          <p:nvPr/>
        </p:nvPicPr>
        <p:blipFill>
          <a:blip r:embed="rId1"/>
          <a:stretch/>
        </p:blipFill>
        <p:spPr>
          <a:xfrm>
            <a:off x="6948360" y="1197000"/>
            <a:ext cx="17002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632720" cy="11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БЕРЕЗКА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 разработана на основе вальдорфской педагогики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 ред. В.К. Загвоздкина, С.А. Трубицыно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143000" y="1773360"/>
            <a:ext cx="5445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льдорфский детский сад в организации своей жизни опирается на следующие принципы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дети имеют право на образование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каждый ребенок является личностью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образование строится сообразно возрасту и индивидуальным особенностям детей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образование дошкольников опирается на пример и подражание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образование создает здоровую телесную и душевную основу для развития личности в течение всей жизн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России вальдорфские образовательные организации педагогика развиваются с конца 80 годов ХХ века. В 1989 году открылся первый вальдорфский детский сад. В 1992 году – первые вальдорфские школы. На сегодня в России 70 вальдорфских групп и инициатив и 25 школ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5794200" cy="11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Gothic"/>
              </a:rPr>
              <a:t>ВДОХНОВЕНИЕ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Century Gothic"/>
              </a:rPr>
              <a:t>/ под ред. И.Е. Федосово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143000" y="1557360"/>
            <a:ext cx="56610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Программа предоставляет в распоряжение педагога современные данные о ребенке и его развитии, ставит ясные цели и предоставляет выверенные педагогические технологии и инструменты для их достижения. Открывая просторы для профессионального творчества, Программа в то же время позволяет выстроить полноценный, качественный образовательно-воспитательный процесс, сформировать современную и эффективную образовательную среду. Подходы дифференцированного обучения позволяют </a:t>
            </a:r>
            <a:r>
              <a:rPr b="0" i="1" lang="ru-RU" sz="1400" spc="-1" strike="noStrike">
                <a:solidFill>
                  <a:srgbClr val="000000"/>
                </a:solidFill>
                <a:latin typeface="Century Gothic"/>
              </a:rPr>
              <a:t>выстроить индивидуальную траекторию развития ребенка, обеспечивая работу в его зоне ближайшего развития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, и при этом добиться высоких результатов всей группы. Инструменты педагогической диагностики, предлагаемые Программой, формируют надежную основу для принятия педагогических решений. </a:t>
            </a:r>
            <a:r>
              <a:rPr b="0" i="1" lang="ru-RU" sz="1400" spc="-1" strike="noStrike">
                <a:solidFill>
                  <a:srgbClr val="000000"/>
                </a:solidFill>
                <a:latin typeface="Century Gothic"/>
              </a:rPr>
              <a:t>Программа поддерживает игру во всех ее видах, исследовательскую активность ребенка, совместную деятельность взрослого и ребенка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. «Вдохновение» предусматривает вариативность форм реализации в зависимости от конкретной ситуации, места расположения детского сада, особенностей детей и их семей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5" descr="http://n-obr.ru/upload/medialibrary/64f/%D0%9E%D0%B1%D0%BB%D0%BE%D0%B6%D0%BA%D0%B0%20%D0%92%D0%B4%D0%BE%D1%85%D0%BD%D0%BE%D0%B2%D0%B5%D0%BD%D0%B8%D0%B5.jpg"/>
          <p:cNvPicPr/>
          <p:nvPr/>
        </p:nvPicPr>
        <p:blipFill>
          <a:blip r:embed="rId1"/>
          <a:stretch/>
        </p:blipFill>
        <p:spPr>
          <a:xfrm>
            <a:off x="6765840" y="836640"/>
            <a:ext cx="19004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5640" y="685440"/>
            <a:ext cx="7488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МИРЫ ДЕТСТВА: КОНСТРУИРОВАНИЕ ВОЗМОЖНОСТЕЙ / под редакцией Т.Н. Дороново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держание Программы заключается в описании новых средств, которые ранее широко не использовались   в образовательных программах или применялись эпизодически, и с помощью которых взрослый может направлять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инициативу ребенка в различных культурных практиках: игре, рисовании, исследовании, коммуникации, чтени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ДОШКОЛКА.РУ / Автор С.П. Циновска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79080" y="1599840"/>
            <a:ext cx="5257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способствует развитию разных видов мышления у дошкольников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наглядно-действенного; наглядно-образного; словесно-логического; абстрактно-логического; пространственного)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обеспечивает формирование ручной умелости, развитие крупной и мелкой моторики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создает предпосылки для развития творчества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в том числе и технического)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ормирует условия для совершенствования коммуникативных навыков у дошкольников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еспечивает благоприятный эмоциональный фон для детей в условиях детского сада, основанный на интересе, радости совместной деятельности и достижений в решении разнообразных задач, как непосредственно, так и опосредованно при использовании предлагаемой инновационной среды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7164360" y="1341360"/>
            <a:ext cx="1430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632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 Black"/>
              </a:rPr>
              <a:t>Федеральный Закон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Arial Black"/>
              </a:rPr>
              <a:t>«Об образовании в Российской Федерации»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б образовательной программе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988640"/>
            <a:ext cx="5810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атья 2. Основные понятия, используемые в настоящем Федеральном закон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)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образовательная программ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комплекс основных характеристик образования (объем, содержание, планируемые результаты), организационно-педагогических условий и в случаях, предусмотренных настоящим Федеральным законом, форм аттестации, который представлен в виде учебного плана, календарного учебного графика, рабочих программ учебных предметов, курсов, дисциплин (модулей), иных компонентов, а также оценочных и методических материалов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МОЗАИКА / авторы В.Ю.Белькович, Н.В. Гребёнкина, И.А. Кильдышев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собенности программы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сутствие жёстко регламентированных форм организации дете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Обеспечение оптимального двигательного режима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свободное перемещение ребёнка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ибкий режим, позволяющий ребёнку включаться в режимные моменты без нарушения психофизиологического комфорта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7093080" y="1628640"/>
            <a:ext cx="117144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ОБРАЗОВАНИЕ ДЛЯ ПРОЦВЕТАНИЯ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/ под руководством Т.С. Комарово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42560" y="162864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грамма «Образование для процветания» является инновационным общеобразовательным программным документом для организаций, индивидуальных предпринимателей, осуществляющих образовательную деятельность по реализации общеобразовательной программы дошкольного образования, подготовленным с учетом новейших достижений науки и практики отечественного и зарубежного дошкольного образования и реализуемым с использованием ИКТ. Программа ориентирована на работу с одаренными детьми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7020000" y="1557360"/>
            <a:ext cx="143496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НА КРЫЛЬЯХ ДЕТСТВА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ред. Н.В. Микляевой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1042920" y="1628640"/>
            <a:ext cx="5761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грамма является учебно-методическим документом, демонстрирующим для дошкольных  образовательных организаций и дошкольных отделений эффективную модель реализации ФГОС дошкольного образования и специфику методического сопровождения образовательного процесса с детьми раннего и дошкольного возраста, а также c обучающимися с особыми образовательными потребностям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программе реализуется взгляд на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образование как на формирование и развитие целостной личности ребенка средствами, обеспечивающими его личностный, эмоциональный и интеллектуальный, социальный рос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грамма рекомендована для руководителей дошкольных образовательных организаций и структурных руководителей дошкольных отделений школ, старших воспитателей и педагогов, работающих с детьми дошкольного возраст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6" descr="http://s40.radikal.ru/i089/1502/e2/ee43ace89dcd.jpg"/>
          <p:cNvPicPr/>
          <p:nvPr/>
        </p:nvPicPr>
        <p:blipFill>
          <a:blip r:embed="rId1"/>
          <a:stretch/>
        </p:blipFill>
        <p:spPr>
          <a:xfrm>
            <a:off x="6715080" y="1773360"/>
            <a:ext cx="952560" cy="1560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http://tc-sfera.ru/sites/default/files/00-00005007b.jpg"/>
          <p:cNvPicPr/>
          <p:nvPr/>
        </p:nvPicPr>
        <p:blipFill>
          <a:blip r:embed="rId2"/>
          <a:stretch/>
        </p:blipFill>
        <p:spPr>
          <a:xfrm>
            <a:off x="7667640" y="1989000"/>
            <a:ext cx="9525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ПЕРВОЦВЕТЫ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ред. Н.В. Микляевой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042920" y="1628640"/>
            <a:ext cx="5761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 качестве основных идей программы выступает понимание детской игры как феномена дошкольного детства и дошкольного образования как формы психолого-педагогической поддержки растущего человека в меняющемся мире, уровневая дифференциация задач, содержания и результатов образовательного процесса с учетом возрастных и индивидуальных особенностей детей, формирование и изменение образовательного пространства группы детского сада, его адаптации, модерации и трансформации в событийно ориентированное пространство детского сада. При этом спецификой программы выступает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концепция формирования интерактивной предметно-развивающей среды, событийная и блочно-модульная модели реализации содержания программы на практике, позволяющая выстроить модели образовательного процесса на день, неделю, месяц и год, отражающие специфику общения в дошкольной группе, формирование смыслов педагогического взаимодействия на основе ценностей общения ребенка и взрослого, формирование культурных практик как основы событийности совместной деятельности детей и взрослых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6804000" y="1770120"/>
            <a:ext cx="184320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632720" cy="11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ПРОГРАММЫ КОРРЕКЦИОННОЙ НАПРАВЛЕННОСТИ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143000" y="1700280"/>
            <a:ext cx="5661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а «Подготовка к школе детей с задержкой психического развития» (С.Г. Шевченко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а «Подготовка к школе детей с общим недоразвитием речи в условиях специального детского сада» (Т.Б. Филичева, Г.В. Чиркина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а «Обучение и воспитание детей с фонетико-фонематическим недоразвитием» (Т.Б. Филичева, Г.В. Чиркина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а «Коррекционно-развивающее обучение и воспитание детей дошкольного возраста с нарушением интеллекта» (Е.А. Екжанова, Е.А. Стребелева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а «Коррекционная работа в детском саду для детей с нарушениями зрения» (Л.И. Плаксина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632720" cy="12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овательная программы дошкольного образования для дошкольников с тяжелыми нарушениями речи / под ред. Л. В. Лопатиной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79080" y="2276280"/>
            <a:ext cx="52578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грамма представляет собой адаптированную примерную основную образовательную программу для дошкольных образовательных организаций, в которых получают образовательные услуги дети с тяжелыми нарушениями речи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Цель реализации "Программы" -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проектирование модели коррекционно-развивающей психолого-педагогической работы, максимально обеспечивающей создание условий для развития ребенк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с ТНР, его позитивной социализации, личностного развития инициативы и творческих способностей на основе сотрудничества со взрослыми и сверстниками в соответствующих возрасту видах деятельности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3" name="Picture 2" descr="http://www.alma.ru/upload/iblock/4b2/adaptirovannay%20programma.jpg"/>
          <p:cNvPicPr/>
          <p:nvPr/>
        </p:nvPicPr>
        <p:blipFill>
          <a:blip r:embed="rId1"/>
          <a:stretch/>
        </p:blipFill>
        <p:spPr>
          <a:xfrm>
            <a:off x="6948360" y="184464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овательная программа дошкольного образования для детей с тяжелыми нарушениями речи (общим недоразвитием речи) с 3 до 7 лет / Автор Н.В. Нищев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ограмма разработана включает в себя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етодику проведения индивидуальной педагогической диагностики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дставляет описание задач и содержания образовательной и коррекционной деятельности в пяти образовательных областях для всех возрастных групп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одержит рекомендации  по организации жизнедеятельности и созданию предметно-пространственной развивающей среды в каждой возрастной группе с учетом особенностей развития детей с тяжелыми нарушениями речи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меет перечень дидактического материала, обучающих пособий, примерные списки детской литературы.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 программе разработан полный методический комплект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6" name="Рисунок 3" descr=""/>
          <p:cNvPicPr/>
          <p:nvPr/>
        </p:nvPicPr>
        <p:blipFill>
          <a:blip r:embed="rId1"/>
          <a:stretch/>
        </p:blipFill>
        <p:spPr>
          <a:xfrm>
            <a:off x="6797520" y="1536840"/>
            <a:ext cx="170676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6920" y="620280"/>
            <a:ext cx="7086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ПАРЦИАЛЬНЫЕ ПРОГРАММЫ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42560" y="981000"/>
            <a:ext cx="576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денческий и ранний возраст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горьева Г.Г., Груба Г.Г., Зворыгина Е.В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. Кроха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коммуникативное развитие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мийченко Л.В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рогой света и добра (социально-коммуникативное развитие и социальное воспитание)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мофеева Л.Л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е культуры безопасности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това А.Д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ое воспитание дошкольников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деева Н.Н., Князева О.Л., Стеркина Р.Б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 безопасности детей дошкольного возраста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зева О.Л., Стеркина Р.Б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, ТЫ, МЫ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е развитие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кова И.А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грамма «Умные пальчики» (конструирование)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ева С.Н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Юный эколог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сон Л.Г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чемасова Е.Е. Игралочка (математическое развитие)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жова Н.А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ш дом – природа (экологическое образование)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чарова Е.В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я для малышей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86920" y="620280"/>
            <a:ext cx="7086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ПАРЦИАЛЬНЫЕ ПРОГРАММЫ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42560" y="981000"/>
            <a:ext cx="576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 развитие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шакова О.С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звития речи и речевого общения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второму языку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асова Е.Ю., Родина М.Н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Little by Little» (обучение дошкольников иностранному языку)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-эстетическое развитие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енина А.И., Тютюнникова Т.Э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утти (музыкальное воспитание)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ынова О.П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шедевры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кова И.А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мелые ручки (художественный труд)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кова И.А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ные ладошки (изобразительное творчество)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развитие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овкина М.Е., Коваленко В.С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. К здоровой семье через детский сад (сохранение и формирование здоровья детей и их родителей)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кина Т.И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етей плаванию в детском саду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ырина Л.Д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культура — дошкольникам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066320" y="2285640"/>
            <a:ext cx="6782040" cy="11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016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632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 Black"/>
              </a:rPr>
              <a:t>Федеральный Закон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Arial Black"/>
              </a:rPr>
              <a:t>«Об образовании в Российской Федерации»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 примерной основной образовательной программе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988640"/>
            <a:ext cx="5810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татья 2. Основные понятия, используемые в настоящем Федеральном закон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0)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примерная основная образовательная программа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учебно-методическая документация (примерный учебный план, примерный календарный учебный график, примерные рабочие программы учебных предметов, курсов, дисциплин (модулей), иных компонентов), определяющая рекомендуемые объем и содержание образования определенного уровня и (или) определенной направленности, планируемые результаты освоения образовательной программы, примерные условия образовательной деятельности, включая примерные расчеты нормативных затрат оказания государственных услуг по реализации образовательной программы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781000"/>
            <a:ext cx="579096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. Дошкольное образование направлено на формирование общей культуры, развитие физических, интеллектуальных, нравственных, эстетических и личностных качеств, формирование предпосылок учебной деятельности, сохранение и укрепление здоровья детей дошкольного возраст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768492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атья 64. Дошкольное образовани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11280" y="609480"/>
            <a:ext cx="81374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 Black"/>
              </a:rPr>
              <a:t>Федеральный Закон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Arial Black"/>
              </a:rPr>
              <a:t>«Об образовании в Российской Федерации»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 цели дошкольного образова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2781000"/>
            <a:ext cx="57909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разовательные программы дошкольного образования направлены на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разностороннее развитие детей дошкольного возраста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 учетом их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возрастных и индивидуальных особенностей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в том числе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достижени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етьми дошкольного возраста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уровня развития, необходимого и достаточного для успешного освоения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ми образовательных программ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начального общего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на основе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индивидуального подхода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 детям дошкольного возраста и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специфичных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для детей дошкольного возраста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видов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 Освоение образовательных программ дошкольного образования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не сопровождается проведением промежуточных аттестаций и итоговой аттестаци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учающихся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768492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татья 64. Дошкольное образовани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971640" y="609480"/>
            <a:ext cx="7704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 Black"/>
              </a:rPr>
              <a:t>Федеральный Закон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Arial Black"/>
              </a:rPr>
              <a:t>«Об образовании в Российской Федерации»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об образовательных программах дошкольного образова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557000"/>
            <a:ext cx="579096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.2. Стандарт разработан на основе Конституции Российской Федерации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и законодательства Российской Федерации и с учетом Конвенции ООН о правах ребенка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в основе которых заложены следующие основные принципы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поддержка разнообразия детств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; …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2)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личностно-развивающий и гуманистический характер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заимодействия взрослых (родителей (законных представителей), педагогических и иных работников Организации) и детей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3)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уважение личности ребенк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4)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реализация Программы в формах, специфических для детей данной возрастной группы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прежде всего в форме игры, познавательной и исследовательской деятельности, в форме творческой активности, обеспечивающей художественно-эстетическое развитие ребенка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971640" y="609480"/>
            <a:ext cx="77040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 Black"/>
              </a:rPr>
              <a:t>Федеральный государственный образовательный стандарт дошкольного образова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2205000"/>
            <a:ext cx="579096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.6. Стандарт направлен на решение следующих задач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7) обеспечения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вариативности и разнообразия содержания Программ и организационных форм дошкольного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возможности формирования Программ различной направленности с учетом образовательных потребностей, способностей и состояния здоровья детей; … 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971640" y="609480"/>
            <a:ext cx="77040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 Black"/>
              </a:rPr>
              <a:t>Федеральный государственный образовательный стандарт дошкольного образова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632720" cy="11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ПРИМЕРНАЯ ОСНОВНАЯ ОБРАЗОВАТЕЛЬНАЯ ПРОГРАММА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971640" y="1844640"/>
            <a:ext cx="5761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omic Sans MS"/>
              </a:rPr>
              <a:t>ОДОБРЕНА решением федерального учебно-методического объединения по общему образованию (протокол от 20 мая 2015 г. № 2/1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Адрес на сайте ФГАУ «Федеральный институт развития образования»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firo.ru/wp-content/uploads/2014/02/POOP_DO.pd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дрес на сайте «</a:t>
            </a:r>
            <a:r>
              <a:rPr b="1" lang="ru-RU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Реестр примерных основных общеобразовательных программ Министерства образования и науки РФ»: </a:t>
            </a:r>
            <a:r>
              <a:rPr b="1" i="1" lang="en-US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fgosreestr.ru/registry/primernaya-osnovnaya-obrazovatelnaya-programma-doshkolnogo-obrazovaniya/</a:t>
            </a:r>
            <a:r>
              <a:rPr b="1" i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4:27:31Z</dcterms:created>
  <dc:creator>up</dc:creator>
  <dc:description/>
  <dc:language>en-US</dc:language>
  <cp:lastModifiedBy>User</cp:lastModifiedBy>
  <cp:lastPrinted>2014-03-19T16:14:36Z</cp:lastPrinted>
  <dcterms:modified xsi:type="dcterms:W3CDTF">2020-03-25T06:17:15Z</dcterms:modified>
  <cp:revision>87</cp:revision>
  <dc:subject/>
  <dc:title>Критерии оценки  результативности и  качества деятельности  учреждений для детей, нуждающихся в психолого-педагогической и медико-социальной помощ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