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F0F-506A-4F1C-A1B1-2A19B6C8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229-36D3-45BB-A519-8CE2938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54C4C-F013-40B7-9EDC-AD648DD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D6CB1-9630-456C-AC8D-EDB2BC5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7DB72-7A9D-497E-BB51-02A75E2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5E9BE-45C7-47EF-8982-7B8A0ED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94132-1DB3-476B-AEFD-5D01FAB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4B009-AEE9-4A49-A0EC-EC187CC0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58E1A-6221-4FC8-8DAF-D8D48DE8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725E6-F023-4E99-9B84-57B8D4EC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F7860-410E-4C63-9078-B8595523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32EAA-BE08-492A-A80B-963497A4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B3B-ED62-4EBF-8F56-5288DC03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29800-BA63-47F2-822C-7980D80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EE224-A7BB-4A7D-A587-DED2441B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A4AF0-D1F1-4D18-BF91-D242BFB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AEB2F-ED72-49EF-AB3D-B6B8D7C9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A4B0-0AF5-40C5-B1A9-A114B9EE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4E4D-EEC5-4455-82ED-D21DCC8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158F0-EB50-416C-8DCB-05B4629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F0B19-BA13-415A-8965-9F983BB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F1001-B51A-4799-B966-97A191F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BE10E-6179-4AD3-A990-864CC58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16A-A380-4A5E-BD24-4A957E8F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A4FA-C10A-4E4A-A83A-C18BF3EA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6B32E-4F6A-4833-8EC8-E6118D40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796FC-D150-471F-9901-15CAB51C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E9F3-B53B-492F-9A6B-AC533BD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B2B8A-D42D-4E34-8F23-2F1E5E4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070F1-87DD-4D9D-A9E7-B5BEA82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04EE-F9CB-45EC-A2EB-C502532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B92EF-7E24-45A6-99DB-E432F9C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E9E4-6D73-45E5-9F9D-6A6852D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B0E38-1EB6-4FF6-91B3-7117254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B8A6-F19D-4A74-83E8-0BDC2989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F63E7-770E-462F-BEFC-527CE3D3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76A41-3B73-4F28-9A23-75858B8D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6977D-B884-4C37-975C-113E6A88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8EAE-5080-4B89-9463-7E56D3F7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7CDAE-012F-4A77-BC02-F27E8EC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D4D15-C12B-4185-867A-F0A1955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3E36E-7984-4755-9262-972A7DA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8ED7E-7B6A-40F3-9006-CA924942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4F274-E7F7-48C5-A91B-1C5F7297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88F77-5C83-4AB6-B190-64D3E89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157E-12CE-420D-A9E2-9A879D8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12AD8-642E-4372-94B8-D53743A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D081C-7B03-4D8E-B9F5-F0E6A73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13CCF-EDF3-4086-8A26-B78CB3A5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00410-0A8A-4DDD-940D-826C53E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42A4A-81EC-4C4A-9163-105820DF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B7B9-12CA-4B61-A0DC-F131E5F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6866-257A-4E83-9D58-A4A0328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1124-BB94-49F6-8EF1-49CC71E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837D-85CD-4CA2-88ED-F5B4358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14C3-2AD1-4BED-8AC2-1EE0E19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A3F-EB45-4476-9FD2-26D1CAF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EBC5-46ED-44B8-89C2-F0CB86B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F52-E903-42EF-BD55-0A77376E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1CB-999C-4031-AD60-07EFC6D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90C-5126-4670-90F1-F6493EEB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919-47B4-47AE-AB49-5FA8D855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0B66-6529-43A0-A2BB-A4F98037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437C-3DF6-4AA9-BC1F-4D9CD302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B337-B3DA-4505-98B8-DB3A728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29CC-8E7B-4542-8D41-3E7549E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1D0E-AE25-418E-864E-E839810B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6C2-DAAB-441D-BFAD-184FBAB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8E83-CD15-4C17-98D3-645B5F9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C76D-B3B9-4A8C-A8AB-38351D8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7268-8FB8-4016-9A7B-D9DC944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DD13-F694-40D8-9043-B6BC36A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5A0B-1264-4FE4-AA8D-632475CD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8808-7EF5-43C3-9BA3-21035A3A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6B21-69DD-4C8A-A2BB-5B9E4335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C264-69C8-40C0-BB1D-2851E079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A437-8C69-4255-8AEC-B76CAE27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103F-78ED-4F91-928F-169C83E7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5E3-8480-44C0-A959-E956646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30CE-6A30-4B28-B548-28B3055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040E-195C-4067-9398-EA86AE6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2694-9B14-4B8C-A9BA-3373FAC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78B5-CA10-44B8-9613-9487E4E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233E-1382-47C1-844E-6B880B4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FD5F-29BB-44B2-B47C-FEB0A84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315F-BC2E-44B2-BCAC-0E01B5BE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F83E-1827-446E-A480-F4534293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567C-4F4B-4B9A-8438-3895FC4C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2977-A2AC-459B-9DCB-A8988F62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50A-9C1F-4B21-910A-00143AA1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7564-73C3-484D-A705-A296208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2C26-FB6B-4853-8B7D-DB5540EF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AFB1-0473-4D8C-B495-88C6CC22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555A-4808-47A1-B7BB-8F1A689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EF50-7F86-425C-9A91-078550A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73AD-9A2B-4AB8-B0CD-ECE07D2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986B-79E9-45BC-9812-EF34C8E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45C4-7695-4E9C-A93D-C54D623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5B8F-ABB0-41BE-ADD2-9B46685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07C6-537D-44A3-ACC7-B0435C3C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7FF-58D5-48D1-ACB4-3DF55EA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26F6-39A3-4FD6-A218-962BD4A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0C881-A465-4D6A-BE7E-D6C2EFEE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03D8-051D-4997-ACF8-04FDEB7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07AF-A57D-4149-AECB-8AE8EB33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27B9-8EB1-44F9-8AB4-8EFD10B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C5BF-E5B1-42BC-9053-1850E1B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062D-A816-4792-856B-FD959D28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C4E4-10A3-4E24-823E-244C794D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EE96-19F1-40C8-A385-BA4EB93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F45E-A014-4AD2-8899-A5694D7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12D-F088-4803-89DB-9039AA4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903E-C30E-43F2-B7C9-E50695E1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74AD-5673-482D-A2A9-E22B1A23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93D3-B307-46EA-9D02-F4C6FCEA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CC87-825D-4BFD-A8E8-E5A745FF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F78D-EF89-45E4-BE2C-E7B5D4AE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5231-1B26-40EA-9AAF-0C4D58E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B89C-C944-43A2-8F41-91D9899B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B981-78E3-45A4-8605-1A64648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D6CC-0F0C-418F-8FB1-12779791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73BD-8570-4900-8996-5FF3930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3E7-DBE8-488A-843F-97BBCE4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F804E-8635-4216-BEC3-C498C48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8B66-4655-48C0-8009-83A4E86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A5EF-9065-418D-B0E7-8D549DD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28BB-D6A9-4C3D-822F-46E16842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34C4-0559-4205-BCC9-DEABFB4D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D674-731B-4CEC-AB0C-914BCF71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F8705-CC0D-46EF-A821-F48C4E8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18C98-9B43-45F5-8355-719F9FA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0DBE-7EAB-4382-BD8B-11D62AF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34033-9620-4F37-82B0-2FE8193A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54C-563C-4A37-AEAE-D4C9C30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7D24-3953-4576-8BF6-086C1D0D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A2B0-694E-4697-A303-ED7708B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D8B6-A6B0-4770-BE0F-72D5477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B2855-08F6-4F20-9C08-7D0C0A2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0CBE-C1FE-436D-B73E-34C0CDE4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8E230-0C1D-480F-9038-EA986720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9326-F752-4DC7-9BD6-6179A742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EBF7-ABC8-4BDD-9674-6C14BE0E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5719A-28D9-4645-8264-1F305079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2A58E-9863-4730-96C0-493F594D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797-2BED-4405-801F-88491AA8D4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510-1748-4B8F-BCCC-F762A4691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505-98BF-4C30-861C-489331D2EC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76CD-F202-494F-9079-0D0874AFE5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57F-2FFB-4CD0-BD91-C57D96EFC4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DA3D-DB2C-409F-A2ED-B718AFCEA2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44A5-CACC-4BA2-9748-2E37CDEA46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4863-418D-438E-BA3C-171346F7EC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F37-4A78-4EB4-93A0-3D65FF1F61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07F-8A65-4034-9A45-9E739DAD29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E7AF-4BB6-4D46-ADF1-8CAAB36E75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E46D-6312-4669-A6E5-5AE4464242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57160" y="14997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61616"/>
                </a:solidFill>
                <a:latin typeface="Arial"/>
              </a:rPr>
              <a:t>«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40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C:\Documents and Settings\ученик1\Рабочий стол\archives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1039680" y="192888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3636"/>
                </a:solidFill>
                <a:latin typeface="Verdana"/>
              </a:rPr>
              <a:t>«Зависит ли будущее от меня?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3124440" y="4287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лассный ча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оугольник 7"/>
          <p:cNvSpPr/>
          <p:nvPr/>
        </p:nvSpPr>
        <p:spPr>
          <a:xfrm>
            <a:off x="214200" y="1071720"/>
            <a:ext cx="835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Лев Толстой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« Судьба человека такая или другая бывает только от того, как он в мыслях понимает свою жизнь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учитель 2 "/>
          <p:cNvPicPr/>
          <p:nvPr/>
        </p:nvPicPr>
        <p:blipFill>
          <a:blip r:embed="rId1"/>
          <a:stretch/>
        </p:blipFill>
        <p:spPr>
          <a:xfrm>
            <a:off x="324000" y="3860640"/>
            <a:ext cx="2684160" cy="2792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лётчик"/>
          <p:cNvPicPr/>
          <p:nvPr/>
        </p:nvPicPr>
        <p:blipFill>
          <a:blip r:embed="rId2"/>
          <a:stretch/>
        </p:blipFill>
        <p:spPr>
          <a:xfrm>
            <a:off x="6286680" y="0"/>
            <a:ext cx="2489040" cy="3755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врач"/>
          <p:cNvPicPr/>
          <p:nvPr/>
        </p:nvPicPr>
        <p:blipFill>
          <a:blip r:embed="rId3"/>
          <a:stretch/>
        </p:blipFill>
        <p:spPr>
          <a:xfrm>
            <a:off x="3143160" y="2357280"/>
            <a:ext cx="3132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14200" y="785520"/>
            <a:ext cx="8715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489ff"/>
                </a:solidFill>
                <a:latin typeface="Verdana"/>
              </a:rPr>
              <a:t>Успех – это удачное достижение желаемого результата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927000"/>
            <a:ext cx="8431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поведи успешного образова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умней из класса в класс – это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одренько вставай с утра- в 8.15 в школе быть п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е бубни и не кричи, отвечай, а не молчи - это тр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Чист и аккуратен будь - в этом су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медленно писать, чтобы не было помарок и в тетради было пя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здоровым – фрукты ешь – это ше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добрым быть во всём – это сем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Сами вещи не растут – нужен труд, карандаш, тетрадь, перо, парту, доску и окно, книжку, сумку береги, не ломай, не мни, не рв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Прежде чем захлопнуть дверь, всё ли взял с собой, провер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а уроках не хихикай, стул туда-сюда не двига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В школе, в классе не сори, а насоришь – убери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А ещё старайся – спортом больше занимай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Прямоугольник 3" descr=""/>
          <p:cNvPicPr/>
          <p:nvPr/>
        </p:nvPicPr>
        <p:blipFill>
          <a:blip r:embed="rId1"/>
          <a:stretch/>
        </p:blipFill>
        <p:spPr>
          <a:xfrm>
            <a:off x="85680" y="646200"/>
            <a:ext cx="8972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57:57Z</dcterms:created>
  <dc:creator>Галя</dc:creator>
  <dc:description/>
  <dc:language>en-US</dc:language>
  <cp:lastModifiedBy>Пользователь</cp:lastModifiedBy>
  <dcterms:modified xsi:type="dcterms:W3CDTF">2021-02-16T18:07:54Z</dcterms:modified>
  <cp:revision>12</cp:revision>
  <dc:subject/>
  <dc:title>«Будущее зависит от меня»</dc:title>
</cp:coreProperties>
</file>