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1D0-5925-4E4A-9DA1-23F45D2E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D9D-D7FC-406E-AF8E-EA738E75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61D4-B395-40F3-A3A3-25B18813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16F1-C4D0-430F-ABED-498CDF3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009DE-3EEF-437C-A4FD-5223F587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5EC5D-AFEC-455F-94E1-B67BE56C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BE4B6-5DB4-4B37-BD62-21CA364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59E42-B331-4C95-BD9B-4F18B707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439C8-85DD-42DC-A5F4-05D23E0B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C9157-39A0-4AD2-B388-79EA5C0F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4A57A-04B5-466D-B074-9737B1B3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63A3-1BF4-492B-A4BD-73B7A266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FBC-B01E-4F45-A359-C41D7FD9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C1576-331A-46E8-9652-98581AF0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1FC24-67CD-4CFA-BE32-AAED989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DBF70-8D14-4E38-959B-0B272FB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09CC-D96A-419A-A112-61111D00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BB232-756C-4E74-97A9-1E06028B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4F33-5142-4346-8105-5FF189E3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E4A6E-26B8-4C8E-93F9-348CAC57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68C0D-21DC-4994-8997-FBD95CA8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DD18B-9D27-4BDD-AAA3-1C32B140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B3A38-3F50-4BAA-8868-919B51E9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63F-51C1-4DE5-93DB-A999FD7D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87680-3AA3-4FB9-A5B8-9B54E92A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83654-2852-48F5-B47E-6D6241B3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B2F61-2E75-48AF-B713-D67E10B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6EB2A-5165-4FBB-829E-CFCEAE1A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F54E4-06A8-4E4D-8532-01ACCAD8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E928-18BD-41C1-A62E-48FDC14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60A91-4029-4D65-A0CF-33366016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7F266-F9F3-416A-B77C-9237181E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501D3-A479-4866-B1D1-122E074C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0D8D-2CBA-4FE0-A17F-41A9697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F6DC-E92B-421C-8D5B-78490FD9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EDAB-D13E-4C4E-BAE1-0931323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875C-2932-4E1A-95D4-B267B965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B8693-72C3-4524-92ED-570A3DC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20E44-5430-44D4-9202-F5E9BDBD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4A172-7107-4C40-8203-71DAAB34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6DCA1-785D-4987-9375-39B2623E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34AD5-E721-4789-A130-2E14E10F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C32BC-AA81-470A-B979-D54176E3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1CE75-4A09-4B24-9234-3B3CEC4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D7779-85FE-4725-81F2-0EFBB2E3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D5BA-DE1C-4A69-B1A6-FFF3133D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0CA31-1307-4280-B4E1-9C3E09BF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B5F8F-3C69-4FAA-A59A-D23042B8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2AF3E-1A05-48A5-B416-56B8BBC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ED132-3B41-4E04-A576-6E511AFA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B096B-024C-4080-9A9A-93DDCACF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301C-5924-4BC2-989A-5463AE9A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C5CC-2CD1-4D98-8819-2E5ACAA5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04B2-8FCA-439C-8BA4-A88A679C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52C-BF48-4494-AFE0-7F2EDB45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1723-6213-42CB-91F2-434734A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4E9-8119-4512-9041-188FCB28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369A-01C0-4EDD-AD82-5924DBB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56C0-281E-444B-AA9E-EF6D2AE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EDFC-B4CF-4F57-A4E1-54B7E01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2A6-0856-4E3F-8A28-9730C76B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C44-F51B-410E-AC74-7456971E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219A-A889-4AB4-A0C7-F642265F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A1AE-1EB4-493E-B857-3B6A28A4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66AE-7791-4876-9230-8C528A0C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4CED-CB70-4DFB-AC1D-03682B3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B7FD-9DAE-46B7-B614-89D51B5A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01C-BB75-440C-BB74-A74BFFC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5F65-48C2-4993-8F94-523F0198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2209-8661-4164-B11F-D80B757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BE01-2C6F-4B7D-B4E3-BE58D26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F85A-0F0E-4914-B5AA-39A870C1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DAFB-3468-48CB-8AD8-2F5D6F48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D2E5-1AE9-4606-BB8E-CC2F7F5B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90EF-2A1B-454D-B3D2-2F5F5D59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6B2E9-F6E0-433B-8872-92ADB261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A6E2-D3B7-413F-AA38-5ED5D60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055AF-1844-4BA1-A722-FE41D8B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644A-DA86-441C-B18D-7A36B02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9B2C-41CB-43E0-9746-C87C277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386FA-527A-49D5-8216-3CF4D220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F674-C819-4802-8B45-02A091FF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E445-695A-4C1F-B7C5-6C9CF8E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190A-CD31-46F4-9B16-3DE4901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6F39-907C-4801-83A6-E2AB173F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8A3F-E401-4736-92A2-6712BC57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1149-0741-45FC-A989-440A5082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3A90E-5C8A-4B9E-833B-9B148D3C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43F0-AA9C-44B2-BC3F-E5AA76E7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521-5EFF-48F2-85E3-AF755E91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9BC2D-EEC3-4B59-ABF3-B5CD8306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16FAB-DF98-4081-BB41-00EA7E6A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215C-E37B-4DFE-A081-F8A61DC9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C390-EC5E-466C-AF70-84B8B414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84996-2DBA-4D46-B29A-E854DE7F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4691-317A-4F5C-9226-1D8EDCA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5F01-B18D-49EA-B158-526FA05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8D995-6221-42C0-99F4-707CF2A8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11CB-032D-4A44-ADCB-F6F7C26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21434-9827-42F0-B7E6-079DC43A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22E-C52F-42A9-8F8C-C7A33B97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0E23-D494-428C-9904-EB4885DD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A0EB-48D2-4515-B821-F8AE6273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9F248-E764-49CD-9799-5AD1020F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84B7C-6E26-4ECD-AE36-1EAF765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158A5-0814-4608-A2FB-21947DCB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BE8D1-F87E-4937-94D0-95F42C6D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923AD-1DF6-439C-97BB-B50E6D40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5A48-B142-435F-9252-1CDFF03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5E5D-7391-48EF-B0D2-A43B478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771F4-33D6-4653-94D0-601F775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17A-FAF6-4B97-8A53-A954280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10C00-7AFD-4CA4-98CD-4D9B397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67BBC-67E4-41E6-9353-B06B9184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78567-6DD9-4143-A05F-DE586304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0E885-C615-4626-925D-34F81D13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C531B-5368-4603-BD28-F1D61CFA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F9D1B-D2D7-4CD6-A31C-7E30A60C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18AC3-DDCE-4689-94C6-D3E3386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EB0A-68B7-4D90-8D8F-648557C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53E4E-02BD-4472-93AA-C61B587A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A419-6D7C-4707-8523-0E3D22C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FF4-33F5-4231-BDDC-15D4EA30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AC45-C621-4A74-B2DC-917897C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5845-87DE-4C79-8C8D-5C87F9C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350D-F226-488B-A6DE-3C77E90A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9196F-5F6A-4B5F-9AA2-8D5C34EA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66BAC-D379-46BD-B189-492FDB0A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C0D9-491C-495B-B139-E2B9B549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D57D-9923-4A6A-B5DC-E864BB58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BFD0-E256-4849-8ADA-0FA0BF25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4E191-3A7A-4ACE-867A-16B168E5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42FC3-BFFF-49D1-AD4D-A51A9BFF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4B1-91D5-4E43-86EB-13D11C9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69D4-991F-4602-A27E-755B51BB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7CDC-18A1-4C58-8D10-AE75E7A8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964E-B408-4AE3-8152-A777AC3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E11C4-7171-4025-99A8-2E578B4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2B5A-7C59-4081-9225-B248768A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37EF-A8F6-4C67-98F9-5B6B5B5A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ECE96-286B-46E8-8933-624E92FD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A8F2-B844-482A-A7D8-71BA612D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81C1D-DC71-4A6E-88D8-9BEF2BF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68337-A38A-4B74-97C0-FD525ED7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CA0E-BB71-444C-894A-475C6FA813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63A-6CBF-4C36-A624-E9CDF82053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3AFD-60D5-49CD-9FE1-852BAA31BF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841-A32A-4601-937E-6663C5F6AE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43E-5584-4CD3-9791-35EF8113BB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209B-CAEB-4427-8DD5-6467D02717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AAD-EE0B-49DD-9F93-3F805EA8A7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24A-5CD2-4C77-BDDE-CB96197C7E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3F48-0A26-4839-A6CD-307961E08D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B588-5783-493C-BEA5-E15A96EBF4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35B-4627-4497-BD14-324581CC44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1576-F407-44A0-93BA-218EC2CE34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57160" y="149976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61616"/>
                </a:solidFill>
                <a:latin typeface="Arial"/>
              </a:rPr>
              <a:t>«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40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8" name="Picture 4" descr="C:\Documents and Settings\ученик1\Рабочий стол\archives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1039680" y="1928880"/>
            <a:ext cx="72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3636"/>
                </a:solidFill>
                <a:latin typeface="Verdana"/>
              </a:rPr>
              <a:t>«Зависит ли будущее от меня?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3124440" y="4287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лассный ча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оугольник 7"/>
          <p:cNvSpPr/>
          <p:nvPr/>
        </p:nvSpPr>
        <p:spPr>
          <a:xfrm>
            <a:off x="214200" y="1071720"/>
            <a:ext cx="835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Лев Толстой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« Судьба человека такая или другая бывает только от того, как он в мыслях понимает свою жизнь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учитель 2 "/>
          <p:cNvPicPr/>
          <p:nvPr/>
        </p:nvPicPr>
        <p:blipFill>
          <a:blip r:embed="rId1"/>
          <a:stretch/>
        </p:blipFill>
        <p:spPr>
          <a:xfrm>
            <a:off x="324000" y="3860640"/>
            <a:ext cx="2684160" cy="2792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лётчик"/>
          <p:cNvPicPr/>
          <p:nvPr/>
        </p:nvPicPr>
        <p:blipFill>
          <a:blip r:embed="rId2"/>
          <a:stretch/>
        </p:blipFill>
        <p:spPr>
          <a:xfrm>
            <a:off x="6286680" y="0"/>
            <a:ext cx="2489040" cy="3755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врач"/>
          <p:cNvPicPr/>
          <p:nvPr/>
        </p:nvPicPr>
        <p:blipFill>
          <a:blip r:embed="rId3"/>
          <a:stretch/>
        </p:blipFill>
        <p:spPr>
          <a:xfrm>
            <a:off x="3143160" y="2357280"/>
            <a:ext cx="3132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14200" y="785520"/>
            <a:ext cx="8715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489ff"/>
                </a:solidFill>
                <a:latin typeface="Verdana"/>
              </a:rPr>
              <a:t>Успех – это удачное достижение желаемого результата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927000"/>
            <a:ext cx="84312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поведи успешного образовани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28760" y="8568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умней из класса в класс – это раз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одренько вставай с утра- в 8.15 в школе быть по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е бубни и не кричи, отвечай, а не молчи - это тр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Чист и аккуратен будь - в этом су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медленно писать, чтобы не было помарок и в тетради было пя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Будь здоровым – фрукты ешь – это ше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ужно добрым быть во всём – это сем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Сами вещи не растут – нужен труд, карандаш, тетрадь, перо, парту, доску и окно, книжку, сумку береги, не ломай, не мни, не рв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Прежде чем захлопнуть дверь, всё ли взял с собой, провер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На уроках не хихикай, стул туда-сюда не двига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В школе, в классе не сори, а насоришь – убери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d2e"/>
                </a:solidFill>
                <a:latin typeface="Verdana"/>
              </a:rPr>
              <a:t>А ещё старайся – спортом больше занимайс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Прямоугольник 3" descr=""/>
          <p:cNvPicPr/>
          <p:nvPr/>
        </p:nvPicPr>
        <p:blipFill>
          <a:blip r:embed="rId1"/>
          <a:stretch/>
        </p:blipFill>
        <p:spPr>
          <a:xfrm>
            <a:off x="85680" y="646200"/>
            <a:ext cx="89726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57:57Z</dcterms:created>
  <dc:creator>Галя</dc:creator>
  <dc:description/>
  <dc:language>en-US</dc:language>
  <cp:lastModifiedBy>Пользователь</cp:lastModifiedBy>
  <dcterms:modified xsi:type="dcterms:W3CDTF">2021-02-16T18:07:54Z</dcterms:modified>
  <cp:revision>12</cp:revision>
  <dc:subject/>
  <dc:title>«Будущее зависит от меня»</dc:title>
</cp:coreProperties>
</file>