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944-1855-4895-A932-CAB7F084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18A-E5B0-4F0F-A459-4BC55CE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A1A-9175-41FC-B101-66EB6B4E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C25-B655-4F2B-B415-0727C2D9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F55-0F56-4FA4-887C-F04D6E67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15A-ADD0-476D-BAE0-3E967B8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CA1-67D8-42F8-81FB-F057D62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896-FBD5-4DCE-A6D5-56C3B2A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DB7-FEED-4FD1-B7BD-3A8829B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3EB-A9B7-44E6-951F-C19F456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76B-1EB8-46C6-89F6-71624D0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C7D-524D-4DF1-8AC9-051A6BE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66E-8F9B-402B-A946-703B26E7C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405160" y="193680"/>
            <a:ext cx="433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 №271 Красносель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и П.И.Феду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639612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42920" y="2643120"/>
            <a:ext cx="894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Актуальность проблемы педагогического сопровождения учениче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8907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russkaja-skazka.ru/wp-content/uploads/2019/04/dal-skazki-chitat.jpg"/>
          <p:cNvPicPr/>
          <p:nvPr/>
        </p:nvPicPr>
        <p:blipFill>
          <a:blip r:embed="rId1"/>
          <a:stretch/>
        </p:blipFill>
        <p:spPr>
          <a:xfrm>
            <a:off x="500040" y="1357200"/>
            <a:ext cx="3357720" cy="3357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865440" y="357120"/>
            <a:ext cx="75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ое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провождени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78240" y="48578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Д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712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вожать, сопутствовать, идти вместе, следова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cdn.gufo.me/images/biography_encyclopedia/e9f352c07d15cfe5bfbe5846bd92a944d5928337.jpg"/>
          <p:cNvPicPr/>
          <p:nvPr/>
        </p:nvPicPr>
        <p:blipFill>
          <a:blip r:embed="rId2"/>
          <a:srcRect l="0" t="0" r="0" b="27890"/>
          <a:stretch/>
        </p:blipFill>
        <p:spPr>
          <a:xfrm>
            <a:off x="5143680" y="1285920"/>
            <a:ext cx="3222360" cy="3357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6072120" y="47862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5338440" y="56437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месте с кем-чем-нибудь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571680" y="500040"/>
            <a:ext cx="8143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дагогическое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провожд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процесс заинтересованного наблюдения, консультирования, личностного участия, поощрения максимальной самостоятельности ученика в проблемной ситуации при минимальном по сравнению с поддержкой участи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71680" y="421488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вы сферы деятельности ребят, где они действуют самостоятель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072040" y="42148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должна состоять позиция современного педагог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1285920" y="2428920"/>
            <a:ext cx="65721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амоуправление в классном коллектив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Надежда\Desktop\Суббота\(4).jpg"/>
          <p:cNvPicPr/>
          <p:nvPr/>
        </p:nvPicPr>
        <p:blipFill>
          <a:blip r:embed="rId1"/>
          <a:stretch/>
        </p:blipFill>
        <p:spPr>
          <a:xfrm>
            <a:off x="-490680" y="-28440"/>
            <a:ext cx="1012536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80280" y="6429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ный час на тему «День Космонав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28960" y="1714680"/>
            <a:ext cx="86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озможности сопровождения ученического самоуправления в раз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х групп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4200" y="285768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ы организуете классный коллектив для подготовки и проведения классного час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00120" y="421488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ложите этапы подготовки классно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8840" y="4786200"/>
          <a:ext cx="6095880" cy="10112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классного колл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8T11:02:56Z</dcterms:created>
  <dc:creator>Надежда</dc:creator>
  <dc:description/>
  <dc:language>en-US</dc:language>
  <cp:lastModifiedBy>Надежда</cp:lastModifiedBy>
  <dcterms:modified xsi:type="dcterms:W3CDTF">2019-05-18T20:19:38Z</dcterms:modified>
  <cp:revision>2</cp:revision>
  <dc:subject/>
  <dc:title>Слайд 1</dc:title>
</cp:coreProperties>
</file>