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6D9-41E3-4D96-93F3-DBC6B67E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305-FA8F-4FA8-A06A-011E9EE0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6A5-D7AF-4AC9-89A8-EDF0F3FD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B4C-D652-464B-92D1-87CF6B8E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209-85D1-43B1-AEFC-47DDD6A6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D86-8046-4604-85DE-1D97E967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FA1-855A-4E60-975F-B631986C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92-D91B-4DE0-9A71-82F5A12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CF4-BED5-444B-80C0-D2738D95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4AC-9FF2-4E7C-9931-4852E6F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EE9-30E7-4EB3-8C83-57EA05FE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458-1604-4B96-971B-B135441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61F2-FA7F-4BED-9E51-16ABB6A0E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405160" y="193680"/>
            <a:ext cx="433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мназия №271 Красносель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ни П.И.Феду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639612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42920" y="2643120"/>
            <a:ext cx="894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Актуальность проблемы педагогического сопровождения ученического самоуправ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18907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russkaja-skazka.ru/wp-content/uploads/2019/04/dal-skazki-chitat.jpg"/>
          <p:cNvPicPr/>
          <p:nvPr/>
        </p:nvPicPr>
        <p:blipFill>
          <a:blip r:embed="rId1"/>
          <a:stretch/>
        </p:blipFill>
        <p:spPr>
          <a:xfrm>
            <a:off x="500040" y="1357200"/>
            <a:ext cx="3357720" cy="3357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865440" y="357120"/>
            <a:ext cx="75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ое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провождени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78240" y="48578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И. Д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712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вожать, сопутствовать, идти вместе, следовать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s://cdn.gufo.me/images/biography_encyclopedia/e9f352c07d15cfe5bfbe5846bd92a944d5928337.jpg"/>
          <p:cNvPicPr/>
          <p:nvPr/>
        </p:nvPicPr>
        <p:blipFill>
          <a:blip r:embed="rId2"/>
          <a:srcRect l="0" t="0" r="0" b="27890"/>
          <a:stretch/>
        </p:blipFill>
        <p:spPr>
          <a:xfrm>
            <a:off x="5143680" y="1285920"/>
            <a:ext cx="3222360" cy="3357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9"/>
          <p:cNvSpPr/>
          <p:nvPr/>
        </p:nvSpPr>
        <p:spPr>
          <a:xfrm>
            <a:off x="6072120" y="4786200"/>
            <a:ext cx="15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5338440" y="5643720"/>
            <a:ext cx="29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месте с кем-чем-нибудь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571680" y="500040"/>
            <a:ext cx="8143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дагогическое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провожд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«процесс заинтересованного наблюдения, консультирования, личностного участия, поощрения максимальной самостоятельности ученика в проблемной ситуации при минимальном по сравнению с поддержкой участи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даго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571680" y="421488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вы сферы деятельности ребят, где они действуют самостоятель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072040" y="421488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 должна состоять позиция современного педагог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1285920" y="2428920"/>
            <a:ext cx="65721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амоуправление в классном коллектив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Надежда\Desktop\Суббота\(4).jpg"/>
          <p:cNvPicPr/>
          <p:nvPr/>
        </p:nvPicPr>
        <p:blipFill>
          <a:blip r:embed="rId1"/>
          <a:stretch/>
        </p:blipFill>
        <p:spPr>
          <a:xfrm>
            <a:off x="-490680" y="-28440"/>
            <a:ext cx="1012536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80280" y="64296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ный час на тему «День Космонавт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228960" y="1714680"/>
            <a:ext cx="86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возможности сопровождения ученического самоуправления в раз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х групп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14200" y="285768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ы организуете классный коллектив для подготовки и проведения классного час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00120" y="4214880"/>
            <a:ext cx="60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ложите этапы подготовки классно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28840" y="4786200"/>
          <a:ext cx="6095880" cy="10112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йствия классного колл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8T11:02:56Z</dcterms:created>
  <dc:creator>Надежда</dc:creator>
  <dc:description/>
  <dc:language>en-US</dc:language>
  <cp:lastModifiedBy>Надежда</cp:lastModifiedBy>
  <dcterms:modified xsi:type="dcterms:W3CDTF">2019-05-18T20:19:38Z</dcterms:modified>
  <cp:revision>2</cp:revision>
  <dc:subject/>
  <dc:title>Слайд 1</dc:title>
</cp:coreProperties>
</file>