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7.png" ContentType="image/pn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5E9D-F4C5-461D-8A87-6A439161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B059-4DE7-4802-86A5-0197769F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AC65-6D19-4044-8B7A-3FD9DFC9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720C-2F44-4C07-B7E7-5887E07E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DAD8-315C-4198-8BA1-3538213D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EE6A-7AA7-457B-AA1E-6F1DE79A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0D70-F73A-45F2-8F28-EF20780E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C287-C2CE-4ACF-A4A7-BC0668E4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56C7-74BA-4486-80AC-F12616F2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6D8D-77E1-40D7-9376-DF94B739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AC97-E383-448F-BE02-A8736A23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4E62-93DD-4A32-B820-38F506FD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B348-0572-4E9C-818B-534923C0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6633-E6ED-4641-BA7F-3CBABD2D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1027-E76A-44CC-9B14-B8926E89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BAD5-80D6-4000-91B7-B82D40AFA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1398-9337-4DD2-A35A-741C4C7A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34C42-0956-4CA0-9B25-12FCB7059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3C54B-4733-49D3-9965-40233889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D562B-C4A6-40EA-BCEE-00F1CEA9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D09B9-50D8-42B6-93FE-C06BEEF7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168E8-DE14-4200-93AB-AA745424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5FBC-BB6A-48EC-86A3-06A5F936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4CE5F-EF62-4ED8-89A2-B73C8C92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49E0E-7325-4B41-8CFD-F890C2F7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4719F-DE30-4ED4-88D1-913843CE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CD653-AB98-407F-AB79-0F127253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707B2-0DAF-498A-9F83-130CCD09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A77BC-09E5-409A-8DE7-B31B5104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6D2D8-A6B9-4E39-9828-16EA9FDB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DE680-7D8F-44E6-8BD9-26540286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E2C5B-4EED-4281-B80D-8C770E76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BB4A8-A736-4709-B887-BFD0348D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50AC-3A75-49E8-8294-7DC14464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F0949-745C-4E4B-BCDB-24A11D18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9070D-3D61-45DD-9AEA-56A43DA4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27E3E-123A-432B-A254-F9BA3552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33F8F-6838-413C-A0C5-A73D8827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72A84-ABA0-4510-A923-F7666CDB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6E820-3CEE-4EFE-8190-1E735DC9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2E6E3-18ED-4AF4-BCD8-0757DC22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1F953-72F7-4D4F-8277-388F11CD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579AE-C6C0-4336-919E-2B23E4A6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738B0-6B7E-4D79-B24C-C2F60E2F0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7580-F5E7-452D-A59B-7AF0CD61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A098D-969F-4940-B04F-E2AF9F55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67809-DAE5-4746-9C66-0640187B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5DE5F-1E11-40B7-A5E8-D7205064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B33DC-C944-4406-A746-F0D83C49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7F80E-D4AE-4385-871A-539D5174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33534-D6CB-4941-8B71-3ACAD50D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62B39-D3CF-40E1-A63A-F9630A64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39EE7-660F-4D41-9774-22ECCB46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0AF70-0C5D-4FDE-8C5F-98031C99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D660A-3E37-49D4-AA01-3ED84DBF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7592-B477-494F-9CB2-68EA208D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5B4AF-448C-4615-A2BE-F50765F7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CED8C-5A86-480F-93C4-DE2C7F826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E1EF3-033B-4BBE-9FE4-8A5B18A0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50952-0F1B-4E70-A405-4D8E52ED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E968F-C039-4CC3-8202-2D37CEC9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44008-9479-4940-8E8E-4826ADDB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79019-50AF-4AE8-8936-1E516D5F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03913-26F9-49AD-AFE8-011B3488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BB2CA-63AD-4D45-8ADC-FC8ACD01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AE937-04E9-49A5-8437-5EFC0AB2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33CC-E304-4CA2-9805-F051FF2F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12D07-123E-47CA-91A8-4F551064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EE83C-A58D-4837-BACE-91C7F209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247C2-AF83-48EA-A899-74E580F9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665CE-8D5E-4D41-92A0-1EBEE75F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B7ECF-B495-48D7-A0EB-5A850BC9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F2EAF-398A-4E67-BD0F-58087443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0210B-305C-4A89-BC73-F26C795E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8DE4D-1E16-4C14-B983-11DD0B8E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17207-DE1C-4D2A-9E14-5E439C8B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9E008-C00F-4DB4-AD8F-F324756E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B166-E01A-4E80-BAD2-89D9EDDE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ECD7B-D556-44B5-AC8B-7DF4E977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1ACFF-EA93-4EDD-9A64-72AD9423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90F03-5C0A-47A9-B3E1-400BCFA9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5AAAF-26EB-44D3-B695-D53F88F0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82E37-72E3-40AF-AFEB-71096484C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0D32-EDDA-4AA9-9C35-279BFBCD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75E4-7461-44CC-8ED7-0C95B29B64B7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3BB0-9D70-41A5-9CEB-3383752E517A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D57D-3B94-4B63-A2D8-F60A2547E9EF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7FFD-B4D3-4061-ABF8-AC2E56D286A4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853C-0A59-420B-9AF2-C6106AA38516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25F9-6B61-4402-B711-9D98721E349F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fd6e2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4e7e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6AB0-A42F-4875-AAE0-A37F7BECE255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3" descr="C:\Documents and Settings\Администратор\Рабочий стол\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2860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C:\Documents and Settings\Администратор\Рабочий стол\13.JPG"/>
          <p:cNvPicPr/>
          <p:nvPr/>
        </p:nvPicPr>
        <p:blipFill>
          <a:blip r:embed="rId2"/>
          <a:stretch/>
        </p:blipFill>
        <p:spPr>
          <a:xfrm>
            <a:off x="0" y="3286080"/>
            <a:ext cx="9144000" cy="35719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8" descr="C:\Documents and Settings\Администратор\Рабочий стол\19.JPG"/>
          <p:cNvPicPr/>
          <p:nvPr/>
        </p:nvPicPr>
        <p:blipFill>
          <a:blip r:embed="rId3"/>
          <a:stretch/>
        </p:blipFill>
        <p:spPr>
          <a:xfrm>
            <a:off x="1903320" y="1119240"/>
            <a:ext cx="5383440" cy="409572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Права и обязанности ребенка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70f62"/>
                </a:solidFill>
                <a:latin typeface="Corbel"/>
              </a:rPr>
              <a:t>                                             </a:t>
            </a:r>
            <a:r>
              <a:rPr b="0" lang="ru-RU" sz="2600" spc="-1" strike="noStrike">
                <a:solidFill>
                  <a:srgbClr val="770f62"/>
                </a:solidFill>
                <a:latin typeface="Corbel"/>
              </a:rPr>
              <a:t>Дулуева Л.З учитель физики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25146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6" descr="C:\Documents and Settings\Администратор\Рабочий стол\16.JPG"/>
          <p:cNvPicPr/>
          <p:nvPr/>
        </p:nvPicPr>
        <p:blipFill>
          <a:blip r:embed="rId2"/>
          <a:stretch/>
        </p:blipFill>
        <p:spPr>
          <a:xfrm>
            <a:off x="0" y="4254480"/>
            <a:ext cx="3357720" cy="26035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213840" y="500040"/>
            <a:ext cx="49294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Palatino Linotype"/>
              </a:rPr>
              <a:t>Легко ли вам было  найти обязанности соответствующие  каждому праву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Прямоугольник 6"/>
          <p:cNvSpPr/>
          <p:nvPr/>
        </p:nvSpPr>
        <p:spPr>
          <a:xfrm>
            <a:off x="4572000" y="364320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Palatino Linotype"/>
              </a:rPr>
              <a:t>Всегда ли права совпадают с обязанностям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785520" y="2999880"/>
            <a:ext cx="8072280" cy="36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Palatino Linotype"/>
              </a:rPr>
              <a:t>Сегодня я  познакомился …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Palatino Linotype"/>
              </a:rPr>
              <a:t>Я узнал новое …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Palatino Linotype"/>
              </a:rPr>
              <a:t>Мне понравилось …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Palatino Linotype"/>
              </a:rPr>
              <a:t>Мне не понравилось …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5" name="Picture 5" descr="C:\Documents and Settings\Администратор\Рабочий стол\21.JPG"/>
          <p:cNvPicPr/>
          <p:nvPr/>
        </p:nvPicPr>
        <p:blipFill>
          <a:blip r:embed="rId1"/>
          <a:stretch/>
        </p:blipFill>
        <p:spPr>
          <a:xfrm>
            <a:off x="6421320" y="0"/>
            <a:ext cx="2722680" cy="29876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2600280" cy="2905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6" descr=""/>
          <p:cNvPicPr/>
          <p:nvPr/>
        </p:nvPicPr>
        <p:blipFill>
          <a:blip r:embed="rId1"/>
          <a:stretch/>
        </p:blipFill>
        <p:spPr>
          <a:xfrm>
            <a:off x="1071720" y="3929040"/>
            <a:ext cx="3857400" cy="2684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" descr="C:\Documents and Settings\Администратор\Рабочий стол\14.JPG"/>
          <p:cNvPicPr/>
          <p:nvPr/>
        </p:nvPicPr>
        <p:blipFill>
          <a:blip r:embed="rId2"/>
          <a:stretch/>
        </p:blipFill>
        <p:spPr>
          <a:xfrm>
            <a:off x="7215120" y="0"/>
            <a:ext cx="1928880" cy="20001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1071720"/>
            <a:ext cx="74070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r>
              <a:rPr b="1" lang="ru-RU" sz="3900" spc="-1" strike="noStrike">
                <a:solidFill>
                  <a:srgbClr val="c22ea4"/>
                </a:solidFill>
                <a:latin typeface="Palatino Linotype"/>
              </a:rPr>
              <a:t> </a:t>
            </a:r>
            <a:r>
              <a:rPr b="1" lang="ru-RU" sz="3900" spc="-1" strike="noStrike">
                <a:solidFill>
                  <a:srgbClr val="c22ea4"/>
                </a:solidFill>
                <a:latin typeface="Palatino Linotype"/>
              </a:rPr>
              <a:t>Права человека это …?</a:t>
            </a:r>
            <a:endParaRPr b="0" lang="en-US" sz="39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214280" y="2857320"/>
            <a:ext cx="7407360" cy="12142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2ea4"/>
                </a:solidFill>
                <a:latin typeface="Palatino Linotype"/>
              </a:rPr>
              <a:t>   </a:t>
            </a:r>
            <a:r>
              <a:rPr b="1" lang="ru-RU" sz="4000" spc="-1" strike="noStrike">
                <a:solidFill>
                  <a:srgbClr val="c22ea4"/>
                </a:solidFill>
                <a:latin typeface="Palatino Linotype"/>
              </a:rPr>
              <a:t>Ребенок это …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85840"/>
            <a:ext cx="756936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2060"/>
                </a:solidFill>
                <a:latin typeface="Corbel"/>
              </a:rPr>
              <a:t>Права человека </a:t>
            </a:r>
            <a:r>
              <a:rPr b="0" lang="ru-RU" sz="3900" spc="-1" strike="noStrike">
                <a:solidFill>
                  <a:srgbClr val="c22ea4"/>
                </a:solidFill>
                <a:latin typeface="Corbel"/>
              </a:rPr>
              <a:t>– </a:t>
            </a:r>
            <a:br>
              <a:rPr sz="3900"/>
            </a:br>
            <a:r>
              <a:rPr b="1" lang="ru-RU" sz="3900" spc="-1" strike="noStrike">
                <a:solidFill>
                  <a:srgbClr val="c22ea4"/>
                </a:solidFill>
                <a:latin typeface="Corbel"/>
              </a:rPr>
              <a:t>это установленные и гарантированные государством возможности человека</a:t>
            </a:r>
            <a:r>
              <a:rPr b="0" lang="ru-RU" sz="3900" spc="-1" strike="noStrike">
                <a:solidFill>
                  <a:srgbClr val="c22ea4"/>
                </a:solidFill>
                <a:latin typeface="Corbel"/>
              </a:rPr>
              <a:t>.</a:t>
            </a:r>
            <a:endParaRPr b="0" lang="en-US" sz="3900" spc="-1" strike="noStrike">
              <a:solidFill>
                <a:srgbClr val="c22ea4"/>
              </a:solidFill>
              <a:latin typeface="Corbel"/>
            </a:endParaRPr>
          </a:p>
        </p:txBody>
      </p:sp>
      <p:pic>
        <p:nvPicPr>
          <p:cNvPr id="328" name="Picture 9" descr=""/>
          <p:cNvPicPr/>
          <p:nvPr/>
        </p:nvPicPr>
        <p:blipFill>
          <a:blip r:embed="rId1"/>
          <a:stretch/>
        </p:blipFill>
        <p:spPr>
          <a:xfrm>
            <a:off x="285840" y="3143160"/>
            <a:ext cx="3143160" cy="3357720"/>
          </a:xfrm>
          <a:prstGeom prst="rect">
            <a:avLst/>
          </a:prstGeom>
          <a:ln w="0">
            <a:noFill/>
          </a:ln>
        </p:spPr>
      </p:pic>
      <p:sp>
        <p:nvSpPr>
          <p:cNvPr id="329" name="TextBox 8"/>
          <p:cNvSpPr/>
          <p:nvPr/>
        </p:nvSpPr>
        <p:spPr>
          <a:xfrm>
            <a:off x="3500280" y="3071880"/>
            <a:ext cx="564372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rbel"/>
              </a:rPr>
              <a:t>Ребенок</a:t>
            </a:r>
            <a:r>
              <a:rPr b="1" lang="ru-RU" sz="4000" spc="-1" strike="noStrike">
                <a:solidFill>
                  <a:srgbClr val="b13f9a"/>
                </a:solidFill>
                <a:latin typeface="Corbel"/>
              </a:rPr>
              <a:t>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ru-RU" sz="3900" spc="-1" strike="noStrike">
                <a:solidFill>
                  <a:srgbClr val="b13f9a"/>
                </a:solidFill>
                <a:latin typeface="Corbel"/>
              </a:rPr>
              <a:t>это каждое человеческое существо,  не достигшее   18 летнего возраста</a:t>
            </a:r>
            <a:r>
              <a:rPr b="1" lang="ru-RU" sz="3900" spc="-1" strike="noStrike">
                <a:solidFill>
                  <a:srgbClr val="b13f9a"/>
                </a:solidFill>
                <a:latin typeface="Corbel"/>
              </a:rPr>
              <a:t>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6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6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6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6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3214800" cy="23144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14400" y="274320"/>
            <a:ext cx="62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22ea4"/>
                </a:solidFill>
                <a:latin typeface="Corbel"/>
              </a:rPr>
              <a:t>Задания для групп</a:t>
            </a: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.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28800" y="2214360"/>
            <a:ext cx="80056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кие права есть у вас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кие права вы считаете главными для человек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сть ли особые права для детей? Какие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 какого возраста можно говорить о правах ребенк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кие документы, защищающие права ребенка вы знаете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9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5310360" y="4143240"/>
            <a:ext cx="3833640" cy="24386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C:\Documents and Settings\Администратор\Рабочий стол\12.JPG"/>
          <p:cNvPicPr/>
          <p:nvPr/>
        </p:nvPicPr>
        <p:blipFill>
          <a:blip r:embed="rId2"/>
          <a:stretch/>
        </p:blipFill>
        <p:spPr>
          <a:xfrm>
            <a:off x="0" y="0"/>
            <a:ext cx="2928960" cy="2303640"/>
          </a:xfrm>
          <a:prstGeom prst="rect">
            <a:avLst/>
          </a:prstGeom>
          <a:ln w="0">
            <a:noFill/>
          </a:ln>
        </p:spPr>
      </p:pic>
      <p:sp>
        <p:nvSpPr>
          <p:cNvPr id="335" name="TextBox 12"/>
          <p:cNvSpPr/>
          <p:nvPr/>
        </p:nvSpPr>
        <p:spPr>
          <a:xfrm>
            <a:off x="2857680" y="571680"/>
            <a:ext cx="600048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52f74"/>
                </a:solidFill>
                <a:latin typeface="Palatino Linotype"/>
              </a:rPr>
              <a:t>10 декабря 1948 г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 – Всеобщая декларация прав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52f74"/>
                </a:solidFill>
                <a:latin typeface="Palatino Linotype"/>
              </a:rPr>
              <a:t>1959 год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 Декларация прав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14"/>
          <p:cNvSpPr/>
          <p:nvPr/>
        </p:nvSpPr>
        <p:spPr>
          <a:xfrm>
            <a:off x="0" y="4286160"/>
            <a:ext cx="51436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52f74"/>
                </a:solidFill>
                <a:latin typeface="Palatino Linotype"/>
              </a:rPr>
              <a:t>20 ноября 1989 го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Конвенция о правах ребен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1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1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pic>
        <p:nvPicPr>
          <p:cNvPr id="338" name="Схема 2" descr=""/>
          <p:cNvPicPr/>
          <p:nvPr/>
        </p:nvPicPr>
        <p:blipFill>
          <a:blip r:embed="rId1"/>
          <a:stretch/>
        </p:blipFill>
        <p:spPr>
          <a:xfrm>
            <a:off x="360360" y="347760"/>
            <a:ext cx="8356680" cy="6149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8" descr="C:\Documents and Settings\Администратор\Рабочий стол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0" y="8568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  <a:ea typeface="Kartika"/>
              </a:rPr>
              <a:t>Право на жизн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  <a:ea typeface="Kartika"/>
              </a:rPr>
              <a:t>Право на равенство и свободу от дискриминаци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  <a:ea typeface="Kartika"/>
              </a:rPr>
              <a:t>Право на имя, гражданство, право знать своих родителей и быть вместе с ним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  <a:ea typeface="Kartika"/>
              </a:rPr>
              <a:t>Право на собственные взгляды и мнения, возможность их свободно выража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  <a:ea typeface="Kartika"/>
              </a:rPr>
              <a:t>Право на свободу мысли, совести , религи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  <a:ea typeface="Kartika"/>
              </a:rPr>
              <a:t>Право на образован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  <a:ea typeface="Kartika"/>
              </a:rPr>
              <a:t>Право на личную, семейную жизнь, неприкосновенность жилища, тайну переписк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  <a:ea typeface="Kartika"/>
              </a:rPr>
              <a:t>Право на свободный доступ к информаци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85520" y="-360"/>
            <a:ext cx="678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2ea4"/>
                </a:solidFill>
                <a:latin typeface="Corbel"/>
              </a:rPr>
              <a:t>Конвенция о правах ребенка</a:t>
            </a:r>
            <a:endParaRPr b="0" lang="en-US" sz="4000" spc="-1" strike="noStrike">
              <a:solidFill>
                <a:srgbClr val="c22ea4"/>
              </a:solidFill>
              <a:latin typeface="Corbel"/>
            </a:endParaRPr>
          </a:p>
        </p:txBody>
      </p:sp>
      <p:pic>
        <p:nvPicPr>
          <p:cNvPr id="342" name="Picture 7" descr="C:\Documents and Settings\Администратор\Рабочий стол\20.JPG"/>
          <p:cNvPicPr/>
          <p:nvPr/>
        </p:nvPicPr>
        <p:blipFill>
          <a:blip r:embed="rId2"/>
          <a:stretch/>
        </p:blipFill>
        <p:spPr>
          <a:xfrm>
            <a:off x="7572240" y="0"/>
            <a:ext cx="1571760" cy="1793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5720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22ea4"/>
                </a:solidFill>
                <a:latin typeface="Palatino Linotype"/>
              </a:rPr>
              <a:t>Обязанности 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6534000" y="4276800"/>
            <a:ext cx="2610000" cy="2581200"/>
          </a:xfrm>
          <a:prstGeom prst="rect">
            <a:avLst/>
          </a:prstGeom>
          <a:ln w="0">
            <a:noFill/>
          </a:ln>
        </p:spPr>
      </p:pic>
      <p:sp>
        <p:nvSpPr>
          <p:cNvPr id="345" name="TextBox 4"/>
          <p:cNvSpPr/>
          <p:nvPr/>
        </p:nvSpPr>
        <p:spPr>
          <a:xfrm>
            <a:off x="428760" y="1214280"/>
            <a:ext cx="8358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Соблюдать зак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Платить нал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Нести воинскую служб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Сохранять природу и окружающую среду, бережно относиться к природным богатств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0" y="1357200"/>
            <a:ext cx="365760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6406"/>
                </a:solidFill>
                <a:latin typeface="Arial Black"/>
              </a:rPr>
              <a:t>Какие права есть у вас дома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486400" y="928440"/>
            <a:ext cx="3657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6406"/>
                </a:solidFill>
                <a:latin typeface="Arial Black"/>
              </a:rPr>
              <a:t>Какие права есть у вас в школе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Picture 6" descr=""/>
          <p:cNvPicPr/>
          <p:nvPr/>
        </p:nvPicPr>
        <p:blipFill>
          <a:blip r:embed="rId1"/>
          <a:stretch/>
        </p:blipFill>
        <p:spPr>
          <a:xfrm>
            <a:off x="4857840" y="4000680"/>
            <a:ext cx="4286160" cy="28810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357192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1-02-03T17:13:56Z</dcterms:modified>
  <cp:revision>26</cp:revision>
  <dc:subject/>
  <dc:title>Слайд 1</dc:title>
</cp:coreProperties>
</file>