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55C-48B0-4D7B-8504-4A16DB58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48B-CCA7-48FD-A33F-FFB14686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606-D424-4F0E-875E-C16442BF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4AB-CD3A-485A-A583-E6649305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7245-0B27-4082-9D4B-E7638A30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9DB3-5297-4740-95F7-5F584F23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EC8-3C89-49CF-B67C-D3E013AB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41EF-ADE9-44EE-B699-38590F8F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49B-6EC1-457C-9226-FD2F776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C555-A068-4DEC-A538-7E9D719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B9B5-1A9C-41A5-BC43-115F9D3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3CD-CC8E-45B2-A658-053F1A35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4442-F0FD-44CA-9B9B-ECFCC0D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7677-C0BF-4FA3-9B44-39243FA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7D05-87D8-45D9-8FFE-DB26049A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C67D-E05F-4AF5-8872-6CF3CEF9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2135-E860-48A1-8363-C4981AAC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D67A-2A2A-4385-AB5A-30FCF3B0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6F43-FFA6-43BE-B4FB-1B87C8F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8454-E8C0-4B22-BCA2-D638C692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6045A-FC82-466E-8841-E7A33B7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4B2D-82DF-4ACE-BDE3-183B57B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DD7-36BB-469F-91CF-8F8EDF2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BCCD-3975-436C-883F-00155D48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371AD-C295-4221-9E5D-FED72AA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4CBA-9AE2-49DC-AD73-D227549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BC7A3-2FB8-4A41-AAF4-D5D4A73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D394-4538-4CE3-B13F-F320EF63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D386-42E8-4F28-A992-0C93091B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A18F-3FE0-4342-BE0A-BE5302EF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282A-AB8D-4816-B38D-5D7AA9D5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2BD9-EF46-4211-B47F-8097B43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8F0A-119A-43D6-A445-E4FB5DB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9D2-8B3E-4507-A983-52A70F2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365C-9691-42DF-8AB6-73468B24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B016-A9BA-47F8-B8AB-7CE691C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4ED46-B037-4B81-9629-1385DA66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7A24-2404-4D4F-845F-457D681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74295-B1C5-4796-BF13-9CCC8B55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0147-1913-40CE-B5D3-8CF21315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C23B-758B-4492-895F-C12D0FF3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D037-E397-437A-BCB8-AC2DAA12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5326-9E46-45A3-8A89-8781BACD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1C4F-C7BC-4902-8BEF-D2630CE0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44A4-E416-4063-B526-04C895A7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A04E-9E7D-4405-9B2E-0ADEAF7E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76BD-8356-48F5-B6FA-A76A05FE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BE8AA-5EAE-46FD-A579-2AA6A269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CC13-DA22-48B8-81E0-304BDA67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B0FC-A34E-4908-9210-C721AB36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F0CDD-890F-45AF-9564-EE94FCC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7D60D-C56E-44B2-B57E-82E042D2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574D-6315-4064-9BD7-120D932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4075E-7AA5-4715-89AC-D2459E5F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C8A81-BC5B-4F04-A725-D09117AF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C68-7A17-4FBD-A064-C53009A1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A7F80-729C-4E28-9245-6D87A033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E6491-64E3-46CC-A935-E20724E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E95D-8C96-484F-A40C-0BD0083F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459C-89F3-4B4E-ADA1-2F93C0B6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B559-7DBD-4C1E-B845-C5D2F241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C13B9-81C3-4CDE-B51C-5B99A8F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EC0E-5190-4042-9E9D-B570BD6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8E27E-6FCB-4EC2-8F00-2AF3804C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998E-E343-420A-99C6-028806B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5F39D-8570-4C7F-89DE-99BEEAF6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496B-5CB6-41CC-8DB4-2B98C3D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5F670-EC6B-4C9D-832A-BAA002C9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2B4B-6BD7-448C-BF8F-DEA1D4E2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7DA8-9C8E-43EA-A986-36594D94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EDEBD-11BA-471D-BBEC-2AA41EA0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45CA-3FD5-45EC-8583-D0F3CC6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2FA6-9A54-4AEA-B340-B7D7F87E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FCE7D-679E-43C8-82AE-664EE295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5CDB9-E29E-482B-9C0B-E9FE391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F361-7F8F-4EA3-8BE3-FE5135D4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C310-7770-4F6C-A262-2A1A0075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0D5-EAF9-46A6-B79B-9ED59514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E5693-73EC-4028-AD2E-54863F8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FB72B-9BBD-43E5-9FE0-167D1D8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0A3F-CE78-4020-BFCE-C353884B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BA9E0-2573-4748-BD0D-B999536A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3E592-8AAC-4FD2-B0AB-632E1A9B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BFA-AB0E-45FD-95B2-AFECAA1C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D899-11A6-483E-8816-E0717AAAB764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800E-DE5D-4A56-B14A-1AD5EF9172C9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D2AA-9807-4721-813A-2A7F294EAC3B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DFC-E76F-42DF-8AD2-44E141A3125B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4E1B-C6A4-466C-8EDB-188F869D9722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905-BE6E-4DF9-B8CA-AC569DC71DC7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8a5ae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0FE-AFF1-421A-87D9-2E1D86FE0797}" type="slidenum">
              <a:rPr b="0" lang="ru-RU" sz="1200" spc="-1" strike="noStrike">
                <a:solidFill>
                  <a:srgbClr val="b8a5ae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Documents and Settings\Администратор\Рабочий стол\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286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Documents and Settings\Администратор\Рабочий стол\13.JPG"/>
          <p:cNvPicPr/>
          <p:nvPr/>
        </p:nvPicPr>
        <p:blipFill>
          <a:blip r:embed="rId2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C:\Documents and Settings\Администратор\Рабочий стол\19.JPG"/>
          <p:cNvPicPr/>
          <p:nvPr/>
        </p:nvPicPr>
        <p:blipFill>
          <a:blip r:embed="rId3"/>
          <a:stretch/>
        </p:blipFill>
        <p:spPr>
          <a:xfrm>
            <a:off x="1903320" y="1119240"/>
            <a:ext cx="5383440" cy="4095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Права и обязанности ребенка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70f62"/>
                </a:solidFill>
                <a:latin typeface="Corbel"/>
              </a:rPr>
              <a:t>                                             </a:t>
            </a:r>
            <a:r>
              <a:rPr b="0" lang="ru-RU" sz="2600" spc="-1" strike="noStrike">
                <a:solidFill>
                  <a:srgbClr val="770f62"/>
                </a:solidFill>
                <a:latin typeface="Corbel"/>
              </a:rPr>
              <a:t>Дулуева Л.З учитель физик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514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6" descr="C:\Documents and Settings\Администратор\Рабочий стол\16.JPG"/>
          <p:cNvPicPr/>
          <p:nvPr/>
        </p:nvPicPr>
        <p:blipFill>
          <a:blip r:embed="rId2"/>
          <a:stretch/>
        </p:blipFill>
        <p:spPr>
          <a:xfrm>
            <a:off x="0" y="4254480"/>
            <a:ext cx="3357720" cy="26035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13840" y="500040"/>
            <a:ext cx="49294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Легко ли вам было  найти обязанности соответствующие  каждому праву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4572000" y="364320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Всегда ли права совпадают с обязанностя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785520" y="2999880"/>
            <a:ext cx="8072280" cy="36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Сегодня я  познакомился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Я узнал новое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Мне понравилось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Мне не понравилось …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5" descr="C:\Documents and Settings\Администратор\Рабочий стол\21.JPG"/>
          <p:cNvPicPr/>
          <p:nvPr/>
        </p:nvPicPr>
        <p:blipFill>
          <a:blip r:embed="rId1"/>
          <a:stretch/>
        </p:blipFill>
        <p:spPr>
          <a:xfrm>
            <a:off x="6421320" y="0"/>
            <a:ext cx="2722680" cy="2987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60028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3857400" cy="2684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C:\Documents and Settings\Администратор\Рабочий стол\14.JPG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071720"/>
            <a:ext cx="74070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Palatino Linotype"/>
              </a:rPr>
              <a:t> </a:t>
            </a:r>
            <a:r>
              <a:rPr b="1" lang="ru-RU" sz="3900" spc="-1" strike="noStrike">
                <a:solidFill>
                  <a:srgbClr val="c22ea4"/>
                </a:solidFill>
                <a:latin typeface="Palatino Linotype"/>
              </a:rPr>
              <a:t>Права человека это …?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214280" y="2857320"/>
            <a:ext cx="7407360" cy="1214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2ea4"/>
                </a:solidFill>
                <a:latin typeface="Palatino Linotype"/>
              </a:rPr>
              <a:t>   </a:t>
            </a:r>
            <a:r>
              <a:rPr b="1" lang="ru-RU" sz="4000" spc="-1" strike="noStrike">
                <a:solidFill>
                  <a:srgbClr val="c22ea4"/>
                </a:solidFill>
                <a:latin typeface="Palatino Linotype"/>
              </a:rPr>
              <a:t>Ребенок это …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56936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2060"/>
                </a:solidFill>
                <a:latin typeface="Corbel"/>
              </a:rPr>
              <a:t>Права человека </a:t>
            </a: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– </a:t>
            </a: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это установленные и гарантированные государством возможности человека</a:t>
            </a:r>
            <a:r>
              <a:rPr b="0" lang="ru-RU" sz="3900" spc="-1" strike="noStrike">
                <a:solidFill>
                  <a:srgbClr val="c22ea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28" name="Picture 9" descr=""/>
          <p:cNvPicPr/>
          <p:nvPr/>
        </p:nvPicPr>
        <p:blipFill>
          <a:blip r:embed="rId1"/>
          <a:stretch/>
        </p:blipFill>
        <p:spPr>
          <a:xfrm>
            <a:off x="285840" y="3143160"/>
            <a:ext cx="3143160" cy="3357720"/>
          </a:xfrm>
          <a:prstGeom prst="rect">
            <a:avLst/>
          </a:prstGeom>
          <a:ln w="0">
            <a:noFill/>
          </a:ln>
        </p:spPr>
      </p:pic>
      <p:sp>
        <p:nvSpPr>
          <p:cNvPr id="329" name="TextBox 8"/>
          <p:cNvSpPr/>
          <p:nvPr/>
        </p:nvSpPr>
        <p:spPr>
          <a:xfrm>
            <a:off x="3500280" y="3071880"/>
            <a:ext cx="56437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rbel"/>
              </a:rPr>
              <a:t>Ребенок</a:t>
            </a:r>
            <a:r>
              <a:rPr b="1" lang="ru-RU" sz="4000" spc="-1" strike="noStrike">
                <a:solidFill>
                  <a:srgbClr val="b13f9a"/>
                </a:solidFill>
                <a:latin typeface="Corbe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orbel"/>
              </a:rPr>
              <a:t> </a:t>
            </a:r>
            <a:r>
              <a:rPr b="1" lang="ru-RU" sz="3900" spc="-1" strike="noStrike">
                <a:solidFill>
                  <a:srgbClr val="b13f9a"/>
                </a:solidFill>
                <a:latin typeface="Corbel"/>
              </a:rPr>
              <a:t>это каждое человеческое существо,  не достигшее   18 летнего возраста</a:t>
            </a:r>
            <a:r>
              <a:rPr b="1" lang="ru-RU" sz="3900" spc="-1" strike="noStrike">
                <a:solidFill>
                  <a:srgbClr val="b13f9a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62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Задания для групп</a:t>
            </a:r>
            <a:r>
              <a:rPr b="0" lang="ru-RU" sz="4300" spc="-1" strike="noStrike">
                <a:solidFill>
                  <a:srgbClr val="c22ea4"/>
                </a:solidFill>
                <a:latin typeface="Corbel"/>
              </a:rPr>
              <a:t>.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28800" y="2214360"/>
            <a:ext cx="800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права есть у вас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права вы считаете главными для челове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ть ли особые права для детей? Каки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какого возраста можно говорить о правах ребен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документы, защищающие права ребенка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5310360" y="4143240"/>
            <a:ext cx="3833640" cy="2438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Администратор\Рабочий стол\12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3036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2"/>
          <p:cNvSpPr/>
          <p:nvPr/>
        </p:nvSpPr>
        <p:spPr>
          <a:xfrm>
            <a:off x="2857680" y="571680"/>
            <a:ext cx="60004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10 декабря 1948 г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– Всеобщая декларация прав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1959 год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Декларация прав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4"/>
          <p:cNvSpPr/>
          <p:nvPr/>
        </p:nvSpPr>
        <p:spPr>
          <a:xfrm>
            <a:off x="0" y="4286160"/>
            <a:ext cx="51436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Palatino Linotype"/>
              </a:rPr>
              <a:t>20 ноября 1989 г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нвенция о правах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8" name="Схема 2" descr=""/>
          <p:cNvPicPr/>
          <p:nvPr/>
        </p:nvPicPr>
        <p:blipFill>
          <a:blip r:embed="rId1"/>
          <a:stretch/>
        </p:blipFill>
        <p:spPr>
          <a:xfrm>
            <a:off x="360360" y="347760"/>
            <a:ext cx="8356680" cy="6149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:\Documents and Settings\Администратор\Рабочий стол\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жизн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равенство и свободу от дискримин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имя, гражданство, право знать своих родителей и быть вместе с ним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обственные взгляды и мнения, возможность их свободно выраж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вободу мысли, совести , религ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образ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личную, семейную жизнь, неприкосновенность жилища, тайну пере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Kartika"/>
              </a:rPr>
              <a:t>Право на свободный доступ к информац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67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Конвенция о правах ребенка</a:t>
            </a:r>
            <a:endParaRPr b="0" lang="en-US" sz="40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2" name="Picture 7" descr="C:\Documents and Settings\Администратор\Рабочий стол\20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1793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Palatino Linotype"/>
              </a:rPr>
              <a:t>Обязанности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6534000" y="4276800"/>
            <a:ext cx="2610000" cy="25812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428760" y="121428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людать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латить 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Нести воинскую служ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хранять природу и окружающую среду, бережно относиться к природным богатств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0" y="1357200"/>
            <a:ext cx="3657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6406"/>
                </a:solidFill>
                <a:latin typeface="Arial Black"/>
              </a:rPr>
              <a:t>Какие права есть у вас дома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86400" y="928440"/>
            <a:ext cx="3657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6406"/>
                </a:solidFill>
                <a:latin typeface="Arial Black"/>
              </a:rPr>
              <a:t>Какие права есть у вас в школе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4857840" y="4000680"/>
            <a:ext cx="4286160" cy="2881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2-03T17:13:56Z</dcterms:modified>
  <cp:revision>26</cp:revision>
  <dc:subject/>
  <dc:title>Слайд 1</dc:title>
</cp:coreProperties>
</file>