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84A4-EAF5-4FCC-A0F2-E8FBCC08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CE32-C3A1-48EA-85E7-0DB8F33C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93D4-3B22-429E-AB37-3E60FABB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BF4E-B958-4BF4-832E-6180F8D7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075A-B689-4270-B14F-9EFFAA85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44F7-DB9F-4ECC-8540-ADDEFBE1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1D91-A010-4069-8318-AFB11AF9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AA7B-FF9C-497B-9CF5-8C39A3A2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DD5C-9866-4CD5-BECF-343FA167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8FE9-B35D-4CC8-BABE-C47D1B5A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E399-2B11-437F-B641-4BD28A0E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504D-CF1F-480E-BBBA-92A2C7D7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DEB9-B20D-4BA2-9C8D-0FED4CF4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D39E-6323-4052-BD60-47DCD051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5F10-1D2B-45D9-9C24-611B3DDE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1593-FCB8-46EC-A0CF-B850429B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6F6B-CE50-4B1F-9EB4-85F8FC83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294B-B3BC-4F77-A073-59FBCA80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B001-C57F-4295-ABFA-A5A30AD3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6E5B-7EB2-4EFC-AFD3-8174E525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8788-7B0C-401E-9C02-13C89525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035-2F06-46A7-B663-CA588E99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9FDD-AA49-438F-B0A7-03AEF740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633F-8A44-44B1-B589-AB253776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0408-CAE6-4A5A-9FC7-8601B2CD28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B140-DFC7-438B-A075-5BC1B180DF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09480" y="1219320"/>
            <a:ext cx="80773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Глагол</a:t>
            </a:r>
            <a:endParaRPr b="1" i="1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33520" y="533520"/>
            <a:ext cx="791532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лагол   называет   не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</a:t>
            </a: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олько    действие...,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о    и       состояние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09480" y="990720"/>
            <a:ext cx="769644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    изменяются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лаголы 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04920" y="228600"/>
            <a:ext cx="830556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- по числам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  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-по родам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     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- по лицам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        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- по временам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           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- по видам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             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- по наклонениям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533520"/>
            <a:ext cx="807732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    определить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исло    глагола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533520" y="609480"/>
            <a:ext cx="838188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д.ч.(один делает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дна сделала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дно будет делать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н.ч.(много делают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ного сделали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ного будут делать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8080" y="609480"/>
            <a:ext cx="80010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  определить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д    глагола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33520" y="762120"/>
            <a:ext cx="77724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м.р.(он, мой)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ж.р. (она, моя)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ср.р.(оно, мое)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523880" y="990720"/>
            <a:ext cx="4896000" cy="29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 определить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ицо   глагола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33520" y="685800"/>
            <a:ext cx="807696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 л.- я делаю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делаем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 л.- ты делаешь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 делаете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 л.- он делает,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на делает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но делает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ни делают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1371600"/>
            <a:ext cx="8001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Что такое глагол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33520" y="83016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Формы глагол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479680"/>
            <a:ext cx="4191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Неопределенная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 что делать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 что сделать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29200" y="2514600"/>
            <a:ext cx="35053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Личная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Указывает на того, кем совершается действ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52280" y="457200"/>
            <a:ext cx="89917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определить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лагола 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62120" y="304920"/>
            <a:ext cx="8076960" cy="58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завершено действ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что сделать?)-совершенный вид;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не завершено действие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что делать?)- несовершенный вид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533520"/>
            <a:ext cx="89154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Спряжение  –  это  изменени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глагола по лицам и числам 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система его личных окончани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69880" y="830160"/>
            <a:ext cx="599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9907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пряжение глагол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9051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19810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5909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-е л.  - у(ю), - ем           - у(ю)       - и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5909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733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-е л.  - ешь,  - ете          - ишь,        - ит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64832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9528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-е л. – ет,   - ют             - ит,          - я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219320" y="1447920"/>
            <a:ext cx="67816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Часть речи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143000" y="1600200"/>
            <a:ext cx="66294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На какие вопросы 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отвечает глагол?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дела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дела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делал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дела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будет дела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сдела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сдела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сделал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сдела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990720" y="990720"/>
            <a:ext cx="723888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Что обозначает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глагол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371600" y="914400"/>
            <a:ext cx="64008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Глагол обозначает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действие предмет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914400" y="1295280"/>
            <a:ext cx="769608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Каким членом предложения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является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295280" y="1828800"/>
            <a:ext cx="65534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Сказуемым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1:53Z</dcterms:created>
  <dc:creator>User_2</dc:creator>
  <dc:description/>
  <dc:language>en-US</dc:language>
  <cp:lastModifiedBy>User_2</cp:lastModifiedBy>
  <dcterms:modified xsi:type="dcterms:W3CDTF">2007-11-23T10:48:41Z</dcterms:modified>
  <cp:revision>7</cp:revision>
  <dc:subject/>
  <dc:title>Презентация PowerPoint</dc:title>
</cp:coreProperties>
</file>