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7E6-B706-44C5-9A28-97DD6F54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BBB-9577-4444-AAF5-F2650F5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6F9-66B4-4B97-98CC-8167ADCD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830-A1DE-4C9D-8229-3A740A9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08B2-2DD2-49CE-901E-78CE8E2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CE61-39A8-4215-960E-6C4ABF5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3BA9-AD5E-41D6-A704-CB1C67E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7ADF-FC56-4293-A5F8-626215C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1598-E9C7-46D6-9468-FD6918A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274C-7202-4971-B49C-7442F31E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FB41-36B7-4712-BA9F-E2326BB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3D2-9189-42BD-8CDF-BAF7F236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A2D-D542-4E9B-B0B1-75612EAC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534-A650-4DA0-A6E8-D18F57A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AE9C-68C9-4C51-845C-1C3B82CE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0214-D5EA-4264-A050-5CA653E3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7889-B249-4EC7-9DFC-F5B1664A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B49-6D21-42BF-BA88-0BD08A57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C3E-718C-4AED-BCB4-05B61C4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46E-DB91-45BF-AE07-5FA1545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08E-45A9-49B1-8003-DFF1B96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98D-6AC5-4731-A968-10EDA96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F8-1635-41B7-95E9-670F49A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D5B-59F7-40F4-8E2C-1DF9962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89D-E9CF-4301-9DC7-16229AF06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59C-6B60-4BD3-A469-20235F089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19320"/>
            <a:ext cx="8077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Глагол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533520"/>
            <a:ext cx="7915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агол   называет   н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олько    действие...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    и       состояни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9480" y="990720"/>
            <a:ext cx="7696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   изменяются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голы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228600"/>
            <a:ext cx="83055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числ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по род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лиц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времен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вид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наклонения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533520"/>
            <a:ext cx="80773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  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исло 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3520" y="609480"/>
            <a:ext cx="8381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д.ч.(один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а сделал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 будет делат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.ч.(много делаю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го сделали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го будут делат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8080" y="609480"/>
            <a:ext cx="8001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д 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3520" y="762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м.р.(он, мой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ж.р. (она, моя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ср.р.(оно, мое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23880" y="990720"/>
            <a:ext cx="4896000" cy="29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цо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3520" y="685800"/>
            <a:ext cx="8076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л.- я делаю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делаем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л.- ты делаешь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 делаете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л.- он делает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а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о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делают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137160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Что такое глагол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83016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ормы глаго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7968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Неопределенна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что делать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что сделать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2514600"/>
            <a:ext cx="3505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Лична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Указывает на того, кем совершается действ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2280" y="457200"/>
            <a:ext cx="8991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гола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2120" y="304920"/>
            <a:ext cx="807696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завершено действ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что сделать?)-совершенный вид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не завершено действи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что делать?)- несовершенный вид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33520"/>
            <a:ext cx="8915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пряжение  –  это  измене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глагола по лицам и числам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истема его личных окончани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69880" y="83016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9907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жение глаго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981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е л.  - у(ю), - ем           - у(ю)       - и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733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-е л.  - ешь,  - ете          - ишь,        - и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6483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952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-е л. – ет,   - ют             - ит,          - я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1447920"/>
            <a:ext cx="67816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асть реч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1600200"/>
            <a:ext cx="66294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На какие вопросы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отвечает глагол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будет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9907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Что обознача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глагол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71600" y="914400"/>
            <a:ext cx="64008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Глагол обозначает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ействие предме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14400" y="1295280"/>
            <a:ext cx="7696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аким членом предлож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является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95280" y="1828800"/>
            <a:ext cx="6553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Сказуемым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1:53Z</dcterms:created>
  <dc:creator>User_2</dc:creator>
  <dc:description/>
  <dc:language>en-US</dc:language>
  <cp:lastModifiedBy>User_2</cp:lastModifiedBy>
  <dcterms:modified xsi:type="dcterms:W3CDTF">2007-11-23T10:48:41Z</dcterms:modified>
  <cp:revision>7</cp:revision>
  <dc:subject/>
  <dc:title>Презентация PowerPoint</dc:title>
</cp:coreProperties>
</file>