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D75-328D-4728-917E-3FF68C2A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D26-FDB1-49D9-BACE-BFCDDE5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DE24-06CE-41B0-9EFB-7F0536EB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F0FE0-82DA-4B18-84DA-F4B9767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DA2A0-0E3F-4706-A2E0-DF97A90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AFBB3-F040-4FC0-8A63-4B9D90E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D4188-F4E1-4CC9-BE8C-150B0D9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AA18-06CF-4ACD-A6BB-560EF49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768AF-5E9A-43CC-9A28-53503508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F15F3-18E1-42BE-A2C8-EF044676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40098-D5AD-4C75-9958-5980BCC6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372-E727-408D-A5A1-BE9F70B9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516-FF98-428F-9F5B-E54D8D21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280C-54B8-4EF6-8B5E-07BF27FB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ABD4-F41E-45BB-AC25-FA8DF83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5DED-D6FA-4392-9DED-6FEAD2A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937-A3A6-4EFA-B2CB-4EE940F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388F-9950-4DE5-8439-FAC4D18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A726-F5D7-41DB-B448-0C0BADD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CF39-5C2D-45A8-9963-84BA759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19C-5269-472C-83C5-A21ACE3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378-088E-4A4D-8048-3B5C92F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C480-9DB0-4958-90CC-3995510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DF7-33BB-45BC-AEE8-34FD4A6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876-C9FD-4DC7-BBA6-D3A79EA0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C312-6751-447B-991E-02AC8484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1235-5E6D-49AF-8B1C-4F3AA868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68EC-9508-4DF2-B8FC-425264E3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480-C70C-4E9D-A0F7-0DF24EA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2817-6C4F-470F-9DFD-6C94608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C1ED-F00F-426F-B8C8-BC81DA28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8C0-6537-4B81-9E94-6B0992B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5F70-DA37-4529-B1BC-8CFE2DF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7AE4-73AA-410D-A839-E5CD154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D279-25F3-4DF4-86CA-2F45756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E3FC-9ADE-4B0D-B015-36A7F05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2BBC-0DA5-4389-9410-D4DD5AA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4CCC-5DC9-4295-83A8-C577897C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1551-3356-4F06-B135-C4E9994A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8949-46B5-4B18-80AA-0682AAB0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06B4-93BD-4C36-A839-3918410B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E2A0-CC4A-4F33-B048-9DC0A53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EB-0959-4A90-80C7-BA3BA2D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704E-BEC5-4EC0-A652-0601800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893A-B4C5-4710-985F-B119A0C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F976-3607-4F8F-8270-894D0AD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EA95-329E-4ED3-B558-4C40D048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B039-4745-4930-B0D0-FA1F913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9871-8DF0-4C8D-A94B-C80B2E5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E069-A9EF-4B30-8E0B-7AAFDB0A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5F0A-3352-4026-A1CD-15B6B093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FBFC-F090-4DFD-9397-FD2C1F5D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CA4C2-0CA1-4A0E-9FE6-5CABBFEA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B9C-1028-4A1B-939C-B3CD524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9BD2-3DF0-4A2D-B283-0D8787F1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288E-13FA-4775-A73E-A93A737E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F427-37D4-4FBC-8555-AFABC0C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94AF-6673-4C29-9AFD-323BF0C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719D-4FBA-42FA-AC9F-E3DF4EE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A393-6269-4636-A93D-A1A22AD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3D07A-66CF-48C3-A07B-3DA1683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E1D3-8C51-46BC-A707-014D1BC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4F9E-E132-4631-B979-29BDDF32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1519-060E-4133-82AE-933649AC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C72-C9DE-418C-A220-DA6D4927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C0CD8-BF13-49A9-849F-FC724A6C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084E-890A-49E4-BDB4-24E2AB9B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2EBD-E469-492A-8F18-E93D1C72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25BD-C1AE-4D2D-82D2-20830EC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2F61-4E4D-4F9E-8750-AC90C79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F0E5-2BBE-40EA-85A3-DC8C501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C88B-5E07-459A-BE20-6773ACC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0E3A-D567-45A6-B286-7D39D6D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976D-B127-4726-A962-ECABD4D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4038-2CF2-4DA8-841E-E1F5B14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DB9-6EE9-47D0-8372-1A73AE0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F043-2E3E-494D-8468-8BB49999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9D6B-8D6F-457A-8C3C-D0E088C9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CECF-F9BC-4CD1-9B0A-B4223CF7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7D4E-4FBB-4DEB-9D45-7E3E17CE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52FC-FB29-40E6-854E-B50C938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98F9-B29C-4965-838E-C635351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8C36-CE8C-456A-9B4D-1C919C6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B6AFF-8501-41A4-9756-945F06C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371E-3F7A-4329-AA77-C1366AF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1854-D236-4BD7-9FFD-7DCB3D6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7CC-80D1-430A-94F5-01539511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27733-05D7-45EE-ACC2-76F63E2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38DB-2B84-4162-92C1-400B12B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7AF6-8047-4D30-BFCE-8404321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F965E-7D07-452F-BF32-0F811B4A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CBAE6-E9BB-4A3A-86CD-44C2EA3D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7ACDE-09C6-4992-A8C4-5555EC22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2AF15A-E263-40AD-944F-70A3852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CE888-CF80-424A-BB25-B96DA80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652D0-673C-4938-936B-E320561A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9F7D2-FBA0-4D6D-8BC7-020BCF3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C4B-41D5-4710-BAF7-90FD2EE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8F8EE-5FF5-43D5-8162-35D256B3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2FF47-4219-41E7-8E83-92D73F1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DCB8E-E4CD-4C6C-B1E6-F88B58A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85B8C-54A0-4D51-874D-98A661B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B91EF-28FC-48CB-B29E-D8244656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99310-B35C-4980-8F33-10C9D72A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1089A-AFAB-486C-AF80-1DA4496E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7A54E-8AFB-4B3A-BCE6-AF614EAB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4042-D599-4683-8F35-3523DA7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7424-9DE3-439E-BDE1-64D27461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D6B-B59C-4553-8DFA-40E040215A7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C96-AB35-463B-9A67-EC356B155FB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826-03F4-402B-A92E-882FC05F4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1E9A-E22C-4ECA-94D4-43F95C5B36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DD37-DA67-4975-99A2-7CD6BD95F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3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CED-FDE3-4EBB-9F60-77A8728E53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905-0AE2-434F-ACC4-8A4BDF9285E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B4D-0DD9-4DB7-BD97-00CE3EFE31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B1DB-6E58-42FB-AC29-93F6EE51B7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WordArt 5"/>
          <p:cNvSpPr txBox="1"/>
          <p:nvPr/>
        </p:nvSpPr>
        <p:spPr>
          <a:xfrm>
            <a:off x="179280" y="981000"/>
            <a:ext cx="896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ла учитель начальных классов: Манина Ю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БЕРИ КЛЮЧ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13527" t="15300" r="13387" b="10354"/>
          <a:stretch/>
        </p:blipFill>
        <p:spPr>
          <a:xfrm>
            <a:off x="1622520" y="1628640"/>
            <a:ext cx="5897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парт мы выйдем дру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шуметь совсем не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ли прямо, ноги вмес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орот кругом на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лопнем пару раз в ладо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топаем немнож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еперь представим, де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ваши руки- ве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чаем ими дру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дует ветер юж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м урок продолжить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равнялись. Тихо с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а доску посмотр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WordArt 6"/>
          <p:cNvSpPr txBox="1"/>
          <p:nvPr/>
        </p:nvSpPr>
        <p:spPr>
          <a:xfrm>
            <a:off x="250920" y="620640"/>
            <a:ext cx="6408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.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9" name="Picture 9" descr="23m4"/>
          <p:cNvPicPr/>
          <p:nvPr/>
        </p:nvPicPr>
        <p:blipFill>
          <a:blip r:embed="rId1"/>
          <a:stretch/>
        </p:blipFill>
        <p:spPr>
          <a:xfrm>
            <a:off x="5724360" y="1989000"/>
            <a:ext cx="2686320" cy="4104000"/>
          </a:xfrm>
          <a:prstGeom prst="rect">
            <a:avLst/>
          </a:prstGeom>
          <a:ln w="0">
            <a:noFill/>
          </a:ln>
        </p:spPr>
      </p:pic>
    </p:spTree>
  </p:cSld>
  <p:transition spd="slow" advTm="24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зки детки закрыва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 ярко светит в глазки нам. Мы поморщимся немножко и конечно улыбне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но просыпаемся , подарку улыбае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WordArt 4"/>
          <p:cNvSpPr txBox="1"/>
          <p:nvPr/>
        </p:nvSpPr>
        <p:spPr>
          <a:xfrm>
            <a:off x="1258920" y="333360"/>
            <a:ext cx="676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астика для глаз.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3" name="Picture 5" descr="10"/>
          <p:cNvPicPr/>
          <p:nvPr/>
        </p:nvPicPr>
        <p:blipFill>
          <a:blip r:embed="rId1"/>
          <a:stretch/>
        </p:blipFill>
        <p:spPr>
          <a:xfrm>
            <a:off x="6372360" y="4643280"/>
            <a:ext cx="223200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6"/>
          <p:cNvSpPr txBox="1"/>
          <p:nvPr/>
        </p:nvSpPr>
        <p:spPr>
          <a:xfrm>
            <a:off x="843120" y="2709720"/>
            <a:ext cx="745776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5" name="Picture 7" descr="18m5"/>
          <p:cNvPicPr/>
          <p:nvPr/>
        </p:nvPicPr>
        <p:blipFill>
          <a:blip r:embed="rId1"/>
          <a:stretch/>
        </p:blipFill>
        <p:spPr>
          <a:xfrm>
            <a:off x="3203640" y="333360"/>
            <a:ext cx="273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6299280" cy="471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математики во 2 класс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Числовые выражения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Picture 4" descr="kniga_1"/>
          <p:cNvPicPr/>
          <p:nvPr/>
        </p:nvPicPr>
        <p:blipFill>
          <a:blip r:embed="rId1"/>
          <a:stretch/>
        </p:blipFill>
        <p:spPr>
          <a:xfrm>
            <a:off x="7020000" y="4770360"/>
            <a:ext cx="1800000" cy="15732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ить детей с новыми понятиями: «выражение», «значение выражения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ершенствовать вычислительные навыки, умение соблюдать порядок действий в выражениях со скобками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ься делать вычисления, используя устные и письменные приёмы вычисл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вать умение логически мыслить, рассужда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ние активности на уро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4" descr="writingonbook"/>
          <p:cNvPicPr/>
          <p:nvPr/>
        </p:nvPicPr>
        <p:blipFill>
          <a:blip r:embed="rId1"/>
          <a:stretch/>
        </p:blipFill>
        <p:spPr>
          <a:xfrm>
            <a:off x="6840360" y="0"/>
            <a:ext cx="2303640" cy="21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идактический материа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бл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чая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4" descr="мечта"/>
          <p:cNvPicPr/>
          <p:nvPr/>
        </p:nvPicPr>
        <p:blipFill>
          <a:blip r:embed="rId1"/>
          <a:stretch/>
        </p:blipFill>
        <p:spPr>
          <a:xfrm>
            <a:off x="6372360" y="4221000"/>
            <a:ext cx="2447640" cy="20574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ическое обеспеч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активная до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тер ,компью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9" name="Picture 4" descr="notebook2"/>
          <p:cNvPicPr/>
          <p:nvPr/>
        </p:nvPicPr>
        <p:blipFill>
          <a:blip r:embed="rId1"/>
          <a:stretch/>
        </p:blipFill>
        <p:spPr>
          <a:xfrm>
            <a:off x="5003640" y="4011480"/>
            <a:ext cx="3600720" cy="284652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ное обеспеч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онное учебное пособие для начальной школы «Математика и конструирование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М.И. Мор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текстовых задач Москва «Вако» 2005г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домашнего з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бщение целей и задач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ный сч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культминут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репление пройденного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ение итогов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4478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ая заряд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e1ff"/>
                </a:solidFill>
                <a:latin typeface="Arial"/>
              </a:rPr>
              <a:t>Кто быстрее съест рыбу</a:t>
            </a:r>
            <a:r>
              <a:rPr b="0" lang="en-US" sz="2000" spc="-1" strike="noStrike">
                <a:solidFill>
                  <a:srgbClr val="afe1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7+2-6+4+0-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-5+2+3-6-0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4" descr="Незнайка_1"/>
          <p:cNvPicPr/>
          <p:nvPr/>
        </p:nvPicPr>
        <p:blipFill>
          <a:blip r:embed="rId1"/>
          <a:stretch/>
        </p:blipFill>
        <p:spPr>
          <a:xfrm>
            <a:off x="2987640" y="420048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cat27"/>
          <p:cNvPicPr/>
          <p:nvPr/>
        </p:nvPicPr>
        <p:blipFill>
          <a:blip r:embed="rId2"/>
          <a:stretch/>
        </p:blipFill>
        <p:spPr>
          <a:xfrm>
            <a:off x="611280" y="1844640"/>
            <a:ext cx="695160" cy="1143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5" descr="cat27"/>
          <p:cNvPicPr/>
          <p:nvPr/>
        </p:nvPicPr>
        <p:blipFill>
          <a:blip r:embed="rId3"/>
          <a:stretch/>
        </p:blipFill>
        <p:spPr>
          <a:xfrm>
            <a:off x="3995640" y="2781360"/>
            <a:ext cx="695520" cy="1143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6" descr="Копия ani-crazy_dolphin"/>
          <p:cNvPicPr/>
          <p:nvPr/>
        </p:nvPicPr>
        <p:blipFill>
          <a:blip r:embed="rId4"/>
          <a:stretch/>
        </p:blipFill>
        <p:spPr>
          <a:xfrm>
            <a:off x="2411280" y="2349360"/>
            <a:ext cx="952560" cy="6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5867280" y="2997360"/>
          <a:ext cx="2737080" cy="345600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760"/>
                <a:gridCol w="455400"/>
                <a:gridCol w="457200"/>
                <a:gridCol w="4557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1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, что называем мы </a:t>
            </a:r>
            <a:r>
              <a:rPr b="0" i="1" lang="ru-RU" sz="6000" spc="-1" strike="noStrike">
                <a:solidFill>
                  <a:srgbClr val="0088e4"/>
                </a:solidFill>
                <a:latin typeface="Monotype Corsiva"/>
              </a:rPr>
              <a:t>примером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назовем </a:t>
            </a:r>
            <a:r>
              <a:rPr b="0" lang="ru-RU" sz="6000" spc="-1" strike="noStrike">
                <a:solidFill>
                  <a:srgbClr val="0088e4"/>
                </a:solidFill>
                <a:latin typeface="Monotype Corsiva"/>
              </a:rPr>
              <a:t>выражением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твет у него найде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ем </a:t>
            </a:r>
            <a:r>
              <a:rPr b="0" lang="ru-RU" sz="6000" spc="-1" strike="noStrike">
                <a:solidFill>
                  <a:srgbClr val="66ff99"/>
                </a:solidFill>
                <a:latin typeface="Monotype Corsiva"/>
              </a:rPr>
              <a:t>значение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5" descr="d007"/>
          <p:cNvPicPr/>
          <p:nvPr/>
        </p:nvPicPr>
        <p:blipFill>
          <a:blip r:embed="rId1"/>
          <a:stretch/>
        </p:blipFill>
        <p:spPr>
          <a:xfrm>
            <a:off x="6443640" y="479736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0:48:01Z</dcterms:created>
  <dc:creator>user1</dc:creator>
  <dc:description/>
  <dc:language>en-US</dc:language>
  <cp:lastModifiedBy>Юлия</cp:lastModifiedBy>
  <dcterms:modified xsi:type="dcterms:W3CDTF">2021-04-12T14:22:04Z</dcterms:modified>
  <cp:revision>28</cp:revision>
  <dc:subject/>
  <dc:title>МОУ Пискловская СОШ</dc:title>
</cp:coreProperties>
</file>