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png" ContentType="image/png"/>
  <Override PartName="/ppt/media/image15.gif" ContentType="image/gif"/>
  <Override PartName="/ppt/media/image14.gif" ContentType="image/gif"/>
  <Override PartName="/ppt/media/image9.gif" ContentType="image/gif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897-D360-4985-B06E-D68A30E3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B02-C951-415E-9BFF-77A564F4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58898-B2B6-4835-A78F-4EEE9661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149D7-A53C-46CE-AFBD-659CCE9E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0691C-7421-4A33-8210-1F53F1C0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7897B-A333-4289-B636-CF7FBFBD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B11AB-048B-4EEF-A792-910E782C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51287-DAD3-4E9A-9D50-EA58BFF2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8C9D8-909B-4D20-B284-CEFA2DE2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93ABF-02B0-411D-A54C-21112654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8B89A-8943-4777-BE22-54054812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15B6-32B7-4338-B552-974533DE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E4F-B148-45C8-A1FF-C71B7099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A4F6-E961-4429-9777-76659ED0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7661-7436-4128-83B5-2E373C0D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0CF4-F37C-4139-88DF-819B7CDD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8CF6-B774-49C6-9035-BE4057A4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56BD-E32A-4686-91B9-FB933E2D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9885-F57D-4806-B141-5C6CDEBD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09F1-12B2-4960-8A15-09C532C3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6843-CCB2-4851-8832-E06DFAA8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3392-029E-4E13-8D3A-595810F2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D398-C82D-441F-870A-EFC96EAB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4972-3066-4640-B866-D9749246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06BA-0184-4D49-B7BF-78502CCE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C29C-45DD-4C99-BEA6-023FAD37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A6787-0908-4C23-B00F-8801AA69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D9D8F-8BF5-4C8A-B70F-DF1E8C11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E2346-A8F1-4310-B819-AC93DF2E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674B2-98D4-4480-AA17-B8090A0E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51775-709C-4048-996A-31679B2B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E10-9782-4D4A-9D1F-F1FDB962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D4781-EC39-4A84-B193-82F0FEF3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3473F-6DCE-4FBA-B7D3-896442FE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8F6FD-A9D2-4F4B-BBDF-3DD23FFA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77C95-8CB9-4239-8D3E-292371C5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F4313-822F-4D44-8400-BEC41D06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652CC-9D0E-45DE-939D-4A25C9CC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444FE-FF8C-4056-B6CD-30710FE2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943BF-EE73-4CEE-B699-3E3C549E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DAEA0-0DB4-49A8-9EFB-23C52168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6C6AE-447C-430F-AD95-EEFD94F0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F07-5D7E-49C8-A1C4-B69CA4C7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788CC-EA34-42F4-A0EE-E1B2736E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1F3B3-8108-4E5C-AB9A-F7121579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F5F3E-F729-4678-95FD-31C9923E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5DF7D-0182-4E3D-AEFA-4953C936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BC5EF-8201-4948-92D8-A8E408F3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C4A77-F863-4C9E-8D77-B776454A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CDC3C-AF3E-4313-A006-356DA52C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AC6E0-02BC-4670-BA10-A863A965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DD789-EBB4-45D9-A65B-081B729C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70A7A-A1B8-4073-9E95-B53408D1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A11-90A3-4973-8E25-F3436A6F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FE493-6C4F-42AE-BD33-C0250E01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3A798-171C-46DD-B616-E27CE4F8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A1701-8703-4EF2-8B01-2F02082E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FFC59-2D50-4466-8614-FCFBC906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7895F-85D0-4468-AE3F-94034122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4019D-6473-4C94-9A15-B9BD41C1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35A9D-0704-41BF-9602-E9061786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9B5CD-07C7-4B20-A329-82A11422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5A2DC-9447-4EA6-A34C-1A192581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E4B64-66D5-4FD2-B894-4512707B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898-D01A-4F6D-AA02-13D4EA4A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AA212-BC2C-4065-B7CE-70E67977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78C80-17E8-4470-B6F5-CFC6DF4B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C06B8-0F8D-4F1D-A9D1-B4FE71B0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ACABC-6C25-4AAC-97A4-9D585A9A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291DA-C4FF-40AB-9005-4C77087C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7261C-8312-4B62-A7F0-09E0C53C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E2ADB-9B28-4985-A7E5-CEF56BCE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3A16A-15DB-4C45-8D75-F9DE0466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E3BD8-9AA4-4D23-A870-2DC2246B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71B06-F523-46D1-AC66-E02E6449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897-4EFD-45C1-988D-607AF23E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6934D-5348-4CB5-A3E6-05E245A7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3EAD2-14EC-4961-944A-0C84FC91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4428C-0256-418D-9CB4-10B816E5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FB25D-CEF3-4D42-A33B-5799174B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6DC50-67D3-4B92-AEE6-5010458A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61F7B-ADF7-482B-94C6-961D1487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B42A8-DA54-4142-95E6-2FCEA943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62F13-4892-4CBD-932F-7E4F57C1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9824E-6981-4934-B8BE-417A0D94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4D2D3-97BF-4855-9A74-67B723E1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190C-CA59-47B6-B9DD-424DD85C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382EF-9CD9-4C90-BB60-5C630853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2754F-50A5-471B-8450-BBA00F63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499EC-459B-492C-B55A-4B59C142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60B9D-D65B-47B2-96CC-77577158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FF6A3-56FC-44E6-B465-D3B45F42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579E58-54D2-4C99-AF5B-C28A5175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1DCED3-A499-4772-99FA-66D92EAF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B63635-735A-46AF-B784-9FD13F63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8410EF-F9ED-4A5D-BAE0-9E6B1AF3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F16316-B568-4402-A483-A4AF46FF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88A-57A2-4192-B0E1-7515339D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576E07-7B42-444F-95BE-C6D0896E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D40588-C29B-4C26-B13F-9DA6F100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C621D8-FD6A-4F94-B42B-F529CE04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AD7EDF-82C3-4EDD-860C-B61955FD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3B7847-6F5F-45EF-BA77-506010CA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F6B932-7C56-47BD-A998-0B91EC25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757F54-CEB4-49FF-ABD0-95D53939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CC7D9-D194-4B81-9E1B-7E050C2F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6F96C-D5B0-441C-9E19-FE66976F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D5BD6-428E-4E37-A9F7-E23DCC9D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7762-32B2-43E6-8CC2-01634158DAB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4B9D-97FF-4E5E-9497-8B193F22AB0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215B-6FD3-4B43-8CBA-BA9240C8C7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8B73-143B-4081-BFA7-A205BE40968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9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6360-2A84-41D2-B430-D89386616E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25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2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35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3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4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525F-45A9-44FF-B860-68432AA832C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8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8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9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93C9-C61D-452F-A142-AAAAEE439D9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548F-ADB1-4B9A-9366-379FF3A9A8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81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8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9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1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4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58F9-DA75-4EEA-A4FF-D6F9D4AAC6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резентация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WordArt 5"/>
          <p:cNvSpPr txBox="1"/>
          <p:nvPr/>
        </p:nvSpPr>
        <p:spPr>
          <a:xfrm>
            <a:off x="179280" y="981000"/>
            <a:ext cx="89647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ла учитель начальных классов: Манина Ю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ДБЕРИ КЛЮЧ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15" name="Picture 4" descr=""/>
          <p:cNvPicPr/>
          <p:nvPr/>
        </p:nvPicPr>
        <p:blipFill>
          <a:blip r:embed="rId1"/>
          <a:srcRect l="13527" t="15300" r="13387" b="10354"/>
          <a:stretch/>
        </p:blipFill>
        <p:spPr>
          <a:xfrm>
            <a:off x="1622520" y="1628640"/>
            <a:ext cx="5897520" cy="44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5406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-за парт мы выйдем дружн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шуметь совсем не нуж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али прямо, ноги вмест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орот кругом на мес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лопнем пару раз в ладош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потопаем немножк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теперь представим, дет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дто ваши руки- вет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качаем ими дружн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дто дует ветер юж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м урок продолжить нуж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равнялись. Тихо с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на доску посмотр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WordArt 6"/>
          <p:cNvSpPr txBox="1"/>
          <p:nvPr/>
        </p:nvSpPr>
        <p:spPr>
          <a:xfrm>
            <a:off x="250920" y="620640"/>
            <a:ext cx="6408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зкультминутка.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9" name="Picture 9" descr="23m4"/>
          <p:cNvPicPr/>
          <p:nvPr/>
        </p:nvPicPr>
        <p:blipFill>
          <a:blip r:embed="rId1"/>
          <a:stretch/>
        </p:blipFill>
        <p:spPr>
          <a:xfrm>
            <a:off x="5724360" y="1989000"/>
            <a:ext cx="2686320" cy="4104000"/>
          </a:xfrm>
          <a:prstGeom prst="rect">
            <a:avLst/>
          </a:prstGeom>
          <a:ln w="0">
            <a:noFill/>
          </a:ln>
        </p:spPr>
      </p:pic>
    </p:spTree>
  </p:cSld>
  <p:transition spd="slow" advTm="240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азки детки закрыва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нце ярко светит в глазки нам. Мы поморщимся немножко и конечно улыбнем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ужно просыпаемся , подарку улыбаем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WordArt 4"/>
          <p:cNvSpPr txBox="1"/>
          <p:nvPr/>
        </p:nvSpPr>
        <p:spPr>
          <a:xfrm>
            <a:off x="1258920" y="333360"/>
            <a:ext cx="6769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имнастика для глаз.</a:t>
            </a:r>
            <a:endParaRPr b="0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3" name="Picture 5" descr="10"/>
          <p:cNvPicPr/>
          <p:nvPr/>
        </p:nvPicPr>
        <p:blipFill>
          <a:blip r:embed="rId1"/>
          <a:stretch/>
        </p:blipFill>
        <p:spPr>
          <a:xfrm>
            <a:off x="6372360" y="4643280"/>
            <a:ext cx="223200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6"/>
          <p:cNvSpPr txBox="1"/>
          <p:nvPr/>
        </p:nvSpPr>
        <p:spPr>
          <a:xfrm>
            <a:off x="843120" y="2709720"/>
            <a:ext cx="7457760" cy="280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урок!</a:t>
            </a:r>
            <a:endParaRPr b="0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5" name="Picture 7" descr="18m5"/>
          <p:cNvPicPr/>
          <p:nvPr/>
        </p:nvPicPr>
        <p:blipFill>
          <a:blip r:embed="rId1"/>
          <a:stretch/>
        </p:blipFill>
        <p:spPr>
          <a:xfrm>
            <a:off x="3203640" y="333360"/>
            <a:ext cx="27367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642960" y="1071720"/>
            <a:ext cx="6299280" cy="47116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рок математики во 2 класс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omic Sans MS"/>
              </a:rPr>
              <a:t>Числовые выражения.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0" name="Picture 4" descr="kniga_1"/>
          <p:cNvPicPr/>
          <p:nvPr/>
        </p:nvPicPr>
        <p:blipFill>
          <a:blip r:embed="rId1"/>
          <a:stretch/>
        </p:blipFill>
        <p:spPr>
          <a:xfrm>
            <a:off x="7020000" y="4770360"/>
            <a:ext cx="1800000" cy="1573200"/>
          </a:xfrm>
          <a:prstGeom prst="rect">
            <a:avLst/>
          </a:prstGeom>
          <a:ln w="0">
            <a:noFill/>
          </a:ln>
        </p:spPr>
      </p:pic>
    </p:spTree>
  </p:cSld>
  <p:transition spd="med" advTm="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и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знакомить детей с новыми понятиями: «выражение», «значение выражения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ершенствовать вычислительные навыки, умение соблюдать порядок действий в выражениях со скобками 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ься делать вычисления, используя устные и письменные приёмы вычислен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вивать умение логически мыслить, рассуждать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спитание активности на урок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3" name="Picture 4" descr="writingonbook"/>
          <p:cNvPicPr/>
          <p:nvPr/>
        </p:nvPicPr>
        <p:blipFill>
          <a:blip r:embed="rId1"/>
          <a:stretch/>
        </p:blipFill>
        <p:spPr>
          <a:xfrm>
            <a:off x="6840360" y="0"/>
            <a:ext cx="2303640" cy="215748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идактический материал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бли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точ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даточный материа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чая тетрад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4" descr="мечта"/>
          <p:cNvPicPr/>
          <p:nvPr/>
        </p:nvPicPr>
        <p:blipFill>
          <a:blip r:embed="rId1"/>
          <a:stretch/>
        </p:blipFill>
        <p:spPr>
          <a:xfrm>
            <a:off x="6372360" y="4221000"/>
            <a:ext cx="2447640" cy="2057400"/>
          </a:xfrm>
          <a:prstGeom prst="rect">
            <a:avLst/>
          </a:prstGeom>
          <a:ln w="0">
            <a:noFill/>
          </a:ln>
        </p:spPr>
      </p:pic>
    </p:spTree>
  </p:cSld>
  <p:transition spd="med" advTm="0">
    <p:zoom dir="in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ехническое обеспечен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терактивная дос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нтер ,компьют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9" name="Picture 4" descr="notebook2"/>
          <p:cNvPicPr/>
          <p:nvPr/>
        </p:nvPicPr>
        <p:blipFill>
          <a:blip r:embed="rId1"/>
          <a:stretch/>
        </p:blipFill>
        <p:spPr>
          <a:xfrm>
            <a:off x="5003640" y="4011480"/>
            <a:ext cx="3600720" cy="2846520"/>
          </a:xfrm>
          <a:prstGeom prst="rect">
            <a:avLst/>
          </a:prstGeom>
          <a:ln w="0">
            <a:noFill/>
          </a:ln>
        </p:spPr>
      </p:pic>
    </p:spTree>
  </p:cSld>
  <p:transition spd="med" advTm="0"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граммное обеспечен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ектронное учебное пособие для начальной школы «Математика и конструирование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ик М.И. Мор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борник текстовых задач Москва «Вако» 2005г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zoom dir="in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лан урок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онный момен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верка домашнего зад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общение целей и задач уро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тный сч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яснение нового материа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изкультминут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крепление пройденного материа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бщ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ведение итогов уро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машнее зад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4478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тематическая заряд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540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fe1ff"/>
                </a:solidFill>
                <a:latin typeface="Arial"/>
              </a:rPr>
              <a:t>Кто быстрее съест рыбу</a:t>
            </a:r>
            <a:r>
              <a:rPr b="0" lang="en-US" sz="2000" spc="-1" strike="noStrike">
                <a:solidFill>
                  <a:srgbClr val="afe1ff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7+2-6+4+0-6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0-5+2+3-6-0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Picture 4" descr="Незнайка_1"/>
          <p:cNvPicPr/>
          <p:nvPr/>
        </p:nvPicPr>
        <p:blipFill>
          <a:blip r:embed="rId1"/>
          <a:stretch/>
        </p:blipFill>
        <p:spPr>
          <a:xfrm>
            <a:off x="2987640" y="4200480"/>
            <a:ext cx="1724040" cy="26575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4" descr="cat27"/>
          <p:cNvPicPr/>
          <p:nvPr/>
        </p:nvPicPr>
        <p:blipFill>
          <a:blip r:embed="rId2"/>
          <a:stretch/>
        </p:blipFill>
        <p:spPr>
          <a:xfrm>
            <a:off x="611280" y="1844640"/>
            <a:ext cx="695160" cy="11430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5" descr="cat27"/>
          <p:cNvPicPr/>
          <p:nvPr/>
        </p:nvPicPr>
        <p:blipFill>
          <a:blip r:embed="rId3"/>
          <a:stretch/>
        </p:blipFill>
        <p:spPr>
          <a:xfrm>
            <a:off x="3995640" y="2781360"/>
            <a:ext cx="695520" cy="1143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6" descr="Копия ani-crazy_dolphin"/>
          <p:cNvPicPr/>
          <p:nvPr/>
        </p:nvPicPr>
        <p:blipFill>
          <a:blip r:embed="rId4"/>
          <a:stretch/>
        </p:blipFill>
        <p:spPr>
          <a:xfrm>
            <a:off x="2411280" y="2349360"/>
            <a:ext cx="952560" cy="62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0" name=""/>
          <p:cNvGraphicFramePr/>
          <p:nvPr/>
        </p:nvGraphicFramePr>
        <p:xfrm>
          <a:off x="5867280" y="2997360"/>
          <a:ext cx="2737080" cy="345600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760"/>
                <a:gridCol w="455400"/>
                <a:gridCol w="457200"/>
                <a:gridCol w="45576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18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85406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, что называем мы </a:t>
            </a:r>
            <a:r>
              <a:rPr b="0" i="1" lang="ru-RU" sz="6000" spc="-1" strike="noStrike">
                <a:solidFill>
                  <a:srgbClr val="0088e4"/>
                </a:solidFill>
                <a:latin typeface="Monotype Corsiva"/>
              </a:rPr>
              <a:t>примером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годня назовем </a:t>
            </a:r>
            <a:r>
              <a:rPr b="0" lang="ru-RU" sz="6000" spc="-1" strike="noStrike">
                <a:solidFill>
                  <a:srgbClr val="0088e4"/>
                </a:solidFill>
                <a:latin typeface="Monotype Corsiva"/>
              </a:rPr>
              <a:t>выражением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ответ у него найде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овем </a:t>
            </a:r>
            <a:r>
              <a:rPr b="0" lang="ru-RU" sz="6000" spc="-1" strike="noStrike">
                <a:solidFill>
                  <a:srgbClr val="66ff99"/>
                </a:solidFill>
                <a:latin typeface="Monotype Corsiva"/>
              </a:rPr>
              <a:t>значением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5" descr="d007"/>
          <p:cNvPicPr/>
          <p:nvPr/>
        </p:nvPicPr>
        <p:blipFill>
          <a:blip r:embed="rId1"/>
          <a:stretch/>
        </p:blipFill>
        <p:spPr>
          <a:xfrm>
            <a:off x="6443640" y="4797360"/>
            <a:ext cx="1238400" cy="18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0:48:01Z</dcterms:created>
  <dc:creator>user1</dc:creator>
  <dc:description/>
  <dc:language>en-US</dc:language>
  <cp:lastModifiedBy>Юлия</cp:lastModifiedBy>
  <dcterms:modified xsi:type="dcterms:W3CDTF">2021-04-12T14:22:04Z</dcterms:modified>
  <cp:revision>28</cp:revision>
  <dc:subject/>
  <dc:title>МОУ Пискловская СОШ</dc:title>
</cp:coreProperties>
</file>