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109-C19C-4A57-9E9C-2BD49D29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D5F-0CFF-4FD2-8DD8-B01BF2D4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BD1-F7F4-4EAD-924F-7361488B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316-5B03-467E-91A0-4787FD8E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C875-E7E1-4872-B1AF-B851011A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146F-3320-47A2-8272-8265B2B7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C21E-13D6-4DF3-8490-8E4C1FF4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4AE7-0E53-467D-8DDC-8F545BAD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872F-3049-4755-A157-BD444AC5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B460-9893-407C-9733-3C597127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37F4-EBB9-433B-9D68-AA1A6910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BA3-C05C-4499-8F74-205FEE3E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8E92-3EA8-466E-ACFF-10CBCE62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1528-38C0-4C52-9D76-22532179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FCDA-5DEA-4A6E-B68E-6634EBBE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32E9-0769-4394-B646-61D56AF6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304A-5653-451E-85BF-969B2F1C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E7E18-8807-41CB-846C-53FA14AE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BFEAD-D84A-4718-AB8E-9B10951A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1277A-C241-4A85-A9CD-817F70EF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8231E-86A5-4B96-A8CC-2092B30A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B0B10-6420-4E6C-AEE2-3C1313BA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4B8-C321-4356-842D-962BEFD8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955C8-2761-4570-AD3C-63AA9029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9C58C-EE9B-4753-B79C-31EAB94B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22C00-70EB-4CBE-B93B-77A6D170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9BC1D-2B6B-455E-991A-E80DEC86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93CF2-7B67-46CD-9572-003A83A3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4CF31-0AF0-469D-91A4-3463C00E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A1F0D-5D99-4F9D-9407-5CC8A8F1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F9DC-4487-4F65-880C-6BC9A99F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13D8A-91C0-43D8-B76C-EE2CFA19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A930-B0CC-45AC-8589-B929F02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A94-ADBB-46E3-AA34-F2794D8A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0864A-76C4-460C-969C-F7387DC7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11901-FE2E-4991-AA54-4FE7D8A9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DFA4D-3198-4F19-A1F7-18AC62B1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42121-3941-4A06-B9E5-42A1E8C5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E05CC-9DE3-4C05-9AC2-905076EB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6B0AF-4758-4D39-83AB-8AC25B72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AFD54-6AFF-45F2-B5A9-EA5AABE8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9CFA-DD86-4FC4-A29F-0941A759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36C63-15C0-423E-BF3B-F6F14F4D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7C918-44FF-4FEE-9D07-07751B96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FE7-99E7-4D51-ACBD-CE375920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1549E-55D9-4278-B183-0007AF22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F6E8A-6B33-4BB0-A7E3-1ED73FEF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225794-01F2-461A-9033-4C6ADC73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86C5E-D9FA-4F00-8440-DC589652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B2997-284F-4619-A725-7A0132C5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19317-40AB-4D15-AE35-C53BF732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0520E-D053-41EF-B60C-1F29630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FBD2F-1DD8-4412-BA81-56A080B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0754B-A34D-4EB0-A90A-C950E85C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A341A-3E23-4C4F-A6BB-63C716F6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29A-0F0C-461F-82DC-530154EA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AAA10-4031-4707-98A7-08D27A27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D8C72-C2E9-4137-8449-52D1340B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57419-28C6-45ED-8C3F-2B31F69C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6D513-0D66-4154-9BC7-0961BE54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F851B-9113-4CA1-9BC9-787BDA71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88E27-79DA-4DDE-951C-FD3A8172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C0241-B31A-46D0-A5CE-D2E88CB6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2050F-9344-4CD5-9DEC-B2F15F89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9790A-AB3B-433C-908D-6466483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8A5F2-4B39-4CA3-A471-65AE41C4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6C8-46B9-4380-9486-006B36B7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8FD92-6ED9-47DE-88C6-71EF18EB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C950F-6F6B-463E-B3B1-64746000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3A5F0-2CDF-4BB7-A3B9-D35E84FA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7F6A0-3C00-48D6-A462-17E37A70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89A70-FCC4-41A8-BDE1-4741005B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03461-6B92-4E13-B039-1650EBD8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C53A5F-9FBB-4E63-9FFD-19C45070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3D5F21-938A-48B3-A867-41A9F3CE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C4680-84D7-4C70-A89B-2BAEF165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4D7189-D40F-472E-B079-9FD4E8A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F1C-DF7D-40E0-B7BB-21422D44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BBF7B-616D-4F82-AAA5-F4007995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F17C5-868D-4EA1-BE68-2F922C31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DF2AF-2A8D-47A6-B412-8115359D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BF52B-3D07-4C0C-A7F1-4A7A976F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D0EB3-DC3F-4FC5-8D9E-E6CF1E40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496-1511-43B5-BB7E-8B96D0E4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5E8F-4923-48D6-8FA9-302FBC5F27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3F2F-FBD9-42DC-9C3A-2B37BDEC52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0655-B5F8-44DB-84E1-846B7DB11E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cceb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5e0d6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5e0d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bf0ec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cceb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bf0ec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cceb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cceb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b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aeb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1F8E-C10F-44DD-B2A1-6B9AD07A86B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6185-A1BD-47CB-AD41-FCDF2EE7FA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A4D0-867D-4F0A-A3E2-EB96CA92FE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cc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cc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a55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3C5F-E3F7-4BCD-A687-124D49B23D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988640"/>
            <a:ext cx="7126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5439"/>
                </a:solidFill>
                <a:latin typeface="Century Schoolbook"/>
              </a:rPr>
              <a:t>РАБОТА И МОЩНОСТЬ ЭЛЕКТРИЧЕСКОГО ТОКА</a:t>
            </a:r>
            <a:endParaRPr b="0" lang="en-US" sz="40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Дулуева Л.З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76a55"/>
                </a:solidFill>
                <a:latin typeface="Century Schoolbook"/>
              </a:rPr>
              <a:t>учитель физики МБОУ «СОШ №3 с.п.Знаменское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84360" y="1557360"/>
          <a:ext cx="7775280" cy="4392720"/>
        </p:xfrm>
        <a:graphic>
          <a:graphicData uri="http://schemas.openxmlformats.org/drawingml/2006/table">
            <a:tbl>
              <a:tblPr/>
              <a:tblGrid>
                <a:gridCol w="3887640"/>
                <a:gridCol w="3887640"/>
              </a:tblGrid>
              <a:tr h="439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 уроке я работал(а)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Материал урока мне был</a:t>
                      </a:r>
                      <a:br>
                        <a:rPr sz="2400"/>
                      </a:b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Домашнее задание мне кажетс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 / не довол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им / длин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/ трудным</a:t>
                      </a:r>
                      <a:br>
                        <a:rPr sz="2400"/>
                      </a:b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есно / не интересн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1"/>
          <p:cNvSpPr/>
          <p:nvPr/>
        </p:nvSpPr>
        <p:spPr>
          <a:xfrm>
            <a:off x="539640" y="6404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Листок рефлексии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1928880" y="1357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доволен, чувствовал себя комфортно, настроение после урока хороше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611280" y="1357200"/>
            <a:ext cx="1322280" cy="40705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2000160" y="245916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воей работой на уроке недоволен, чувствовал себя не совсем комфортно, настроение после урока плохое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Прямоугольник 6"/>
          <p:cNvSpPr/>
          <p:nvPr/>
        </p:nvSpPr>
        <p:spPr>
          <a:xfrm>
            <a:off x="2000160" y="385776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стояние на уроке безразличное, урок никак не изменил моего эмоционального состояния и настроени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000160" y="3600"/>
            <a:ext cx="65008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Нарисуй настроение</a:t>
            </a:r>
            <a:r>
              <a:rPr b="1" lang="en-US" sz="4000" spc="-1" strike="noStrike">
                <a:solidFill>
                  <a:srgbClr val="72a376"/>
                </a:solidFill>
                <a:latin typeface="Times New Roman"/>
                <a:ea typeface="Calibri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2"/>
          <p:cNvSpPr txBox="1"/>
          <p:nvPr/>
        </p:nvSpPr>
        <p:spPr>
          <a:xfrm>
            <a:off x="917640" y="1844640"/>
            <a:ext cx="732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урок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66560" y="1405080"/>
          <a:ext cx="8282160" cy="4119480"/>
        </p:xfrm>
        <a:graphic>
          <a:graphicData uri="http://schemas.openxmlformats.org/drawingml/2006/table">
            <a:tbl>
              <a:tblPr/>
              <a:tblGrid>
                <a:gridCol w="1657440"/>
                <a:gridCol w="695520"/>
                <a:gridCol w="696960"/>
                <a:gridCol w="331560"/>
                <a:gridCol w="363600"/>
                <a:gridCol w="696960"/>
                <a:gridCol w="695160"/>
                <a:gridCol w="695520"/>
                <a:gridCol w="696960"/>
                <a:gridCol w="347400"/>
                <a:gridCol w="347760"/>
                <a:gridCol w="552600"/>
                <a:gridCol w="504720"/>
              </a:tblGrid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вопрос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00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aac8ad"/>
                    </a:solidFill>
                  </a:tcPr>
                </a:tc>
              </a:tr>
              <a:tr h="170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3"/>
          <p:cNvSpPr/>
          <p:nvPr/>
        </p:nvSpPr>
        <p:spPr>
          <a:xfrm>
            <a:off x="2987640" y="262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 к тесту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2"/>
          <p:cNvSpPr/>
          <p:nvPr/>
        </p:nvSpPr>
        <p:spPr>
          <a:xfrm>
            <a:off x="642960" y="2142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Работа электрического тока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785960" y="1000080"/>
                <a:ext cx="14288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3606840" y="1285920"/>
                <a:ext cx="7747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7"/>
              <p:cNvSpPr txBox="1"/>
              <p:nvPr/>
            </p:nvSpPr>
            <p:spPr>
              <a:xfrm>
                <a:off x="4357800" y="1143000"/>
                <a:ext cx="22525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8"/>
              <p:cNvSpPr txBox="1"/>
              <p:nvPr/>
            </p:nvSpPr>
            <p:spPr>
              <a:xfrm>
                <a:off x="4714920" y="2357280"/>
                <a:ext cx="1557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Овал 12"/>
          <p:cNvSpPr/>
          <p:nvPr/>
        </p:nvSpPr>
        <p:spPr>
          <a:xfrm>
            <a:off x="5500800" y="2214720"/>
            <a:ext cx="928440" cy="9284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1" name="Прямая со стрелкой 14"/>
          <p:cNvCxnSpPr/>
          <p:nvPr/>
        </p:nvCxnSpPr>
        <p:spPr>
          <a:xfrm flipV="1">
            <a:off x="6142680" y="1999800"/>
            <a:ext cx="214920" cy="215280"/>
          </a:xfrm>
          <a:prstGeom prst="straightConnector1">
            <a:avLst/>
          </a:prstGeom>
          <a:ln w="22320">
            <a:solidFill>
              <a:srgbClr val="76a776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62" name="Object 12"/>
              <p:cNvSpPr txBox="1"/>
              <p:nvPr/>
            </p:nvSpPr>
            <p:spPr>
              <a:xfrm>
                <a:off x="3571920" y="3857760"/>
                <a:ext cx="37148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3"/>
              <p:cNvSpPr txBox="1"/>
              <p:nvPr/>
            </p:nvSpPr>
            <p:spPr>
              <a:xfrm>
                <a:off x="5072040" y="3071880"/>
                <a:ext cx="4986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Прямоугольник 22"/>
          <p:cNvSpPr/>
          <p:nvPr/>
        </p:nvSpPr>
        <p:spPr>
          <a:xfrm>
            <a:off x="3500280" y="3714840"/>
            <a:ext cx="4071960" cy="128592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Овал 25"/>
          <p:cNvSpPr/>
          <p:nvPr/>
        </p:nvSpPr>
        <p:spPr>
          <a:xfrm>
            <a:off x="6143760" y="1285920"/>
            <a:ext cx="714240" cy="714240"/>
          </a:xfrm>
          <a:prstGeom prst="ellipse">
            <a:avLst/>
          </a:prstGeom>
          <a:noFill/>
          <a:ln w="25560">
            <a:solidFill>
              <a:srgbClr val="76a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Box 29"/>
          <p:cNvSpPr/>
          <p:nvPr/>
        </p:nvSpPr>
        <p:spPr>
          <a:xfrm>
            <a:off x="1371960" y="5143680"/>
            <a:ext cx="60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работы в СИ: Джоул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5"/>
              <p:cNvSpPr txBox="1"/>
              <p:nvPr/>
            </p:nvSpPr>
            <p:spPr>
              <a:xfrm>
                <a:off x="4533840" y="339084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18"/>
              <p:cNvSpPr txBox="1"/>
              <p:nvPr/>
            </p:nvSpPr>
            <p:spPr>
              <a:xfrm>
                <a:off x="2714760" y="5715000"/>
                <a:ext cx="3795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rcRect l="11899" t="0" r="14827" b="0"/>
          <a:stretch/>
        </p:blipFill>
        <p:spPr>
          <a:xfrm>
            <a:off x="1023840" y="782640"/>
            <a:ext cx="6305760" cy="58150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Счетчик электрической энерги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2"/>
          <p:cNvSpPr/>
          <p:nvPr/>
        </p:nvSpPr>
        <p:spPr>
          <a:xfrm>
            <a:off x="642960" y="2142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27e56"/>
                </a:solidFill>
                <a:latin typeface="Times New Roman"/>
                <a:ea typeface="Times New Roman"/>
              </a:rPr>
              <a:t>Мощность электрического тока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645000" y="676440"/>
                <a:ext cx="146664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2"/>
              <p:cNvSpPr txBox="1"/>
              <p:nvPr/>
            </p:nvSpPr>
            <p:spPr>
              <a:xfrm>
                <a:off x="3132000" y="1844640"/>
                <a:ext cx="27860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276720" y="4005360"/>
            <a:ext cx="29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Р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2701800" y="2646360"/>
            <a:ext cx="3454560" cy="1432800"/>
            <a:chOff x="2701800" y="2646360"/>
            <a:chExt cx="3454560" cy="1432800"/>
          </a:xfrm>
        </p:grpSpPr>
        <p:sp>
          <p:nvSpPr>
            <p:cNvPr id="377" name="Text Box 9"/>
            <p:cNvSpPr/>
            <p:nvPr/>
          </p:nvSpPr>
          <p:spPr>
            <a:xfrm>
              <a:off x="4284720" y="2646360"/>
              <a:ext cx="187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•</a:t>
              </a: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13"/>
            <p:cNvSpPr/>
            <p:nvPr/>
          </p:nvSpPr>
          <p:spPr>
            <a:xfrm>
              <a:off x="2701800" y="2955960"/>
              <a:ext cx="116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5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i="1" lang="ru-RU" sz="5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14"/>
            <p:cNvSpPr/>
            <p:nvPr/>
          </p:nvSpPr>
          <p:spPr>
            <a:xfrm>
              <a:off x="3995640" y="3438360"/>
              <a:ext cx="20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Text Box 15"/>
            <p:cNvSpPr/>
            <p:nvPr/>
          </p:nvSpPr>
          <p:spPr>
            <a:xfrm>
              <a:off x="4770360" y="3162240"/>
              <a:ext cx="371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1" name="Прямоугольник 22"/>
          <p:cNvSpPr/>
          <p:nvPr/>
        </p:nvSpPr>
        <p:spPr>
          <a:xfrm>
            <a:off x="3132000" y="3930480"/>
            <a:ext cx="2737080" cy="1082880"/>
          </a:xfrm>
          <a:prstGeom prst="rect">
            <a:avLst/>
          </a:prstGeom>
          <a:noFill/>
          <a:ln w="633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20"/>
          <p:cNvSpPr/>
          <p:nvPr/>
        </p:nvSpPr>
        <p:spPr>
          <a:xfrm flipV="1">
            <a:off x="4716360" y="3573360"/>
            <a:ext cx="432000" cy="28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21"/>
          <p:cNvSpPr/>
          <p:nvPr/>
        </p:nvSpPr>
        <p:spPr>
          <a:xfrm flipV="1">
            <a:off x="5292720" y="3069720"/>
            <a:ext cx="431640" cy="287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1430640" y="5084640"/>
            <a:ext cx="601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измерения мощности в СИ: Ватт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3506760" y="551664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т = 1 В•1 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373560" y="60721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т = 1000 Вт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571680" y="1843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иборы для измерения мощност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8" name="Picture 3" descr="2840"/>
          <p:cNvPicPr/>
          <p:nvPr/>
        </p:nvPicPr>
        <p:blipFill>
          <a:blip r:embed="rId1"/>
          <a:stretch/>
        </p:blipFill>
        <p:spPr>
          <a:xfrm>
            <a:off x="250920" y="1197000"/>
            <a:ext cx="2736720" cy="27367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image1601"/>
          <p:cNvPicPr/>
          <p:nvPr/>
        </p:nvPicPr>
        <p:blipFill>
          <a:blip r:embed="rId2"/>
          <a:stretch/>
        </p:blipFill>
        <p:spPr>
          <a:xfrm>
            <a:off x="539640" y="4149720"/>
            <a:ext cx="228924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6143760" y="5280120"/>
            <a:ext cx="2160360" cy="1577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79640" cy="40323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"/>
          <p:cNvSpPr/>
          <p:nvPr/>
        </p:nvSpPr>
        <p:spPr>
          <a:xfrm>
            <a:off x="5651640" y="1052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omic Sans MS"/>
              </a:rPr>
              <a:t>ваттметр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2868120" y="223056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ьт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2828160" y="4941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мпермет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150840" y="189000"/>
            <a:ext cx="85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диницы работы, применяемые на практи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143160" y="1428840"/>
                <a:ext cx="22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615760" y="2286000"/>
            <a:ext cx="357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Дж = 1 Вт∙с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857160" y="35002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Вт•ч = 3600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Вт•ч = 1000 Вт•ч = 3 600 000 Дж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12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96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25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25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6a55"/>
                </a:solidFill>
                <a:latin typeface="Times New Roman"/>
                <a:ea typeface="Calibri"/>
              </a:rPr>
              <a:t>ПЕРВИЧНАЯ ПРОВЕРКА ПОНИМАНИЯ ИЗУЧЕННОГО. </a:t>
            </a:r>
            <a:endParaRPr b="0" lang="en-US" sz="3200" spc="-1" strike="noStrike">
              <a:solidFill>
                <a:srgbClr val="676a55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2205000"/>
            <a:ext cx="8002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Что представляет собой работа электрического то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 помощью, каких приборов можно измерить электрическую работу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то представляет собой электрическая мощность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2a37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С помощью, каких приборов можно измерить мощность тока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222120" y="1360800"/>
            <a:ext cx="8358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0,51,52.Упр. 24 (2), 25 (2), задание 7, стр. 123.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диной Коллекции ЦОР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материал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a075-e921-11dc-95ff-0800200c9a66/3_19.swf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71680" indent="-5716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files.school-collection.edu.ru/dlrstore/669b7963-e921-11dc-95ff-0800200c9a66/index_listing.htm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018520" y="28188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47:29Z</dcterms:created>
  <dc:creator>Ладанова И.В.</dc:creator>
  <dc:description/>
  <dc:language>en-US</dc:language>
  <cp:lastModifiedBy>Пользователь</cp:lastModifiedBy>
  <dcterms:modified xsi:type="dcterms:W3CDTF">2021-02-03T11:42:51Z</dcterms:modified>
  <cp:revision>96</cp:revision>
  <dc:subject/>
  <dc:title>Работа и мощность электрического тока</dc:title>
</cp:coreProperties>
</file>