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3021-4F9B-4217-B4A9-296A5DFC3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2EEC-957B-4758-B59A-2B3DAB705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402A-0E8F-4ABE-9D0E-5B9150139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A1A2-128B-47CE-A73F-7874FD201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B64E1-B356-4724-97F6-482C8F05F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5454D-40E9-4722-87BC-339BA3E33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AD572-ECB6-41BB-BF05-F3001658B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315D3-845C-49FD-B4A7-A9CDBEC0C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22FFE-D143-46BF-8485-D15840B9F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2C966-1E5C-4749-A818-0D4EF4B1C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32092-769F-4DCB-914E-96031C19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40A8-9790-4C39-8F6D-B64907848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93B23-7DAB-45F0-85F1-8E1F092C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B2495-E5B3-48F8-BD2C-6A386F33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E4D08-8731-4E90-9AB6-6DB155F5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5626E-DF92-4EC5-B79B-03D4CF1E5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87A2E-C4FC-4AA3-A38E-FC7A66781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9E1937-D3A0-400D-B7BC-AB2C71D4E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B1E0A4-C454-4B8E-B684-FC8F1D765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8C3D92-59B1-447E-9485-51F23C0E8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2EE165-BBC0-444E-936C-38286D1E9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B2C3EC-36E1-45B7-A2B3-3FE375F00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FA2E-1EB9-4FD0-8501-B2EEB18D9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D9A3BF-F38F-463D-A3CB-5BED2F71D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0FEA9C-552B-4798-BA5B-C5421076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E980BB-07E6-46F0-A39E-8D2D8D61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7EB9D1-B456-41F2-BCD9-55F538A8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2AE083-A6FC-4399-A503-9A942D5A9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056BEA-5100-4B61-949B-3AA32C8CF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D006FF-8C88-41B3-A418-B085CBDCA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E3965-13A8-48D5-940B-35A7E6FF1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7F029-281F-4803-A974-1949BA96E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A869F-3AD3-40A4-AC2E-113C7FA18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4F16-B436-4B19-B8A7-4D3C0CE04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6BA96-B1B5-4895-9E11-8504B13DC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AD07D-D6C9-4895-BDA8-A15B5890F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D5F41-BA59-4E41-9D47-22D6AEE13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A55D1-53E5-43EC-869B-659FBA26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D52AB-5A88-4B06-9F12-D07FB093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5D980-5AC1-4D0D-9430-922D0291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AC009-116C-414F-B280-62F0D1CB6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12517-6304-45CD-8608-03787181D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0BB03-8042-4BB7-92D4-C6610A593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10F190-99DB-4D8D-A58D-834F1A538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E913-1F04-4DE3-BDE2-1D20ED811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3BEA71-24CD-4AA8-892B-53727ECAA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B9DA46-F27A-4854-9A4C-E7C1D402F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62CE31-279E-4F70-BE43-B1D27C53D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BE1101-6F31-4B3B-9FE4-466F9AF5C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8F7665-E19B-401E-81EB-910592217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0865CE-5FB7-4D19-A693-AD87E352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08DC9F-C881-4993-AF23-4B0D677A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D4EF2C-9846-421E-B1D8-9D9E59A8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B7FF90-EE9A-419F-BF31-BF22B7F66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CB35B8-6AF1-4FA6-B33E-B81179A8D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24A2-917D-4AC2-B6FD-50FE9DE91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B20683-C53B-474E-9062-27918B620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C51003-9C5A-4A6E-A26C-4090199DC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5A5F7C-51D4-4304-9166-6869364EE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6BC070-EEC2-469A-8D4F-8840CF0E3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A89D3A-4D43-4D67-A90D-9D4B14629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432D86-7A31-445F-AE7C-D7E201AD0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EE570F-F39B-4837-8A80-5E942FEE9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8E1E80-8754-4A3C-863B-484F2A11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4E4242-BFF4-495B-A9A0-490AC2DB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98DE72-4444-4606-BEAE-A6AA318B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FF32-0BD8-4140-8508-A55CDF2A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7D8477-0F8E-46BE-8283-4949B02AC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D30300-A04A-4C7D-81BF-4335EFB45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CDD0D5-24E5-43D3-A2C0-6D9753E44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F92A77-218B-41F3-BDA7-D7BAA8F8B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C1DB2C-AB4A-426B-A8D0-E2EB268C0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970DED-88D0-4C6B-97ED-FE4E6B054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757C08-2E7B-426E-A3C4-E5F64AB07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3EEA0A-007D-4F57-A715-BBE971290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0B46A0-2C35-4D6E-8275-3FF058828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17835E-65A0-4FDD-BAD5-F9FD206D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CF42-7357-4B41-96F8-5D8C9BC6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244E7E-85D3-4566-8017-1B734991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6E2B30-82A9-4240-BA55-31C96018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8EFA17-8098-44A3-B7E9-BBB134237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E26FDE-76F6-42CD-A2AE-76ECAC3C4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0C1A73-ED78-478D-9537-4245C0BFF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6D0F-860A-4683-80D3-8ED861F3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cebd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ceb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8CA01-DE3A-46C9-8677-7729F96F766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ccebd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5e0d6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5e0d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bf0ec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ccebd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bf0ec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ccebd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ccebd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8427B-1377-49D3-8EAE-2BFD2B6E268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cebd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ceb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5B220-8F6F-45B4-A688-CC753AD39FD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ccebd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5e0d6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5e0d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bf0ec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ccebd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bf0ec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ccebd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ccebd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bde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aebde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B188F-7871-4F4D-9077-EA1073746C4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cebd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ceb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7C6AC-7CAF-4D63-BF63-0123F1ED454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cebd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ceb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A255-4F50-42D2-B9B4-25EDA5906A3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c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F67B1-E23E-4535-89D1-B8EB77986FA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31640" y="1988640"/>
            <a:ext cx="71262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5439"/>
                </a:solidFill>
                <a:latin typeface="Century Schoolbook"/>
              </a:rPr>
              <a:t>РАБОТА И МОЩНОСТЬ ЭЛЕКТРИЧЕСКОГО ТОКА</a:t>
            </a:r>
            <a:endParaRPr b="0" lang="en-US" sz="4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76a55"/>
                </a:solidFill>
                <a:latin typeface="Century Schoolbook"/>
              </a:rPr>
              <a:t>Дулуева Л.З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76a55"/>
                </a:solidFill>
                <a:latin typeface="Century Schoolbook"/>
              </a:rPr>
              <a:t>учитель физики МБОУ «СОШ №3 с.п.Знаменское»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3" name=""/>
          <p:cNvGraphicFramePr/>
          <p:nvPr/>
        </p:nvGraphicFramePr>
        <p:xfrm>
          <a:off x="684360" y="1557360"/>
          <a:ext cx="7775280" cy="4392720"/>
        </p:xfrm>
        <a:graphic>
          <a:graphicData uri="http://schemas.openxmlformats.org/drawingml/2006/table">
            <a:tbl>
              <a:tblPr/>
              <a:tblGrid>
                <a:gridCol w="3887640"/>
                <a:gridCol w="3887640"/>
              </a:tblGrid>
              <a:tr h="4392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На уроке я работал(а)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Своей работой на уроке я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Урок для меня показался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За урок я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Мое настроение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Материал урока мне был</a:t>
                      </a:r>
                      <a:br>
                        <a:rPr sz="2400"/>
                      </a:br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Домашнее задание мне кажется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о / пассивно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волен / не доволен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тким / длинным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устал / устал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ло лучше / стало хуже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ятен / не понятен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езен / бесполезен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есен / скучен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гким / трудным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есно / не интересно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4" name="Rectangle 1"/>
          <p:cNvSpPr/>
          <p:nvPr/>
        </p:nvSpPr>
        <p:spPr>
          <a:xfrm>
            <a:off x="539640" y="64044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Листок рефлексии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Прямоугольник 3"/>
          <p:cNvSpPr/>
          <p:nvPr/>
        </p:nvSpPr>
        <p:spPr>
          <a:xfrm>
            <a:off x="1928880" y="1357200"/>
            <a:ext cx="692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воей работой на уроке доволен, чувствовал себя комфортно, настроение после урока хорошее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06" name="Picture 2" descr=""/>
          <p:cNvPicPr/>
          <p:nvPr/>
        </p:nvPicPr>
        <p:blipFill>
          <a:blip r:embed="rId1"/>
          <a:stretch/>
        </p:blipFill>
        <p:spPr>
          <a:xfrm>
            <a:off x="611280" y="1357200"/>
            <a:ext cx="1322280" cy="4070520"/>
          </a:xfrm>
          <a:prstGeom prst="rect">
            <a:avLst/>
          </a:prstGeom>
          <a:ln w="0">
            <a:noFill/>
          </a:ln>
        </p:spPr>
      </p:pic>
      <p:sp>
        <p:nvSpPr>
          <p:cNvPr id="407" name="Прямоугольник 5"/>
          <p:cNvSpPr/>
          <p:nvPr/>
        </p:nvSpPr>
        <p:spPr>
          <a:xfrm>
            <a:off x="2000160" y="245916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воей работой на уроке недоволен, чувствовал себя не совсем комфортно, настроение после урока плохое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Прямоугольник 6"/>
          <p:cNvSpPr/>
          <p:nvPr/>
        </p:nvSpPr>
        <p:spPr>
          <a:xfrm>
            <a:off x="2000160" y="3857760"/>
            <a:ext cx="678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остояние на уроке безразличное, урок никак не изменил моего эмоционального состояния и настроения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Rectangle 3"/>
          <p:cNvSpPr/>
          <p:nvPr/>
        </p:nvSpPr>
        <p:spPr>
          <a:xfrm>
            <a:off x="2000160" y="3600"/>
            <a:ext cx="650088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1" lang="ru-RU" sz="4000" spc="-1" strike="noStrike">
                <a:solidFill>
                  <a:srgbClr val="72a376"/>
                </a:solidFill>
                <a:latin typeface="Times New Roman"/>
                <a:ea typeface="Calibri"/>
              </a:rPr>
              <a:t>Нарисуй настроение</a:t>
            </a:r>
            <a:r>
              <a:rPr b="1" lang="en-US" sz="4000" spc="-1" strike="noStrike">
                <a:solidFill>
                  <a:srgbClr val="72a376"/>
                </a:solidFill>
                <a:latin typeface="Times New Roman"/>
                <a:ea typeface="Calibri"/>
              </a:rPr>
              <a:t>: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WordArt 2"/>
          <p:cNvSpPr txBox="1"/>
          <p:nvPr/>
        </p:nvSpPr>
        <p:spPr>
          <a:xfrm>
            <a:off x="917640" y="1844640"/>
            <a:ext cx="73263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Спасибо за урок!</a:t>
            </a:r>
            <a:endParaRPr b="1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3" name=""/>
          <p:cNvGraphicFramePr/>
          <p:nvPr/>
        </p:nvGraphicFramePr>
        <p:xfrm>
          <a:off x="466560" y="1405080"/>
          <a:ext cx="8282160" cy="4119480"/>
        </p:xfrm>
        <a:graphic>
          <a:graphicData uri="http://schemas.openxmlformats.org/drawingml/2006/table">
            <a:tbl>
              <a:tblPr/>
              <a:tblGrid>
                <a:gridCol w="1657440"/>
                <a:gridCol w="695520"/>
                <a:gridCol w="696960"/>
                <a:gridCol w="331560"/>
                <a:gridCol w="363600"/>
                <a:gridCol w="696960"/>
                <a:gridCol w="695160"/>
                <a:gridCol w="695520"/>
                <a:gridCol w="696960"/>
                <a:gridCol w="347400"/>
                <a:gridCol w="347760"/>
                <a:gridCol w="552600"/>
                <a:gridCol w="504720"/>
              </a:tblGrid>
              <a:tr h="853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мер вопрос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</a:tr>
              <a:tr h="1009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</a:tr>
              <a:tr h="1703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-10 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-8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е 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2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4" name="Прямоугольник 3"/>
          <p:cNvSpPr/>
          <p:nvPr/>
        </p:nvSpPr>
        <p:spPr>
          <a:xfrm>
            <a:off x="2987640" y="26208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люч к тесту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Box 2"/>
          <p:cNvSpPr/>
          <p:nvPr/>
        </p:nvSpPr>
        <p:spPr>
          <a:xfrm>
            <a:off x="642960" y="214200"/>
            <a:ext cx="792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27e56"/>
                </a:solidFill>
                <a:latin typeface="Times New Roman"/>
                <a:ea typeface="Times New Roman"/>
              </a:rPr>
              <a:t>Работа электрического тока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Object 4"/>
              <p:cNvSpPr txBox="1"/>
              <p:nvPr/>
            </p:nvSpPr>
            <p:spPr>
              <a:xfrm>
                <a:off x="1785960" y="1000080"/>
                <a:ext cx="142884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6"/>
              <p:cNvSpPr txBox="1"/>
              <p:nvPr/>
            </p:nvSpPr>
            <p:spPr>
              <a:xfrm>
                <a:off x="3606840" y="1285920"/>
                <a:ext cx="77472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7"/>
              <p:cNvSpPr txBox="1"/>
              <p:nvPr/>
            </p:nvSpPr>
            <p:spPr>
              <a:xfrm>
                <a:off x="4357800" y="1143000"/>
                <a:ext cx="225252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Object 8"/>
              <p:cNvSpPr txBox="1"/>
              <p:nvPr/>
            </p:nvSpPr>
            <p:spPr>
              <a:xfrm>
                <a:off x="4714920" y="2357280"/>
                <a:ext cx="15573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0" name="Овал 12"/>
          <p:cNvSpPr/>
          <p:nvPr/>
        </p:nvSpPr>
        <p:spPr>
          <a:xfrm>
            <a:off x="5500800" y="2214720"/>
            <a:ext cx="928440" cy="928440"/>
          </a:xfrm>
          <a:prstGeom prst="ellipse">
            <a:avLst/>
          </a:prstGeom>
          <a:noFill/>
          <a:ln w="25560">
            <a:solidFill>
              <a:srgbClr val="76a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61" name="Прямая со стрелкой 14"/>
          <p:cNvCxnSpPr/>
          <p:nvPr/>
        </p:nvCxnSpPr>
        <p:spPr>
          <a:xfrm flipV="1">
            <a:off x="6142680" y="1999800"/>
            <a:ext cx="214920" cy="215280"/>
          </a:xfrm>
          <a:prstGeom prst="straightConnector1">
            <a:avLst/>
          </a:prstGeom>
          <a:ln w="22320">
            <a:solidFill>
              <a:srgbClr val="76a776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362" name="Object 12"/>
              <p:cNvSpPr txBox="1"/>
              <p:nvPr/>
            </p:nvSpPr>
            <p:spPr>
              <a:xfrm>
                <a:off x="3571920" y="3857760"/>
                <a:ext cx="3714840" cy="96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⋅</m:t>
                    </m:r>
                    <m:r>
                      <m:t xml:space="preserve">I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13"/>
              <p:cNvSpPr txBox="1"/>
              <p:nvPr/>
            </p:nvSpPr>
            <p:spPr>
              <a:xfrm>
                <a:off x="5072040" y="3071880"/>
                <a:ext cx="49860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4" name="Прямоугольник 22"/>
          <p:cNvSpPr/>
          <p:nvPr/>
        </p:nvSpPr>
        <p:spPr>
          <a:xfrm>
            <a:off x="3500280" y="3714840"/>
            <a:ext cx="4071960" cy="1285920"/>
          </a:xfrm>
          <a:prstGeom prst="rect">
            <a:avLst/>
          </a:prstGeom>
          <a:noFill/>
          <a:ln w="633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Овал 25"/>
          <p:cNvSpPr/>
          <p:nvPr/>
        </p:nvSpPr>
        <p:spPr>
          <a:xfrm>
            <a:off x="6143760" y="1285920"/>
            <a:ext cx="714240" cy="714240"/>
          </a:xfrm>
          <a:prstGeom prst="ellipse">
            <a:avLst/>
          </a:prstGeom>
          <a:noFill/>
          <a:ln w="25560">
            <a:solidFill>
              <a:srgbClr val="76a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TextBox 29"/>
          <p:cNvSpPr/>
          <p:nvPr/>
        </p:nvSpPr>
        <p:spPr>
          <a:xfrm>
            <a:off x="1371960" y="5143680"/>
            <a:ext cx="603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ица измерения работы в СИ: Джоуль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Object 15"/>
              <p:cNvSpPr txBox="1"/>
              <p:nvPr/>
            </p:nvSpPr>
            <p:spPr>
              <a:xfrm>
                <a:off x="4533840" y="3390840"/>
                <a:ext cx="76320" cy="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18"/>
              <p:cNvSpPr txBox="1"/>
              <p:nvPr/>
            </p:nvSpPr>
            <p:spPr>
              <a:xfrm>
                <a:off x="2714760" y="5715000"/>
                <a:ext cx="37954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Дж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В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А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3" descr=""/>
          <p:cNvPicPr/>
          <p:nvPr/>
        </p:nvPicPr>
        <p:blipFill>
          <a:blip r:embed="rId1"/>
          <a:srcRect l="11899" t="0" r="14827" b="0"/>
          <a:stretch/>
        </p:blipFill>
        <p:spPr>
          <a:xfrm>
            <a:off x="1023840" y="782640"/>
            <a:ext cx="6305760" cy="5815080"/>
          </a:xfrm>
          <a:prstGeom prst="rect">
            <a:avLst/>
          </a:prstGeom>
          <a:ln w="0">
            <a:noFill/>
          </a:ln>
        </p:spPr>
      </p:pic>
      <p:sp>
        <p:nvSpPr>
          <p:cNvPr id="370" name="Прямоугольник 2"/>
          <p:cNvSpPr/>
          <p:nvPr/>
        </p:nvSpPr>
        <p:spPr>
          <a:xfrm>
            <a:off x="142920" y="142920"/>
            <a:ext cx="878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27e56"/>
                </a:solidFill>
                <a:latin typeface="Times New Roman"/>
                <a:ea typeface="Times New Roman"/>
              </a:rPr>
              <a:t>Счетчик электрической энергии 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2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Box 2"/>
          <p:cNvSpPr/>
          <p:nvPr/>
        </p:nvSpPr>
        <p:spPr>
          <a:xfrm>
            <a:off x="642960" y="214200"/>
            <a:ext cx="79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27e56"/>
                </a:solidFill>
                <a:latin typeface="Times New Roman"/>
                <a:ea typeface="Times New Roman"/>
              </a:rPr>
              <a:t>Мощность электрического тока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Object 3"/>
              <p:cNvSpPr txBox="1"/>
              <p:nvPr/>
            </p:nvSpPr>
            <p:spPr>
              <a:xfrm>
                <a:off x="3645000" y="676440"/>
                <a:ext cx="146664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12"/>
              <p:cNvSpPr txBox="1"/>
              <p:nvPr/>
            </p:nvSpPr>
            <p:spPr>
              <a:xfrm>
                <a:off x="3132000" y="1844640"/>
                <a:ext cx="278604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⋅</m:t>
                    </m:r>
                    <m:r>
                      <m:t xml:space="preserve">I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4" name="Rectangle 8"/>
          <p:cNvSpPr/>
          <p:nvPr/>
        </p:nvSpPr>
        <p:spPr>
          <a:xfrm>
            <a:off x="0" y="33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Text Box 11"/>
          <p:cNvSpPr/>
          <p:nvPr/>
        </p:nvSpPr>
        <p:spPr>
          <a:xfrm>
            <a:off x="3276720" y="4005360"/>
            <a:ext cx="290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Р = </a:t>
            </a: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76" name="Group 17"/>
          <p:cNvGrpSpPr/>
          <p:nvPr/>
        </p:nvGrpSpPr>
        <p:grpSpPr>
          <a:xfrm>
            <a:off x="2701800" y="2646360"/>
            <a:ext cx="3454560" cy="1432800"/>
            <a:chOff x="2701800" y="2646360"/>
            <a:chExt cx="3454560" cy="1432800"/>
          </a:xfrm>
        </p:grpSpPr>
        <p:sp>
          <p:nvSpPr>
            <p:cNvPr id="377" name="Text Box 9"/>
            <p:cNvSpPr/>
            <p:nvPr/>
          </p:nvSpPr>
          <p:spPr>
            <a:xfrm>
              <a:off x="4284720" y="2646360"/>
              <a:ext cx="1871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ru-RU" sz="32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r>
                <a:rPr b="0" i="1" lang="en-US" sz="5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•</a:t>
              </a:r>
              <a:r>
                <a:rPr b="0" i="1" lang="en-US" sz="5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1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8" name="Text Box 13"/>
            <p:cNvSpPr/>
            <p:nvPr/>
          </p:nvSpPr>
          <p:spPr>
            <a:xfrm>
              <a:off x="2701800" y="2955960"/>
              <a:ext cx="116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5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r>
                <a:rPr b="1" i="1" lang="ru-RU" sz="5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1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9" name="Line 14"/>
            <p:cNvSpPr/>
            <p:nvPr/>
          </p:nvSpPr>
          <p:spPr>
            <a:xfrm>
              <a:off x="3995640" y="3438360"/>
              <a:ext cx="2089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0" name="Text Box 15"/>
            <p:cNvSpPr/>
            <p:nvPr/>
          </p:nvSpPr>
          <p:spPr>
            <a:xfrm>
              <a:off x="4770360" y="3162240"/>
              <a:ext cx="371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1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81" name="Прямоугольник 22"/>
          <p:cNvSpPr/>
          <p:nvPr/>
        </p:nvSpPr>
        <p:spPr>
          <a:xfrm>
            <a:off x="3132000" y="3930480"/>
            <a:ext cx="2737080" cy="1082880"/>
          </a:xfrm>
          <a:prstGeom prst="rect">
            <a:avLst/>
          </a:prstGeom>
          <a:noFill/>
          <a:ln w="633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Line 20"/>
          <p:cNvSpPr/>
          <p:nvPr/>
        </p:nvSpPr>
        <p:spPr>
          <a:xfrm flipV="1">
            <a:off x="4716360" y="3573360"/>
            <a:ext cx="432000" cy="28728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Line 21"/>
          <p:cNvSpPr/>
          <p:nvPr/>
        </p:nvSpPr>
        <p:spPr>
          <a:xfrm flipV="1">
            <a:off x="5292720" y="3069720"/>
            <a:ext cx="431640" cy="2876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TextBox 29"/>
          <p:cNvSpPr/>
          <p:nvPr/>
        </p:nvSpPr>
        <p:spPr>
          <a:xfrm>
            <a:off x="1430640" y="5084640"/>
            <a:ext cx="601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ица измерения мощности в СИ: Ватт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3506760" y="5516640"/>
            <a:ext cx="238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Вт = 1 В•1 А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Rectangle 25"/>
          <p:cNvSpPr/>
          <p:nvPr/>
        </p:nvSpPr>
        <p:spPr>
          <a:xfrm>
            <a:off x="3373560" y="6072120"/>
            <a:ext cx="26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кВт = 1000 Вт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2"/>
          <p:cNvSpPr/>
          <p:nvPr/>
        </p:nvSpPr>
        <p:spPr>
          <a:xfrm>
            <a:off x="571680" y="184320"/>
            <a:ext cx="79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риборы для измерения мощности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88" name="Picture 3" descr="2840"/>
          <p:cNvPicPr/>
          <p:nvPr/>
        </p:nvPicPr>
        <p:blipFill>
          <a:blip r:embed="rId1"/>
          <a:stretch/>
        </p:blipFill>
        <p:spPr>
          <a:xfrm>
            <a:off x="250920" y="1197000"/>
            <a:ext cx="2736720" cy="27367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4" descr="image1601"/>
          <p:cNvPicPr/>
          <p:nvPr/>
        </p:nvPicPr>
        <p:blipFill>
          <a:blip r:embed="rId2"/>
          <a:stretch/>
        </p:blipFill>
        <p:spPr>
          <a:xfrm>
            <a:off x="539640" y="4149720"/>
            <a:ext cx="2289240" cy="23763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6" descr=""/>
          <p:cNvPicPr/>
          <p:nvPr/>
        </p:nvPicPr>
        <p:blipFill>
          <a:blip r:embed="rId3"/>
          <a:stretch/>
        </p:blipFill>
        <p:spPr>
          <a:xfrm>
            <a:off x="6143760" y="5280120"/>
            <a:ext cx="2160360" cy="15778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5" descr=""/>
          <p:cNvPicPr/>
          <p:nvPr/>
        </p:nvPicPr>
        <p:blipFill>
          <a:blip r:embed="rId4"/>
          <a:stretch/>
        </p:blipFill>
        <p:spPr>
          <a:xfrm>
            <a:off x="5651640" y="1628640"/>
            <a:ext cx="2879640" cy="403236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7"/>
          <p:cNvSpPr/>
          <p:nvPr/>
        </p:nvSpPr>
        <p:spPr>
          <a:xfrm>
            <a:off x="5651640" y="1052640"/>
            <a:ext cx="21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Comic Sans MS"/>
              </a:rPr>
              <a:t>ваттметр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Text Box 8"/>
          <p:cNvSpPr/>
          <p:nvPr/>
        </p:nvSpPr>
        <p:spPr>
          <a:xfrm>
            <a:off x="2868120" y="2230560"/>
            <a:ext cx="179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ольтметр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Text Box 9"/>
          <p:cNvSpPr/>
          <p:nvPr/>
        </p:nvSpPr>
        <p:spPr>
          <a:xfrm>
            <a:off x="2828160" y="494172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мперметр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2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7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6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0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5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9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2"/>
          <p:cNvSpPr/>
          <p:nvPr/>
        </p:nvSpPr>
        <p:spPr>
          <a:xfrm>
            <a:off x="150840" y="189000"/>
            <a:ext cx="850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диницы работы, применяемые на практике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Object 3"/>
              <p:cNvSpPr txBox="1"/>
              <p:nvPr/>
            </p:nvSpPr>
            <p:spPr>
              <a:xfrm>
                <a:off x="3143160" y="1428840"/>
                <a:ext cx="223200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=</m:t>
                    </m:r>
                    <m:r>
                      <m:t xml:space="preserve">Р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7" name="Text Box 4"/>
          <p:cNvSpPr/>
          <p:nvPr/>
        </p:nvSpPr>
        <p:spPr>
          <a:xfrm>
            <a:off x="2615760" y="2286000"/>
            <a:ext cx="357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1 Дж = 1 Вт∙с 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Text Box 8"/>
          <p:cNvSpPr/>
          <p:nvPr/>
        </p:nvSpPr>
        <p:spPr>
          <a:xfrm>
            <a:off x="857160" y="3500280"/>
            <a:ext cx="7572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 Вт•ч = 3600Дж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 кВт•ч = 1000 Вт•ч = 3 600 000 Дж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125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196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125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0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125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56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6a55"/>
                </a:solidFill>
                <a:latin typeface="Times New Roman"/>
                <a:ea typeface="Calibri"/>
              </a:rPr>
              <a:t>ПЕРВИЧНАЯ ПРОВЕРКА ПОНИМАНИЯ ИЗУЧЕННОГО. </a:t>
            </a:r>
            <a:endParaRPr b="0" lang="en-US" sz="32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6840" y="2205000"/>
            <a:ext cx="800244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 Что представляет собой работа электрического тока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. С помощью, каких приборов можно измерить электрическую работу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3. Что представляет собой электрическая мощность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4. С помощью, каких приборов можно измерить мощность тока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9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1"/>
          <p:cNvSpPr/>
          <p:nvPr/>
        </p:nvSpPr>
        <p:spPr>
          <a:xfrm>
            <a:off x="222120" y="1360800"/>
            <a:ext cx="835848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 50,51,52.Упр. 24 (2), 25 (2), задание 7, стр. 123. 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571680" indent="-57168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Единой Коллекции ЦОР: 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71680" indent="-57168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ебный материал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http://files.school-collection.edu.ru/dlrstore/669ba075-e921-11dc-95ff-0800200c9a66/3_19.swf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71680" indent="-57168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ст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http://files.school-collection.edu.ru/dlrstore/669b7963-e921-11dc-95ff-0800200c9a66/index_listing.html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Rectangle 2"/>
          <p:cNvSpPr/>
          <p:nvPr/>
        </p:nvSpPr>
        <p:spPr>
          <a:xfrm>
            <a:off x="2018520" y="281880"/>
            <a:ext cx="54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машнее задание </a:t>
            </a:r>
            <a:endParaRPr b="1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6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5T12:47:29Z</dcterms:created>
  <dc:creator>Ладанова И.В.</dc:creator>
  <dc:description/>
  <dc:language>en-US</dc:language>
  <cp:lastModifiedBy>Пользователь</cp:lastModifiedBy>
  <dcterms:modified xsi:type="dcterms:W3CDTF">2021-02-03T11:42:51Z</dcterms:modified>
  <cp:revision>96</cp:revision>
  <dc:subject/>
  <dc:title>Работа и мощность электрического тока</dc:title>
</cp:coreProperties>
</file>