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6B5-D275-46A1-9140-24AE2366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837-3355-4CBE-83A9-C985A7D8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5FE-1E53-483B-8034-D838A713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A36-1499-4A62-AA6F-79D81912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BFE-FA80-476B-BD5A-8A13B103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ABB-1C85-455C-8EE5-E314B8EE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F53-6152-49E8-824E-ED808B42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4EB-5597-4116-BE07-5CB7DD81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C1D-72A4-4B06-B43C-D78EB136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FB3-8FD7-4A8C-8DB5-550DD35D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621-9BC4-4DB2-B0C9-53ECCEFF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675-B2AE-4342-84F8-83E2F666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523D-E13B-4E6C-823C-28DAD3BCB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853866_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1185840" y="1857240"/>
            <a:ext cx="6976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  <a:ea typeface="Calibri"/>
              </a:rPr>
              <a:t>Экспериментируем д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  <a:ea typeface="Calibri"/>
              </a:rPr>
              <a:t>рекомендации дл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5500800" y="3571920"/>
            <a:ext cx="292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82f"/>
                </a:solidFill>
                <a:latin typeface="Calibri"/>
              </a:rPr>
              <a:t>Исполн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82f"/>
                </a:solidFill>
                <a:latin typeface="Calibri"/>
              </a:rPr>
              <a:t>Щемелёва Д.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82f"/>
                </a:solidFill>
                <a:latin typeface="Calibri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928800" y="1000080"/>
            <a:ext cx="7072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</a:rPr>
              <a:t>Лёд–твёрдая 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 кубики льда. Поместить их в отдельные стаканчики. Ребенок должен следить за состоянием кубиков льда в тёплом помещении. Обратить его внимание на то, как постепенно уменьшается кубик льда. Что с ним происход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 один большой кубик льда и несколько маленьких. Понаблюдать, какой из них растает быстрее: большой или маленький. Важно, чтобы ребенок обратил внимание на то, что отличающиеся по величине куски льда растают в разные промежутки времени. Таким же образом проследить за таянием сне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ёд, снег – это тоже 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kapitoshka_0002.jpg"/>
          <p:cNvPicPr/>
          <p:nvPr/>
        </p:nvPicPr>
        <p:blipFill>
          <a:blip r:embed="rId2"/>
          <a:stretch/>
        </p:blipFill>
        <p:spPr>
          <a:xfrm rot="1470600">
            <a:off x="1402920" y="1039680"/>
            <a:ext cx="770040" cy="1079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kapitoshka_0002.jpg"/>
          <p:cNvPicPr/>
          <p:nvPr/>
        </p:nvPicPr>
        <p:blipFill>
          <a:blip r:embed="rId3"/>
          <a:stretch/>
        </p:blipFill>
        <p:spPr>
          <a:xfrm flipH="1" rot="21165600">
            <a:off x="5500440" y="4984560"/>
            <a:ext cx="954000" cy="118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853866_13.pn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928800" y="997560"/>
            <a:ext cx="6643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Пар – это тоже вода   </a:t>
            </a:r>
            <a:r>
              <a:rPr b="0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термос с кипятком. Открыть его, чтобы дети увидели пар. Поместить над паром стекло или зеркальце. На нём выступят капельки воды, показать их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00080" y="2220120"/>
            <a:ext cx="70009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                </a:t>
            </a:r>
            <a:r>
              <a:rPr b="1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Вода жидкая, может течь</a:t>
            </a:r>
            <a:r>
              <a:rPr b="0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ребенку два стаканчика – один с водой, другой – пустой. Предложить аккуратно перелить воду из одного в другой. Льётся вода? Почему? (Потому, что она жидкая.) Если бы вода не была жидкой, она не смогла бы течь в реках и ручейках, не текла бы из кр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ребенок лучше понял, что такое «жидкая», предложить ему вспомнить, что кисель бывает жидким и густым. Если кисель течёт, мы можем его перелить из стакана в стакан, и мы говорим, что он… жидкий. Если же мы не можем его перелить из стакана в стакан, потому что он не течёт, а выливается кусками, то мы говорим, что кисель… гус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вода жидкая, может течь, её называют жид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857160" y="951120"/>
            <a:ext cx="71438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В воде некоторые вещества растворяю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а некоторые – не раствор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 ребёнка  два стаканчика с водой. В один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них положить обычный песок и попробовать размешать его ложкой. Что получается? Растворился песок или нет? Взять другой стаканчик и насыпать в него ложечку сахарного песка, размешать его. Что теперь произошло? В каком из стаканчиков песок растворил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не аквариума лежит песок. Растворится он или нет? Что было бы. если бы на дно аквариума положили не обычный песок, а сахарный песок? А если бы на дне реки был сахарный песок? (Он растворился бы в воде, и тогда на дно реки нельзя было бы вст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ить ребенку размешать акварельную краску в стаканчике с водой. Почему вода стала цветной? (Краска в ней растворилас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928800" y="1378800"/>
            <a:ext cx="678636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Вода не имеет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ить детям рассмотреть кубик льда               (вспомнить, что лёд – это твёрдая вода). Какой формы этот кусочек льда? Изменит ли он свою форму, если опустить его в стакан, в миску, положить на стол или на ладошку? А жидкая в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ить детям налить воду в кувшин, тарелку, стакан (любые сосуды), на поверхность стола. Что происходит? Вода принимает форму того предм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тором находится, 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вном месте расползается луж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 жидкая вода не имеет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kapitoshka_0002.jpg"/>
          <p:cNvPicPr/>
          <p:nvPr/>
        </p:nvPicPr>
        <p:blipFill>
          <a:blip r:embed="rId2"/>
          <a:stretch/>
        </p:blipFill>
        <p:spPr>
          <a:xfrm rot="1470600">
            <a:off x="2043000" y="960480"/>
            <a:ext cx="722520" cy="105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53965959_vODA_TALAYA"/>
          <p:cNvPicPr/>
          <p:nvPr/>
        </p:nvPicPr>
        <p:blipFill>
          <a:blip r:embed="rId3"/>
          <a:stretch/>
        </p:blipFill>
        <p:spPr>
          <a:xfrm>
            <a:off x="5357880" y="4214880"/>
            <a:ext cx="268128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56a516ac53358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1106640" y="3071880"/>
            <a:ext cx="62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дачи Вам и Вашему ребенку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147.gif"/>
          <p:cNvPicPr/>
          <p:nvPr/>
        </p:nvPicPr>
        <p:blipFill>
          <a:blip r:embed="rId2"/>
          <a:stretch/>
        </p:blipFill>
        <p:spPr>
          <a:xfrm>
            <a:off x="6540480" y="182520"/>
            <a:ext cx="2432160" cy="26830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60e5d6241c8d.png"/>
          <p:cNvPicPr/>
          <p:nvPr/>
        </p:nvPicPr>
        <p:blipFill>
          <a:blip r:embed="rId3"/>
          <a:stretch/>
        </p:blipFill>
        <p:spPr>
          <a:xfrm>
            <a:off x="182520" y="139680"/>
            <a:ext cx="40719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1071720" y="143208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1214280" y="90756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57160" y="2428920"/>
            <a:ext cx="728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Что нужно делать, что нельзя делать, чтобы поддержать активность в познавательной деятельност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853866_13.pn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143000" y="1071720"/>
            <a:ext cx="70009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Что нужно 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ть детскую любознательность и всегда находить время для ответов на детское «почему?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едоставлять ребенку условия для действия с разными вещами, предметами, материа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буждать ребенка к самостоятельному эксперименту при помощи мот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целях безопасности существуют некоторые запреты на действия детей, объясняйте, почему этого нельзя 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ощряйте ребенка за проявленную самостоятельность и способность к исслед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казывайте необходимую помощь, чтобы у ребенка не пропало желание к экспериментир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чите ребенка наблюдать и делать предположения,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оздавайте ситуацию успеш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071720" y="143208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1214280" y="90756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366920" y="1152360"/>
            <a:ext cx="6858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519200" y="1305000"/>
            <a:ext cx="685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857160" y="1071720"/>
            <a:ext cx="72867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Чего нельзя 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льзя отмахиваться от вопросов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бо любознательность — основа эксперимент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ельзя отказываться от совместной деятельности с ребенком, так как ребенок не может развиваться без участия взрос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ельзя ограничивать деятельность ребенка: если что-то опасно для него, сделайте вместе с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ельзя запрещать без объяс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критикуйте и не ругайте ребенка, если у него что-то не получилось, лучше помогите 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Нарушение правил и детская шалость — разные вещи. Будьте справедливы к своему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е спешите делать за ребенка то, что он может выполнить сам. Проявляйте спокойствие и терп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Дети бывают, импульсивны, будьте терпеливы и спокойны по отношению к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853866_13.pn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1214280" y="1214280"/>
            <a:ext cx="6929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– это наблюдение за явлениями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пособны познать не только внешнюю стор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х явлений, но и несложные связи, отно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ними и закономерности, такие, как различные состояния веществ, переход веществ из одного состояния в другое, свойства воздуха, способность песка пропускать через себя     воду. Благодаря опытам у детей развивается способность сравнивать, делать выводы, высказывать  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ы строятся на основе имеющихся у детей представлений. В постановке и проведении опытов дети должны быть активными участниками. При обсуждении результатов опытов необходимо подводить детей к самостоятельным выводам и су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928800" y="1285920"/>
            <a:ext cx="7143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агаем Вашему вниманию некоторые опы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Вы можете провести со своими детьми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 эти опыты, Вы познакомите детей с некотор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ми воды. Обратите их внимание на то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такой привычный объект, как вода, таит в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неизвестного. Знание свойств воды поможет детям понять особенности водных организмов, их приспособленность к водной среде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и оборуд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канчики с водой, стаканчик с молоком, палочки или чайные ложки, соломинки для коктейля, песок, сахарный песок, кусочки льда, комочки снега, термос с горячей водой, стекло или зеркальце, акварельные кра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853866_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1143000" y="1143000"/>
            <a:ext cx="67150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Вода  прозрачная</a:t>
            </a:r>
            <a:r>
              <a:rPr b="0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детьми стоят два стаканчика: один с вод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 с молоком. В оба стаканчика положить пал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ожечки. В каком из стаканчиков они видны, а в ка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? Почему? (Перед нами молоко и вода, в стаканчике с водой мы видим палочку, а в стаканчике с молоком – не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: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прозрачная, а молоко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детям подумать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бы, если бы речная вода б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зрач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в сказках говор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олочных реках с кисель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ами. Могли бы рыбы,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животные жить в та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ых ре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5143680" y="3214800"/>
            <a:ext cx="3071520" cy="239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1000080" y="1658520"/>
            <a:ext cx="657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ить детям попробовать       через соломинку        воду.          Есть ли у неё вкус? Дать им для    сравнения попробовать молоко или сок. Если они не убедились, пусть ещё раз попробуют воду. (Дети часто слышат от взрослых, что вода очень вкусная. У них формируется неверное представление. Объяснить, что когда человек очень хочет пить, то с удовольствием пьёт воду, и, чтобы выразить своё удовольствие, говорит: «Какая вкусная вода», хотя на самом деле её вкуса не чувствуе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967120" y="107172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У воды  нет  вк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kapitoshka_0002.jpg"/>
          <p:cNvPicPr/>
          <p:nvPr/>
        </p:nvPicPr>
        <p:blipFill>
          <a:blip r:embed="rId2"/>
          <a:stretch/>
        </p:blipFill>
        <p:spPr>
          <a:xfrm rot="1470600">
            <a:off x="2571840" y="4525560"/>
            <a:ext cx="1160280" cy="1627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kapitoshka_0002.jpg"/>
          <p:cNvPicPr/>
          <p:nvPr/>
        </p:nvPicPr>
        <p:blipFill>
          <a:blip r:embed="rId3"/>
          <a:stretch/>
        </p:blipFill>
        <p:spPr>
          <a:xfrm flipH="1" rot="21166200">
            <a:off x="5279760" y="4556160"/>
            <a:ext cx="130968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853866_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928800" y="344880"/>
            <a:ext cx="678636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У воды нет за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детям понюхать воду и сказать, чем она       пахнет или совсем не пахнет. Пусть нюхают ещё и ещё, пока          не убедятся, что запаха нет. Можно для сравнения предложить понюхать воду, в которую добавили ароматические вещества     (духи, соль   для    ван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можно подчеркнуть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из водопроводного крана 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пах, так как е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щают специальными веществ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на была безопасной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го   здоров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214200" y="4071960"/>
            <a:ext cx="2714760" cy="259236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16:43:39Z</dcterms:created>
  <dc:creator>Windows_7</dc:creator>
  <dc:description/>
  <dc:language>en-US</dc:language>
  <cp:lastModifiedBy>Пользователь</cp:lastModifiedBy>
  <dcterms:modified xsi:type="dcterms:W3CDTF">2021-04-12T12:04:3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160000000000010290310207f7000400038000</vt:lpwstr>
  </property>
</Properties>
</file>