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0BFA-153C-4C87-807D-E4E082FD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2E93-CFA6-48EB-8460-B644C872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420-7D1F-4122-96BB-77B2B537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AF0-333D-44BA-B7CE-2B66D0D9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3EC-339B-4F19-BC35-EC05C673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D9F-D200-4855-ABDA-1DB9A12F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B10B-1446-47EC-83EC-71DCC3DF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8BD-F04D-47BA-946A-203089C9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F8B-F0EF-4DD0-83FF-816B5359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0E1-8C55-427A-92B9-205A64EC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8D55-B293-418D-BFE9-16C5F929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574-881C-4459-ADF1-30DFFFE2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B89D-7E4F-4068-AA63-E0E45B9231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853866_1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1185840" y="1857240"/>
            <a:ext cx="6976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  <a:ea typeface="Calibri"/>
              </a:rPr>
              <a:t>Экспериментируем д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omic Sans MS"/>
                <a:ea typeface="Calibri"/>
              </a:rPr>
              <a:t>рекомендации для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6"/>
          <p:cNvSpPr/>
          <p:nvPr/>
        </p:nvSpPr>
        <p:spPr>
          <a:xfrm>
            <a:off x="5500800" y="3571920"/>
            <a:ext cx="292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82f"/>
                </a:solidFill>
                <a:latin typeface="Calibri"/>
              </a:rPr>
              <a:t>Исполни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82f"/>
                </a:solidFill>
                <a:latin typeface="Calibri"/>
              </a:rPr>
              <a:t>Щемелёва Д.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82f"/>
                </a:solidFill>
                <a:latin typeface="Calibri"/>
              </a:rPr>
              <a:t>воспи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5" descr="5604840bb574f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928800" y="1000080"/>
            <a:ext cx="707220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2f"/>
                </a:solidFill>
                <a:latin typeface="Arial"/>
              </a:rPr>
              <a:t>Лёд–твёрдая 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ь кубики льда. Поместить их в отдельные стаканчики. Ребенок должен следить за состоянием кубиков льда в тёплом помещении. Обратить его внимание на то, как постепенно уменьшается кубик льда. Что с ним происход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ь один большой кубик льда и несколько маленьких. Понаблюдать, какой из них растает быстрее: большой или маленький. Важно, чтобы ребенок обратил внимание на то, что отличающиеся по величине куски льда растают в разные промежутки времени. Таким же образом проследить за таянием сне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ёд, снег – это тоже 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kapitoshka_0002.jpg"/>
          <p:cNvPicPr/>
          <p:nvPr/>
        </p:nvPicPr>
        <p:blipFill>
          <a:blip r:embed="rId2"/>
          <a:stretch/>
        </p:blipFill>
        <p:spPr>
          <a:xfrm rot="1470600">
            <a:off x="1402920" y="1039680"/>
            <a:ext cx="770040" cy="1079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kapitoshka_0002.jpg"/>
          <p:cNvPicPr/>
          <p:nvPr/>
        </p:nvPicPr>
        <p:blipFill>
          <a:blip r:embed="rId3"/>
          <a:stretch/>
        </p:blipFill>
        <p:spPr>
          <a:xfrm flipH="1" rot="21165600">
            <a:off x="5500440" y="4984560"/>
            <a:ext cx="954000" cy="1185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4" descr="853866_13.pn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928800" y="997560"/>
            <a:ext cx="66434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2f"/>
                </a:solidFill>
                <a:latin typeface="Arial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682f"/>
                </a:solidFill>
                <a:latin typeface="Times New Roman"/>
                <a:ea typeface="Times New Roman"/>
              </a:rPr>
              <a:t>Пар – это тоже вода   </a:t>
            </a:r>
            <a:r>
              <a:rPr b="0" lang="ru-RU" sz="2000" spc="-1" strike="noStrike">
                <a:solidFill>
                  <a:srgbClr val="00682f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ть термос с кипятком. Открыть его, чтобы дети увидели пар. Поместить над паром стекло или зеркальце. На нём выступят капельки воды, показать их де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00080" y="2220120"/>
            <a:ext cx="70009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2f"/>
                </a:solidFill>
                <a:latin typeface="Arial"/>
                <a:ea typeface="Times New Roman"/>
              </a:rPr>
              <a:t>                </a:t>
            </a:r>
            <a:r>
              <a:rPr b="1" lang="ru-RU" sz="2000" spc="-1" strike="noStrike">
                <a:solidFill>
                  <a:srgbClr val="00682f"/>
                </a:solidFill>
                <a:latin typeface="Times New Roman"/>
                <a:ea typeface="Times New Roman"/>
              </a:rPr>
              <a:t>Вода жидкая, может течь</a:t>
            </a:r>
            <a:r>
              <a:rPr b="0" lang="ru-RU" sz="2000" spc="-1" strike="noStrike">
                <a:solidFill>
                  <a:srgbClr val="00682f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ребенку два стаканчика – один с водой, другой – пустой. Предложить аккуратно перелить воду из одного в другой. Льётся вода? Почему? (Потому, что она жидкая.) Если бы вода не была жидкой, она не смогла бы течь в реках и ручейках, не текла бы из кр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чтобы ребенок лучше понял, что такое «жидкая», предложить ему вспомнить, что кисель бывает жидким и густым. Если кисель течёт, мы можем его перелить из стакана в стакан, и мы говорим, что он… жидкий. Если же мы не можем его перелить из стакана в стакан, потому что он не течёт, а выливается кусками, то мы говорим, что кисель… гус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кольку вода жидкая, может течь, её называют жид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5" descr="5604840bb574f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857160" y="951120"/>
            <a:ext cx="714384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2f"/>
                </a:solidFill>
                <a:latin typeface="Arial"/>
                <a:ea typeface="Times New Roman"/>
              </a:rPr>
              <a:t>В воде некоторые вещества растворяютс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2f"/>
                </a:solidFill>
                <a:latin typeface="Arial"/>
                <a:ea typeface="Times New Roman"/>
              </a:rPr>
              <a:t>а некоторые – не растворя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  ребёнка  два стаканчика с водой. В один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 них положить обычный песок и попробовать размешать его ложкой. Что получается? Растворился песок или нет? Взять другой стаканчик и насыпать в него ложечку сахарного песка, размешать его. Что теперь произошло? В каком из стаканчиков песок растворил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не аквариума лежит песок. Растворится он или нет? Что было бы. если бы на дно аквариума положили не обычный песок, а сахарный песок? А если бы на дне реки был сахарный песок? (Он растворился бы в воде, и тогда на дно реки нельзя было бы вста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ожить ребенку размешать акварельную краску в стаканчике с водой. Почему вода стала цветной? (Краска в ней растворилас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5" descr="5604840bb574f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928800" y="1378800"/>
            <a:ext cx="678636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2f"/>
                </a:solidFill>
                <a:latin typeface="Arial"/>
                <a:ea typeface="Times New Roman"/>
              </a:rPr>
              <a:t>Вода не имеет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ить детям рассмотреть кубик льда               (вспомнить, что лёд – это твёрдая вода). Какой формы этот кусочек льда? Изменит ли он свою форму, если опустить его в стакан, в миску, положить на стол или на ладошку? А жидкая в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ожить детям налить воду в кувшин, тарелку, стакан (любые сосуды), на поверхность стола. Что происходит? Вода принимает форму того предме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тором находится, 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вном месте расползается лужиц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, жидкая вода не имеет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" descr="kapitoshka_0002.jpg"/>
          <p:cNvPicPr/>
          <p:nvPr/>
        </p:nvPicPr>
        <p:blipFill>
          <a:blip r:embed="rId2"/>
          <a:stretch/>
        </p:blipFill>
        <p:spPr>
          <a:xfrm rot="1470600">
            <a:off x="2043000" y="960480"/>
            <a:ext cx="722520" cy="1052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53965959_vODA_TALAYA"/>
          <p:cNvPicPr/>
          <p:nvPr/>
        </p:nvPicPr>
        <p:blipFill>
          <a:blip r:embed="rId3"/>
          <a:stretch/>
        </p:blipFill>
        <p:spPr>
          <a:xfrm>
            <a:off x="5357880" y="4214880"/>
            <a:ext cx="268128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56a516ac53358.jpg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1106640" y="3071880"/>
            <a:ext cx="62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дачи Вам и Вашему ребенку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" descr="147.gif"/>
          <p:cNvPicPr/>
          <p:nvPr/>
        </p:nvPicPr>
        <p:blipFill>
          <a:blip r:embed="rId2"/>
          <a:stretch/>
        </p:blipFill>
        <p:spPr>
          <a:xfrm>
            <a:off x="6540480" y="182520"/>
            <a:ext cx="2432160" cy="26830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60e5d6241c8d.png"/>
          <p:cNvPicPr/>
          <p:nvPr/>
        </p:nvPicPr>
        <p:blipFill>
          <a:blip r:embed="rId3"/>
          <a:stretch/>
        </p:blipFill>
        <p:spPr>
          <a:xfrm>
            <a:off x="182520" y="139680"/>
            <a:ext cx="407196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5604840bb574f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"/>
          <p:cNvSpPr/>
          <p:nvPr/>
        </p:nvSpPr>
        <p:spPr>
          <a:xfrm>
            <a:off x="1071720" y="1432080"/>
            <a:ext cx="70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1214280" y="90756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857160" y="2428920"/>
            <a:ext cx="7286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Что нужно делать, что нельзя делать, чтобы поддержать активность в познавательной деятельности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853866_13.pn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1143000" y="1071720"/>
            <a:ext cx="700092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Arial"/>
              </a:rPr>
              <a:t>Что нужно 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щрять детскую любознательность и всегда находить время для ответов на детское «почему?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едоставлять ребенку условия для действия с разными вещами, предметами, материа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буждать ребенка к самостоятельному эксперименту при помощи мот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целях безопасности существуют некоторые запреты на действия детей, объясняйте, почему этого нельзя дел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ощряйте ребенка за проявленную самостоятельность и способность к исслед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казывайте необходимую помощь, чтобы у ребенка не пропало желание к экспериментир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Учите ребенка наблюдать и делать предположения,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оздавайте ситуацию успеш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5604840bb574f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1071720" y="1432080"/>
            <a:ext cx="70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1214280" y="90756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366920" y="1152360"/>
            <a:ext cx="6858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519200" y="1305000"/>
            <a:ext cx="685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857160" y="1071720"/>
            <a:ext cx="72867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Arial"/>
              </a:rPr>
              <a:t>Чего нельзя 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льзя отмахиваться от вопросов де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бо любознательность — основа эксперимент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ельзя отказываться от совместной деятельности с ребенком, так как ребенок не может развиваться без участия взросл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Нельзя ограничивать деятельность ребенка: если что-то опасно для него, сделайте вместе с 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Нельзя запрещать без объяс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Не критикуйте и не ругайте ребенка, если у него что-то не получилось, лучше помогите 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Нарушение правил и детская шалость — разные вещи. Будьте справедливы к своему ребе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е спешите делать за ребенка то, что он может выполнить сам. Проявляйте спокойствие и терп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Дети бывают, импульсивны, будьте терпеливы и спокойны по отношению к 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853866_13.png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6"/>
          <p:cNvSpPr/>
          <p:nvPr/>
        </p:nvSpPr>
        <p:spPr>
          <a:xfrm>
            <a:off x="1214280" y="1214280"/>
            <a:ext cx="6929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– это наблюдение за явлениями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пособны познать не только внешнюю сторо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х явлений, но и несложные связи, отно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ними и закономерности, такие, как различные состояния веществ, переход веществ из одного состояния в другое, свойства воздуха, способность песка пропускать через себя     воду. Благодаря опытам у детей развивается способность сравнивать, делать выводы, высказывать   с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ы строятся на основе имеющихся у детей представлений. В постановке и проведении опытов дети должны быть активными участниками. При обсуждении результатов опытов необходимо подводить детей к самостоятельным выводам и сужд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5" descr="5604840bb574f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6"/>
          <p:cNvSpPr/>
          <p:nvPr/>
        </p:nvSpPr>
        <p:spPr>
          <a:xfrm>
            <a:off x="928800" y="1285920"/>
            <a:ext cx="7143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лагаем Вашему вниманию некоторые опы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Вы можете провести со своими детьми д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я эти опыты, Вы познакомите детей с некотор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ми воды. Обратите их внимание на то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такой привычный объект, как вода, таит в с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неизвестного. Знание свойств воды поможет детям понять особенности водных организмов, их приспособленность к водной среде об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и оборуд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канчики с водой, стаканчик с молоком, палочки или чайные ложки, соломинки для коктейля, песок, сахарный песок, кусочки льда, комочки снега, термос с горячей водой, стекло или зеркальце, акварельные кра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4" descr="853866_1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1143000" y="1143000"/>
            <a:ext cx="671508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2f"/>
                </a:solidFill>
                <a:latin typeface="Times New Roman"/>
                <a:ea typeface="Times New Roman"/>
              </a:rPr>
              <a:t>Вода  прозрачная</a:t>
            </a:r>
            <a:r>
              <a:rPr b="0" lang="ru-RU" sz="2000" spc="-1" strike="noStrike">
                <a:solidFill>
                  <a:srgbClr val="00682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детьми стоят два стаканчика: один с вод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й с молоком. В оба стаканчика положить пал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ложечки. В каком из стаканчиков они видны, а в ка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? Почему? (Перед нами молоко и вода, в стаканчике с водой мы видим палочку, а в стаканчике с молоком – нет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вод: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прозрачная, а молоко 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ь детям подумать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бы, если бы речная вода бы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зрачн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в сказках говори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молочных реках с кисель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гами. Могли бы рыбы,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животные жить в та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чных рек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5143680" y="3214800"/>
            <a:ext cx="3071520" cy="2395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5" descr="5604840bb574f.jpg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1000080" y="1658520"/>
            <a:ext cx="657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ить детям попробовать       через соломинку        воду.          Есть ли у неё вкус? Дать им для    сравнения попробовать молоко или сок. Если они не убедились, пусть ещё раз попробуют воду. (Дети часто слышат от взрослых, что вода очень вкусная. У них формируется неверное представление. Объяснить, что когда человек очень хочет пить, то с удовольствием пьёт воду, и, чтобы выразить своё удовольствие, говорит: «Какая вкусная вода», хотя на самом деле её вкуса не чувствует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2967120" y="107172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2f"/>
                </a:solidFill>
                <a:latin typeface="Arial"/>
                <a:ea typeface="Times New Roman"/>
              </a:rPr>
              <a:t>У воды  нет  вку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kapitoshka_0002.jpg"/>
          <p:cNvPicPr/>
          <p:nvPr/>
        </p:nvPicPr>
        <p:blipFill>
          <a:blip r:embed="rId2"/>
          <a:stretch/>
        </p:blipFill>
        <p:spPr>
          <a:xfrm rot="1470600">
            <a:off x="2571840" y="4525560"/>
            <a:ext cx="1160280" cy="16272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kapitoshka_0002.jpg"/>
          <p:cNvPicPr/>
          <p:nvPr/>
        </p:nvPicPr>
        <p:blipFill>
          <a:blip r:embed="rId3"/>
          <a:stretch/>
        </p:blipFill>
        <p:spPr>
          <a:xfrm flipH="1" rot="21166200">
            <a:off x="5279760" y="4556160"/>
            <a:ext cx="1309680" cy="1627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5" descr="853866_1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928800" y="344880"/>
            <a:ext cx="6786360" cy="40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82f"/>
                </a:solidFill>
                <a:latin typeface="Times New Roman"/>
                <a:ea typeface="Times New Roman"/>
              </a:rPr>
              <a:t>У воды нет запа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ь детям понюхать воду и сказать, чем она       пахнет или совсем не пахнет. Пусть нюхают ещё и ещё, пока          не убедятся, что запаха нет. Можно для сравнения предложить понюхать воду, в которую добавили ароматические вещества     (духи, соль   для    ван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можно подчеркнуть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из водопроводного крана мо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запах, так как е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щают специальными веществ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на была безопасной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го   здоровь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214200" y="4071960"/>
            <a:ext cx="2714760" cy="2592360"/>
          </a:xfrm>
          <a:prstGeom prst="rect">
            <a:avLst/>
          </a:prstGeom>
          <a:ln w="28440">
            <a:solidFill>
              <a:srgbClr val="ffc000"/>
            </a:solidFill>
            <a:miter/>
          </a:ln>
        </p:spPr>
      </p:pic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16:43:39Z</dcterms:created>
  <dc:creator>Windows_7</dc:creator>
  <dc:description/>
  <dc:language>en-US</dc:language>
  <cp:lastModifiedBy>Пользователь</cp:lastModifiedBy>
  <dcterms:modified xsi:type="dcterms:W3CDTF">2021-04-12T12:04:31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160000000000010290310207f7000400038000</vt:lpwstr>
  </property>
</Properties>
</file>