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5.jpeg" ContentType="image/jpeg"/>
  <Override PartName="/ppt/media/image26.jpeg" ContentType="image/jpeg"/>
  <Override PartName="/ppt/media/image7.jpeg" ContentType="image/jpeg"/>
  <Override PartName="/ppt/media/image28.jpeg" ContentType="image/jpeg"/>
  <Override PartName="/ppt/media/image23.wmf" ContentType="image/x-wmf"/>
  <Override PartName="/ppt/media/image9.jpeg" ContentType="image/jpeg"/>
  <Override PartName="/ppt/media/image24.png" ContentType="image/png"/>
  <Override PartName="/ppt/media/image11.jpeg" ContentType="image/jpeg"/>
  <Override PartName="/ppt/media/image6.png" ContentType="image/png"/>
  <Override PartName="/ppt/media/image31.jpeg" ContentType="image/jpeg"/>
  <Override PartName="/ppt/media/image2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wmf" ContentType="image/x-wmf"/>
  <Override PartName="/ppt/media/image25.png" ContentType="image/png"/>
  <Override PartName="/ppt/media/image19.jpeg" ContentType="image/jpeg"/>
  <Override PartName="/ppt/media/image20.jpeg" ContentType="image/jpe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35DF-4EED-4070-B1B0-A824594D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383-A417-4D22-A386-8A54DB3A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9B2E-4FAB-4127-B462-3EB1E070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67D8-8033-479B-BCD8-9B06B9C8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15D9-6FEA-41E6-89EC-955F0BFC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6A31-C455-409F-842C-FB09385F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EA3A-E585-427F-9FDD-907D5750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A76B-E242-42A0-AA27-48CA74EA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7583-5037-48D3-82E2-4B6B0D31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B03A-7824-4E8F-9DA5-9F4DAABB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0CA4-128A-4FC8-B626-D569B26B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28D-C8BE-461F-8AA9-31BF887E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6CDB-CC13-460F-9AC2-AE2EEDE8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E813-BDAB-4D0B-B132-F74C683A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9E8C-B484-44B6-B60B-7E337FA5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3377-9AC6-4D1B-B3D0-1267D5FC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1244-A4E6-439B-9EDA-7BAF77B9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C0D3-823F-46E8-A4A1-A0F50C07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436E-822B-4228-BD52-DE4EF4A7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3C4-2596-47C4-A326-91028F35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197-133F-4354-A35C-AA297ADE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C6B-E1CB-4989-8C29-594AD73B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42FE-57EA-4E96-A370-F38F4379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35E1-2CB7-4B45-9FDA-4C1135E5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FF56-DCC9-4710-9166-3042D0EA6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83EF-D17A-4D37-8F8B-8AB355500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Муниципальное автономное образовательное учреждение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«Средняя школа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№ 8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с углублённым изучением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отдельных предметов»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819160" y="1752120"/>
            <a:ext cx="6095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Авторы: ученица 3 класса «Д»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Фалалеева Екатери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мама – Фалалеева Е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Руководи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читель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категории Шороних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Инна Александровна.</a:t>
            </a: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64920" y="5409000"/>
            <a:ext cx="138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гал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02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914400" y="1828800"/>
            <a:ext cx="2603520" cy="3429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00600" y="4648320"/>
            <a:ext cx="41148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На родительском собрании я провела опрос.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И получила следующие результаты: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1219320" y="2057400"/>
          <a:ext cx="74674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74674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791320" y="4876920"/>
            <a:ext cx="266688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Специалисты Национального исследовательского центра здоровья детей при Минздраве РФ изучили данные о состоянии здоровья российских школьников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и назвали самые распространенные среди них заболевания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28600" y="1905120"/>
          <a:ext cx="861048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61048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505320" y="2666880"/>
            <a:ext cx="1885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6094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 медицине определяются следующие показания к применению ромашки лекарствен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8120" y="1981800"/>
            <a:ext cx="841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спалительные заболевания кожи, ожоги, гнойные ра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езни желчного пузыря,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гастри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езни желудка, с развитием воспалительные процессов слизист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болезни органов дыха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при которых беспокоит 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кашел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является спазм бронхов, отеки слизистых дыхательных пу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спаления органов мочеполовой сист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бронхиальная аст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экзема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реждения соединительной тка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бессонниц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евые ощущения -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зубная бол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и 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мигрен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562720" y="3962520"/>
            <a:ext cx="32004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4267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редняя стоимость ромашкового ч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на </a:t>
            </a: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«</a:t>
            </a: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apteka</a:t>
            </a: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.ru</a:t>
            </a: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»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и в аптеках города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Чай HiPP Ромашковый (гранулированный), c 4 месяцев"/>
          <p:cNvPicPr/>
          <p:nvPr/>
        </p:nvPicPr>
        <p:blipFill>
          <a:blip r:embed="rId1"/>
          <a:stretch/>
        </p:blipFill>
        <p:spPr>
          <a:xfrm>
            <a:off x="762120" y="2514600"/>
            <a:ext cx="1773000" cy="3809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Чай Бабушкино Лукошко Ромашка, c 1 месяца"/>
          <p:cNvPicPr/>
          <p:nvPr/>
        </p:nvPicPr>
        <p:blipFill>
          <a:blip r:embed="rId2"/>
          <a:stretch/>
        </p:blipFill>
        <p:spPr>
          <a:xfrm>
            <a:off x="5257800" y="533520"/>
            <a:ext cx="3352680" cy="2328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36280" y="2362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96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8320" y="57150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11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Чай Heinz Ромашка, c 4 месяцев"/>
          <p:cNvPicPr/>
          <p:nvPr/>
        </p:nvPicPr>
        <p:blipFill>
          <a:blip r:embed="rId3"/>
          <a:stretch/>
        </p:blipFill>
        <p:spPr>
          <a:xfrm>
            <a:off x="3048120" y="2590920"/>
            <a:ext cx="1896840" cy="3733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50640" y="26668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07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Чай Fleur Alpine Ромашка, c 1 месяца"/>
          <p:cNvPicPr/>
          <p:nvPr/>
        </p:nvPicPr>
        <p:blipFill>
          <a:blip r:embed="rId4"/>
          <a:stretch/>
        </p:blipFill>
        <p:spPr>
          <a:xfrm>
            <a:off x="5791320" y="3124080"/>
            <a:ext cx="2603520" cy="3124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251040" y="41911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08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Интернет-аптека – купить лекарства по низким ценам на Аптека.ру"/>
          <p:cNvPicPr/>
          <p:nvPr/>
        </p:nvPicPr>
        <p:blipFill>
          <a:blip r:embed="rId5"/>
          <a:stretch/>
        </p:blipFill>
        <p:spPr>
          <a:xfrm>
            <a:off x="228600" y="762120"/>
            <a:ext cx="981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2209680"/>
            <a:ext cx="51055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Я выполнила поставленные задачи: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Изучила целебные свойства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некоторых растений моего края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Познакомилась с правилами сбора растений и подготовки их к применению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Создала свой травник лекарственных растений, полезных для моей семьи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Рассказала своим одноклассникам о лекарственных растениях нашего края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Определила стоимость лекарственного чая из ромашки аптечной и подтвердила гипотезу: некоторые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дорогостоящие препараты можно заменить средствами (отвар, настой, чай и пр.) из самостоятельного заготовленных лекарственных растений и экономить семейный бюджет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5334120"/>
            <a:ext cx="5181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Надеюсь, что материал моего проекта окажется полезным не только для моих сверстников, но и для их родителе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248520" y="990720"/>
            <a:ext cx="2347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19920" y="3514680"/>
            <a:ext cx="3581280" cy="3343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38080" y="3429000"/>
            <a:ext cx="8001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Times New Roman"/>
              </a:rPr>
              <a:t>Цель проект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: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знать,  какие лекарственные растения растут на территории нашего края, изучить  их целительное воздействие на организм челове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464832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Задачи: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Изучить целебные св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которых растений мое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Познакомиться с правилами сбора раст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подготовки к приме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Создать свой трав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сборник полезных для моей семьи расте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 Black"/>
              </a:rPr>
              <a:t>ЗЕЛЁНАЯ АПТЕКА МОЕ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838080"/>
            <a:ext cx="87631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«Нет растения, чтобы не было  лекарственным.</a:t>
            </a:r>
            <a:br>
              <a:rPr sz="2000"/>
            </a:b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Нет болезни, чтобы  не вылечили растения»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тверждает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Авиценн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чу рассказать о лечебных свойствах некоторых растений моего к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1337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Гипотеза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я предположила, что если на личном опыте убедиться в целительном эффекте некоторых растений природной апте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 можно будет отказаться от приобрет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рогостоящих препаратов и экономить семейный бюд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 Black"/>
              </a:rPr>
              <a:t>ЗЕЛЁНАЯ АПТЕКА МОЕГО КРАЯ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95280"/>
            <a:ext cx="46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Объект исследова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лекарственные растения моего кр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2362320"/>
            <a:ext cx="46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редмет исследова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исцеляющий эффект воздействия лекарственных раст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800600"/>
            <a:ext cx="525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Актуальность проект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пределяется желанием найти способы эффективного лечения болезней и укрепления здоровья при минимальных денежных затра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76920" y="3048120"/>
            <a:ext cx="4267080" cy="2433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14400" y="35053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Методы исследования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иск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ассифика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об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05740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О лечении  травами упомянуто в писаниях древних врачевателей: Гиппократа, Плиния, Галена и др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На Руси церковные люди монастырей и православных храмов с особым трепетом занимались сбором лекарственных растений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В конце XVIII в. исследованиями лекарственных растений отечественной флоры стали заниматься ботаники и врачи. Проверенные и систематизированные ими данные из народной медицины увеличили арсенал лечебных препаратов ценными растениями, которые, не потеряли свою актуальность и сегодня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В XX в. синтетические лекарства почти вытеснили традиционные натуральные препараты на основе лекарственных растений.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90920" y="4419720"/>
            <a:ext cx="3886200" cy="2185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124800" y="183240"/>
            <a:ext cx="29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Немного истори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12189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Black"/>
              </a:rPr>
              <a:t>Лекарственные растения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— обширная группа растений, органы или части которых (листья, корень, цветки) являются сырьём для получения средств, используемых в народной, медицинской или ветеринарной практике с лечебными или профилактическими целями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449568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38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 Black"/>
              </a:rPr>
              <a:t>Лекарственные растения ХМАО - Югры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21932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еверян дары природы это и лакомство, и источник витаминов. А для некоторых – ещё и основной или дополнительный до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круге растёт 14 видов ягодных и плодовых растений. Промышленные запасы имеют брусника, клюква, черник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 центра по приёму, хранению и переработке дикоросов расположены в городе Ханты-Мансийс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гт. Междуреченский и в Нижневартовском рай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95280" y="3962520"/>
            <a:ext cx="2971800" cy="2377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05520" y="3657600"/>
            <a:ext cx="25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5715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 Black"/>
              </a:rPr>
              <a:t>Травник лекарственных растений моего края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1257480" cy="1923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1219320" cy="1904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00400" y="1905120"/>
            <a:ext cx="1238400" cy="1914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981080" y="4572000"/>
            <a:ext cx="1266840" cy="1123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457200" y="4572000"/>
            <a:ext cx="1371600" cy="1130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4572000" y="1905120"/>
            <a:ext cx="1324080" cy="1904760"/>
          </a:xfrm>
          <a:prstGeom prst="rect">
            <a:avLst/>
          </a:prstGeom>
          <a:ln w="0">
            <a:noFill/>
          </a:ln>
        </p:spPr>
      </p:pic>
      <p:pic>
        <p:nvPicPr>
          <p:cNvPr id="131" name="Объект 4" descr=""/>
          <p:cNvPicPr/>
          <p:nvPr/>
        </p:nvPicPr>
        <p:blipFill>
          <a:blip r:embed="rId7"/>
          <a:stretch/>
        </p:blipFill>
        <p:spPr>
          <a:xfrm>
            <a:off x="3429000" y="4572000"/>
            <a:ext cx="129528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Объект 4" descr=""/>
          <p:cNvPicPr/>
          <p:nvPr/>
        </p:nvPicPr>
        <p:blipFill>
          <a:blip r:embed="rId8"/>
          <a:stretch/>
        </p:blipFill>
        <p:spPr>
          <a:xfrm>
            <a:off x="6095880" y="1905120"/>
            <a:ext cx="1298520" cy="1904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7543800" y="1905120"/>
            <a:ext cx="1339920" cy="1914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4876920" y="4572000"/>
            <a:ext cx="130464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1"/>
          <a:stretch/>
        </p:blipFill>
        <p:spPr>
          <a:xfrm>
            <a:off x="6324480" y="457200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2"/>
          <a:stretch/>
        </p:blipFill>
        <p:spPr>
          <a:xfrm>
            <a:off x="7696080" y="4572000"/>
            <a:ext cx="1219320" cy="1138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248520" y="57902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дуванчик лекарствен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3869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лю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3808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иповник корич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38088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ипрей узколи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391536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ероб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942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рус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597276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олуб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58662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алина обыкнов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3808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омашка аптеч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58662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ижма обыкнов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3808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на обыкнов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58964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ать-и-маче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 Black"/>
              </a:rPr>
              <a:t>Правила сбора и хранения </a:t>
            </a: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Arial Black"/>
              </a:rPr>
              <a:t>лекарственных растений.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равило первое: что собирать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ледует научиться отличать растения подлежащие сбору, от сходных видов. Нужно знать, какие части растений имеют лечебное значение. Плоды, ягоды, семена собираются лишь при условии их полной спел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равило второе: когда собирать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арственные растения обладают наиболее целебной силой в определённые месяцы. Кроме этого, собирать растения лучше в сухую по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равило третье: как собирать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ранее запаситесь всем необходимым для сбора (совками, ножницами, ножами, мешочкам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равило четвёртое: где собирать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ует избегать откосов у шоссейных дорог, мест, которые подвергались обработке ядохимик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Правило пятое: собирая, сохранять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ие лекарственные растения стали редкостью. Берите ровно столько, сколько нужно, а собранные растения умейте правильно сохраня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Нельзя собирать лекарственные раст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занесенные в Красную книг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Сушите лекарственные растения на воздухе в тени. Хорошие места для подсушивания – дачные чердаки. Кладите растения по отдельности, не перепутывая. Следите, чтобы на растения не попали ни земля, ни песок, ни грязь.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Правила хранения лекарственных тра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Каждому виду должно быть уделено отдельное место хра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Отдельно необходимо хранить листья, цветки, корни, поскольку они имеют разные сроки хра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Идеальными для хранения считаются картонные коробки, деревянные ящики, полотняные мешочки или бумажные пакетики, поскольку они пропускают возд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Периодически травы необходимо осматривать. Если вы обнаружили плесень, то запасы надо выбросить, толку от них уже не бу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Обязательно подписывайте растения. На таре необходимо указать название растения и дату с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Травы сохраняют целебные свойства в среднем до 2 лет, плоды - до 3 лет, кора и корни - до 5 лет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1T15:29:43Z</dcterms:created>
  <dc:creator>User</dc:creator>
  <dc:description/>
  <dc:language>en-US</dc:language>
  <cp:lastModifiedBy>User</cp:lastModifiedBy>
  <dcterms:modified xsi:type="dcterms:W3CDTF">2021-04-12T19:52:00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