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5.jpeg" ContentType="image/jpeg"/>
  <Override PartName="/ppt/media/image26.jpeg" ContentType="image/jpeg"/>
  <Override PartName="/ppt/media/image7.jpeg" ContentType="image/jpeg"/>
  <Override PartName="/ppt/media/image28.jpeg" ContentType="image/jpeg"/>
  <Override PartName="/ppt/media/image23.wmf" ContentType="image/x-wmf"/>
  <Override PartName="/ppt/media/image9.jpeg" ContentType="image/jpeg"/>
  <Override PartName="/ppt/media/image24.png" ContentType="image/png"/>
  <Override PartName="/ppt/media/image11.jpeg" ContentType="image/jpeg"/>
  <Override PartName="/ppt/media/image6.png" ContentType="image/png"/>
  <Override PartName="/ppt/media/image31.jpeg" ContentType="image/jpeg"/>
  <Override PartName="/ppt/media/image2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wmf" ContentType="image/x-wmf"/>
  <Override PartName="/ppt/media/image25.png" ContentType="image/png"/>
  <Override PartName="/ppt/media/image19.jpeg" ContentType="image/jpeg"/>
  <Override PartName="/ppt/media/image20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CA0-68E6-4E90-9B46-6C2F28D2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A27-4879-4CBA-A637-3E741C92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BAB-DBF1-4556-B49D-E5901934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320-D86E-4675-B27A-6CE6D741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CAF2-8F27-435E-A4F5-7809FB4B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9E14-BE20-4CF9-A567-4676E720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F5ED-5E40-42D0-BDBB-244F8F02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3577-E6B8-4C7B-8E24-76FDF4DD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8C9E-46EC-4256-A793-DEAC6034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60ED-7C07-4EC1-81F5-54DCD836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0E6D-C7DD-4DD9-A749-64D814CD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982-77C6-48F2-AB71-C14F1AE1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EF02-E905-4346-A22F-5D6C839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32B3-5142-4E5C-9CA3-6A1EFDB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4A4C-1C01-4E42-988D-8D029A36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672A-0C8E-4973-8257-4E989BE9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B2C5-E55E-45F6-AE73-DD35F1DD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2E3-BAA5-4ED7-9395-A149A55B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003-13C2-49FB-9A8B-5A642EE0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36F-3C74-436B-8815-7558CA63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BF1-D171-4CC5-B8F3-FE48F57C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9AC-53CB-452A-8A20-503F78B5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2C7-402A-458D-9DA5-2D62615E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938-9141-4063-8D9C-805348D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9CD9-1B9B-4492-93E4-9CDCA02D7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5C1A-9FBF-4F13-A2CF-85B63DB9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Муниципальное автономное образовательное учреждение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«Средняя школа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№ 8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с углублённым изучением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тдельных предметов»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19160" y="175212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вторы: ученица 3 класса «Д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Фалалеева Екатер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ама – Фалалеева Е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читель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категории Шороних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Инна Александровна.</a:t>
            </a: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64920" y="5409000"/>
            <a:ext cx="138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га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14400" y="1828800"/>
            <a:ext cx="260352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00600" y="4648320"/>
            <a:ext cx="41148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На родительском собрании я провела опрос.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И получила следующие результаты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219320" y="2057400"/>
          <a:ext cx="74674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4674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26668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Специалисты Национального исследовательского центра здоровья детей при Минздраве РФ изучили данные о состоянии здоровья российских школьников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и назвали самые распространенные среди них заболевания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8600" y="1905120"/>
          <a:ext cx="86104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104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505320" y="2666880"/>
            <a:ext cx="1885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609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 медицине определяются следующие показания к применению ромашки лекарств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8120" y="1981800"/>
            <a:ext cx="841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алительные заболевания кожи, ожоги, гнойные 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и желчного пузыря,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гастри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и желудка, с развитием воспалительные процессов слизист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болезни органов дыха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при которых беспокоит 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кашел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является спазм бронхов, отеки слизистых дыхательных пу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аления органов мочеполовой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бронхиальная аст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экзема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реждения соединительной тк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бессонн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вые ощущения -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зубная бол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 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мигрен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3200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4267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редняя стоимость ромашкового ч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«</a:t>
            </a: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apteka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.ru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и в аптеках город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Чай HiPP Ромашковый (гранулированный), c 4 месяцев"/>
          <p:cNvPicPr/>
          <p:nvPr/>
        </p:nvPicPr>
        <p:blipFill>
          <a:blip r:embed="rId1"/>
          <a:stretch/>
        </p:blipFill>
        <p:spPr>
          <a:xfrm>
            <a:off x="762120" y="2514600"/>
            <a:ext cx="1773000" cy="380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Чай Бабушкино Лукошко Ромашка, c 1 месяца"/>
          <p:cNvPicPr/>
          <p:nvPr/>
        </p:nvPicPr>
        <p:blipFill>
          <a:blip r:embed="rId2"/>
          <a:stretch/>
        </p:blipFill>
        <p:spPr>
          <a:xfrm>
            <a:off x="5257800" y="533520"/>
            <a:ext cx="3352680" cy="2328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6280" y="2362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96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8320" y="57150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11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Чай Heinz Ромашка, c 4 месяцев"/>
          <p:cNvPicPr/>
          <p:nvPr/>
        </p:nvPicPr>
        <p:blipFill>
          <a:blip r:embed="rId3"/>
          <a:stretch/>
        </p:blipFill>
        <p:spPr>
          <a:xfrm>
            <a:off x="3048120" y="2590920"/>
            <a:ext cx="1896840" cy="3733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50640" y="26668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07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Чай Fleur Alpine Ромашка, c 1 месяца"/>
          <p:cNvPicPr/>
          <p:nvPr/>
        </p:nvPicPr>
        <p:blipFill>
          <a:blip r:embed="rId4"/>
          <a:stretch/>
        </p:blipFill>
        <p:spPr>
          <a:xfrm>
            <a:off x="5791320" y="3124080"/>
            <a:ext cx="260352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251040" y="41911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08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Интернет-аптека – купить лекарства по низким ценам на Аптека.ру"/>
          <p:cNvPicPr/>
          <p:nvPr/>
        </p:nvPicPr>
        <p:blipFill>
          <a:blip r:embed="rId5"/>
          <a:stretch/>
        </p:blipFill>
        <p:spPr>
          <a:xfrm>
            <a:off x="228600" y="762120"/>
            <a:ext cx="98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51055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Я выполнила поставленные задачи: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Изучила целебные свойства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екоторых растений моего края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ознакомилась с правилами сбора растений и подготовки их к применению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оздала свой травник лекарственных растений, полезных для моей семьи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Рассказала своим одноклассникам о лекарственных растениях нашего края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Определила стоимость лекарственного чая из ромашки аптечной и подтвердила гипотезу: некоторые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дорогостоящие препараты можно заменить средствами (отвар, настой, чай и пр.) из самостоятельного заготовленных лекарственных растений и экономить семейный бюджет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5334120"/>
            <a:ext cx="518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Надеюсь, что материал моего проекта окажется полезным не только для моих сверстников, но и для их родител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347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9920" y="3514680"/>
            <a:ext cx="3581280" cy="3343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38080" y="3429000"/>
            <a:ext cx="800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Times New Roman"/>
              </a:rPr>
              <a:t>Цель проект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знать,  какие лекарственные растения растут на территории нашего края, изучить  их целительное воздействие на организм челове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6483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Задачи: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Изучить целебные св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торых растений мо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Познакомиться с правилами сбора раст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подготовки к приме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Создать свой трав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борник полезных для моей семьи раст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 Black"/>
              </a:rPr>
              <a:t>ЗЕЛЁНАЯ АПТЕКА МОЕ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838080"/>
            <a:ext cx="8763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«Нет растения, чтобы не было  лекарственным.</a:t>
            </a:r>
            <a:br>
              <a:rPr sz="2000"/>
            </a:b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Нет болезни, чтобы  не вылечили растения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тверждает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Авиценн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чу рассказать о лечебных свойствах некоторых растений мо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133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Гипотеза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я предположила, что если на личном опыте убедиться в целительном эффекте некоторых растений природной апте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 можно будет отказаться от приобрет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рогостоящих препаратов и экономить семейный бюд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 Black"/>
              </a:rPr>
              <a:t>ЗЕЛЁНАЯ АПТЕКА МОЕГО КРАЯ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9528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Объект исследо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лекарственные растения моего кр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236232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редмет исследо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исцеляющий эффект воздействия лекарственных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800600"/>
            <a:ext cx="52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ктуальность проек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ределяется желанием найти способы эффективного лечения болезней и укрепления здоровья при минимальных денежных затра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4267080" cy="2433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3505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Методы исследования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 лечении  травами упомянуто в писаниях древних врачевателей: Гиппократа, Плиния, Галена и др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а Руси церковные люди монастырей и православных храмов с особым трепетом занимались сбором лекарственных растений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конце XVIII в. исследованиями лекарственных растений отечественной флоры стали заниматься ботаники и врачи. Проверенные и систематизированные ими данные из народной медицины увеличили арсенал лечебных препаратов ценными растениями, которые, не потеряли свою актуальность и сегодня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XX в. синтетические лекарства почти вытеснили традиционные натуральные препараты на основе лекарственных растений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90920" y="4419720"/>
            <a:ext cx="3886200" cy="218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24800" y="183240"/>
            <a:ext cx="29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Немного истор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Лекарственные растения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— обширная группа растений, органы или части которых (листья, корень, цветки) являются сырьём для получения средств, используемых в народной, медицинской или ветеринарной практике с лечебными или профилактическими целями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49568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Лекарственные растения ХМАО - Югры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21932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еверян дары природы это и лакомство, и источник витаминов. А для некоторых – ещё и основной или дополнительный до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круге растёт 14 видов ягодных и плодовых растений. Промышленные запасы имеют брусника, клюква, черник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центра по приёму, хранению и переработке дикоросов расположены в городе Ханты-Мансийс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гт. Междуреченский и в Нижневартовском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2971800" cy="237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5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5715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Black"/>
              </a:rPr>
              <a:t>Травник лекарственных растений моего края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257480" cy="1923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2193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00400" y="1905120"/>
            <a:ext cx="1238400" cy="191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981080" y="4572000"/>
            <a:ext cx="1266840" cy="1123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57200" y="4572000"/>
            <a:ext cx="1371600" cy="1130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4572000" y="1905120"/>
            <a:ext cx="1324080" cy="1904760"/>
          </a:xfrm>
          <a:prstGeom prst="rect">
            <a:avLst/>
          </a:prstGeom>
          <a:ln w="0">
            <a:noFill/>
          </a:ln>
        </p:spPr>
      </p:pic>
      <p:pic>
        <p:nvPicPr>
          <p:cNvPr id="131" name="Объект 4" descr=""/>
          <p:cNvPicPr/>
          <p:nvPr/>
        </p:nvPicPr>
        <p:blipFill>
          <a:blip r:embed="rId7"/>
          <a:stretch/>
        </p:blipFill>
        <p:spPr>
          <a:xfrm>
            <a:off x="3429000" y="457200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Объект 4" descr=""/>
          <p:cNvPicPr/>
          <p:nvPr/>
        </p:nvPicPr>
        <p:blipFill>
          <a:blip r:embed="rId8"/>
          <a:stretch/>
        </p:blipFill>
        <p:spPr>
          <a:xfrm>
            <a:off x="6095880" y="1905120"/>
            <a:ext cx="1298520" cy="190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7543800" y="1905120"/>
            <a:ext cx="1339920" cy="1914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4876920" y="4572000"/>
            <a:ext cx="130464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6324480" y="45720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7696080" y="457200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248520" y="57902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уванчик лек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869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ю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3808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иповник кори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38088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ипрей узколи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9153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ероб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942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рус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59727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луб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866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лина обыкнов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808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машка апте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5866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ижма обыкнов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3808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на обыкнов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58964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ь-и-маче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Правила сбора и хранения 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лекарственных растений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первое: что собирать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ледует научиться отличать растения подлежащие сбору, от сходных видов. Нужно знать, какие части растений имеют лечебное значение. Плоды, ягоды, семена собираются лишь при условии их полной спел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второе: когда собирать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рственные растения обладают наиболее целебной силой в определённые месяцы. Кроме этого, собирать растения лучше в сухую по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третье: как собирать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анее запаситесь всем необходимым для сбора (совками, ножницами, ножами, мешочка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четвёртое: где собирать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избегать откосов у шоссейных дорог, мест, которые подвергались обработке ядохимик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пятое: собирая, сохранять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лекарственные растения стали редкостью. Берите ровно столько, сколько нужно, а собранные растения умейте правильно сохран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ельзя собирать лекарственные раст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занесенные в Красную книг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Сушите лекарственные растения на воздухе в тени. Хорошие места для подсушивания – дачные чердаки. Кладите растения по отдельности, не перепутывая. Следите, чтобы на растения не попали ни земля, ни песок, ни грязь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равила хранения лекарственных тр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Каждому виду должно быть уделено отдельное место х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Отдельно необходимо хранить листья, цветки, корни, поскольку они имеют разные сроки х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Идеальными для хранения считаются картонные коробки, деревянные ящики, полотняные мешочки или бумажные пакетики, поскольку они пропускают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Периодически травы необходимо осматривать. Если вы обнаружили плесень, то запасы надо выбросить, толку от них уже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Обязательно подписывайте растения. На таре необходимо указать название растения и дату с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Травы сохраняют целебные свойства в среднем до 2 лет, плоды - до 3 лет, кора и корни - до 5 ле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5:29:43Z</dcterms:created>
  <dc:creator>User</dc:creator>
  <dc:description/>
  <dc:language>en-US</dc:language>
  <cp:lastModifiedBy>User</cp:lastModifiedBy>
  <dcterms:modified xsi:type="dcterms:W3CDTF">2021-04-12T19:52:0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