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6.gif" ContentType="image/gif"/>
  <Override PartName="/ppt/media/image5.gif" ContentType="image/gif"/>
  <Override PartName="/ppt/media/image13.png" ContentType="image/png"/>
  <Override PartName="/ppt/media/image22.gif" ContentType="image/gif"/>
  <Override PartName="/ppt/media/image20.png" ContentType="image/png"/>
  <Override PartName="/ppt/media/image17.gif" ContentType="image/gif"/>
  <Override PartName="/ppt/media/image21.gif" ContentType="image/gif"/>
  <Override PartName="/ppt/media/image19.gif" ContentType="image/gif"/>
  <Override PartName="/ppt/media/image10.png" ContentType="image/png"/>
  <Override PartName="/ppt/media/image4.gif" ContentType="image/gif"/>
  <Override PartName="/ppt/media/image1.jpeg" ContentType="image/jpeg"/>
  <Override PartName="/ppt/media/image18.gif" ContentType="image/gif"/>
  <Override PartName="/ppt/media/image16.gif" ContentType="image/gif"/>
  <Override PartName="/ppt/media/image14.gif" ContentType="image/gif"/>
  <Override PartName="/ppt/media/image2.gif" ContentType="image/gif"/>
  <Override PartName="/ppt/media/image11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2434-9190-46B7-931A-957AB71F1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8AE5-D2EE-45C5-AD75-D6BC2E6A21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13C-FB42-463E-A355-D711BAF4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565-D1F8-42E1-9907-3F4AF199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1A5-376D-4AEB-B510-E4502BF2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62C-E5C3-4993-87C4-ADE668F1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E4BD-E0B3-4B9A-B488-A5E09DB5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D96C-3234-40B0-9644-C54D1583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126F-2EB9-4273-A607-DAAF06C1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79F7-43A3-4851-8F3D-6A7C7E79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0CAD-9ABA-404C-BA38-C49072CF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BF4E-1C67-4E4D-8323-E0316159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A228-554B-46F0-9449-AA85A52C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9DC-B919-40E3-9283-C23FFA47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26CB-D1A4-445D-90EA-B9E03DE3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D6B7-2AA7-4AD7-A796-558EE68F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70D9-2B60-45DA-8E84-5E389CD8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3D32-5DC9-4FAC-85DA-DBB38D8D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857B-35DF-44B4-B6C9-A1DAE8B0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CF367-BD5D-43A1-B774-325E8CC7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AAC4-18A0-4BB0-8C54-BA743EDC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CABAC-AB8B-424A-8177-E819404B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4F04B-81C3-4745-9DD0-D6715378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20FBC-18E2-46C1-919C-34450026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E4A-D221-4A90-A1C9-8948061E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07CB-3C26-484E-8972-6CEE4236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FF9DB-271C-4376-B446-472FF202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34944-6F85-495F-9996-5ACD9D3E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BBF10-BEC5-4BCF-A94A-897E89D0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5051E-CA74-42A7-A7F5-3D8F8743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C6291-1BB1-4E4C-96F5-0897DAA2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0021-601C-4A93-87A9-8EDF09C5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8BA-00EB-461D-AE95-C0E140B1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54D-D568-4AA7-8A21-8F89741F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0B1-371D-4D55-8A7A-26D0F259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74E-7E55-4674-9196-86B6188D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1F4-078D-452D-8944-C11227C2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89F-7B0B-4EB2-B31D-B45E0088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b44c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9E72-6B3D-4C2A-BED3-AB18469DD1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59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5D32-7B72-433B-9C2C-790A167DB9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59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ECB3-FA93-4C43-9BD5-E46AA395C8F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31.xml"/><Relationship Id="rId8" Type="http://schemas.openxmlformats.org/officeDocument/2006/relationships/slide" Target="slide32.xml"/><Relationship Id="rId9" Type="http://schemas.openxmlformats.org/officeDocument/2006/relationships/slide" Target="slide33.xml"/><Relationship Id="rId10" Type="http://schemas.openxmlformats.org/officeDocument/2006/relationships/slide" Target="slide34.xml"/><Relationship Id="rId11" Type="http://schemas.openxmlformats.org/officeDocument/2006/relationships/slide" Target="slide35.xml"/><Relationship Id="rId12" Type="http://schemas.openxmlformats.org/officeDocument/2006/relationships/slide" Target="slide36.xml"/><Relationship Id="rId13" Type="http://schemas.openxmlformats.org/officeDocument/2006/relationships/slide" Target="slide37.xml"/><Relationship Id="rId14" Type="http://schemas.openxmlformats.org/officeDocument/2006/relationships/slide" Target="slide38.xml"/><Relationship Id="rId15" Type="http://schemas.openxmlformats.org/officeDocument/2006/relationships/slide" Target="slide39.xml"/><Relationship Id="rId16" Type="http://schemas.openxmlformats.org/officeDocument/2006/relationships/slide" Target="slide40.xml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2.xml"/><Relationship Id="rId1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slide" Target="slide46.xml"/><Relationship Id="rId6" Type="http://schemas.openxmlformats.org/officeDocument/2006/relationships/slide" Target="slide47.xml"/><Relationship Id="rId7" Type="http://schemas.openxmlformats.org/officeDocument/2006/relationships/slide" Target="slide48.xml"/><Relationship Id="rId8" Type="http://schemas.openxmlformats.org/officeDocument/2006/relationships/slide" Target="slide50.xml"/><Relationship Id="rId9" Type="http://schemas.openxmlformats.org/officeDocument/2006/relationships/slide" Target="slide51.xml"/><Relationship Id="rId10" Type="http://schemas.openxmlformats.org/officeDocument/2006/relationships/slide" Target="slide52.xml"/><Relationship Id="rId11" Type="http://schemas.openxmlformats.org/officeDocument/2006/relationships/slide" Target="slide53.xml"/><Relationship Id="rId12" Type="http://schemas.openxmlformats.org/officeDocument/2006/relationships/slide" Target="slide54.xml"/><Relationship Id="rId13" Type="http://schemas.openxmlformats.org/officeDocument/2006/relationships/slide" Target="slide55.xml"/><Relationship Id="rId14" Type="http://schemas.openxmlformats.org/officeDocument/2006/relationships/slide" Target="slide56.xml"/><Relationship Id="rId15" Type="http://schemas.openxmlformats.org/officeDocument/2006/relationships/slide" Target="slide57.xml"/><Relationship Id="rId1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8" descr="hello_html_430e17be.jpg"/>
          <p:cNvPicPr/>
          <p:nvPr/>
        </p:nvPicPr>
        <p:blipFill>
          <a:blip r:embed="rId1"/>
          <a:stretch/>
        </p:blipFill>
        <p:spPr>
          <a:xfrm>
            <a:off x="928800" y="500040"/>
            <a:ext cx="7000920" cy="5695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9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01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49"/>
          <p:cNvSpPr/>
          <p:nvPr/>
        </p:nvSpPr>
        <p:spPr>
          <a:xfrm>
            <a:off x="3571920" y="64911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50"/>
          <p:cNvSpPr/>
          <p:nvPr/>
        </p:nvSpPr>
        <p:spPr>
          <a:xfrm>
            <a:off x="3571920" y="621504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187280" y="404640"/>
            <a:ext cx="7488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Эти растения с характерным резким запахом являются хорошим средством в профилактике простудных заболевани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468360" y="573408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>
            <a:hlinkClick r:id="rId1" action="ppaction://hlinksldjump"/>
          </p:cNvPr>
          <p:cNvSpPr/>
          <p:nvPr/>
        </p:nvSpPr>
        <p:spPr>
          <a:xfrm>
            <a:off x="179280" y="587700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250920" y="333360"/>
            <a:ext cx="360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5940360" y="6021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Лук и чес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324000" y="404640"/>
            <a:ext cx="1152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332000" y="620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258920" y="1052640"/>
            <a:ext cx="705816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«Счастлив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611280" y="57340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9">
            <a:hlinkClick r:id="rId1" action="ppaction://hlinksldjump"/>
          </p:cNvPr>
          <p:cNvSpPr/>
          <p:nvPr/>
        </p:nvSpPr>
        <p:spPr>
          <a:xfrm>
            <a:off x="32400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13" descr="baby155"/>
          <p:cNvPicPr/>
          <p:nvPr/>
        </p:nvPicPr>
        <p:blipFill>
          <a:blip r:embed="rId2"/>
          <a:stretch/>
        </p:blipFill>
        <p:spPr>
          <a:xfrm>
            <a:off x="2987640" y="4292640"/>
            <a:ext cx="316872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7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76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179280" y="476280"/>
            <a:ext cx="505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5640" y="333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50920" y="5805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7">
            <a:hlinkClick r:id="rId1" action="ppaction://hlinksldjump"/>
          </p:cNvPr>
          <p:cNvSpPr/>
          <p:nvPr/>
        </p:nvSpPr>
        <p:spPr>
          <a:xfrm>
            <a:off x="2627280" y="5516640"/>
            <a:ext cx="792360" cy="7207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46" h="21600">
                <a:moveTo>
                  <a:pt x="0" y="0"/>
                </a:moveTo>
                <a:lnTo>
                  <a:pt x="23746" y="0"/>
                </a:lnTo>
                <a:lnTo>
                  <a:pt x="23746" y="21600"/>
                </a:lnTo>
                <a:lnTo>
                  <a:pt x="0" y="21600"/>
                </a:lnTo>
                <a:close/>
              </a:path>
              <a:path fill="lightenLess" w="23746" h="21600">
                <a:moveTo>
                  <a:pt x="0" y="0"/>
                </a:moveTo>
                <a:lnTo>
                  <a:pt x="23746" y="0"/>
                </a:lnTo>
                <a:lnTo>
                  <a:pt x="22346" y="1400"/>
                </a:lnTo>
                <a:lnTo>
                  <a:pt x="1400" y="1400"/>
                </a:lnTo>
                <a:close/>
              </a:path>
              <a:path fill="darken" w="23746" h="21600">
                <a:moveTo>
                  <a:pt x="23746" y="0"/>
                </a:moveTo>
                <a:lnTo>
                  <a:pt x="23746" y="21600"/>
                </a:lnTo>
                <a:lnTo>
                  <a:pt x="22346" y="20200"/>
                </a:lnTo>
                <a:lnTo>
                  <a:pt x="22346" y="1400"/>
                </a:lnTo>
                <a:close/>
              </a:path>
              <a:path fill="darkenLess" w="23746" h="21600">
                <a:moveTo>
                  <a:pt x="23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46" y="20200"/>
                </a:lnTo>
                <a:close/>
              </a:path>
              <a:path fill="lighten" w="23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46" h="21600">
                <a:moveTo>
                  <a:pt x="4867" y="10800"/>
                </a:moveTo>
                <a:lnTo>
                  <a:pt x="18879" y="3794"/>
                </a:lnTo>
                <a:lnTo>
                  <a:pt x="18879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1643040" y="1571760"/>
            <a:ext cx="6215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Какой овощ называют вторым хлебом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6215040" y="600084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артоф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250920" y="476280"/>
            <a:ext cx="43344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971640" y="692280"/>
            <a:ext cx="7848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Один из самых крупных овощей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95280" y="551664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7">
            <a:hlinkClick r:id="rId1" action="ppaction://hlinksldjump"/>
          </p:cNvPr>
          <p:cNvSpPr/>
          <p:nvPr/>
        </p:nvSpPr>
        <p:spPr>
          <a:xfrm>
            <a:off x="250920" y="5950080"/>
            <a:ext cx="863640" cy="64908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8736" h="21600">
                <a:moveTo>
                  <a:pt x="0" y="0"/>
                </a:moveTo>
                <a:lnTo>
                  <a:pt x="28736" y="0"/>
                </a:lnTo>
                <a:lnTo>
                  <a:pt x="28736" y="21600"/>
                </a:lnTo>
                <a:lnTo>
                  <a:pt x="0" y="21600"/>
                </a:lnTo>
                <a:close/>
              </a:path>
              <a:path fill="lightenLess" w="28736" h="21600">
                <a:moveTo>
                  <a:pt x="0" y="0"/>
                </a:moveTo>
                <a:lnTo>
                  <a:pt x="28736" y="0"/>
                </a:lnTo>
                <a:lnTo>
                  <a:pt x="27336" y="1400"/>
                </a:lnTo>
                <a:lnTo>
                  <a:pt x="1400" y="1400"/>
                </a:lnTo>
                <a:close/>
              </a:path>
              <a:path fill="darken" w="28736" h="21600">
                <a:moveTo>
                  <a:pt x="28736" y="0"/>
                </a:moveTo>
                <a:lnTo>
                  <a:pt x="28736" y="21600"/>
                </a:lnTo>
                <a:lnTo>
                  <a:pt x="27336" y="20200"/>
                </a:lnTo>
                <a:lnTo>
                  <a:pt x="27336" y="1400"/>
                </a:lnTo>
                <a:close/>
              </a:path>
              <a:path fill="darkenLess" w="28736" h="21600">
                <a:moveTo>
                  <a:pt x="28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36" y="20200"/>
                </a:lnTo>
                <a:close/>
              </a:path>
              <a:path fill="lighten" w="28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36" h="21600">
                <a:moveTo>
                  <a:pt x="7362" y="10800"/>
                </a:moveTo>
                <a:lnTo>
                  <a:pt x="21375" y="3794"/>
                </a:lnTo>
                <a:lnTo>
                  <a:pt x="21375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5500800" y="59292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Тык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250920" y="476280"/>
            <a:ext cx="504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971640" y="692280"/>
            <a:ext cx="777708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«Своя игр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476360" y="3429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тот напиток обычно варят из сухофруктов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395280" y="551664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8">
            <a:hlinkClick r:id="rId1" action="ppaction://hlinksldjump"/>
          </p:cNvPr>
          <p:cNvSpPr/>
          <p:nvPr/>
        </p:nvSpPr>
        <p:spPr>
          <a:xfrm>
            <a:off x="250920" y="5805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303640" y="58770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омп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11" descr="chud026"/>
          <p:cNvPicPr/>
          <p:nvPr/>
        </p:nvPicPr>
        <p:blipFill>
          <a:blip r:embed="rId2"/>
          <a:stretch/>
        </p:blipFill>
        <p:spPr>
          <a:xfrm>
            <a:off x="7174080" y="333360"/>
            <a:ext cx="173988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179280" y="404640"/>
            <a:ext cx="720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971640" y="476280"/>
            <a:ext cx="7704000" cy="42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Как называется картофель обжаренный в большом количестве жира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95280" y="537372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7">
            <a:hlinkClick r:id="rId1" action="ppaction://hlinksldjump"/>
          </p:cNvPr>
          <p:cNvSpPr/>
          <p:nvPr/>
        </p:nvSpPr>
        <p:spPr>
          <a:xfrm>
            <a:off x="324000" y="595008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10800"/>
                </a:moveTo>
                <a:lnTo>
                  <a:pt x="20183" y="3794"/>
                </a:lnTo>
                <a:lnTo>
                  <a:pt x="20183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995640" y="5445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Monotype Corsiva"/>
              </a:rPr>
              <a:t>Ф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250920" y="260280"/>
            <a:ext cx="24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кусно и полез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28800" y="571680"/>
            <a:ext cx="792144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Исследования показали, что этот сладкий продукт может повысить ваши способности к математик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24000" y="57340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8">
            <a:hlinkClick r:id="rId1" action="ppaction://hlinksldjump"/>
          </p:cNvPr>
          <p:cNvSpPr/>
          <p:nvPr/>
        </p:nvSpPr>
        <p:spPr>
          <a:xfrm>
            <a:off x="250920" y="5805360"/>
            <a:ext cx="865080" cy="72072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959280" y="5661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Georgia"/>
              </a:rPr>
              <a:t>Шокола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179280" y="333360"/>
            <a:ext cx="320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куссно и полез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900000" y="1125360"/>
            <a:ext cx="784872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Какое молоко является самым географически распространенным в мире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324000" y="573408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7">
            <a:hlinkClick r:id="rId1" action="ppaction://hlinksldjump"/>
          </p:cNvPr>
          <p:cNvSpPr/>
          <p:nvPr/>
        </p:nvSpPr>
        <p:spPr>
          <a:xfrm>
            <a:off x="250920" y="580536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5857920" y="571500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Georgia"/>
              </a:rPr>
              <a:t>Коровь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250920" y="476280"/>
            <a:ext cx="320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кусно и полез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971640" y="620640"/>
            <a:ext cx="799308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«Музыкальный экспромт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24000" y="6021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1" descr="cow"/>
          <p:cNvPicPr/>
          <p:nvPr/>
        </p:nvPicPr>
        <p:blipFill>
          <a:blip r:embed="rId1"/>
          <a:stretch/>
        </p:blipFill>
        <p:spPr>
          <a:xfrm>
            <a:off x="3924360" y="2997360"/>
            <a:ext cx="2592360" cy="335736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2"/>
          <p:cNvSpPr/>
          <p:nvPr/>
        </p:nvSpPr>
        <p:spPr>
          <a:xfrm>
            <a:off x="468360" y="580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13">
            <a:hlinkClick r:id="" action="ppaction://hlinkshowjump?jump=nextslide"/>
          </p:cNvPr>
          <p:cNvSpPr/>
          <p:nvPr/>
        </p:nvSpPr>
        <p:spPr>
          <a:xfrm>
            <a:off x="324000" y="5950080"/>
            <a:ext cx="576000" cy="576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50920" y="476280"/>
            <a:ext cx="24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кусно и полез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971640" y="0"/>
            <a:ext cx="8172360" cy="69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.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Антошка, Антош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Пойдем копать картош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Тили тили, трали ва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Это мы не проходили, это нам не задав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Антошка, Антош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Сыграй нам на гармош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Тили тили, трали в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Это мы не проходили, это нам не задав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Антошка, Антош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Готовь к обеду лож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Тили тили, трали в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Это братцы мне по силе, откажусь теперь едва 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24000" y="6021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68360" y="580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50920" y="602136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24000" y="6093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1">
            <a:hlinkClick r:id="rId1" action="ppaction://hlinksldjump"/>
          </p:cNvPr>
          <p:cNvSpPr/>
          <p:nvPr/>
        </p:nvSpPr>
        <p:spPr>
          <a:xfrm>
            <a:off x="1792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293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Вопросы – </a:t>
            </a:r>
            <a:r>
              <a:rPr b="1" lang="ru-RU" sz="3200" spc="-1" strike="noStrike">
                <a:solidFill>
                  <a:srgbClr val="cc0000"/>
                </a:solidFill>
                <a:latin typeface="Monotype Corsiva"/>
              </a:rPr>
              <a:t>сюрпризы</a:t>
            </a:r>
            <a:r>
              <a:rPr b="1" lang="ru-RU" sz="3200" spc="-1" strike="noStrike">
                <a:solidFill>
                  <a:srgbClr val="80008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частливый случай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команда получает число балл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указанных в данном вопр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есчастный случай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- команда штрафуется на указа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                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количество бал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от в мешке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вопрос можно отдать команде – соперн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опрос-аукцион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одна команда может перекупить 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другой вопрос, назначив более высокую це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воя игра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команда имеет право уменьшить или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увеличить число баллов за вопр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Музыкальный экспромт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команда может взять помощ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з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250920" y="333360"/>
            <a:ext cx="3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250920" y="260280"/>
            <a:ext cx="24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кусно и полез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971640" y="765000"/>
            <a:ext cx="7777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Какой овощ полезен для зрения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395280" y="57340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8">
            <a:hlinkClick r:id="rId1" action="ppaction://hlinksldjump"/>
          </p:cNvPr>
          <p:cNvSpPr/>
          <p:nvPr/>
        </p:nvSpPr>
        <p:spPr>
          <a:xfrm>
            <a:off x="324000" y="5877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4967280" y="564372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Georgia"/>
              </a:rPr>
              <a:t>Морк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250920" y="4762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250920" y="333360"/>
            <a:ext cx="17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кусно и полез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900000" y="620640"/>
            <a:ext cx="770436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Вопрос - аукцион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Что получается при скисании молока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24000" y="595008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8">
            <a:hlinkClick r:id="rId1" action="ppaction://hlinksldjump"/>
          </p:cNvPr>
          <p:cNvSpPr/>
          <p:nvPr/>
        </p:nvSpPr>
        <p:spPr>
          <a:xfrm>
            <a:off x="250920" y="587700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4891" y="10800"/>
                </a:moveTo>
                <a:lnTo>
                  <a:pt x="18904" y="3794"/>
                </a:lnTo>
                <a:lnTo>
                  <a:pt x="1890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2357280" y="564372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Georgia"/>
              </a:rPr>
              <a:t>Простокваш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13" descr="28"/>
          <p:cNvPicPr/>
          <p:nvPr/>
        </p:nvPicPr>
        <p:blipFill>
          <a:blip r:embed="rId2"/>
          <a:stretch/>
        </p:blipFill>
        <p:spPr>
          <a:xfrm>
            <a:off x="6854760" y="3573360"/>
            <a:ext cx="198612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843280"/>
                <a:gridCol w="1224000"/>
                <a:gridCol w="1296720"/>
                <a:gridCol w="1224000"/>
                <a:gridCol w="1297080"/>
                <a:gridCol w="1258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Text Box 118"/>
          <p:cNvSpPr/>
          <p:nvPr/>
        </p:nvSpPr>
        <p:spPr>
          <a:xfrm>
            <a:off x="1692360" y="0"/>
            <a:ext cx="54720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Monotype Corsiva"/>
              </a:rPr>
              <a:t>РАУН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9"/>
          <p:cNvSpPr/>
          <p:nvPr/>
        </p:nvSpPr>
        <p:spPr>
          <a:xfrm>
            <a:off x="395280" y="5445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120">
            <a:hlinkClick r:id="" action="ppaction://hlinkshowjump?jump=nextslide"/>
          </p:cNvPr>
          <p:cNvSpPr/>
          <p:nvPr/>
        </p:nvSpPr>
        <p:spPr>
          <a:xfrm>
            <a:off x="179280" y="6021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21"/>
          <p:cNvSpPr/>
          <p:nvPr/>
        </p:nvSpPr>
        <p:spPr>
          <a:xfrm>
            <a:off x="539640" y="2492280"/>
            <a:ext cx="8137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6600cc"/>
                </a:solidFill>
                <a:latin typeface="Comic Sans MS"/>
              </a:rPr>
              <a:t>Хлеб – батюшка, а              водица матушк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cc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Поговор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129" descr="blest159"/>
          <p:cNvPicPr/>
          <p:nvPr/>
        </p:nvPicPr>
        <p:blipFill>
          <a:blip r:embed="rId1"/>
          <a:stretch/>
        </p:blipFill>
        <p:spPr>
          <a:xfrm>
            <a:off x="3780000" y="4581360"/>
            <a:ext cx="2128680" cy="1935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54" dur="1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55" dur="1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843280"/>
                <a:gridCol w="1224000"/>
                <a:gridCol w="1296720"/>
                <a:gridCol w="1224000"/>
                <a:gridCol w="1297080"/>
                <a:gridCol w="1258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Инфекционные болезни, передающиеся через пищ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Питание и болезн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Здоровье из ле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199"/>
          <p:cNvSpPr/>
          <p:nvPr/>
        </p:nvSpPr>
        <p:spPr>
          <a:xfrm>
            <a:off x="179280" y="6093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200">
            <a:hlinkClick r:id="rId16" action="ppaction://hlinksldjump"/>
          </p:cNvPr>
          <p:cNvSpPr/>
          <p:nvPr/>
        </p:nvSpPr>
        <p:spPr>
          <a:xfrm>
            <a:off x="250920" y="6093000"/>
            <a:ext cx="649080" cy="576000"/>
          </a:xfrm>
          <a:custGeom>
            <a:avLst/>
            <a:gdLst/>
            <a:ahLst/>
            <a:rect l="l" t="t" r="r" b="b"/>
            <a:pathLst>
              <a:path w="649288" h="576263">
                <a:moveTo>
                  <a:pt x="1" y="220112"/>
                </a:moveTo>
                <a:lnTo>
                  <a:pt x="248007" y="220114"/>
                </a:lnTo>
                <a:lnTo>
                  <a:pt x="324644" y="0"/>
                </a:lnTo>
                <a:lnTo>
                  <a:pt x="401281" y="220114"/>
                </a:lnTo>
                <a:lnTo>
                  <a:pt x="649287" y="220112"/>
                </a:lnTo>
                <a:lnTo>
                  <a:pt x="448645" y="356149"/>
                </a:lnTo>
                <a:lnTo>
                  <a:pt x="525285" y="576262"/>
                </a:lnTo>
                <a:lnTo>
                  <a:pt x="324644" y="440223"/>
                </a:lnTo>
                <a:lnTo>
                  <a:pt x="124003" y="576262"/>
                </a:lnTo>
                <a:lnTo>
                  <a:pt x="200643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5"/>
          <p:cNvSpPr/>
          <p:nvPr/>
        </p:nvSpPr>
        <p:spPr>
          <a:xfrm>
            <a:off x="1116000" y="260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Инфекционные болезни, передающиеся через пищу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250920" y="1268280"/>
            <a:ext cx="871380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амое простое правило избежать «болезней грязных рук» - это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50920" y="57340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9">
            <a:hlinkClick r:id="rId1" action="ppaction://hlinksldjump"/>
          </p:cNvPr>
          <p:cNvSpPr/>
          <p:nvPr/>
        </p:nvSpPr>
        <p:spPr>
          <a:xfrm>
            <a:off x="250920" y="587700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7301" y="10827"/>
                </a:moveTo>
                <a:lnTo>
                  <a:pt x="17806" y="3821"/>
                </a:lnTo>
                <a:lnTo>
                  <a:pt x="17806" y="17834"/>
                </a:lnTo>
                <a:close/>
              </a:path>
              <a:path fill="darken" w="21600" h="21654">
                <a:moveTo>
                  <a:pt x="3794" y="3821"/>
                </a:moveTo>
                <a:lnTo>
                  <a:pt x="5456" y="3821"/>
                </a:lnTo>
                <a:lnTo>
                  <a:pt x="5456" y="17834"/>
                </a:lnTo>
                <a:lnTo>
                  <a:pt x="3794" y="17834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2627280" y="573408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Мытьё рук перед ед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324000" y="33336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нфекционные болезни, передающиеся через пищ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0" y="1268280"/>
            <a:ext cx="896472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Именно такой водой рекомендуется мыть овощи и фрукт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324000" y="580536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8">
            <a:hlinkClick r:id="rId1" action="ppaction://hlinksldjump"/>
          </p:cNvPr>
          <p:cNvSpPr/>
          <p:nvPr/>
        </p:nvSpPr>
        <p:spPr>
          <a:xfrm>
            <a:off x="25092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2448000" y="59500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ипяченой вод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4500720" y="5950080"/>
            <a:ext cx="504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1"/>
          <p:cNvSpPr/>
          <p:nvPr/>
        </p:nvSpPr>
        <p:spPr>
          <a:xfrm>
            <a:off x="468360" y="1125360"/>
            <a:ext cx="86756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00ff"/>
                </a:solidFill>
                <a:latin typeface="Mistral"/>
              </a:rPr>
              <a:t>Физминутка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324000" y="333360"/>
            <a:ext cx="820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нфекционные болезни, передающиеся через пищ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395280" y="1197000"/>
            <a:ext cx="842472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«Несчастный случай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50920" y="5445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7">
            <a:hlinkClick r:id="rId1" action="ppaction://hlinksldjump"/>
          </p:cNvPr>
          <p:cNvSpPr/>
          <p:nvPr/>
        </p:nvSpPr>
        <p:spPr>
          <a:xfrm>
            <a:off x="25092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9707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7862" y="3794"/>
                </a:lnTo>
                <a:lnTo>
                  <a:pt x="7862" y="17806"/>
                </a:lnTo>
                <a:lnTo>
                  <a:pt x="6200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9" descr="baby94"/>
          <p:cNvPicPr/>
          <p:nvPr/>
        </p:nvPicPr>
        <p:blipFill>
          <a:blip r:embed="rId2"/>
          <a:stretch/>
        </p:blipFill>
        <p:spPr>
          <a:xfrm>
            <a:off x="3635280" y="4221000"/>
            <a:ext cx="2200320" cy="2427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4"/>
          <p:cNvSpPr/>
          <p:nvPr/>
        </p:nvSpPr>
        <p:spPr>
          <a:xfrm>
            <a:off x="169236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324000" y="404640"/>
            <a:ext cx="835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нфекционные болезни, передающиеся через пищ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179280" y="1268280"/>
            <a:ext cx="871380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очему не следует покупать еду у продавцов торгующих «с рук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324000" y="5661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8">
            <a:hlinkClick r:id="rId1" action="ppaction://hlinksldjump"/>
          </p:cNvPr>
          <p:cNvSpPr/>
          <p:nvPr/>
        </p:nvSpPr>
        <p:spPr>
          <a:xfrm>
            <a:off x="250920" y="602136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9971" y="10800"/>
                </a:moveTo>
                <a:lnTo>
                  <a:pt x="20476" y="3794"/>
                </a:lnTo>
                <a:lnTo>
                  <a:pt x="20476" y="17806"/>
                </a:lnTo>
                <a:close/>
              </a:path>
              <a:path fill="darken" w="26939" h="21600">
                <a:moveTo>
                  <a:pt x="6463" y="3794"/>
                </a:moveTo>
                <a:lnTo>
                  <a:pt x="8126" y="3794"/>
                </a:lnTo>
                <a:lnTo>
                  <a:pt x="8126" y="17806"/>
                </a:lnTo>
                <a:lnTo>
                  <a:pt x="6463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1476360" y="4724280"/>
            <a:ext cx="76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 приготовлении её возможны нарушения санитарных правил, что может привести к пищевым отравлениям и кишечным заболеван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324000" y="33336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нфекционные болезни, передающиеся через пищ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611280" y="1052640"/>
            <a:ext cx="8064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Кот в мешк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«вопро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468360" y="4581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Как называется болезнь грязных ру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324000" y="573408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8">
            <a:hlinkClick r:id="rId1" action="ppaction://hlinksldjump"/>
          </p:cNvPr>
          <p:cNvSpPr/>
          <p:nvPr/>
        </p:nvSpPr>
        <p:spPr>
          <a:xfrm>
            <a:off x="250920" y="609300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10013" y="10800"/>
                </a:moveTo>
                <a:lnTo>
                  <a:pt x="20518" y="3794"/>
                </a:lnTo>
                <a:lnTo>
                  <a:pt x="20518" y="17806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8168" y="3794"/>
                </a:lnTo>
                <a:lnTo>
                  <a:pt x="8168" y="17806"/>
                </a:lnTo>
                <a:lnTo>
                  <a:pt x="6505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2484360" y="587700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Кишечная инфек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11" descr="pic"/>
          <p:cNvPicPr/>
          <p:nvPr/>
        </p:nvPicPr>
        <p:blipFill>
          <a:blip r:embed="rId2"/>
          <a:stretch/>
        </p:blipFill>
        <p:spPr>
          <a:xfrm>
            <a:off x="395280" y="765000"/>
            <a:ext cx="1952640" cy="1554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293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2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1835280" y="0"/>
            <a:ext cx="532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e7960"/>
                </a:solidFill>
                <a:latin typeface="Monotype Corsiv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e7960"/>
                </a:solidFill>
                <a:latin typeface="Monotype Corsiva"/>
              </a:rPr>
              <a:t>РАУН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395280" y="285264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38" descr="93"/>
          <p:cNvPicPr/>
          <p:nvPr/>
        </p:nvPicPr>
        <p:blipFill>
          <a:blip r:embed="rId1"/>
          <a:stretch/>
        </p:blipFill>
        <p:spPr>
          <a:xfrm>
            <a:off x="395280" y="549360"/>
            <a:ext cx="2952720" cy="24717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0" y="9334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Главное в жизни- это здоровье!</a:t>
            </a:r>
            <a:br>
              <a:rPr sz="3600"/>
            </a:b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С детства попробуйте это понять!</a:t>
            </a:r>
            <a:br>
              <a:rPr sz="3600"/>
            </a:b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Главная ценность </a:t>
            </a:r>
            <a:r>
              <a:rPr b="1" i="1" lang="ru-RU" sz="3600" spc="-1" strike="noStrike">
                <a:solidFill>
                  <a:srgbClr val="00b050"/>
                </a:solidFill>
                <a:latin typeface="Calibri"/>
                <a:ea typeface="Calibri"/>
              </a:rPr>
              <a:t>–</a:t>
            </a: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 это здоровье!</a:t>
            </a:r>
            <a:br>
              <a:rPr sz="3600"/>
            </a:b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Его не купить, но легко потерять</a:t>
            </a:r>
            <a:r>
              <a:rPr b="0" lang="ru-RU" sz="1400" spc="-1" strike="noStrike">
                <a:solidFill>
                  <a:srgbClr val="00b050"/>
                </a:solidFill>
                <a:latin typeface="Times New Roman"/>
                <a:ea typeface="Calibri"/>
              </a:rPr>
              <a:t>..</a:t>
            </a: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На сегодняшнем занятии мы будем говорить о вашем здоровь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5"/>
          <p:cNvSpPr/>
          <p:nvPr/>
        </p:nvSpPr>
        <p:spPr>
          <a:xfrm>
            <a:off x="250920" y="692280"/>
            <a:ext cx="72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1619280" y="692280"/>
            <a:ext cx="62658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«Несчастн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468360" y="5877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250920" y="595008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12" descr="ia"/>
          <p:cNvPicPr/>
          <p:nvPr/>
        </p:nvPicPr>
        <p:blipFill>
          <a:blip r:embed="rId1"/>
          <a:stretch/>
        </p:blipFill>
        <p:spPr>
          <a:xfrm>
            <a:off x="3419640" y="4292640"/>
            <a:ext cx="2374560" cy="229392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335" name="Text Box 13"/>
          <p:cNvSpPr/>
          <p:nvPr/>
        </p:nvSpPr>
        <p:spPr>
          <a:xfrm>
            <a:off x="324000" y="5805360"/>
            <a:ext cx="15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14">
            <a:hlinkClick r:id="rId2" action="ppaction://hlinksldjump"/>
          </p:cNvPr>
          <p:cNvSpPr/>
          <p:nvPr/>
        </p:nvSpPr>
        <p:spPr>
          <a:xfrm>
            <a:off x="539640" y="5805360"/>
            <a:ext cx="719280" cy="576360"/>
          </a:xfrm>
          <a:prstGeom prst="leftArrow">
            <a:avLst>
              <a:gd name="adj1" fmla="val 50000"/>
              <a:gd name="adj2" fmla="val 31199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250920" y="620640"/>
            <a:ext cx="108108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971640" y="404640"/>
            <a:ext cx="777564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авильный режим питания для школьников предусматривает приём пищи не реже, чем через каждые 3–4 часа, но не чаще, чем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79280" y="623736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4143240" y="6000840"/>
            <a:ext cx="65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Lucida Console"/>
              </a:rPr>
              <a:t>Через 1 – 2 ча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250920" y="6021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10">
            <a:hlinkClick r:id="rId1" action="ppaction://hlinksldjump"/>
          </p:cNvPr>
          <p:cNvSpPr/>
          <p:nvPr/>
        </p:nvSpPr>
        <p:spPr>
          <a:xfrm>
            <a:off x="395280" y="6093000"/>
            <a:ext cx="792000" cy="431640"/>
          </a:xfrm>
          <a:prstGeom prst="leftArrow">
            <a:avLst>
              <a:gd name="adj1" fmla="val 50000"/>
              <a:gd name="adj2" fmla="val 4587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50920" y="692280"/>
            <a:ext cx="504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755640" y="549360"/>
            <a:ext cx="82090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акое комнатное растение помогает при зубной  боле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122400" y="6453360"/>
            <a:ext cx="70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6858000" y="5805360"/>
            <a:ext cx="26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Гера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5092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8">
            <a:hlinkClick r:id="rId1" action="ppaction://hlinksldjump"/>
          </p:cNvPr>
          <p:cNvSpPr/>
          <p:nvPr/>
        </p:nvSpPr>
        <p:spPr>
          <a:xfrm>
            <a:off x="468360" y="6021360"/>
            <a:ext cx="790560" cy="432000"/>
          </a:xfrm>
          <a:prstGeom prst="leftArrow">
            <a:avLst>
              <a:gd name="adj1" fmla="val 50000"/>
              <a:gd name="adj2" fmla="val 4575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395280" y="620640"/>
            <a:ext cx="576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826920" y="620640"/>
            <a:ext cx="831708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и нерегулярном питании выделяется желудочный сок с повышенной кислотность, что приводит к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24000" y="587700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1150920" y="602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К заболеванию язвой желуд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395280" y="595008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10">
            <a:hlinkClick r:id="rId1" action="ppaction://hlinksldjump"/>
          </p:cNvPr>
          <p:cNvSpPr/>
          <p:nvPr/>
        </p:nvSpPr>
        <p:spPr>
          <a:xfrm>
            <a:off x="250920" y="6308640"/>
            <a:ext cx="792000" cy="360360"/>
          </a:xfrm>
          <a:prstGeom prst="leftArrow">
            <a:avLst>
              <a:gd name="adj1" fmla="val 50000"/>
              <a:gd name="adj2" fmla="val 5494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324000" y="620640"/>
            <a:ext cx="6476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684360" y="981000"/>
            <a:ext cx="845964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Своя игра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Варенье из какой ягоды помогает при простудных заболеваниях в зимний период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684360" y="5589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46836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4000680" y="5734080"/>
            <a:ext cx="48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Comic Sans MS"/>
              </a:rPr>
              <a:t>Мали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250920" y="6165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12">
            <a:hlinkClick r:id="rId1" action="ppaction://hlinksldjump"/>
          </p:cNvPr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87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250920" y="620640"/>
            <a:ext cx="115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1042920" y="549360"/>
            <a:ext cx="74898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При диарее  ягоду с какого дерева можно заваривать и пить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250920" y="595008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95280" y="580536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9">
            <a:hlinkClick r:id="rId1" action="ppaction://hlinksldjump"/>
          </p:cNvPr>
          <p:cNvSpPr/>
          <p:nvPr/>
        </p:nvSpPr>
        <p:spPr>
          <a:xfrm>
            <a:off x="250920" y="5950080"/>
            <a:ext cx="576000" cy="28728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5357880" y="56610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Черемух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250920" y="476280"/>
            <a:ext cx="504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324000" y="620640"/>
            <a:ext cx="756108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«Счастлив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79280" y="616572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7">
            <a:hlinkClick r:id="rId1" action="ppaction://hlinksldjump"/>
          </p:cNvPr>
          <p:cNvSpPr/>
          <p:nvPr/>
        </p:nvSpPr>
        <p:spPr>
          <a:xfrm>
            <a:off x="324000" y="6308640"/>
            <a:ext cx="502920" cy="289080"/>
          </a:xfrm>
          <a:prstGeom prst="leftArrow">
            <a:avLst>
              <a:gd name="adj1" fmla="val 50000"/>
              <a:gd name="adj2" fmla="val 43493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9" descr="135"/>
          <p:cNvPicPr/>
          <p:nvPr/>
        </p:nvPicPr>
        <p:blipFill>
          <a:blip r:embed="rId2"/>
          <a:stretch/>
        </p:blipFill>
        <p:spPr>
          <a:xfrm>
            <a:off x="5859360" y="2637000"/>
            <a:ext cx="3284640" cy="3682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15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65" dur="15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66" dur="15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250920" y="620640"/>
            <a:ext cx="649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684360" y="549360"/>
            <a:ext cx="82818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Как используют липовый цвет в народе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250920" y="6021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5">
            <a:hlinkClick r:id="rId1" action="ppaction://hlinksldjump"/>
          </p:cNvPr>
          <p:cNvSpPr/>
          <p:nvPr/>
        </p:nvSpPr>
        <p:spPr>
          <a:xfrm>
            <a:off x="324000" y="6237360"/>
            <a:ext cx="502920" cy="216000"/>
          </a:xfrm>
          <a:prstGeom prst="leftArrow">
            <a:avLst>
              <a:gd name="adj1" fmla="val 50000"/>
              <a:gd name="adj2" fmla="val 58208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2571840" y="580536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ак чай от простуды и каш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324000" y="549360"/>
            <a:ext cx="502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971640" y="692280"/>
            <a:ext cx="777708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Кот в мешк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a219"/>
                </a:solidFill>
                <a:latin typeface="Arial"/>
              </a:rPr>
              <a:t>«Домашняя аптек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755640" y="501336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Этот цветок залечивает ран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53964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6">
            <a:hlinkClick r:id="rId1" action="ppaction://hlinksldjump"/>
          </p:cNvPr>
          <p:cNvSpPr/>
          <p:nvPr/>
        </p:nvSpPr>
        <p:spPr>
          <a:xfrm>
            <a:off x="179280" y="6308640"/>
            <a:ext cx="505080" cy="216000"/>
          </a:xfrm>
          <a:prstGeom prst="leftArrow">
            <a:avLst>
              <a:gd name="adj1" fmla="val 50000"/>
              <a:gd name="adj2" fmla="val 58458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5143680" y="5929200"/>
            <a:ext cx="40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А л о 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Picture 9" descr="1108"/>
          <p:cNvPicPr/>
          <p:nvPr/>
        </p:nvPicPr>
        <p:blipFill>
          <a:blip r:embed="rId2"/>
          <a:stretch/>
        </p:blipFill>
        <p:spPr>
          <a:xfrm>
            <a:off x="6738840" y="476280"/>
            <a:ext cx="220824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7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250920" y="404640"/>
            <a:ext cx="792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900000" y="549360"/>
            <a:ext cx="7775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Какая трава помогает при ранах и ссадинах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250920" y="609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324000" y="609300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7">
            <a:hlinkClick r:id="rId1" action="ppaction://hlinksldjump"/>
          </p:cNvPr>
          <p:cNvSpPr/>
          <p:nvPr/>
        </p:nvSpPr>
        <p:spPr>
          <a:xfrm>
            <a:off x="324000" y="6308640"/>
            <a:ext cx="431640" cy="216000"/>
          </a:xfrm>
          <a:prstGeom prst="leftArrow">
            <a:avLst>
              <a:gd name="adj1" fmla="val 50000"/>
              <a:gd name="adj2" fmla="val 49958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6143760" y="607212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одорож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3276720"/>
                <a:gridCol w="1150920"/>
                <a:gridCol w="1081080"/>
                <a:gridCol w="1150920"/>
                <a:gridCol w="1225440"/>
                <a:gridCol w="1258920"/>
              </a:tblGrid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д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бука      кулинари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кусно и полезно!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32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34">
            <a:hlinkClick r:id="rId16" action="ppaction://hlinksldjump"/>
          </p:cNvPr>
          <p:cNvSpPr/>
          <p:nvPr/>
        </p:nvSpPr>
        <p:spPr>
          <a:xfrm>
            <a:off x="250920" y="6021360"/>
            <a:ext cx="576000" cy="482760"/>
          </a:xfrm>
          <a:custGeom>
            <a:avLst/>
            <a:gdLst/>
            <a:ahLst/>
            <a:rect l="l" t="t" r="r" b="b"/>
            <a:pathLst>
              <a:path w="576263" h="482600">
                <a:moveTo>
                  <a:pt x="1" y="184336"/>
                </a:moveTo>
                <a:lnTo>
                  <a:pt x="220114" y="184338"/>
                </a:lnTo>
                <a:lnTo>
                  <a:pt x="288132" y="0"/>
                </a:lnTo>
                <a:lnTo>
                  <a:pt x="356149" y="184338"/>
                </a:lnTo>
                <a:lnTo>
                  <a:pt x="576262" y="184336"/>
                </a:lnTo>
                <a:lnTo>
                  <a:pt x="398186" y="298262"/>
                </a:lnTo>
                <a:lnTo>
                  <a:pt x="466206" y="482599"/>
                </a:lnTo>
                <a:lnTo>
                  <a:pt x="288132" y="368671"/>
                </a:lnTo>
                <a:lnTo>
                  <a:pt x="110057" y="482599"/>
                </a:lnTo>
                <a:lnTo>
                  <a:pt x="178077" y="298262"/>
                </a:lnTo>
                <a:lnTo>
                  <a:pt x="1" y="18433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4"/>
          <p:cNvSpPr/>
          <p:nvPr/>
        </p:nvSpPr>
        <p:spPr>
          <a:xfrm>
            <a:off x="1835280" y="0"/>
            <a:ext cx="612144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Monotype Corsiv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Monotype Corsiva"/>
              </a:rPr>
              <a:t>РАУН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258920" y="2060640"/>
            <a:ext cx="705816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Monotype Corsiva"/>
              </a:rPr>
              <a:t>Здоровье – кладовая жизни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                                                                     </a:t>
            </a: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Плутар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7" descr="baby134"/>
          <p:cNvPicPr/>
          <p:nvPr/>
        </p:nvPicPr>
        <p:blipFill>
          <a:blip r:embed="rId1"/>
          <a:stretch/>
        </p:blipFill>
        <p:spPr>
          <a:xfrm>
            <a:off x="3271680" y="3429000"/>
            <a:ext cx="2602080" cy="3006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0" y="0"/>
          <a:ext cx="9144000" cy="6846840"/>
        </p:xfrm>
        <a:graphic>
          <a:graphicData uri="http://schemas.openxmlformats.org/drawingml/2006/table">
            <a:tbl>
              <a:tblPr/>
              <a:tblGrid>
                <a:gridCol w="2627280"/>
                <a:gridCol w="1440000"/>
                <a:gridCol w="1368360"/>
                <a:gridCol w="1224000"/>
                <a:gridCol w="1297080"/>
                <a:gridCol w="1187280"/>
              </a:tblGrid>
              <a:tr h="228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доровые зубы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и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т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росай курить!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Text Box 113"/>
          <p:cNvSpPr/>
          <p:nvPr/>
        </p:nvSpPr>
        <p:spPr>
          <a:xfrm>
            <a:off x="0" y="6093000"/>
            <a:ext cx="11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114"/>
          <p:cNvSpPr/>
          <p:nvPr/>
        </p:nvSpPr>
        <p:spPr>
          <a:xfrm>
            <a:off x="179280" y="6093000"/>
            <a:ext cx="611280" cy="580680"/>
          </a:xfrm>
          <a:custGeom>
            <a:avLst/>
            <a:gdLst/>
            <a:ahLst/>
            <a:rect l="l" t="t" r="r" b="b"/>
            <a:pathLst>
              <a:path w="611187" h="581025">
                <a:moveTo>
                  <a:pt x="1" y="221931"/>
                </a:moveTo>
                <a:lnTo>
                  <a:pt x="233454" y="221933"/>
                </a:lnTo>
                <a:lnTo>
                  <a:pt x="305594" y="0"/>
                </a:lnTo>
                <a:lnTo>
                  <a:pt x="377733" y="221933"/>
                </a:lnTo>
                <a:lnTo>
                  <a:pt x="611186" y="221931"/>
                </a:lnTo>
                <a:lnTo>
                  <a:pt x="422318" y="359092"/>
                </a:lnTo>
                <a:lnTo>
                  <a:pt x="494460" y="581024"/>
                </a:lnTo>
                <a:lnTo>
                  <a:pt x="305594" y="443861"/>
                </a:lnTo>
                <a:lnTo>
                  <a:pt x="116727" y="581024"/>
                </a:lnTo>
                <a:lnTo>
                  <a:pt x="188869" y="359092"/>
                </a:lnTo>
                <a:lnTo>
                  <a:pt x="1" y="221931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5"/>
          <p:cNvSpPr/>
          <p:nvPr/>
        </p:nvSpPr>
        <p:spPr>
          <a:xfrm>
            <a:off x="179280" y="260280"/>
            <a:ext cx="4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WordArt 6"/>
          <p:cNvSpPr txBox="1"/>
          <p:nvPr/>
        </p:nvSpPr>
        <p:spPr>
          <a:xfrm rot="5400000">
            <a:off x="-2340720" y="2853360"/>
            <a:ext cx="525636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ые зу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1908000" y="260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4357800" y="542916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2-3 мину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250920" y="587700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3"/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оугольник 9"/>
          <p:cNvSpPr/>
          <p:nvPr/>
        </p:nvSpPr>
        <p:spPr>
          <a:xfrm>
            <a:off x="928800" y="1785960"/>
            <a:ext cx="7358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Каким по продолжительности должно быть время чистки зубов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179280" y="47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1619280" y="26028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9"/>
          <p:cNvSpPr/>
          <p:nvPr/>
        </p:nvSpPr>
        <p:spPr>
          <a:xfrm>
            <a:off x="1476360" y="2276640"/>
            <a:ext cx="69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амое распространенное заболевание зубов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6429240" y="551664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Карие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324000" y="6021360"/>
            <a:ext cx="86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12"/>
          <p:cNvSpPr/>
          <p:nvPr/>
        </p:nvSpPr>
        <p:spPr>
          <a:xfrm>
            <a:off x="179280" y="6093000"/>
            <a:ext cx="647640" cy="504720"/>
          </a:xfrm>
          <a:custGeom>
            <a:avLst/>
            <a:gdLst>
              <a:gd name="textAreaLeft" fmla="*/ 147600 w 647640"/>
              <a:gd name="textAreaRight" fmla="*/ 500040 w 64764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WordArt 6"/>
          <p:cNvSpPr txBox="1"/>
          <p:nvPr/>
        </p:nvSpPr>
        <p:spPr>
          <a:xfrm rot="5400000">
            <a:off x="-2091960" y="2877480"/>
            <a:ext cx="525636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ые зу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edg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4"/>
          <p:cNvSpPr/>
          <p:nvPr/>
        </p:nvSpPr>
        <p:spPr>
          <a:xfrm>
            <a:off x="1332000" y="4046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4929120" y="52293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Стоматоло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32400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8"/>
          <p:cNvSpPr/>
          <p:nvPr/>
        </p:nvSpPr>
        <p:spPr>
          <a:xfrm>
            <a:off x="250920" y="6021360"/>
            <a:ext cx="649080" cy="576360"/>
          </a:xfrm>
          <a:custGeom>
            <a:avLst/>
            <a:gdLst>
              <a:gd name="textAreaLeft" fmla="*/ 147960 w 649080"/>
              <a:gd name="textAreaRight" fmla="*/ 501120 w 6490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Прямоугольник 7"/>
          <p:cNvSpPr/>
          <p:nvPr/>
        </p:nvSpPr>
        <p:spPr>
          <a:xfrm>
            <a:off x="1285920" y="1857240"/>
            <a:ext cx="742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К какому врачу надо идти если заболят зубы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WordArt 6"/>
          <p:cNvSpPr txBox="1"/>
          <p:nvPr/>
        </p:nvSpPr>
        <p:spPr>
          <a:xfrm rot="5400000">
            <a:off x="-2340720" y="2853360"/>
            <a:ext cx="525636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ые зу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4"/>
          <p:cNvSpPr/>
          <p:nvPr/>
        </p:nvSpPr>
        <p:spPr>
          <a:xfrm>
            <a:off x="900000" y="54936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900000" y="1844640"/>
            <a:ext cx="691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«Своя игр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5929200" y="5516640"/>
            <a:ext cx="30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С гороши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250920" y="595008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179280" y="6165720"/>
            <a:ext cx="720720" cy="432000"/>
          </a:xfrm>
          <a:custGeom>
            <a:avLst/>
            <a:gdLst>
              <a:gd name="textAreaLeft" fmla="*/ 164520 w 720720"/>
              <a:gd name="textAreaRight" fmla="*/ 556200 w 720720"/>
              <a:gd name="textAreaTop" fmla="*/ 98640 h 432000"/>
              <a:gd name="textAreaBottom" fmla="*/ 333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10" descr="solnze"/>
          <p:cNvPicPr/>
          <p:nvPr/>
        </p:nvPicPr>
        <p:blipFill>
          <a:blip r:embed="rId1"/>
          <a:stretch/>
        </p:blipFill>
        <p:spPr>
          <a:xfrm>
            <a:off x="6516720" y="333360"/>
            <a:ext cx="2627280" cy="244332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8"/>
          <p:cNvSpPr/>
          <p:nvPr/>
        </p:nvSpPr>
        <p:spPr>
          <a:xfrm>
            <a:off x="1000080" y="314316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Какое количество зубной пасты надо наносить на щетку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WordArt 6"/>
          <p:cNvSpPr txBox="1"/>
          <p:nvPr/>
        </p:nvSpPr>
        <p:spPr>
          <a:xfrm rot="5400000">
            <a:off x="-2340720" y="2853360"/>
            <a:ext cx="525636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ые зу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3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3"/>
          <p:cNvSpPr/>
          <p:nvPr/>
        </p:nvSpPr>
        <p:spPr>
          <a:xfrm>
            <a:off x="1258920" y="333360"/>
            <a:ext cx="734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5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5397480" y="5286240"/>
            <a:ext cx="37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2-3 меся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179280" y="616572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оугольник 6"/>
          <p:cNvSpPr/>
          <p:nvPr/>
        </p:nvSpPr>
        <p:spPr>
          <a:xfrm>
            <a:off x="714240" y="1714680"/>
            <a:ext cx="807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Каков срок службы зубной щетки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WordArt 6"/>
          <p:cNvSpPr txBox="1"/>
          <p:nvPr/>
        </p:nvSpPr>
        <p:spPr>
          <a:xfrm rot="5400000">
            <a:off x="-2340720" y="2853360"/>
            <a:ext cx="525636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ые зу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5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WordArt 8"/>
          <p:cNvSpPr txBox="1"/>
          <p:nvPr/>
        </p:nvSpPr>
        <p:spPr>
          <a:xfrm rot="5400000">
            <a:off x="-2124360" y="2636640"/>
            <a:ext cx="511164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1116000" y="476280"/>
            <a:ext cx="741672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1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Шайбу здесь вовсю гоняют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 в ворота всё бросают.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Здесь на поле лёд везде,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Рады мы такой игр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3564000" y="5516640"/>
            <a:ext cx="38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хокк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395280" y="580536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12"/>
          <p:cNvSpPr/>
          <p:nvPr/>
        </p:nvSpPr>
        <p:spPr>
          <a:xfrm>
            <a:off x="179280" y="6237360"/>
            <a:ext cx="647640" cy="431640"/>
          </a:xfrm>
          <a:custGeom>
            <a:avLst/>
            <a:gdLst>
              <a:gd name="textAreaLeft" fmla="*/ 147600 w 647640"/>
              <a:gd name="textAreaRight" fmla="*/ 500040 w 64764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WordArt 4"/>
          <p:cNvSpPr txBox="1"/>
          <p:nvPr/>
        </p:nvSpPr>
        <p:spPr>
          <a:xfrm rot="5400000">
            <a:off x="-2124720" y="2708640"/>
            <a:ext cx="504036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1476360" y="333360"/>
            <a:ext cx="6983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20 баллов </a:t>
            </a: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Кот в мешке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«Боевое искусство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395280" y="587700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7">
            <a:hlinkClick r:id="" action="ppaction://hlinkshowjump?jump=nextslide"/>
          </p:cNvPr>
          <p:cNvSpPr/>
          <p:nvPr/>
        </p:nvSpPr>
        <p:spPr>
          <a:xfrm>
            <a:off x="25092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3">
                <a:moveTo>
                  <a:pt x="11905" y="14288"/>
                </a:moveTo>
                <a:lnTo>
                  <a:pt x="11905" y="12330"/>
                </a:lnTo>
                <a:cubicBezTo>
                  <a:pt x="11905" y="11503"/>
                  <a:pt x="12236" y="10807"/>
                  <a:pt x="12837" y="10807"/>
                </a:cubicBezTo>
                <a:cubicBezTo>
                  <a:pt x="13968" y="10807"/>
                  <a:pt x="14865" y="9440"/>
                  <a:pt x="14865" y="7856"/>
                </a:cubicBezTo>
                <a:cubicBezTo>
                  <a:pt x="14865" y="5541"/>
                  <a:pt x="13011" y="3800"/>
                  <a:pt x="10800" y="3800"/>
                </a:cubicBezTo>
                <a:cubicBezTo>
                  <a:pt x="8589" y="3800"/>
                  <a:pt x="6918" y="5541"/>
                  <a:pt x="6918" y="7856"/>
                </a:cubicBezTo>
                <a:lnTo>
                  <a:pt x="8772" y="7856"/>
                </a:lnTo>
                <a:cubicBezTo>
                  <a:pt x="8772" y="6716"/>
                  <a:pt x="9695" y="5828"/>
                  <a:pt x="10800" y="5828"/>
                </a:cubicBezTo>
                <a:cubicBezTo>
                  <a:pt x="11905" y="5828"/>
                  <a:pt x="12837" y="6716"/>
                  <a:pt x="12837" y="7856"/>
                </a:cubicBezTo>
                <a:cubicBezTo>
                  <a:pt x="12837" y="8596"/>
                  <a:pt x="12367" y="9327"/>
                  <a:pt x="11905" y="9327"/>
                </a:cubicBezTo>
                <a:cubicBezTo>
                  <a:pt x="10800" y="9327"/>
                  <a:pt x="9695" y="10807"/>
                  <a:pt x="9695" y="12330"/>
                </a:cubicBezTo>
                <a:lnTo>
                  <a:pt x="9695" y="14288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9" descr="baby20"/>
          <p:cNvPicPr/>
          <p:nvPr/>
        </p:nvPicPr>
        <p:blipFill>
          <a:blip r:embed="rId1"/>
          <a:stretch/>
        </p:blipFill>
        <p:spPr>
          <a:xfrm>
            <a:off x="3440160" y="3429000"/>
            <a:ext cx="22813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WordArt 4"/>
          <p:cNvSpPr txBox="1"/>
          <p:nvPr/>
        </p:nvSpPr>
        <p:spPr>
          <a:xfrm rot="5400000">
            <a:off x="-2017080" y="2601000"/>
            <a:ext cx="482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1692360" y="907920"/>
            <a:ext cx="6192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6286680" y="566100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rebuchet MS"/>
              </a:rPr>
              <a:t>Дзюд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395280" y="609300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8"/>
          <p:cNvSpPr/>
          <p:nvPr/>
        </p:nvSpPr>
        <p:spPr>
          <a:xfrm>
            <a:off x="179280" y="6165720"/>
            <a:ext cx="720720" cy="503280"/>
          </a:xfrm>
          <a:custGeom>
            <a:avLst/>
            <a:gdLst>
              <a:gd name="textAreaLeft" fmla="*/ 164520 w 720720"/>
              <a:gd name="textAreaRight" fmla="*/ 556200 w 720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Прямоугольник 8"/>
          <p:cNvSpPr/>
          <p:nvPr/>
        </p:nvSpPr>
        <p:spPr>
          <a:xfrm>
            <a:off x="1428840" y="1714680"/>
            <a:ext cx="71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портсмен оделся в кимоно,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Учил-учил приёмы, но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е выучил все от и до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И проиграл свой бой в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293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8"/>
          <p:cNvSpPr/>
          <p:nvPr/>
        </p:nvSpPr>
        <p:spPr>
          <a:xfrm>
            <a:off x="447840" y="568440"/>
            <a:ext cx="84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332000" y="54936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99"/>
                </a:solidFill>
                <a:latin typeface="Arial"/>
              </a:rPr>
              <a:t>Сладкий камень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99"/>
                </a:solidFill>
                <a:latin typeface="Arial"/>
              </a:rPr>
              <a:t>в воде тает .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755640" y="5229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1" action="ppaction://hlinksldjump"/>
              </a:rPr>
              <a:t>&lt;&lt;&lt;&lt;&lt;&lt;&lt;&lt;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324000" y="404640"/>
            <a:ext cx="43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7164360" y="5734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WordArt 3"/>
          <p:cNvSpPr txBox="1"/>
          <p:nvPr/>
        </p:nvSpPr>
        <p:spPr>
          <a:xfrm rot="5400000">
            <a:off x="-2017080" y="2601000"/>
            <a:ext cx="482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476360" y="549360"/>
            <a:ext cx="65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3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4071960" y="5805360"/>
            <a:ext cx="47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Gautami"/>
              </a:rPr>
              <a:t>Баскетбо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79280" y="5805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179280" y="6165720"/>
            <a:ext cx="505080" cy="505080"/>
          </a:xfrm>
          <a:custGeom>
            <a:avLst/>
            <a:gdLst>
              <a:gd name="textAreaLeft" fmla="*/ 115200 w 505080"/>
              <a:gd name="textAreaRight" fmla="*/ 389880 w 505080"/>
              <a:gd name="textAreaTop" fmla="*/ 115200 h 505080"/>
              <a:gd name="textAreaBottom" fmla="*/ 3898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7"/>
          <p:cNvSpPr/>
          <p:nvPr/>
        </p:nvSpPr>
        <p:spPr>
          <a:xfrm>
            <a:off x="2286000" y="1500120"/>
            <a:ext cx="621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Два кольца, площадка, мяч.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а очередной свой матч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обрались из разных школ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Мы, сразиться в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WordArt 4"/>
          <p:cNvSpPr txBox="1"/>
          <p:nvPr/>
        </p:nvSpPr>
        <p:spPr>
          <a:xfrm rot="5400000">
            <a:off x="-2089080" y="2673000"/>
            <a:ext cx="496908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116000" y="549360"/>
            <a:ext cx="727236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4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оберем команду в школе И найдем большое поле. Пробиваем угловой - Забиваем головой! И в воротах пятый гол! Очень любим мы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3276720" y="5445000"/>
            <a:ext cx="56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Футбо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468360" y="5950080"/>
            <a:ext cx="57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179280" y="6237360"/>
            <a:ext cx="647640" cy="431640"/>
          </a:xfrm>
          <a:custGeom>
            <a:avLst/>
            <a:gdLst>
              <a:gd name="textAreaLeft" fmla="*/ 147600 w 647640"/>
              <a:gd name="textAreaRight" fmla="*/ 500040 w 64764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WordArt 4"/>
          <p:cNvSpPr txBox="1"/>
          <p:nvPr/>
        </p:nvSpPr>
        <p:spPr>
          <a:xfrm rot="5400000">
            <a:off x="-2196360" y="2709000"/>
            <a:ext cx="518328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1258920" y="476280"/>
            <a:ext cx="741672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 нам из Англии пришла эта чудная игра. Две ракетки и воланчик обожает детвора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5643720" y="5373720"/>
            <a:ext cx="314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Monotype Corsiva"/>
              </a:rPr>
              <a:t>Бамбинто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8"/>
          <p:cNvSpPr/>
          <p:nvPr/>
        </p:nvSpPr>
        <p:spPr>
          <a:xfrm>
            <a:off x="179280" y="616572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11"/>
          <p:cNvSpPr/>
          <p:nvPr/>
        </p:nvSpPr>
        <p:spPr>
          <a:xfrm>
            <a:off x="179280" y="6165720"/>
            <a:ext cx="57636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2"/>
          <p:cNvSpPr/>
          <p:nvPr/>
        </p:nvSpPr>
        <p:spPr>
          <a:xfrm>
            <a:off x="1042920" y="260280"/>
            <a:ext cx="785016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1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ы писали, мы писали – наши пальчики устал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ы немножко отдохнём и опять писать начнём.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Для чего предназначены эти сло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3"/>
          <p:cNvSpPr/>
          <p:nvPr/>
        </p:nvSpPr>
        <p:spPr>
          <a:xfrm>
            <a:off x="1042920" y="609300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Упражнения для расслабления мышц ру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WordArt 4"/>
          <p:cNvSpPr txBox="1"/>
          <p:nvPr/>
        </p:nvSpPr>
        <p:spPr>
          <a:xfrm rot="5400000">
            <a:off x="-2252880" y="2692080"/>
            <a:ext cx="5184720" cy="320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осай курить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179280" y="6165720"/>
            <a:ext cx="57636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1258920" y="476280"/>
            <a:ext cx="7345440" cy="33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2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«Вопрос-аукцион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апля какого вещества убивает лошад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8"/>
          <p:cNvSpPr/>
          <p:nvPr/>
        </p:nvSpPr>
        <p:spPr>
          <a:xfrm>
            <a:off x="6500880" y="5643720"/>
            <a:ext cx="24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Нико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WordArt 4"/>
          <p:cNvSpPr txBox="1"/>
          <p:nvPr/>
        </p:nvSpPr>
        <p:spPr>
          <a:xfrm rot="5400000">
            <a:off x="-2252880" y="2692080"/>
            <a:ext cx="5184720" cy="320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осай курить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1332000" y="1052640"/>
            <a:ext cx="741672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3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чему курильщику труднее, чем некурящему, выучить стихотворение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324000" y="595008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9">
            <a:hlinkClick r:id="" action="ppaction://hlinkshowjump?jump=nextslide"/>
          </p:cNvPr>
          <p:cNvSpPr/>
          <p:nvPr/>
        </p:nvSpPr>
        <p:spPr>
          <a:xfrm>
            <a:off x="17928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36" h="21600">
                <a:moveTo>
                  <a:pt x="15523" y="14281"/>
                </a:moveTo>
                <a:lnTo>
                  <a:pt x="15523" y="12323"/>
                </a:lnTo>
                <a:cubicBezTo>
                  <a:pt x="15523" y="11496"/>
                  <a:pt x="15854" y="10800"/>
                  <a:pt x="16455" y="10800"/>
                </a:cubicBezTo>
                <a:cubicBezTo>
                  <a:pt x="17586" y="10800"/>
                  <a:pt x="18483" y="9434"/>
                  <a:pt x="18483" y="7849"/>
                </a:cubicBezTo>
                <a:cubicBezTo>
                  <a:pt x="18483" y="5534"/>
                  <a:pt x="16629" y="3794"/>
                  <a:pt x="14418" y="3794"/>
                </a:cubicBezTo>
                <a:cubicBezTo>
                  <a:pt x="12207" y="3794"/>
                  <a:pt x="10536" y="5534"/>
                  <a:pt x="10536" y="7849"/>
                </a:cubicBezTo>
                <a:lnTo>
                  <a:pt x="12390" y="7849"/>
                </a:lnTo>
                <a:cubicBezTo>
                  <a:pt x="12390" y="6709"/>
                  <a:pt x="13313" y="5821"/>
                  <a:pt x="14418" y="5821"/>
                </a:cubicBezTo>
                <a:cubicBezTo>
                  <a:pt x="15523" y="5821"/>
                  <a:pt x="16455" y="6709"/>
                  <a:pt x="16455" y="7849"/>
                </a:cubicBezTo>
                <a:cubicBezTo>
                  <a:pt x="16455" y="8589"/>
                  <a:pt x="15985" y="9320"/>
                  <a:pt x="15523" y="9320"/>
                </a:cubicBezTo>
                <a:cubicBezTo>
                  <a:pt x="14418" y="9320"/>
                  <a:pt x="13313" y="10800"/>
                  <a:pt x="13313" y="12323"/>
                </a:cubicBezTo>
                <a:lnTo>
                  <a:pt x="13313" y="1428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Box 8"/>
          <p:cNvSpPr/>
          <p:nvPr/>
        </p:nvSpPr>
        <p:spPr>
          <a:xfrm>
            <a:off x="5500800" y="59292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Ухудшается пам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WordArt 4"/>
          <p:cNvSpPr txBox="1"/>
          <p:nvPr/>
        </p:nvSpPr>
        <p:spPr>
          <a:xfrm rot="5400000">
            <a:off x="-2252880" y="2692080"/>
            <a:ext cx="5184720" cy="320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осай курить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6"/>
          <p:cNvSpPr/>
          <p:nvPr/>
        </p:nvSpPr>
        <p:spPr>
          <a:xfrm>
            <a:off x="179280" y="6165720"/>
            <a:ext cx="57636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1403280" y="404640"/>
            <a:ext cx="7561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4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5143680" y="600084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ни желте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Прямоугольник 8"/>
          <p:cNvSpPr/>
          <p:nvPr/>
        </p:nvSpPr>
        <p:spPr>
          <a:xfrm>
            <a:off x="1285920" y="1143000"/>
            <a:ext cx="7572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то происходит с зубами человека под воздействием клейких смол, образующихся при курении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WordArt 4"/>
          <p:cNvSpPr txBox="1"/>
          <p:nvPr/>
        </p:nvSpPr>
        <p:spPr>
          <a:xfrm rot="5400000">
            <a:off x="-2252880" y="2692080"/>
            <a:ext cx="5184720" cy="320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осай курить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 rot="5400000">
            <a:off x="-2252880" y="2692080"/>
            <a:ext cx="5184720" cy="320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осай курить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179280" y="6165720"/>
            <a:ext cx="50508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332000" y="907920"/>
            <a:ext cx="727236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5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Как называется пребывание в накуренном помещении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643280" y="607212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ассивное ку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3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5"/>
          <p:cNvSpPr/>
          <p:nvPr/>
        </p:nvSpPr>
        <p:spPr>
          <a:xfrm>
            <a:off x="0" y="428760"/>
            <a:ext cx="86439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желаю вам, ребя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ыть здоровыми всег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о добиться результ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возможно без тру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зарядкой занимайте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жедневно по утр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конечно, закаляйтесь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так поможет в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7" descr="blest11"/>
          <p:cNvPicPr/>
          <p:nvPr/>
        </p:nvPicPr>
        <p:blipFill>
          <a:blip r:embed="rId1"/>
          <a:stretch/>
        </p:blipFill>
        <p:spPr>
          <a:xfrm>
            <a:off x="6877080" y="3532320"/>
            <a:ext cx="1727280" cy="15429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blest40"/>
          <p:cNvPicPr/>
          <p:nvPr/>
        </p:nvPicPr>
        <p:blipFill>
          <a:blip r:embed="rId2"/>
          <a:stretch/>
        </p:blipFill>
        <p:spPr>
          <a:xfrm rot="2768400">
            <a:off x="-142560" y="3931920"/>
            <a:ext cx="2712960" cy="24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8" dur="3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6" descr="blest47"/>
          <p:cNvPicPr/>
          <p:nvPr/>
        </p:nvPicPr>
        <p:blipFill>
          <a:blip r:embed="rId1"/>
          <a:stretch/>
        </p:blipFill>
        <p:spPr>
          <a:xfrm>
            <a:off x="611280" y="189000"/>
            <a:ext cx="6337080" cy="57150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7"/>
          <p:cNvSpPr/>
          <p:nvPr/>
        </p:nvSpPr>
        <p:spPr>
          <a:xfrm>
            <a:off x="3780000" y="5877000"/>
            <a:ext cx="1296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WordArt 8"/>
          <p:cNvSpPr txBox="1"/>
          <p:nvPr/>
        </p:nvSpPr>
        <p:spPr>
          <a:xfrm>
            <a:off x="395280" y="3068640"/>
            <a:ext cx="835344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 победой!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293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539640" y="907920"/>
            <a:ext cx="799308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99"/>
                </a:solidFill>
                <a:latin typeface="Arial"/>
              </a:rPr>
              <a:t>Жидко, а не вода, бело, а не снег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71640" y="5445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6">
            <a:hlinkClick r:id="rId1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24000" y="404640"/>
            <a:ext cx="57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948360" y="566100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Молок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4"/>
          <p:cNvSpPr txBox="1"/>
          <p:nvPr/>
        </p:nvSpPr>
        <p:spPr>
          <a:xfrm>
            <a:off x="684360" y="907920"/>
            <a:ext cx="6767280" cy="251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игру!</a:t>
            </a:r>
            <a:endParaRPr b="0" lang="en-US" sz="6000" spc="1" strike="noStrike">
              <a:ln w="9360">
                <a:solidFill>
                  <a:srgbClr val="339966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3" name="Picture 13" descr="236"/>
          <p:cNvPicPr/>
          <p:nvPr/>
        </p:nvPicPr>
        <p:blipFill>
          <a:blip r:embed="rId1"/>
          <a:stretch/>
        </p:blipFill>
        <p:spPr>
          <a:xfrm rot="21051000">
            <a:off x="608040" y="3117600"/>
            <a:ext cx="3168720" cy="27954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4" descr="238"/>
          <p:cNvPicPr/>
          <p:nvPr/>
        </p:nvPicPr>
        <p:blipFill>
          <a:blip r:embed="rId2"/>
          <a:stretch/>
        </p:blipFill>
        <p:spPr>
          <a:xfrm rot="2317800">
            <a:off x="5762160" y="3013200"/>
            <a:ext cx="2406600" cy="33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539640" y="1125360"/>
            <a:ext cx="8280360" cy="52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0 баллов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Этот сочный фрукт богат витаминами. В нем содержится треть суточной нормы витамина С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042920" y="5300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6">
            <a:hlinkClick r:id="rId1" action="ppaction://hlinksldjump"/>
          </p:cNvPr>
          <p:cNvSpPr/>
          <p:nvPr/>
        </p:nvSpPr>
        <p:spPr>
          <a:xfrm>
            <a:off x="1187280" y="5373720"/>
            <a:ext cx="1081080" cy="216000"/>
          </a:xfrm>
          <a:prstGeom prst="leftArrow">
            <a:avLst>
              <a:gd name="adj1" fmla="val 50000"/>
              <a:gd name="adj2" fmla="val 12512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79280" y="260280"/>
            <a:ext cx="720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6732720" y="57340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Лим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7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971640" y="907920"/>
            <a:ext cx="7200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Arial"/>
              </a:rPr>
              <a:t>В воде родится, воды боитс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5280" y="6093000"/>
            <a:ext cx="18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6">
            <a:hlinkClick r:id="rId1" action="ppaction://hlinksldjump"/>
          </p:cNvPr>
          <p:cNvSpPr/>
          <p:nvPr/>
        </p:nvSpPr>
        <p:spPr>
          <a:xfrm>
            <a:off x="179280" y="5950080"/>
            <a:ext cx="792360" cy="64908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65" h="21600">
                <a:moveTo>
                  <a:pt x="0" y="0"/>
                </a:moveTo>
                <a:lnTo>
                  <a:pt x="26365" y="0"/>
                </a:lnTo>
                <a:lnTo>
                  <a:pt x="26365" y="21600"/>
                </a:lnTo>
                <a:lnTo>
                  <a:pt x="0" y="21600"/>
                </a:lnTo>
                <a:close/>
              </a:path>
              <a:path fill="lightenLess" w="26365" h="21600">
                <a:moveTo>
                  <a:pt x="0" y="0"/>
                </a:moveTo>
                <a:lnTo>
                  <a:pt x="26365" y="0"/>
                </a:lnTo>
                <a:lnTo>
                  <a:pt x="24965" y="1400"/>
                </a:lnTo>
                <a:lnTo>
                  <a:pt x="1400" y="1400"/>
                </a:lnTo>
                <a:close/>
              </a:path>
              <a:path fill="darken" w="26365" h="21600">
                <a:moveTo>
                  <a:pt x="26365" y="0"/>
                </a:moveTo>
                <a:lnTo>
                  <a:pt x="26365" y="21600"/>
                </a:lnTo>
                <a:lnTo>
                  <a:pt x="24965" y="20200"/>
                </a:lnTo>
                <a:lnTo>
                  <a:pt x="24965" y="1400"/>
                </a:lnTo>
                <a:close/>
              </a:path>
              <a:path fill="darkenLess" w="26365" h="21600">
                <a:moveTo>
                  <a:pt x="26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5" y="20200"/>
                </a:lnTo>
                <a:close/>
              </a:path>
              <a:path fill="lighten" w="26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5" h="21600">
                <a:moveTo>
                  <a:pt x="6176" y="10800"/>
                </a:moveTo>
                <a:lnTo>
                  <a:pt x="20189" y="3794"/>
                </a:lnTo>
                <a:lnTo>
                  <a:pt x="20189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324000" y="404640"/>
            <a:ext cx="5029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7093080" y="5805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468360" y="549360"/>
            <a:ext cx="820908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Кот в мешке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cc00"/>
                </a:solidFill>
                <a:latin typeface="Arial"/>
              </a:rPr>
              <a:t>«Аптека на грядке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68360" y="602136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6">
            <a:hlinkClick r:id="" action="ppaction://hlinkshowjump?jump=nextslide"/>
          </p:cNvPr>
          <p:cNvSpPr/>
          <p:nvPr/>
        </p:nvSpPr>
        <p:spPr>
          <a:xfrm>
            <a:off x="324000" y="595008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735" h="21600">
                <a:moveTo>
                  <a:pt x="12973" y="14281"/>
                </a:moveTo>
                <a:lnTo>
                  <a:pt x="12973" y="12323"/>
                </a:lnTo>
                <a:cubicBezTo>
                  <a:pt x="12973" y="11496"/>
                  <a:pt x="13304" y="10800"/>
                  <a:pt x="13904" y="10800"/>
                </a:cubicBezTo>
                <a:cubicBezTo>
                  <a:pt x="15036" y="10800"/>
                  <a:pt x="15932" y="9434"/>
                  <a:pt x="15932" y="7849"/>
                </a:cubicBezTo>
                <a:cubicBezTo>
                  <a:pt x="15932" y="5534"/>
                  <a:pt x="14078" y="3794"/>
                  <a:pt x="11868" y="3794"/>
                </a:cubicBezTo>
                <a:cubicBezTo>
                  <a:pt x="9657" y="3794"/>
                  <a:pt x="7986" y="5534"/>
                  <a:pt x="7986" y="7849"/>
                </a:cubicBezTo>
                <a:lnTo>
                  <a:pt x="9840" y="7849"/>
                </a:lnTo>
                <a:cubicBezTo>
                  <a:pt x="9840" y="6709"/>
                  <a:pt x="10762" y="5821"/>
                  <a:pt x="11868" y="5821"/>
                </a:cubicBezTo>
                <a:cubicBezTo>
                  <a:pt x="12973" y="5821"/>
                  <a:pt x="13904" y="6709"/>
                  <a:pt x="13904" y="7849"/>
                </a:cubicBezTo>
                <a:cubicBezTo>
                  <a:pt x="13904" y="8589"/>
                  <a:pt x="13434" y="9320"/>
                  <a:pt x="12973" y="9320"/>
                </a:cubicBezTo>
                <a:cubicBezTo>
                  <a:pt x="11868" y="9320"/>
                  <a:pt x="10762" y="10800"/>
                  <a:pt x="10762" y="12323"/>
                </a:cubicBezTo>
                <a:lnTo>
                  <a:pt x="10762" y="1428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24000" y="333360"/>
            <a:ext cx="5029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9" descr="8m5"/>
          <p:cNvPicPr/>
          <p:nvPr/>
        </p:nvPicPr>
        <p:blipFill>
          <a:blip r:embed="rId1"/>
          <a:stretch/>
        </p:blipFill>
        <p:spPr>
          <a:xfrm>
            <a:off x="7236000" y="260280"/>
            <a:ext cx="1672920" cy="1673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1:59:52Z</dcterms:created>
  <dc:creator>JOel</dc:creator>
  <dc:description/>
  <dc:language>en-US</dc:language>
  <cp:lastModifiedBy>тимур</cp:lastModifiedBy>
  <dcterms:modified xsi:type="dcterms:W3CDTF">2020-10-25T21:22:53Z</dcterms:modified>
  <cp:revision>101</cp:revision>
  <dc:subject/>
  <dc:title>Слайд 1</dc:title>
</cp:coreProperties>
</file>