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gif" ContentType="image/gif"/>
  <Override PartName="/ppt/media/image5.gif" ContentType="image/gif"/>
  <Override PartName="/ppt/media/image13.png" ContentType="image/png"/>
  <Override PartName="/ppt/media/image22.gif" ContentType="image/gif"/>
  <Override PartName="/ppt/media/image20.png" ContentType="image/png"/>
  <Override PartName="/ppt/media/image17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4.gif" ContentType="image/gif"/>
  <Override PartName="/ppt/media/image1.jpeg" ContentType="image/jpeg"/>
  <Override PartName="/ppt/media/image18.gif" ContentType="image/gif"/>
  <Override PartName="/ppt/media/image16.gif" ContentType="image/gif"/>
  <Override PartName="/ppt/media/image14.gif" ContentType="image/gif"/>
  <Override PartName="/ppt/media/image2.gif" ContentType="image/gif"/>
  <Override PartName="/ppt/media/image11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2C4-76C8-4A8D-A2B8-938C3FA9F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737-18CA-4655-B37C-4A678983E9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A6C-5E68-43CC-984D-6E5DFD3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83D-B4D5-41CA-B1FF-98CBEE59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F30-D24C-4C58-A909-1160CDCE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64C-3236-4E09-8AD9-BAD9471E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3987-038E-4124-A057-173D4C9B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F6A9-79ED-48EF-BD87-EA7E938C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2363-A356-4785-86EA-C7FC005F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959-E3E3-4978-AA1A-16555244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7E5B-3664-4BB2-9513-601050D5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7B6B-0A5C-4FF5-A822-76A0DC51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AE9-6982-4870-B83A-17F7B4F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116-1C67-4F86-9633-A40234B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C57F-AAB9-4DC0-BBC3-7EB4F10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E802-60D4-4CD1-93FB-3636661C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E147-C8AF-4896-8C84-FE10A2EE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3749-F17A-4A5B-ABD2-509D6F69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9387-CD30-4A1F-AE4E-4BC5D61F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4B2F2-1C86-4ED7-9FDB-1A8D52D4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CCFF-9CCD-4A0E-AF91-F273B23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ADDD-F062-4D54-A8AF-C1CC0671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8F5D-D43E-4CEB-A9F6-3A5AAA0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C031-5B74-4EA0-9C3E-34FF01B3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CAA-DA67-4EEA-9E59-0FAF635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002D-1A15-4171-8270-21EBCD15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AEB1-3FA1-42EC-AB81-ECB03B24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339C-FA65-4FB6-8774-5106D139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DAD3-61D3-4561-A3D2-BBFB731A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174B-28DA-4831-9D02-74F2BFF3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619D-AE83-4A3D-B208-8755BB9E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A1F7-DBD8-4001-A8AE-2D00C9BD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47C-6D0B-4B2A-B7ED-2BE0BFDC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4B6-B7AB-4C2C-BFAE-0ADBF81F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1CC-9B39-4A36-96EF-BF2DEBAD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39E-811D-485B-BC0D-A4380AC3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FD8-C2BD-4B07-8CF4-482335B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238-8518-4174-AC51-7AA89AE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b44c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757-E54E-4011-B3EB-38EDCA4C0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9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C895-1835-440F-8F7B-DE88DCF82A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59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E564-A85C-47F7-A15D-413FCB604E6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37.xml"/><Relationship Id="rId14" Type="http://schemas.openxmlformats.org/officeDocument/2006/relationships/slide" Target="slide38.xml"/><Relationship Id="rId15" Type="http://schemas.openxmlformats.org/officeDocument/2006/relationships/slide" Target="slide39.xml"/><Relationship Id="rId16" Type="http://schemas.openxmlformats.org/officeDocument/2006/relationships/slide" Target="slide40.xml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47.xml"/><Relationship Id="rId7" Type="http://schemas.openxmlformats.org/officeDocument/2006/relationships/slide" Target="slide48.xml"/><Relationship Id="rId8" Type="http://schemas.openxmlformats.org/officeDocument/2006/relationships/slide" Target="slide50.xml"/><Relationship Id="rId9" Type="http://schemas.openxmlformats.org/officeDocument/2006/relationships/slide" Target="slide51.xml"/><Relationship Id="rId10" Type="http://schemas.openxmlformats.org/officeDocument/2006/relationships/slide" Target="slide52.xml"/><Relationship Id="rId11" Type="http://schemas.openxmlformats.org/officeDocument/2006/relationships/slide" Target="slide53.xml"/><Relationship Id="rId12" Type="http://schemas.openxmlformats.org/officeDocument/2006/relationships/slide" Target="slide54.xml"/><Relationship Id="rId13" Type="http://schemas.openxmlformats.org/officeDocument/2006/relationships/slide" Target="slide55.xml"/><Relationship Id="rId14" Type="http://schemas.openxmlformats.org/officeDocument/2006/relationships/slide" Target="slide5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8" descr="hello_html_430e17be.jpg"/>
          <p:cNvPicPr/>
          <p:nvPr/>
        </p:nvPicPr>
        <p:blipFill>
          <a:blip r:embed="rId1"/>
          <a:stretch/>
        </p:blipFill>
        <p:spPr>
          <a:xfrm>
            <a:off x="928800" y="500040"/>
            <a:ext cx="7000920" cy="569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9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01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9"/>
          <p:cNvSpPr/>
          <p:nvPr/>
        </p:nvSpPr>
        <p:spPr>
          <a:xfrm>
            <a:off x="3571920" y="64911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0"/>
          <p:cNvSpPr/>
          <p:nvPr/>
        </p:nvSpPr>
        <p:spPr>
          <a:xfrm>
            <a:off x="3571920" y="621504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187280" y="404640"/>
            <a:ext cx="748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Эти растения с характерным резким запахом являются хорошим средством в профилактике простудных заболевани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1792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50920" y="333360"/>
            <a:ext cx="36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940360" y="6021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Лук и чес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24000" y="404640"/>
            <a:ext cx="115236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258920" y="105264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9">
            <a:hlinkClick r:id="rId1" action="ppaction://hlinksldjump"/>
          </p:cNvPr>
          <p:cNvSpPr/>
          <p:nvPr/>
        </p:nvSpPr>
        <p:spPr>
          <a:xfrm>
            <a:off x="324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13" descr="baby155"/>
          <p:cNvPicPr/>
          <p:nvPr/>
        </p:nvPicPr>
        <p:blipFill>
          <a:blip r:embed="rId2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79280" y="476280"/>
            <a:ext cx="505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5640" y="333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7">
            <a:hlinkClick r:id="rId1" action="ppaction://hlinksldjump"/>
          </p:cNvPr>
          <p:cNvSpPr/>
          <p:nvPr/>
        </p:nvSpPr>
        <p:spPr>
          <a:xfrm>
            <a:off x="2627280" y="5516640"/>
            <a:ext cx="792360" cy="7207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46" h="21600">
                <a:moveTo>
                  <a:pt x="0" y="0"/>
                </a:moveTo>
                <a:lnTo>
                  <a:pt x="23746" y="0"/>
                </a:lnTo>
                <a:lnTo>
                  <a:pt x="23746" y="21600"/>
                </a:lnTo>
                <a:lnTo>
                  <a:pt x="0" y="21600"/>
                </a:lnTo>
                <a:close/>
              </a:path>
              <a:path fill="lightenLess" w="23746" h="21600">
                <a:moveTo>
                  <a:pt x="0" y="0"/>
                </a:moveTo>
                <a:lnTo>
                  <a:pt x="23746" y="0"/>
                </a:lnTo>
                <a:lnTo>
                  <a:pt x="22346" y="1400"/>
                </a:lnTo>
                <a:lnTo>
                  <a:pt x="1400" y="1400"/>
                </a:lnTo>
                <a:close/>
              </a:path>
              <a:path fill="darken" w="23746" h="21600">
                <a:moveTo>
                  <a:pt x="23746" y="0"/>
                </a:moveTo>
                <a:lnTo>
                  <a:pt x="23746" y="21600"/>
                </a:lnTo>
                <a:lnTo>
                  <a:pt x="22346" y="20200"/>
                </a:lnTo>
                <a:lnTo>
                  <a:pt x="22346" y="1400"/>
                </a:lnTo>
                <a:close/>
              </a:path>
              <a:path fill="darkenLess" w="23746" h="21600">
                <a:moveTo>
                  <a:pt x="23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46" y="20200"/>
                </a:lnTo>
                <a:close/>
              </a:path>
              <a:path fill="lighten" w="23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46" h="21600">
                <a:moveTo>
                  <a:pt x="4867" y="10800"/>
                </a:moveTo>
                <a:lnTo>
                  <a:pt x="18879" y="3794"/>
                </a:lnTo>
                <a:lnTo>
                  <a:pt x="1887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643040" y="1571760"/>
            <a:ext cx="621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кой овощ называют вторым хлебо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215040" y="600084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ртоф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476280"/>
            <a:ext cx="4334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971640" y="692280"/>
            <a:ext cx="7848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Один из самых крупных овощей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7">
            <a:hlinkClick r:id="rId1" action="ppaction://hlinksldjump"/>
          </p:cNvPr>
          <p:cNvSpPr/>
          <p:nvPr/>
        </p:nvSpPr>
        <p:spPr>
          <a:xfrm>
            <a:off x="250920" y="5950080"/>
            <a:ext cx="863640" cy="64908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8736" h="21600">
                <a:moveTo>
                  <a:pt x="0" y="0"/>
                </a:moveTo>
                <a:lnTo>
                  <a:pt x="28736" y="0"/>
                </a:lnTo>
                <a:lnTo>
                  <a:pt x="28736" y="21600"/>
                </a:lnTo>
                <a:lnTo>
                  <a:pt x="0" y="21600"/>
                </a:lnTo>
                <a:close/>
              </a:path>
              <a:path fill="lightenLess" w="28736" h="21600">
                <a:moveTo>
                  <a:pt x="0" y="0"/>
                </a:moveTo>
                <a:lnTo>
                  <a:pt x="28736" y="0"/>
                </a:lnTo>
                <a:lnTo>
                  <a:pt x="27336" y="1400"/>
                </a:lnTo>
                <a:lnTo>
                  <a:pt x="1400" y="1400"/>
                </a:lnTo>
                <a:close/>
              </a:path>
              <a:path fill="darken" w="28736" h="21600">
                <a:moveTo>
                  <a:pt x="28736" y="0"/>
                </a:moveTo>
                <a:lnTo>
                  <a:pt x="28736" y="21600"/>
                </a:lnTo>
                <a:lnTo>
                  <a:pt x="27336" y="20200"/>
                </a:lnTo>
                <a:lnTo>
                  <a:pt x="27336" y="1400"/>
                </a:lnTo>
                <a:close/>
              </a:path>
              <a:path fill="darkenLess" w="28736" h="21600">
                <a:moveTo>
                  <a:pt x="28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36" y="20200"/>
                </a:lnTo>
                <a:close/>
              </a:path>
              <a:path fill="lighten" w="28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36" h="21600">
                <a:moveTo>
                  <a:pt x="7362" y="10800"/>
                </a:moveTo>
                <a:lnTo>
                  <a:pt x="21375" y="3794"/>
                </a:lnTo>
                <a:lnTo>
                  <a:pt x="2137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500800" y="59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Ты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71640" y="692280"/>
            <a:ext cx="777708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воя игр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476360" y="3429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Этот напиток обычно варят из сухофрукт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303640" y="5877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мп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11" descr="chud026"/>
          <p:cNvPicPr/>
          <p:nvPr/>
        </p:nvPicPr>
        <p:blipFill>
          <a:blip r:embed="rId2"/>
          <a:stretch/>
        </p:blipFill>
        <p:spPr>
          <a:xfrm>
            <a:off x="7174080" y="333360"/>
            <a:ext cx="173988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79280" y="404640"/>
            <a:ext cx="720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971640" y="476280"/>
            <a:ext cx="77040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Как называется картофель обжаренный в большом количестве жир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7">
            <a:hlinkClick r:id="rId1" action="ppaction://hlinksldjump"/>
          </p:cNvPr>
          <p:cNvSpPr/>
          <p:nvPr/>
        </p:nvSpPr>
        <p:spPr>
          <a:xfrm>
            <a:off x="324000" y="595008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10800"/>
                </a:moveTo>
                <a:lnTo>
                  <a:pt x="20183" y="3794"/>
                </a:lnTo>
                <a:lnTo>
                  <a:pt x="2018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995640" y="5445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Monotype Corsiva"/>
              </a:rPr>
              <a:t>Ф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50920" y="260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28800" y="571680"/>
            <a:ext cx="792144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Исследования показали, что этот сладкий продукт может повысить ваши способности к математик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959280" y="56610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Шокола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4"/>
          <p:cNvSpPr/>
          <p:nvPr/>
        </p:nvSpPr>
        <p:spPr>
          <a:xfrm>
            <a:off x="179280" y="333360"/>
            <a:ext cx="320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00000" y="1125360"/>
            <a:ext cx="78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акое молоко является самым географически распространенным в мир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7">
            <a:hlinkClick r:id="rId1" action="ppaction://hlinksldjump"/>
          </p:cNvPr>
          <p:cNvSpPr/>
          <p:nvPr/>
        </p:nvSpPr>
        <p:spPr>
          <a:xfrm>
            <a:off x="250920" y="5805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857920" y="571500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Коровь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250920" y="476280"/>
            <a:ext cx="32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971640" y="62064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1" descr="cow"/>
          <p:cNvPicPr/>
          <p:nvPr/>
        </p:nvPicPr>
        <p:blipFill>
          <a:blip r:embed="rId1"/>
          <a:stretch/>
        </p:blipFill>
        <p:spPr>
          <a:xfrm>
            <a:off x="3924360" y="299736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13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50920" y="476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971640" y="0"/>
            <a:ext cx="817236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ойдем копать картош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ыграй нам на гармош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мы не проходили, это нам не задав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Антошка, Анто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Готовь к обеду лож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Тили тили, трали в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Это братцы мне по силе, откажусь теперь едва 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1">
            <a:hlinkClick r:id="rId1" action="ppaction://hlinksldjump"/>
          </p:cNvPr>
          <p:cNvSpPr/>
          <p:nvPr/>
        </p:nvSpPr>
        <p:spPr>
          <a:xfrm>
            <a:off x="1792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просы –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сюрпризы</a:t>
            </a: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частлив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получает число бал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казанных в данном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счастн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- команда штрафуется на указ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количеств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т в мешке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вопрос можно отдать команде – соперн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прос-аукцио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одна команда может перекупить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ругой вопрос, назначив более высокую це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воя игр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имеет право уменьшить или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величить число баллов з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узыкальный экспромт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может взять помощ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50920" y="260280"/>
            <a:ext cx="24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971640" y="765000"/>
            <a:ext cx="777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Какой овощ полезен для зрения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8">
            <a:hlinkClick r:id="rId1" action="ppaction://hlinksldjump"/>
          </p:cNvPr>
          <p:cNvSpPr/>
          <p:nvPr/>
        </p:nvSpPr>
        <p:spPr>
          <a:xfrm>
            <a:off x="324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4967280" y="5643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Мо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250920" y="4762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50920" y="333360"/>
            <a:ext cx="17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кусно и полез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900000" y="620640"/>
            <a:ext cx="770436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Что получается при скисании молока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8">
            <a:hlinkClick r:id="rId1" action="ppaction://hlinksldjump"/>
          </p:cNvPr>
          <p:cNvSpPr/>
          <p:nvPr/>
        </p:nvSpPr>
        <p:spPr>
          <a:xfrm>
            <a:off x="250920" y="587700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2357280" y="56437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eorgia"/>
              </a:rPr>
              <a:t>Простокваш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3" descr="28"/>
          <p:cNvPicPr/>
          <p:nvPr/>
        </p:nvPicPr>
        <p:blipFill>
          <a:blip r:embed="rId2"/>
          <a:stretch/>
        </p:blipFill>
        <p:spPr>
          <a:xfrm>
            <a:off x="6854760" y="3573360"/>
            <a:ext cx="198612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 Box 118"/>
          <p:cNvSpPr/>
          <p:nvPr/>
        </p:nvSpPr>
        <p:spPr>
          <a:xfrm>
            <a:off x="1692360" y="0"/>
            <a:ext cx="5472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9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20">
            <a:hlinkClick r:id="" action="ppaction://hlinkshowjump?jump=nextslide"/>
          </p:cNvPr>
          <p:cNvSpPr/>
          <p:nvPr/>
        </p:nvSpPr>
        <p:spPr>
          <a:xfrm>
            <a:off x="179280" y="6021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21"/>
          <p:cNvSpPr/>
          <p:nvPr/>
        </p:nvSpPr>
        <p:spPr>
          <a:xfrm>
            <a:off x="539640" y="2492280"/>
            <a:ext cx="813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00cc"/>
                </a:solidFill>
                <a:latin typeface="Comic Sans MS"/>
              </a:rPr>
              <a:t>Хлеб – батюшка, а              водица матушк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говор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29" descr="blest159"/>
          <p:cNvPicPr/>
          <p:nvPr/>
        </p:nvPicPr>
        <p:blipFill>
          <a:blip r:embed="rId1"/>
          <a:stretch/>
        </p:blipFill>
        <p:spPr>
          <a:xfrm>
            <a:off x="3780000" y="4581360"/>
            <a:ext cx="2128680" cy="193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154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155" dur="150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Инфекционные болезни, передающиеся через пищ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итание и болезн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Здоровье из лес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199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00">
            <a:hlinkClick r:id="rId16" action="ppaction://hlinksldjump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/>
            <a:ahLst/>
            <a:rect l="l" t="t" r="r" b="b"/>
            <a:pathLst>
              <a:path w="649288" h="576263">
                <a:moveTo>
                  <a:pt x="1" y="220112"/>
                </a:moveTo>
                <a:lnTo>
                  <a:pt x="248007" y="220114"/>
                </a:lnTo>
                <a:lnTo>
                  <a:pt x="324644" y="0"/>
                </a:lnTo>
                <a:lnTo>
                  <a:pt x="401281" y="220114"/>
                </a:lnTo>
                <a:lnTo>
                  <a:pt x="649287" y="220112"/>
                </a:lnTo>
                <a:lnTo>
                  <a:pt x="448645" y="356149"/>
                </a:lnTo>
                <a:lnTo>
                  <a:pt x="525285" y="576262"/>
                </a:lnTo>
                <a:lnTo>
                  <a:pt x="324644" y="440223"/>
                </a:lnTo>
                <a:lnTo>
                  <a:pt x="124003" y="576262"/>
                </a:lnTo>
                <a:lnTo>
                  <a:pt x="200643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5"/>
          <p:cNvSpPr/>
          <p:nvPr/>
        </p:nvSpPr>
        <p:spPr>
          <a:xfrm>
            <a:off x="1116000" y="26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5092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мое простое правило избежать «болезней грязных рук» - это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9">
            <a:hlinkClick r:id="rId1" action="ppaction://hlinksldjump"/>
          </p:cNvPr>
          <p:cNvSpPr/>
          <p:nvPr/>
        </p:nvSpPr>
        <p:spPr>
          <a:xfrm>
            <a:off x="25092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7301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5456" y="3821"/>
                </a:lnTo>
                <a:lnTo>
                  <a:pt x="5456" y="17834"/>
                </a:lnTo>
                <a:lnTo>
                  <a:pt x="3794" y="1783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2627280" y="5734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Мытьё рук перед ед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0" y="1268280"/>
            <a:ext cx="896472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Именно такой водой рекомендуется мыть овощи и фрук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>
            <a:hlinkClick r:id="rId1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2448000" y="5950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ипяченой во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500720" y="5950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468360" y="1125360"/>
            <a:ext cx="8675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000ff"/>
                </a:solidFill>
                <a:latin typeface="Mistral"/>
              </a:rPr>
              <a:t>Физминутка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4"/>
          <p:cNvSpPr/>
          <p:nvPr/>
        </p:nvSpPr>
        <p:spPr>
          <a:xfrm>
            <a:off x="324000" y="333360"/>
            <a:ext cx="82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95280" y="1197000"/>
            <a:ext cx="8424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7">
            <a:hlinkClick r:id="rId1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9" descr="baby94"/>
          <p:cNvPicPr/>
          <p:nvPr/>
        </p:nvPicPr>
        <p:blipFill>
          <a:blip r:embed="rId2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24000" y="404640"/>
            <a:ext cx="835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79280" y="1268280"/>
            <a:ext cx="871380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чему не следует покупать еду у продавцов торгующих «с рук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8">
            <a:hlinkClick r:id="rId1" action="ppaction://hlinksldjump"/>
          </p:cNvPr>
          <p:cNvSpPr/>
          <p:nvPr/>
        </p:nvSpPr>
        <p:spPr>
          <a:xfrm>
            <a:off x="2509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1476360" y="472428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и приготовлении её возможны нарушения санитарных правил, что может привести к пищевым отравлениям и кишечным заболев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324000" y="333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Инфекционные болезни, передающиеся через пищ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611280" y="1052640"/>
            <a:ext cx="8064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от в меш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вопро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468360" y="4581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Как называется болезнь грязных ру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8">
            <a:hlinkClick r:id="rId1" action="ppaction://hlinksldjump"/>
          </p:cNvPr>
          <p:cNvSpPr/>
          <p:nvPr/>
        </p:nvSpPr>
        <p:spPr>
          <a:xfrm>
            <a:off x="25092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0013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8168" y="3794"/>
                </a:lnTo>
                <a:lnTo>
                  <a:pt x="8168" y="17806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2484360" y="587700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ahoma"/>
              </a:rPr>
              <a:t>Кишечная инфек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11" descr="pic"/>
          <p:cNvPicPr/>
          <p:nvPr/>
        </p:nvPicPr>
        <p:blipFill>
          <a:blip r:embed="rId2"/>
          <a:stretch/>
        </p:blipFill>
        <p:spPr>
          <a:xfrm>
            <a:off x="395280" y="765000"/>
            <a:ext cx="1952640" cy="155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1835280" y="0"/>
            <a:ext cx="532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95280" y="2852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8" descr="93"/>
          <p:cNvPicPr/>
          <p:nvPr/>
        </p:nvPicPr>
        <p:blipFill>
          <a:blip r:embed="rId1"/>
          <a:stretch/>
        </p:blipFill>
        <p:spPr>
          <a:xfrm>
            <a:off x="395280" y="549360"/>
            <a:ext cx="2952720" cy="24717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0" y="9334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Главное в жизни- это здоровье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С детства попробуйте это понять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Главная ценность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–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 это здоровье!</a:t>
            </a:r>
            <a:br>
              <a:rPr sz="3600"/>
            </a:b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Его не купить, но легко потерять</a:t>
            </a:r>
            <a:r>
              <a:rPr b="0" lang="ru-RU" sz="1400" spc="-1" strike="noStrike">
                <a:solidFill>
                  <a:srgbClr val="00b050"/>
                </a:solidFill>
                <a:latin typeface="Times New Roman"/>
                <a:ea typeface="Calibri"/>
              </a:rPr>
              <a:t>..</a:t>
            </a:r>
            <a:r>
              <a:rPr b="1" i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На сегодняшнем занятии мы будем говорить о вашем здоровь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5"/>
          <p:cNvSpPr/>
          <p:nvPr/>
        </p:nvSpPr>
        <p:spPr>
          <a:xfrm>
            <a:off x="250920" y="692280"/>
            <a:ext cx="72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619280" y="692280"/>
            <a:ext cx="62658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2" descr="ia"/>
          <p:cNvPicPr/>
          <p:nvPr/>
        </p:nvPicPr>
        <p:blipFill>
          <a:blip r:embed="rId1"/>
          <a:stretch/>
        </p:blipFill>
        <p:spPr>
          <a:xfrm>
            <a:off x="3419640" y="4292640"/>
            <a:ext cx="2374560" cy="2293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35" name="Text Box 13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14">
            <a:hlinkClick r:id="rId2" action="ppaction://hlinksldjump"/>
          </p:cNvPr>
          <p:cNvSpPr/>
          <p:nvPr/>
        </p:nvSpPr>
        <p:spPr>
          <a:xfrm>
            <a:off x="539640" y="5805360"/>
            <a:ext cx="719280" cy="576360"/>
          </a:xfrm>
          <a:prstGeom prst="leftArrow">
            <a:avLst>
              <a:gd name="adj1" fmla="val 50000"/>
              <a:gd name="adj2" fmla="val 31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250920" y="620640"/>
            <a:ext cx="108108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971640" y="404640"/>
            <a:ext cx="777564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авильный режим питания для школьников предусматривает приём пищи не реже, чем через каждые 3–4 часа, но не чаще, чем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4143240" y="6000840"/>
            <a:ext cx="65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Lucida Console"/>
              </a:rPr>
              <a:t>Через 1 – 2 ча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250920" y="692280"/>
            <a:ext cx="504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755640" y="549360"/>
            <a:ext cx="8209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кое комнатное растение помогает при зубной  боле 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6858000" y="5805360"/>
            <a:ext cx="26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Гера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395280" y="620640"/>
            <a:ext cx="576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826920" y="620640"/>
            <a:ext cx="831708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и нерегулярном питании выделяется желудочный сок с повышенной кислотность, что приводит к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1150920" y="602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К заболеванию язвой желуд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0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324000" y="620640"/>
            <a:ext cx="647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684360" y="981000"/>
            <a:ext cx="845964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аренье из какой ягоды помогает при простудных заболеваниях в зимний период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46836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4000680" y="5734080"/>
            <a:ext cx="48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omic Sans MS"/>
              </a:rPr>
              <a:t>Мал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12">
            <a:hlinkClick r:id="rId1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250920" y="620640"/>
            <a:ext cx="115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042920" y="549360"/>
            <a:ext cx="74898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ри диарее  ягоду с какого дерева можно заваривать и пить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95280" y="5805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>
            <a:hlinkClick r:id="rId1" action="ppaction://hlinksldjump"/>
          </p:cNvPr>
          <p:cNvSpPr/>
          <p:nvPr/>
        </p:nvSpPr>
        <p:spPr>
          <a:xfrm>
            <a:off x="250920" y="5950080"/>
            <a:ext cx="576000" cy="28728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5357880" y="56610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Черем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4"/>
          <p:cNvSpPr/>
          <p:nvPr/>
        </p:nvSpPr>
        <p:spPr>
          <a:xfrm>
            <a:off x="250920" y="476280"/>
            <a:ext cx="504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324000" y="620640"/>
            <a:ext cx="7561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79280" y="6165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7">
            <a:hlinkClick r:id="rId1" action="ppaction://hlinksldjump"/>
          </p:cNvPr>
          <p:cNvSpPr/>
          <p:nvPr/>
        </p:nvSpPr>
        <p:spPr>
          <a:xfrm>
            <a:off x="324000" y="6308640"/>
            <a:ext cx="502920" cy="289080"/>
          </a:xfrm>
          <a:prstGeom prst="leftArrow">
            <a:avLst>
              <a:gd name="adj1" fmla="val 50000"/>
              <a:gd name="adj2" fmla="val 43493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9" descr="135"/>
          <p:cNvPicPr/>
          <p:nvPr/>
        </p:nvPicPr>
        <p:blipFill>
          <a:blip r:embed="rId2"/>
          <a:stretch/>
        </p:blipFill>
        <p:spPr>
          <a:xfrm>
            <a:off x="5859360" y="2637000"/>
            <a:ext cx="328464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265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266" dur="1500" autoRev="1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250920" y="620640"/>
            <a:ext cx="64908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684360" y="549360"/>
            <a:ext cx="8281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Как используют липовый цвет в народе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250920" y="602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">
            <a:hlinkClick r:id="rId1" action="ppaction://hlinksldjump"/>
          </p:cNvPr>
          <p:cNvSpPr/>
          <p:nvPr/>
        </p:nvSpPr>
        <p:spPr>
          <a:xfrm>
            <a:off x="324000" y="6237360"/>
            <a:ext cx="502920" cy="216000"/>
          </a:xfrm>
          <a:prstGeom prst="leftArrow">
            <a:avLst>
              <a:gd name="adj1" fmla="val 50000"/>
              <a:gd name="adj2" fmla="val 5820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2571840" y="580536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ак чай от простуды и каш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324000" y="549360"/>
            <a:ext cx="502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971640" y="692280"/>
            <a:ext cx="777708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a219"/>
                </a:solidFill>
                <a:latin typeface="Arial"/>
              </a:rPr>
              <a:t>«Домашняя апте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755640" y="501336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Этот цветок залечивает ра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>
            <a:hlinkClick r:id="rId1" action="ppaction://hlinksldjump"/>
          </p:cNvPr>
          <p:cNvSpPr/>
          <p:nvPr/>
        </p:nvSpPr>
        <p:spPr>
          <a:xfrm>
            <a:off x="179280" y="6308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143680" y="5929200"/>
            <a:ext cx="40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А л о 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9" descr="1108"/>
          <p:cNvPicPr/>
          <p:nvPr/>
        </p:nvPicPr>
        <p:blipFill>
          <a:blip r:embed="rId2"/>
          <a:stretch/>
        </p:blipFill>
        <p:spPr>
          <a:xfrm>
            <a:off x="6738840" y="476280"/>
            <a:ext cx="2208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7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250920" y="404640"/>
            <a:ext cx="792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Ь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900000" y="549360"/>
            <a:ext cx="7775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Какая трава помогает при ранах и ссадинах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25092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24000" y="6093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7">
            <a:hlinkClick r:id="rId1" action="ppaction://hlinksldjump"/>
          </p:cNvPr>
          <p:cNvSpPr/>
          <p:nvPr/>
        </p:nvSpPr>
        <p:spPr>
          <a:xfrm>
            <a:off x="324000" y="6308640"/>
            <a:ext cx="431640" cy="21600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6143760" y="607212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1080"/>
                <a:gridCol w="1150920"/>
                <a:gridCol w="1225440"/>
                <a:gridCol w="12589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бука      кулинар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кусно и полезно!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4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custGeom>
            <a:avLst/>
            <a:gdLst/>
            <a:ahLst/>
            <a:rect l="l" t="t" r="r" b="b"/>
            <a:pathLst>
              <a:path w="576263" h="482600">
                <a:moveTo>
                  <a:pt x="1" y="184336"/>
                </a:moveTo>
                <a:lnTo>
                  <a:pt x="220114" y="184338"/>
                </a:lnTo>
                <a:lnTo>
                  <a:pt x="288132" y="0"/>
                </a:lnTo>
                <a:lnTo>
                  <a:pt x="356149" y="184338"/>
                </a:lnTo>
                <a:lnTo>
                  <a:pt x="576262" y="184336"/>
                </a:lnTo>
                <a:lnTo>
                  <a:pt x="398186" y="298262"/>
                </a:lnTo>
                <a:lnTo>
                  <a:pt x="466206" y="482599"/>
                </a:lnTo>
                <a:lnTo>
                  <a:pt x="288132" y="368671"/>
                </a:lnTo>
                <a:lnTo>
                  <a:pt x="110057" y="482599"/>
                </a:lnTo>
                <a:lnTo>
                  <a:pt x="178077" y="298262"/>
                </a:lnTo>
                <a:lnTo>
                  <a:pt x="1" y="18433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1835280" y="0"/>
            <a:ext cx="612144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258920" y="2060640"/>
            <a:ext cx="705816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Monotype Corsiva"/>
              </a:rPr>
              <a:t>Здоровье – кладовая жизн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                                                                     </a:t>
            </a:r>
            <a:r>
              <a:rPr b="1" lang="ru-RU" sz="2800" spc="-1" strike="noStrike">
                <a:solidFill>
                  <a:srgbClr val="006600"/>
                </a:solidFill>
                <a:latin typeface="Monotype Corsiva"/>
              </a:rPr>
              <a:t>Плута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7" descr="baby134"/>
          <p:cNvPicPr/>
          <p:nvPr/>
        </p:nvPicPr>
        <p:blipFill>
          <a:blip r:embed="rId1"/>
          <a:stretch/>
        </p:blipFill>
        <p:spPr>
          <a:xfrm>
            <a:off x="3271680" y="3429000"/>
            <a:ext cx="2602080" cy="300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drawingml/2006/table">
            <a:tbl>
              <a:tblPr/>
              <a:tblGrid>
                <a:gridCol w="2627280"/>
                <a:gridCol w="1440000"/>
                <a:gridCol w="1368360"/>
                <a:gridCol w="1224000"/>
                <a:gridCol w="1297080"/>
                <a:gridCol w="1187280"/>
              </a:tblGrid>
              <a:tr h="228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доровые зубы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и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а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росай курить!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Text Box 113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14"/>
          <p:cNvSpPr/>
          <p:nvPr/>
        </p:nvSpPr>
        <p:spPr>
          <a:xfrm>
            <a:off x="179280" y="6093000"/>
            <a:ext cx="611280" cy="580680"/>
          </a:xfrm>
          <a:custGeom>
            <a:avLst/>
            <a:gdLst/>
            <a:ahLst/>
            <a:rect l="l" t="t" r="r" b="b"/>
            <a:pathLst>
              <a:path w="611187" h="581025">
                <a:moveTo>
                  <a:pt x="1" y="221931"/>
                </a:moveTo>
                <a:lnTo>
                  <a:pt x="233454" y="221933"/>
                </a:lnTo>
                <a:lnTo>
                  <a:pt x="305594" y="0"/>
                </a:lnTo>
                <a:lnTo>
                  <a:pt x="377733" y="221933"/>
                </a:lnTo>
                <a:lnTo>
                  <a:pt x="611186" y="221931"/>
                </a:lnTo>
                <a:lnTo>
                  <a:pt x="422318" y="359092"/>
                </a:lnTo>
                <a:lnTo>
                  <a:pt x="494460" y="581024"/>
                </a:lnTo>
                <a:lnTo>
                  <a:pt x="305594" y="443861"/>
                </a:lnTo>
                <a:lnTo>
                  <a:pt x="116727" y="581024"/>
                </a:lnTo>
                <a:lnTo>
                  <a:pt x="188869" y="359092"/>
                </a:lnTo>
                <a:lnTo>
                  <a:pt x="1" y="221931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5"/>
          <p:cNvSpPr/>
          <p:nvPr/>
        </p:nvSpPr>
        <p:spPr>
          <a:xfrm>
            <a:off x="179280" y="26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4357800" y="54291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2-3 мину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250920" y="587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оугольник 9"/>
          <p:cNvSpPr/>
          <p:nvPr/>
        </p:nvSpPr>
        <p:spPr>
          <a:xfrm>
            <a:off x="928800" y="1785960"/>
            <a:ext cx="7358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им по продолжительности должно быть время чистки зубов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179280" y="47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1619280" y="260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1476360" y="2276640"/>
            <a:ext cx="69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мое распространенное заболевание зубо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6429240" y="551664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Карие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24000" y="60213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2"/>
          <p:cNvSpPr/>
          <p:nvPr/>
        </p:nvSpPr>
        <p:spPr>
          <a:xfrm>
            <a:off x="179280" y="6093000"/>
            <a:ext cx="647640" cy="504720"/>
          </a:xfrm>
          <a:custGeom>
            <a:avLst/>
            <a:gdLst>
              <a:gd name="textAreaLeft" fmla="*/ 147600 w 647640"/>
              <a:gd name="textAreaRight" fmla="*/ 500040 w 64764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 rot="5400000">
            <a:off x="-2091960" y="2877480"/>
            <a:ext cx="525636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4"/>
          <p:cNvSpPr/>
          <p:nvPr/>
        </p:nvSpPr>
        <p:spPr>
          <a:xfrm>
            <a:off x="1332000" y="4046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4929120" y="52293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Стоматоло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2400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8"/>
          <p:cNvSpPr/>
          <p:nvPr/>
        </p:nvSpPr>
        <p:spPr>
          <a:xfrm>
            <a:off x="250920" y="6021360"/>
            <a:ext cx="649080" cy="57636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оугольник 7"/>
          <p:cNvSpPr/>
          <p:nvPr/>
        </p:nvSpPr>
        <p:spPr>
          <a:xfrm>
            <a:off x="1285920" y="18572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 какому врачу надо идти если заболят зубы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90000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900000" y="1844640"/>
            <a:ext cx="691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Своя иг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5929200" y="5516640"/>
            <a:ext cx="30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 горош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250920" y="595008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10" descr="solnze"/>
          <p:cNvPicPr/>
          <p:nvPr/>
        </p:nvPicPr>
        <p:blipFill>
          <a:blip r:embed="rId1"/>
          <a:stretch/>
        </p:blipFill>
        <p:spPr>
          <a:xfrm>
            <a:off x="6516720" y="333360"/>
            <a:ext cx="2627280" cy="2443320"/>
          </a:xfrm>
          <a:prstGeom prst="rect">
            <a:avLst/>
          </a:prstGeom>
          <a:ln w="0">
            <a:noFill/>
          </a:ln>
        </p:spPr>
      </p:pic>
      <p:sp>
        <p:nvSpPr>
          <p:cNvPr id="423" name="Прямоугольник 8"/>
          <p:cNvSpPr/>
          <p:nvPr/>
        </p:nvSpPr>
        <p:spPr>
          <a:xfrm>
            <a:off x="1000080" y="314316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акое количество зубной пасты надо наносить на щетку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1258920" y="333360"/>
            <a:ext cx="73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5397480" y="528624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2-3 меся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714240" y="171468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аков срок службы зубной щетк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доровые зу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WordArt 8"/>
          <p:cNvSpPr txBox="1"/>
          <p:nvPr/>
        </p:nvSpPr>
        <p:spPr>
          <a:xfrm rot="5400000">
            <a:off x="-2124360" y="2636640"/>
            <a:ext cx="511164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116000" y="476280"/>
            <a:ext cx="7416720" cy="36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Шайбу здесь вовсю гоняют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 в ворота всё бросают.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десь на поле лёд везде,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ды мы такой игр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64000" y="551664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хокк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95280" y="5805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2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 rot="5400000">
            <a:off x="-2124720" y="2708640"/>
            <a:ext cx="504036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476360" y="333360"/>
            <a:ext cx="6983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 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Кот в мешк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«Боевое искусство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95280" y="5877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7">
            <a:hlinkClick r:id="" action="ppaction://hlinkshowjump?jump=nextslide"/>
          </p:cNvPr>
          <p:cNvSpPr/>
          <p:nvPr/>
        </p:nvSpPr>
        <p:spPr>
          <a:xfrm>
            <a:off x="2509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baby20"/>
          <p:cNvPicPr/>
          <p:nvPr/>
        </p:nvPicPr>
        <p:blipFill>
          <a:blip r:embed="rId1"/>
          <a:stretch/>
        </p:blipFill>
        <p:spPr>
          <a:xfrm>
            <a:off x="3440160" y="3429000"/>
            <a:ext cx="22813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4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1692360" y="907920"/>
            <a:ext cx="61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6286680" y="566100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rebuchet MS"/>
              </a:rPr>
              <a:t>Дзюд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395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179280" y="6165720"/>
            <a:ext cx="720720" cy="503280"/>
          </a:xfrm>
          <a:custGeom>
            <a:avLst/>
            <a:gdLst>
              <a:gd name="textAreaLeft" fmla="*/ 164520 w 720720"/>
              <a:gd name="textAreaRight" fmla="*/ 556200 w 720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оугольник 8"/>
          <p:cNvSpPr/>
          <p:nvPr/>
        </p:nvSpPr>
        <p:spPr>
          <a:xfrm>
            <a:off x="1428840" y="1714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портсмен оделся в кимоно,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чил-учил приёмы, но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е выучил все от и до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проиграл свой бой 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8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332000" y="549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Сладкий камень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в воде тает .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55640" y="522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&lt;&lt;&lt;&lt;&lt;&lt;&lt;&lt;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24000" y="40464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164360" y="5734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х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3"/>
          <p:cNvSpPr txBox="1"/>
          <p:nvPr/>
        </p:nvSpPr>
        <p:spPr>
          <a:xfrm rot="5400000">
            <a:off x="-2017080" y="260100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476360" y="54936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4071960" y="58053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Gautami"/>
              </a:rPr>
              <a:t>Баскет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79280" y="580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179280" y="6165720"/>
            <a:ext cx="505080" cy="505080"/>
          </a:xfrm>
          <a:custGeom>
            <a:avLst/>
            <a:gdLst>
              <a:gd name="textAreaLeft" fmla="*/ 115200 w 505080"/>
              <a:gd name="textAreaRight" fmla="*/ 389880 w 50508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7"/>
          <p:cNvSpPr/>
          <p:nvPr/>
        </p:nvSpPr>
        <p:spPr>
          <a:xfrm>
            <a:off x="2286000" y="1500120"/>
            <a:ext cx="621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Два кольца, площадка, мяч.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очередной свой матч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брались из разных школ 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Мы, сразиться в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WordArt 4"/>
          <p:cNvSpPr txBox="1"/>
          <p:nvPr/>
        </p:nvSpPr>
        <p:spPr>
          <a:xfrm rot="5400000">
            <a:off x="-2089080" y="2673000"/>
            <a:ext cx="49690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116000" y="549360"/>
            <a:ext cx="727236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берем команду в школе И найдем большое поле. Пробиваем угловой - Забиваем головой! И в воротах пятый гол! Очень любим мы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276720" y="5445000"/>
            <a:ext cx="56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468360" y="59500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 rot="5400000">
            <a:off x="-2196360" y="2709000"/>
            <a:ext cx="51832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Виды спор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1258920" y="476280"/>
            <a:ext cx="7416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 нам из Англии пришла эта чудная игра. Две ракетки и воланчик обожает детвор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5643720" y="5373720"/>
            <a:ext cx="314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Monotype Corsiva"/>
              </a:rPr>
              <a:t>Бамбинто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1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1042920" y="260280"/>
            <a:ext cx="785016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писали, мы писали – наши пальчики уст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ы немножко отдохнём и опять писать начнём.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ля чего предназначены эти сло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1042920" y="609300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пражнения для расслабления мышц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258920" y="476280"/>
            <a:ext cx="7345440" cy="33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«Вопрос-аукцио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пля какого вещества убивает лошад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"/>
          <p:cNvSpPr/>
          <p:nvPr/>
        </p:nvSpPr>
        <p:spPr>
          <a:xfrm>
            <a:off x="6500880" y="564372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Нико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1332000" y="1052640"/>
            <a:ext cx="741672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чему курильщику труднее, чем некурящему, выучить стихотворение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24000" y="59500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9">
            <a:hlinkClick r:id="" action="ppaction://hlinkshowjump?jump=nextslide"/>
          </p:cNvPr>
          <p:cNvSpPr/>
          <p:nvPr/>
        </p:nvSpPr>
        <p:spPr>
          <a:xfrm>
            <a:off x="17928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36" h="21600">
                <a:moveTo>
                  <a:pt x="15523" y="14281"/>
                </a:moveTo>
                <a:lnTo>
                  <a:pt x="15523" y="12323"/>
                </a:lnTo>
                <a:cubicBezTo>
                  <a:pt x="15523" y="11496"/>
                  <a:pt x="15854" y="10800"/>
                  <a:pt x="16455" y="10800"/>
                </a:cubicBezTo>
                <a:cubicBezTo>
                  <a:pt x="17586" y="10800"/>
                  <a:pt x="18483" y="9434"/>
                  <a:pt x="18483" y="7849"/>
                </a:cubicBezTo>
                <a:cubicBezTo>
                  <a:pt x="18483" y="5534"/>
                  <a:pt x="16629" y="3794"/>
                  <a:pt x="14418" y="3794"/>
                </a:cubicBezTo>
                <a:cubicBezTo>
                  <a:pt x="12207" y="3794"/>
                  <a:pt x="10536" y="5534"/>
                  <a:pt x="10536" y="7849"/>
                </a:cubicBezTo>
                <a:lnTo>
                  <a:pt x="12390" y="7849"/>
                </a:lnTo>
                <a:cubicBezTo>
                  <a:pt x="12390" y="6709"/>
                  <a:pt x="13313" y="5821"/>
                  <a:pt x="14418" y="5821"/>
                </a:cubicBezTo>
                <a:cubicBezTo>
                  <a:pt x="15523" y="5821"/>
                  <a:pt x="16455" y="6709"/>
                  <a:pt x="16455" y="7849"/>
                </a:cubicBezTo>
                <a:cubicBezTo>
                  <a:pt x="16455" y="8589"/>
                  <a:pt x="15985" y="9320"/>
                  <a:pt x="15523" y="9320"/>
                </a:cubicBezTo>
                <a:cubicBezTo>
                  <a:pt x="14418" y="9320"/>
                  <a:pt x="13313" y="10800"/>
                  <a:pt x="13313" y="12323"/>
                </a:cubicBezTo>
                <a:lnTo>
                  <a:pt x="13313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Box 8"/>
          <p:cNvSpPr/>
          <p:nvPr/>
        </p:nvSpPr>
        <p:spPr>
          <a:xfrm>
            <a:off x="5500800" y="59292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Ухудшается пам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403280" y="404640"/>
            <a:ext cx="756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143680" y="60008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ни желте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1285920" y="1143000"/>
            <a:ext cx="757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то происходит с зубами человека под воздействием клейких смол, образующихся при курени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WordArt 4"/>
          <p:cNvSpPr txBox="1"/>
          <p:nvPr/>
        </p:nvSpPr>
        <p:spPr>
          <a:xfrm rot="5400000">
            <a:off x="-2252880" y="2692080"/>
            <a:ext cx="5184720" cy="320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осай кур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79280" y="6165720"/>
            <a:ext cx="50508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332000" y="907920"/>
            <a:ext cx="727236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ак называется пребывание в накуренном помещении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643280" y="607212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ассивное ку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3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5"/>
          <p:cNvSpPr/>
          <p:nvPr/>
        </p:nvSpPr>
        <p:spPr>
          <a:xfrm>
            <a:off x="0" y="428760"/>
            <a:ext cx="86439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желаю вам, ребя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ыть здоровыми всег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 добиться результ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возможно без тру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зарядкой занимайте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жедневно по утр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конечно, закаляйтесь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так поможет в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7" descr="blest11"/>
          <p:cNvPicPr/>
          <p:nvPr/>
        </p:nvPicPr>
        <p:blipFill>
          <a:blip r:embed="rId1"/>
          <a:stretch/>
        </p:blipFill>
        <p:spPr>
          <a:xfrm>
            <a:off x="6877080" y="3532320"/>
            <a:ext cx="1727280" cy="15429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blest40"/>
          <p:cNvPicPr/>
          <p:nvPr/>
        </p:nvPicPr>
        <p:blipFill>
          <a:blip r:embed="rId2"/>
          <a:stretch/>
        </p:blipFill>
        <p:spPr>
          <a:xfrm rot="2768400">
            <a:off x="-142560" y="3931920"/>
            <a:ext cx="2712960" cy="24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3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blest47"/>
          <p:cNvPicPr/>
          <p:nvPr/>
        </p:nvPicPr>
        <p:blipFill>
          <a:blip r:embed="rId1"/>
          <a:stretch/>
        </p:blipFill>
        <p:spPr>
          <a:xfrm>
            <a:off x="611280" y="189000"/>
            <a:ext cx="6337080" cy="5715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7"/>
          <p:cNvSpPr/>
          <p:nvPr/>
        </p:nvSpPr>
        <p:spPr>
          <a:xfrm>
            <a:off x="3780000" y="5877000"/>
            <a:ext cx="129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WordArt 8"/>
          <p:cNvSpPr txBox="1"/>
          <p:nvPr/>
        </p:nvSpPr>
        <p:spPr>
          <a:xfrm>
            <a:off x="395280" y="3068640"/>
            <a:ext cx="83534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победой!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d293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539640" y="907920"/>
            <a:ext cx="7993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99"/>
                </a:solidFill>
                <a:latin typeface="Arial"/>
              </a:rPr>
              <a:t>Жидко, а не вода, бело, а не снег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6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4000" y="404640"/>
            <a:ext cx="57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948360" y="5661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Молок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684360" y="907920"/>
            <a:ext cx="676728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3" name="Picture 13" descr="236"/>
          <p:cNvPicPr/>
          <p:nvPr/>
        </p:nvPicPr>
        <p:blipFill>
          <a:blip r:embed="rId1"/>
          <a:stretch/>
        </p:blipFill>
        <p:spPr>
          <a:xfrm rot="21051000">
            <a:off x="608040" y="3117600"/>
            <a:ext cx="3168720" cy="2795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4" descr="238"/>
          <p:cNvPicPr/>
          <p:nvPr/>
        </p:nvPicPr>
        <p:blipFill>
          <a:blip r:embed="rId2"/>
          <a:stretch/>
        </p:blipFill>
        <p:spPr>
          <a:xfrm rot="2317800">
            <a:off x="5762160" y="3013200"/>
            <a:ext cx="2406600" cy="33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539640" y="1125360"/>
            <a:ext cx="828036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балло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Этот сочный фрукт богат витаминами. В нем содержится треть суточной нормы витамина С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6">
            <a:hlinkClick r:id="rId1" action="ppaction://hlinksldjump"/>
          </p:cNvPr>
          <p:cNvSpPr/>
          <p:nvPr/>
        </p:nvSpPr>
        <p:spPr>
          <a:xfrm>
            <a:off x="1187280" y="5373720"/>
            <a:ext cx="1081080" cy="216000"/>
          </a:xfrm>
          <a:prstGeom prst="leftArrow">
            <a:avLst>
              <a:gd name="adj1" fmla="val 50000"/>
              <a:gd name="adj2" fmla="val 125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79280" y="260280"/>
            <a:ext cx="72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6732720" y="5734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им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7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971640" y="907920"/>
            <a:ext cx="7200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Arial"/>
              </a:rPr>
              <a:t>В воде родится, воды боитс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>
            <a:off x="179280" y="595008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6176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324000" y="40464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093080" y="5805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о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468360" y="549360"/>
            <a:ext cx="82090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00"/>
                </a:solidFill>
                <a:latin typeface="Arial"/>
              </a:rPr>
              <a:t>«Аптека на грядке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6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24000" y="33336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8m5"/>
          <p:cNvPicPr/>
          <p:nvPr/>
        </p:nvPicPr>
        <p:blipFill>
          <a:blip r:embed="rId1"/>
          <a:stretch/>
        </p:blipFill>
        <p:spPr>
          <a:xfrm>
            <a:off x="7236000" y="260280"/>
            <a:ext cx="16729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JOel</dc:creator>
  <dc:description/>
  <dc:language>en-US</dc:language>
  <cp:lastModifiedBy>тимур</cp:lastModifiedBy>
  <dcterms:modified xsi:type="dcterms:W3CDTF">2020-10-25T21:22:53Z</dcterms:modified>
  <cp:revision>101</cp:revision>
  <dc:subject/>
  <dc:title>Слайд 1</dc:title>
</cp:coreProperties>
</file>