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C4B-EEDD-489A-8AF7-E299C81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FE5-5BEF-45EF-B3DD-6BDF38ED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E90-AD3C-42F9-89C7-CB74B476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2E2-E0B3-4E14-B800-8FD486AD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502-B539-4FCE-9449-273A667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88A-5E24-4B45-B10B-AF09630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49C-6A0A-475D-8524-D695DBD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43B-B29F-4AFB-98E3-1D98F640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390-D969-4A5C-B93B-43EBF32D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EDE-0B3C-42E8-B2D5-2B95D3D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B98-FA47-4BFF-8D3D-C86BCE7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4B2-E283-471F-A1A8-70E255E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8EA-6A59-441A-815F-E470D22E7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618920"/>
            <a:ext cx="8972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м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Зима. Зимующие птицы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компенсирующей направленности дл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нарушениями речи № 8 «Речецветик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овет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ДОУ д/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072040" y="4565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рева Еле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348000" y="6002640"/>
            <a:ext cx="17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ь, 2020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i.pinimg.com/736x/93/73/1a/93731a57fc6fedd2eb9cc87e9e276995.jpg"/>
          <p:cNvPicPr/>
          <p:nvPr/>
        </p:nvPicPr>
        <p:blipFill>
          <a:blip r:embed="rId1"/>
          <a:stretch/>
        </p:blipFill>
        <p:spPr>
          <a:xfrm>
            <a:off x="1547640" y="1697040"/>
            <a:ext cx="6147000" cy="5160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11280" y="40464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цы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-61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утро! Сегодня такой чудесный день. У меня хорошее настроен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но было такое же чудесное у вас, назовите своё имя ласков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388080"/>
            <a:ext cx="863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ое сейчас время года? (Зим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что бывает зимой? (Зимой падает снег. Зимой дует сильный ветер. Зимой люди одевают теплую одеж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s://img2.goodfon.ru/original/1920x1200/e/4d/les-derevya-vetki-svezhest.jpg"/>
          <p:cNvPicPr/>
          <p:nvPr/>
        </p:nvPicPr>
        <p:blipFill>
          <a:blip r:embed="rId1"/>
          <a:stretch/>
        </p:blipFill>
        <p:spPr>
          <a:xfrm>
            <a:off x="395280" y="1305000"/>
            <a:ext cx="83534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-60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с наступлением зимы многие птицы улетают на юг, чтобы переждать хол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ть птицы, которые не улетаю, а зимуют рядом сн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ttps://images.fineartamerica.com/images/artworkimages/mediumlarge/1/winter-flight-tammara-markegard.jpg"/>
          <p:cNvPicPr/>
          <p:nvPr/>
        </p:nvPicPr>
        <p:blipFill>
          <a:blip r:embed="rId1"/>
          <a:stretch/>
        </p:blipFill>
        <p:spPr>
          <a:xfrm>
            <a:off x="539640" y="692280"/>
            <a:ext cx="7704360" cy="5851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 нам сегодня в гости пришел снеговик. Он живет в зимнем парке. Он хочет познакомить вас с зимующими птицами. Назовите птиц, которых прилетают. (кликаем мышью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, которые остаются зимовать называют, зимующими. 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йте хором скажем.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ующие птиц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s://krasnoznamenskdou4.edumsko.ru/uploads/3000/2395/section/262234/proekty/i_(19).jpg"/>
          <p:cNvPicPr/>
          <p:nvPr/>
        </p:nvPicPr>
        <p:blipFill>
          <a:blip r:embed="rId1"/>
          <a:stretch/>
        </p:blipFill>
        <p:spPr>
          <a:xfrm>
            <a:off x="7236000" y="1052640"/>
            <a:ext cx="1728720" cy="204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krasnoznamenskdou4.edumsko.ru/uploads/3000/2395/section/262234/proekty/i_(19).jpg"/>
          <p:cNvPicPr/>
          <p:nvPr/>
        </p:nvPicPr>
        <p:blipFill>
          <a:blip r:embed="rId2"/>
          <a:stretch/>
        </p:blipFill>
        <p:spPr>
          <a:xfrm>
            <a:off x="2843280" y="3716280"/>
            <a:ext cx="20383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krasnoznamenskdou4.edumsko.ru/uploads/3000/2395/section/262234/proekty/i_(19).jpg"/>
          <p:cNvPicPr/>
          <p:nvPr/>
        </p:nvPicPr>
        <p:blipFill>
          <a:blip r:embed="rId3"/>
          <a:stretch/>
        </p:blipFill>
        <p:spPr>
          <a:xfrm>
            <a:off x="5148360" y="378936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krasnoznamenskdou4.edumsko.ru/uploads/3000/2395/section/262234/proekty/i_(19).jpg"/>
          <p:cNvPicPr/>
          <p:nvPr/>
        </p:nvPicPr>
        <p:blipFill>
          <a:blip r:embed="rId4"/>
          <a:stretch/>
        </p:blipFill>
        <p:spPr>
          <a:xfrm>
            <a:off x="2771640" y="1197000"/>
            <a:ext cx="1871640" cy="18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krasnoznamenskdou4.edumsko.ru/uploads/3000/2395/section/262234/proekty/i_(19).jpg"/>
          <p:cNvPicPr/>
          <p:nvPr/>
        </p:nvPicPr>
        <p:blipFill>
          <a:blip r:embed="rId5"/>
          <a:stretch/>
        </p:blipFill>
        <p:spPr>
          <a:xfrm>
            <a:off x="7164360" y="3789360"/>
            <a:ext cx="19796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krasnoznamenskdou4.edumsko.ru/uploads/3000/2395/section/262234/proekty/i_(19).jpg"/>
          <p:cNvPicPr/>
          <p:nvPr/>
        </p:nvPicPr>
        <p:blipFill>
          <a:blip r:embed="rId6"/>
          <a:stretch/>
        </p:blipFill>
        <p:spPr>
          <a:xfrm>
            <a:off x="4932360" y="1052640"/>
            <a:ext cx="1943280" cy="205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i.pinimg.com/originals/11/38/89/113889dbc3680544c55754d43fc01481.png"/>
          <p:cNvPicPr/>
          <p:nvPr/>
        </p:nvPicPr>
        <p:blipFill>
          <a:blip r:embed="rId7"/>
          <a:stretch/>
        </p:blipFill>
        <p:spPr>
          <a:xfrm>
            <a:off x="0" y="1268280"/>
            <a:ext cx="399564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08000" y="-1800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мячо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делают птиц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вайте поиграем в игру. Я вам буду кидать мяч, а вы ловите его и говорите, что могут делать птиц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тать, прыгать, клевать, зимовать, прилет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http://files.web2edu.ru/8add21cf-cad4-483c-8013-d69653c641ee/73a23677-e617-4bc3-b4c1-0ee873156a0d.jpg"/>
          <p:cNvPicPr/>
          <p:nvPr/>
        </p:nvPicPr>
        <p:blipFill>
          <a:blip r:embed="rId1"/>
          <a:stretch/>
        </p:blipFill>
        <p:spPr>
          <a:xfrm>
            <a:off x="515880" y="1197000"/>
            <a:ext cx="785988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24000" y="99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картин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кормят пти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принес картину. Давайте ее рассмотр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0" y="1052640"/>
            <a:ext cx="248436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ображен на картине? (Мальчик и девоч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они делают? (Они пришли накормить птиче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м они накормили птичек? (кормили птичек семечкам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птицы прилетели к кормушке? (снегири, воробьи и синиц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ажите, правильно ли поступили ребята, что пришли накормить птичек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? (Потому что зимой птицы голодные, им не хватает ед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чем еще можно кормить птиц зимой? (Птиц можно накормить хлебными крошками, круп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одцы. Снеговику очень понравилось у нас. Ему очень понравилось, что вы выполняли задания дружно и были очень внимательны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https://ds05.infourok.ru/uploads/ex/0951/000cb380-4270acde/hello_html_m212bac2c.jpg"/>
          <p:cNvPicPr/>
          <p:nvPr/>
        </p:nvPicPr>
        <p:blipFill>
          <a:blip r:embed="rId1"/>
          <a:stretch/>
        </p:blipFill>
        <p:spPr>
          <a:xfrm>
            <a:off x="2627280" y="1052640"/>
            <a:ext cx="6516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250920" y="526680"/>
            <a:ext cx="881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ая пау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– ка, птицы полетели, (бегают, машут рук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ли и присели (присел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евали зернышки (нос вверх – вни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ли в полюшке (кружатс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чки попили (нос вверх – вни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ышки помыли (руки на пояс, двигают локтя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роны посмотрели (смотрят по сторона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ь полетели (машут руками, убегаю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468360" y="193320"/>
            <a:ext cx="817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Телефон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йчас мы поиграем в «телефон» - будем передавать по очереди друг другу слова. Слушайте внимательно, как я говорю слова и хлопаю. (пти- цы, во – ро - на, во – ро - бей, си – ни - ца, клю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 очереди произносят слова и хлопают на каждый сло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https://img-fotki.yandex.ru/get/6200/81120222.7/0_6d50d_c8f67cac_XXXL.jpg"/>
          <p:cNvPicPr/>
          <p:nvPr/>
        </p:nvPicPr>
        <p:blipFill>
          <a:blip r:embed="rId1"/>
          <a:stretch/>
        </p:blipFill>
        <p:spPr>
          <a:xfrm>
            <a:off x="250920" y="1628640"/>
            <a:ext cx="314784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s://mail.zoodb.ru/uploads/posts/2012-12/1356678447_Gralha-cinzenta7.jpg"/>
          <p:cNvPicPr/>
          <p:nvPr/>
        </p:nvPicPr>
        <p:blipFill>
          <a:blip r:embed="rId2"/>
          <a:stretch/>
        </p:blipFill>
        <p:spPr>
          <a:xfrm>
            <a:off x="3924360" y="1484280"/>
            <a:ext cx="2879640" cy="238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s://erbirds.ru/photos/0170/001/01700042901.jpg"/>
          <p:cNvPicPr/>
          <p:nvPr/>
        </p:nvPicPr>
        <p:blipFill>
          <a:blip r:embed="rId3"/>
          <a:stretch/>
        </p:blipFill>
        <p:spPr>
          <a:xfrm>
            <a:off x="250920" y="4308480"/>
            <a:ext cx="3384360" cy="214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s://oir.mobi/uploads/posts/2020-01/1580111365_50-p-ptitsi-sinitsi-61.jpg"/>
          <p:cNvPicPr/>
          <p:nvPr/>
        </p:nvPicPr>
        <p:blipFill>
          <a:blip r:embed="rId4"/>
          <a:stretch/>
        </p:blipFill>
        <p:spPr>
          <a:xfrm>
            <a:off x="4643280" y="4221000"/>
            <a:ext cx="321336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s://get.pxhere.com/photo/nature-bird-wing-wildlife-beak-fauna-crow-rook-vertebrate-raven-american-crow-perching-bird-crow-like-bird-176062.jpg"/>
          <p:cNvPicPr/>
          <p:nvPr/>
        </p:nvPicPr>
        <p:blipFill>
          <a:blip r:embed="rId5"/>
          <a:stretch/>
        </p:blipFill>
        <p:spPr>
          <a:xfrm>
            <a:off x="6948360" y="2205000"/>
            <a:ext cx="187164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79280" y="38520"/>
            <a:ext cx="896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птиц мы называем зимующими? (-Это птицы, которые остаются зимовать рядом с н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, которые не улетают в теплые края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ажите, как мы можем помощь птицам зимой? (- Развесить кормушки, покормить семечками, хлебными крошками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https://avatars.mds.yandex.net/get-zen_doc/1337093/pub_5e1c271d3d5f6900b6bff966_5e1c29273d008800afe2cd2b/scale_1200"/>
          <p:cNvPicPr/>
          <p:nvPr/>
        </p:nvPicPr>
        <p:blipFill>
          <a:blip r:embed="rId1"/>
          <a:srcRect l="0" t="-5255" r="0" b="0"/>
          <a:stretch/>
        </p:blipFill>
        <p:spPr>
          <a:xfrm>
            <a:off x="179280" y="907920"/>
            <a:ext cx="3745080" cy="273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s://img.kanal-o.ru/img/2018-10-01/fmt_94_24_ptica.jpg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5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ttps://cdn.photosight.ru/img/4/d9c/6522409_xlarge.jpg"/>
          <p:cNvPicPr/>
          <p:nvPr/>
        </p:nvPicPr>
        <p:blipFill>
          <a:blip r:embed="rId3"/>
          <a:stretch/>
        </p:blipFill>
        <p:spPr>
          <a:xfrm>
            <a:off x="2195640" y="3524400"/>
            <a:ext cx="4572000" cy="3044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04:40:14Z</dcterms:created>
  <dc:creator>User</dc:creator>
  <dc:description/>
  <dc:language>en-US</dc:language>
  <cp:lastModifiedBy>Логопед</cp:lastModifiedBy>
  <dcterms:modified xsi:type="dcterms:W3CDTF">2021-04-12T12:16:16Z</dcterms:modified>
  <cp:revision>30</cp:revision>
  <dc:subject/>
  <dc:title>Слайд 1</dc:title>
</cp:coreProperties>
</file>