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52F5-8B76-4B43-9F66-6004406670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312E-65DE-40F9-AE63-4A65C2127E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691-8E2C-48BC-8633-71DA8F99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049-06E2-4007-AC9F-4337A849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0C217-5E3F-4C1B-9E5E-CAE355F2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E1AF7-12D0-46BC-B68E-70B9FFC1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9624E-8C32-4A53-9507-4E9F5EE5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99AA4-655A-4108-8EC9-D1B2550D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D3887-C674-4394-B47B-817155FB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2E5A4-99FD-47CD-8379-F2886D3D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5D778-5A91-4818-8A09-B40783F3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9AEF5-DEDA-4C04-BF45-870455B2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BFB62-ABCD-415D-8204-2B76A1E7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CBA1D-4901-4DE4-868D-A9F156D3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0C1-9781-4B26-96C6-87F348AB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71334-A8F6-4460-8006-061B3AD9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9DAF6-5EDC-48CE-8D75-5998DE58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9BF95-EBB5-4BF4-B502-3B99ED8D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DF000-EE5B-444A-AA72-7DCF520F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4DFE2-D16C-4DCF-BC8C-A57A3616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2DCAE-D6C5-4BBE-982B-FF7914AB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CB643-8CF9-4942-B759-F6DF4979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616CA-068E-45B7-9B04-CA8400B2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C8CD7-C8E6-4D50-AFBB-18FA7851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C331E-7727-4463-AE3A-91C43C98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BF8-D5F1-40BD-BB07-FFCC4D11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486EC-8FD8-4FB3-941A-3D1038A8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9A92E-2366-4D80-90DA-B5127759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D96F7-B3F4-495F-8837-12C9A736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88298-2E72-449C-8E7E-96E0127E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5A453-C653-408F-BD5B-187B700E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DAC8F-B6DA-4B56-8F70-F979BE69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81698-0BD7-4DFC-B0E4-68493A87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4FF43-333C-46EF-901E-0BB23A86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6324B-A2B0-4D7F-9144-B9A0BD6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C40E5-EB27-42C8-BE9C-0CD2560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FF0F-DDDC-4C8D-BB23-75D2422D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19A77-2386-4537-B9A1-A4258E89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2D308-512E-4CE8-BEC3-CE8E081B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456D2-20EF-4C99-9B0C-6EEC504D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93F21-A57B-47C1-9F85-3A484FD6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51894-C27A-4879-9DB5-EA462664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3C273-D554-4561-837B-F5DAE07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6676B-20B8-4AFD-8395-8373032D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D819F-8C79-435D-885F-11CF5580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FF5E2-798F-43E8-9DBC-0FEEC80F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3DC50-4E3D-4A1F-8852-AFDCFCC7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998A-F567-4FE2-8E51-FCAA496D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F0423-6737-47B4-8B97-E4F6A16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4C895-E4D3-4A57-8BE7-9165FB73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2A197-435D-4FE0-B194-9414CBF2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DC43C-D07F-40BA-88BB-8F342175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891ED-74B4-43A8-8627-BC401806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BC9A9-EA81-42C5-9A3A-B34F40E0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A7701-0927-4EDD-A9DD-03C4B657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F3DE5-8B9D-4ECE-9505-DECBEAC4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71A09-E9DE-43EC-89E8-36A23840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59304-C299-4181-A011-C786001C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8E78-86FB-4475-A244-FDCB3BCD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F10CE-7C64-4EEF-844A-55264B96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4D866-1EC2-4803-B440-E2E51330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598CC-54EE-467D-AAA6-6ED51B86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22F01-AD39-4067-9CF4-DB708BB3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6F941-9173-4068-9367-49EC6C23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E45C2-EEDD-47C1-90AF-AEEA5394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2164F-4811-4141-BF0A-F968BF1D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94A0B-42F4-43FB-8444-1B1F532A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4B898-E47E-44B8-BD2C-2BB5EB60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E4C8E-76CE-48B4-B2E1-46F74604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EEF8-7F7B-4DFA-9CF4-6E991A06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845C9-11EA-4127-AFE6-24CD1A26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E9317-F3F4-4859-842B-0B44598C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139C6-993E-4445-8D69-E164D234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E7F69-2EB3-4FB4-A980-E1C0ADE5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1E55D-25C9-4F2D-855A-61453F05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F5285-F896-4DD8-A55C-BC52CF81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52BD2-76C6-4C86-B31D-04DD9B18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4C155-E19A-4456-8155-7917A347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1D358-10BD-4D69-942A-CF13ED4E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C1208-2589-44C1-85DB-0A0BC06A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7736-1F83-4F27-9E4A-0077CA0C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98D5C1-7922-4824-963F-B646ADEA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1ADD7-15DB-48E7-95CB-E8B1EEC1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82451-2F3B-430C-BDB1-10C1F63A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7F359-415E-426F-9F7F-E4D335CA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827E9-E812-4946-9373-6B4BF082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58749-63F5-4741-8854-03E92F90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B796C-A812-462C-910A-04907957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2E8E2-4F62-4653-B863-0B705201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E4FAA-F5BA-472B-A37C-B9C8B152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21ECF-AEFD-4C5C-B0A7-9F55BF2F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9BA3-6324-4551-9611-83E38EB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D5A6A-6D9D-494C-B65F-48880FE7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3FDB2-CFB7-4D94-A96D-CEDDBCDD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C07A7-1D29-474D-88B2-8E484DEC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EC619-A8CB-413B-ACC1-953882C2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A3921-8FAB-492D-9ADC-EB4AB3A0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1C11A-E6B9-48D9-A22C-A7AEB0B1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8CA5D6-9ABE-4438-B2EC-F8A5F7CA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E218E-E062-431D-84B1-6AF86FEA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B1D40-69F8-4C4E-B084-E8FB5B99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476A1-3853-43DD-8CAF-2F76B9E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00CE-4C51-4EA5-8A77-E1F4689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3B8BC-85D8-4C76-A373-A15D78E1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8C307-F887-4DF6-AC82-AC289DBE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FCFDA-B5A6-4427-BF92-7EAA2F0C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0EE-AD9E-4824-850D-753B8298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F7B5-3C9F-430B-BEE3-CA44AAD9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28A3-6FC9-4BC4-A70B-E085E712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23A3-94ED-4D05-8AA2-04CC3B8F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DC61-2B03-4D3C-847E-CA62577B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7CBF-8482-4A23-B80D-4F927C21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6C43-1829-4EC2-B1F7-9846DB94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0447-E604-4762-BC57-BC265502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E2587-20A5-4CDB-9B41-D4B7550D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3310-EE56-4F9C-98B1-6E2E357F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78DF-924B-4475-8B0B-9C2DC65A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7B8-2823-407C-846A-71648A2B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BD1D-6DFB-4115-8190-59350CE5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DB509-C5B7-407C-8374-E779C74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960F-EE86-4FA4-A53A-5AEDA4DA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1C50B-25CD-403C-9B19-2FF8564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4438-1AAB-4438-9352-D1DBFAD8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6EBF-532E-4589-B050-923543DD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D123-8768-48A9-8630-086C59B7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FDBBF-73B2-40C8-8D0C-EE0D2C05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1C63-8CA8-4EAD-9CB5-BEE5F29D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E6D50-18AA-4DD9-8D07-890606A2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676-E798-401A-93B5-7094C96E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D7BFE-60EC-4643-A062-4C5A464C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1290-F343-4ABA-866D-C753979E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D3446-ECE3-4E02-AB65-599379AE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B160-03C6-4139-B06A-AE4D9FE8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80F31-8918-44FC-884C-862727EE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3376-F07F-4CFD-A138-7B8E4CBB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FAAB-166C-4471-A715-22D7060E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C2DB-D7FE-42F2-888F-E7D71861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BBA1B-4E20-46E7-A457-75B063FE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E6D6D-2751-4EB1-92BC-44F00487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BF9-1438-4BC4-9428-25232633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4838-DD0D-4DC5-9E05-F53A44F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37D8-5E7A-495A-AA9C-B07FAF4F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D9651-9321-4346-A755-E44F5B57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54306-20D1-4FCF-8A1B-752EF80E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ADAA-3B7E-4087-91F7-2EA4BE99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E0083-0C4F-467D-86EE-12565BBC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7152-03A7-4AF3-B335-3B61FCEB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25529-1CD5-471E-B86D-436B949E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97E5E-86BC-4A79-896D-2572FA35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B4401-9A7C-4950-92A6-17541CF7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1F2-904B-4958-B9C9-18121585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FD760-DA8B-4665-8AEB-F387289C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CEBA3-3148-42E4-A7A1-C8C34E92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5AC3B-B1FD-4DDA-B63C-0336A296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FE774-4E78-4E94-A35D-DE5C4F1E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27046-59B1-460C-A6CE-E40A3124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130FA-8786-4AC5-BC36-97B2889D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E5A95-AA57-4283-8435-897BF2A4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E1904-BD81-4DFC-9A41-C6508D59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D617D-6110-4F4F-A43A-BB624040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3BF65-988E-4AD6-BF1D-88E7011A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A85-BD41-4C85-BFC7-835F9426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CEF1-41D6-4BA4-BB39-D92DDF8B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D96C6-28F0-4DD7-8425-FF923BD9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77524-7217-4B37-A778-E15F4C21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7B5C8-D03E-4585-94A5-B7D31469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CF407-D963-40B6-B340-621D885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36FEF-DFE4-4F01-B13D-44E909A9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10CE1-F1B0-4EE7-9F70-B5B7FD96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7948F-AF1B-4FD1-90A4-DE8A760A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C038C-2E0A-491E-953B-C89C266B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17499-FBFF-4508-8BBD-9ABC14DE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839-F5B1-422C-89F3-D1F9EE07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69ED3-F9D3-448C-B08A-87150DE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D8878-7620-4DA3-9910-E548E8AA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0DD1-58C8-45B5-AEA7-B800053D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522A5-FE59-4335-AAB2-BDC176DB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75E30-CE9C-4B05-83AA-5620F6D5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B38BE-048C-4EB7-8C20-D7BFD0D5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6891C-B813-40FD-92F7-637F45CA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0968F-AF95-4F8D-A9A2-D96C7CD2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7DA1A-24E7-461C-8832-7EBCFB73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EB73B-EA79-40B9-A0E9-025BC628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42F-3D58-492D-A51F-E90E6D76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82B16-D528-4892-A5AB-E9EE990F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E59CA-0D31-49D5-B384-E601BF68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7426D-2DAA-40AF-B506-B374CA16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9A80D-DB31-4586-B2A7-1F23301C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7B6FA-F3FD-421E-8241-FD77F4B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229FC-073B-450F-BD3A-F8469A1F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7997A-048D-4158-A460-0214212C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06EDD-6E92-4562-876E-3F89D76A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A14B6-6875-4A21-A745-4140D3C7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624D8-5902-435E-8954-176607B5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1F38-2B71-4F5F-A0F4-25A949A58B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69B6-4ABD-4207-96A3-102D658041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AD3C-AABE-4188-87EB-115B340593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360B-EEC9-4AD5-87C7-CDC6B13665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DC5D-71A5-4BBC-A62A-A237B609AC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0E20-1435-4015-B022-EE06F6223C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3B4F-1808-4EBA-9AB8-F0A5B4DA42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3D4C-FC9F-4832-BA06-FB8A13A652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4F18-3252-4F75-A47D-01FC49DC46C7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01AD-52BE-4CC7-BE70-08321C2A49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3B43-324B-4E18-9F2C-7C0396470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A2C-D108-4FCA-BDE3-7A1336D0F8D2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26CA-C65B-4ED5-BB4D-B7306A6E76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2C7A-408F-442D-82FB-96141BF9FF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7664-4ACD-43D0-9FCF-7075F059FF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A9EF-45C1-492B-AB98-20AFE6DA56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9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2 апреля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нь космонавтики!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8" descr="kosmos-den-kosmonavtiki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4" descr="Картинка 9 из 96000"/>
          <p:cNvPicPr/>
          <p:nvPr/>
        </p:nvPicPr>
        <p:blipFill>
          <a:blip r:embed="rId1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784" name="TextBox 1"/>
          <p:cNvSpPr/>
          <p:nvPr/>
        </p:nvSpPr>
        <p:spPr>
          <a:xfrm>
            <a:off x="4857840" y="214200"/>
            <a:ext cx="407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ив на корабле полный оборот вокруг планеты за 108 минут, Гагарин в тот же день благополучно возвратился на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4271"/>
                </a:solidFill>
                <a:latin typeface="Times New Roman"/>
                <a:ea typeface="Times New Roman"/>
              </a:rPr>
              <a:t>Записка Юрия Гага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7" name="Picture 2" descr="Записка Гагарина.jpg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7"/>
          <p:cNvSpPr/>
          <p:nvPr/>
        </p:nvSpPr>
        <p:spPr>
          <a:xfrm>
            <a:off x="324000" y="5300640"/>
            <a:ext cx="849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8" descr="001"/>
          <p:cNvPicPr/>
          <p:nvPr/>
        </p:nvPicPr>
        <p:blipFill>
          <a:blip r:embed="rId11"/>
          <a:stretch/>
        </p:blipFill>
        <p:spPr>
          <a:xfrm>
            <a:off x="2771640" y="260280"/>
            <a:ext cx="3557880" cy="446400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9"/>
          <p:cNvSpPr/>
          <p:nvPr/>
        </p:nvSpPr>
        <p:spPr>
          <a:xfrm>
            <a:off x="1116000" y="4653000"/>
            <a:ext cx="7272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За этот подвиг ему было присвоено звание Героя Советского Союза. С 12 апреля 1962 года день полёта Гагарина в космос был объявлен праздником — </a:t>
            </a:r>
            <a:r>
              <a:rPr b="1" lang="ru-RU" sz="2100" spc="-1" strike="noStrike">
                <a:solidFill>
                  <a:srgbClr val="a50021"/>
                </a:solidFill>
                <a:latin typeface="Arial"/>
              </a:rPr>
              <a:t>Днём Космонавт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6"/>
          <p:cNvSpPr/>
          <p:nvPr/>
        </p:nvSpPr>
        <p:spPr>
          <a:xfrm>
            <a:off x="324000" y="5300640"/>
            <a:ext cx="849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9"/>
          <p:cNvSpPr/>
          <p:nvPr/>
        </p:nvSpPr>
        <p:spPr>
          <a:xfrm>
            <a:off x="826920" y="4653000"/>
            <a:ext cx="749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7 марта 1968 года Ю. А. Гагарин погиб при невыясненных обстоятельствах вблизи деревни Новосёлово Владимирской области во время одного из тренировочных полётов вместе с военным лётчико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. С. Серёги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0" descr="Gagarin_3"/>
          <p:cNvPicPr/>
          <p:nvPr/>
        </p:nvPicPr>
        <p:blipFill>
          <a:blip r:embed="rId11"/>
          <a:stretch/>
        </p:blipFill>
        <p:spPr>
          <a:xfrm>
            <a:off x="1835280" y="981000"/>
            <a:ext cx="5329080" cy="367200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21"/>
          <p:cNvSpPr/>
          <p:nvPr/>
        </p:nvSpPr>
        <p:spPr>
          <a:xfrm>
            <a:off x="1482120" y="476280"/>
            <a:ext cx="62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есто гибели Ю. Гагарина и В. Серёгина - Мемори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6"/>
          <p:cNvSpPr/>
          <p:nvPr/>
        </p:nvSpPr>
        <p:spPr>
          <a:xfrm>
            <a:off x="324000" y="544500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охоронен Юрий Гагарин у Кремлёвской сте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на Красной площ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8" descr="017-1"/>
          <p:cNvPicPr/>
          <p:nvPr/>
        </p:nvPicPr>
        <p:blipFill>
          <a:blip r:embed="rId11"/>
          <a:stretch/>
        </p:blipFill>
        <p:spPr>
          <a:xfrm>
            <a:off x="468360" y="692280"/>
            <a:ext cx="3198600" cy="424944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9" descr="0020sbwe"/>
          <p:cNvPicPr/>
          <p:nvPr/>
        </p:nvPicPr>
        <p:blipFill>
          <a:blip r:embed="rId12"/>
          <a:stretch/>
        </p:blipFill>
        <p:spPr>
          <a:xfrm>
            <a:off x="3851280" y="1341360"/>
            <a:ext cx="48481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53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8"/>
          <p:cNvSpPr/>
          <p:nvPr/>
        </p:nvSpPr>
        <p:spPr>
          <a:xfrm>
            <a:off x="395280" y="4941720"/>
            <a:ext cx="8496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честь Гагарина назв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учно-исследовательское су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«Космонавт Юрий Гагар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0" descr="image011"/>
          <p:cNvPicPr/>
          <p:nvPr/>
        </p:nvPicPr>
        <p:blipFill>
          <a:blip r:embed="rId11"/>
          <a:stretch/>
        </p:blipFill>
        <p:spPr>
          <a:xfrm>
            <a:off x="1258920" y="620640"/>
            <a:ext cx="6697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8"/>
          <p:cNvSpPr/>
          <p:nvPr/>
        </p:nvSpPr>
        <p:spPr>
          <a:xfrm>
            <a:off x="324000" y="5516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Юрия Гагарина носит кратер на обратной стороне Лу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20" descr="640"/>
          <p:cNvPicPr/>
          <p:nvPr/>
        </p:nvPicPr>
        <p:blipFill>
          <a:blip r:embed="rId11"/>
          <a:stretch/>
        </p:blipFill>
        <p:spPr>
          <a:xfrm>
            <a:off x="1476360" y="692280"/>
            <a:ext cx="629280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7" descr="cpk2010_40[1]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111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нтр подготовки космонавтов имени Ю.А. Гага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3"/>
          <p:cNvSpPr/>
          <p:nvPr/>
        </p:nvSpPr>
        <p:spPr>
          <a:xfrm>
            <a:off x="468360" y="494172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889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5"/>
          <p:cNvSpPr/>
          <p:nvPr/>
        </p:nvSpPr>
        <p:spPr>
          <a:xfrm>
            <a:off x="395280" y="4076640"/>
            <a:ext cx="849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7"/>
          <p:cNvSpPr/>
          <p:nvPr/>
        </p:nvSpPr>
        <p:spPr>
          <a:xfrm>
            <a:off x="324000" y="4724280"/>
            <a:ext cx="8496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9"/>
          <p:cNvSpPr/>
          <p:nvPr/>
        </p:nvSpPr>
        <p:spPr>
          <a:xfrm>
            <a:off x="324000" y="5445000"/>
            <a:ext cx="84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20" descr="587635_3"/>
          <p:cNvPicPr/>
          <p:nvPr/>
        </p:nvPicPr>
        <p:blipFill>
          <a:blip r:embed="rId11"/>
          <a:stretch/>
        </p:blipFill>
        <p:spPr>
          <a:xfrm>
            <a:off x="2030400" y="311040"/>
            <a:ext cx="5156280" cy="41641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21"/>
          <p:cNvSpPr/>
          <p:nvPr/>
        </p:nvSpPr>
        <p:spPr>
          <a:xfrm>
            <a:off x="250920" y="2205000"/>
            <a:ext cx="83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WordArt 22"/>
          <p:cNvGrpSpPr/>
          <p:nvPr/>
        </p:nvGrpSpPr>
        <p:grpSpPr>
          <a:xfrm>
            <a:off x="1054080" y="4400640"/>
            <a:ext cx="7242120" cy="1811160"/>
            <a:chOff x="1054080" y="4400640"/>
            <a:chExt cx="7242120" cy="1811160"/>
          </a:xfrm>
        </p:grpSpPr>
        <p:pic>
          <p:nvPicPr>
            <p:cNvPr id="899" name="WordArt 22" descr=""/>
            <p:cNvPicPr/>
            <p:nvPr/>
          </p:nvPicPr>
          <p:blipFill>
            <a:blip r:embed="rId12"/>
            <a:stretch/>
          </p:blipFill>
          <p:spPr>
            <a:xfrm>
              <a:off x="1054080" y="4400640"/>
              <a:ext cx="724212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1116000" y="4437000"/>
              <a:ext cx="712800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800000"/>
                  </a:solidFill>
                  <a:latin typeface="Arial"/>
                  <a:ea typeface="Arial"/>
                </a:rPr>
                <a:t>Память о нё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800000"/>
                  </a:solidFill>
                  <a:latin typeface="Arial"/>
                  <a:ea typeface="Arial"/>
                </a:rPr>
                <a:t>жива в сердцах людей 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6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0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WordArt 11" descr=""/>
          <p:cNvPicPr/>
          <p:nvPr/>
        </p:nvPicPr>
        <p:blipFill>
          <a:blip r:embed="rId2"/>
          <a:stretch/>
        </p:blipFill>
        <p:spPr>
          <a:xfrm>
            <a:off x="822240" y="396720"/>
            <a:ext cx="7426440" cy="17132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3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4" descr="9419816"/>
          <p:cNvPicPr/>
          <p:nvPr/>
        </p:nvPicPr>
        <p:blipFill>
          <a:blip r:embed="rId4"/>
          <a:stretch/>
        </p:blipFill>
        <p:spPr>
          <a:xfrm>
            <a:off x="104292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5" descr="9419816"/>
          <p:cNvPicPr/>
          <p:nvPr/>
        </p:nvPicPr>
        <p:blipFill>
          <a:blip r:embed="rId5"/>
          <a:stretch/>
        </p:blipFill>
        <p:spPr>
          <a:xfrm>
            <a:off x="3276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6" descr="9419816"/>
          <p:cNvPicPr/>
          <p:nvPr/>
        </p:nvPicPr>
        <p:blipFill>
          <a:blip r:embed="rId6"/>
          <a:stretch/>
        </p:blipFill>
        <p:spPr>
          <a:xfrm>
            <a:off x="5508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17" descr="9419816"/>
          <p:cNvPicPr/>
          <p:nvPr/>
        </p:nvPicPr>
        <p:blipFill>
          <a:blip r:embed="rId7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8" descr="9419816"/>
          <p:cNvPicPr/>
          <p:nvPr/>
        </p:nvPicPr>
        <p:blipFill>
          <a:blip r:embed="rId8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9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0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1" descr="9419816"/>
          <p:cNvPicPr/>
          <p:nvPr/>
        </p:nvPicPr>
        <p:blipFill>
          <a:blip r:embed="rId11"/>
          <a:stretch/>
        </p:blipFill>
        <p:spPr>
          <a:xfrm>
            <a:off x="2124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" descr="08469129b816e5be3f1894143c7[1]"/>
          <p:cNvPicPr/>
          <p:nvPr/>
        </p:nvPicPr>
        <p:blipFill>
          <a:blip r:embed="rId12"/>
          <a:stretch/>
        </p:blipFill>
        <p:spPr>
          <a:xfrm>
            <a:off x="324000" y="2133720"/>
            <a:ext cx="8528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Юрий Алексеевич Гагарин родился 9 марта 1934 года в деревне Клушино Гжатского района (ныне Гагаринский район Смоленской области), неподалёку от города Гжатск (ныне Гагарин). Там провел своё детств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8" descr="9419816"/>
          <p:cNvPicPr/>
          <p:nvPr/>
        </p:nvPicPr>
        <p:blipFill>
          <a:blip r:embed="rId3"/>
          <a:stretch/>
        </p:blipFill>
        <p:spPr>
          <a:xfrm>
            <a:off x="104292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9" descr="9419816"/>
          <p:cNvPicPr/>
          <p:nvPr/>
        </p:nvPicPr>
        <p:blipFill>
          <a:blip r:embed="rId4"/>
          <a:stretch/>
        </p:blipFill>
        <p:spPr>
          <a:xfrm>
            <a:off x="2124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0" descr="9419816"/>
          <p:cNvPicPr/>
          <p:nvPr/>
        </p:nvPicPr>
        <p:blipFill>
          <a:blip r:embed="rId5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1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2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3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4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6" descr="imgB"/>
          <p:cNvPicPr/>
          <p:nvPr/>
        </p:nvPicPr>
        <p:blipFill>
          <a:blip r:embed="rId10"/>
          <a:stretch/>
        </p:blipFill>
        <p:spPr>
          <a:xfrm>
            <a:off x="1547640" y="476280"/>
            <a:ext cx="6191280" cy="4281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7" descr="9419816"/>
          <p:cNvPicPr/>
          <p:nvPr/>
        </p:nvPicPr>
        <p:blipFill>
          <a:blip r:embed="rId11"/>
          <a:stretch/>
        </p:blipFill>
        <p:spPr>
          <a:xfrm>
            <a:off x="3276720" y="0"/>
            <a:ext cx="25056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5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9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0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1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2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4" descr="16536_49e034cc514f2"/>
          <p:cNvPicPr/>
          <p:nvPr/>
        </p:nvPicPr>
        <p:blipFill>
          <a:blip r:embed="rId10"/>
          <a:stretch/>
        </p:blipFill>
        <p:spPr>
          <a:xfrm>
            <a:off x="539640" y="1125360"/>
            <a:ext cx="3167280" cy="446436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15"/>
          <p:cNvSpPr/>
          <p:nvPr/>
        </p:nvSpPr>
        <p:spPr>
          <a:xfrm>
            <a:off x="3708360" y="620640"/>
            <a:ext cx="5040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1 сентября 1941 года мальчик пошёл в школу, но 12 октября деревню заняли немцы, и его учёба прервалась. 9 апреля 1943 года деревню освободила Красная армия, и учёба в школе возобновилас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 мае 1949 года Гагарин окончил шестой класс Гжатской средней школы, и в сентябре поступил в Люберецкое ремесленное училище № 10. Одновременно поступил в вечернюю школ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рабочей молодёж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Седьмой класс и училище с отличием окончил в  1951 г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6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3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14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5" descr="163640088"/>
          <p:cNvPicPr/>
          <p:nvPr/>
        </p:nvPicPr>
        <p:blipFill>
          <a:blip r:embed="rId11"/>
          <a:stretch/>
        </p:blipFill>
        <p:spPr>
          <a:xfrm>
            <a:off x="1332000" y="480960"/>
            <a:ext cx="6119640" cy="3946680"/>
          </a:xfrm>
          <a:prstGeom prst="rect">
            <a:avLst/>
          </a:prstGeom>
          <a:ln w="0">
            <a:noFill/>
          </a:ln>
        </p:spPr>
      </p:pic>
      <p:sp>
        <p:nvSpPr>
          <p:cNvPr id="734" name="Rectangle 16"/>
          <p:cNvSpPr/>
          <p:nvPr/>
        </p:nvSpPr>
        <p:spPr>
          <a:xfrm>
            <a:off x="324000" y="4581360"/>
            <a:ext cx="849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августе 1951 года Гагарин поступил в Саратовский индустриальный техникум, и 25 октября 1954 года впервые пришёл в Саратовский аэрокл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1955 году Юрий Гагарин закончил с отличием учёбу и совершил первый полёт на самолёте Як-18. Всего в аэроклубе Юрий Гагарин выполнил 196 полётов и налетал 42 часа 23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6" descr="img"/>
          <p:cNvPicPr/>
          <p:nvPr/>
        </p:nvPicPr>
        <p:blipFill>
          <a:blip r:embed="rId11"/>
          <a:stretch/>
        </p:blipFill>
        <p:spPr>
          <a:xfrm>
            <a:off x="539640" y="476280"/>
            <a:ext cx="4183200" cy="596088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17"/>
          <p:cNvSpPr/>
          <p:nvPr/>
        </p:nvSpPr>
        <p:spPr>
          <a:xfrm>
            <a:off x="4788000" y="907920"/>
            <a:ext cx="3852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27 октября 1955 года Гагарин был призван в армию в Оренбург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 военно-авиационное училище лётчиков имени К. Е. Ворошил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25 октября 1957 года Гагарин  закончил училище с отлич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 течение двух лет служил в  авиационном пол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К октябрю 1959 года налетал в общей сложности 265 ча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15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16" descr="B3A17A29-ADDC-44EA-9CB8-8714D0D9144E_mw800_mh600_s"/>
          <p:cNvPicPr/>
          <p:nvPr/>
        </p:nvPicPr>
        <p:blipFill>
          <a:blip r:embed="rId11"/>
          <a:stretch/>
        </p:blipFill>
        <p:spPr>
          <a:xfrm>
            <a:off x="2268360" y="549360"/>
            <a:ext cx="4535640" cy="340200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7"/>
          <p:cNvSpPr/>
          <p:nvPr/>
        </p:nvSpPr>
        <p:spPr>
          <a:xfrm>
            <a:off x="324000" y="4076640"/>
            <a:ext cx="849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9 декабря 1959 года Гагарин написал заявление с просьбой зачислить его в группу кандидатов в космонавты. Специальная медкомиссия признала старшего лейтенанта Гагарина годным для космических полётов. 3 марта 1960 года зачислен в группу кандидатов в космонавты. С 25 марта начались регулярные занятия по программе подготовки космонав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6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17" descr="14062-large"/>
          <p:cNvPicPr/>
          <p:nvPr/>
        </p:nvPicPr>
        <p:blipFill>
          <a:blip r:embed="rId11"/>
          <a:stretch/>
        </p:blipFill>
        <p:spPr>
          <a:xfrm>
            <a:off x="2700360" y="476280"/>
            <a:ext cx="3519360" cy="460836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18"/>
          <p:cNvSpPr/>
          <p:nvPr/>
        </p:nvSpPr>
        <p:spPr>
          <a:xfrm>
            <a:off x="324000" y="5300640"/>
            <a:ext cx="849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12 апреля 1961 года с космодрома Байконур впервые в мире стартовал космический корабль «Восток», с пилотом-космонавтом Юрием Алексеевичем Гагариным на борту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457440" cy="33130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770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орбите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й Гагарин</a:t>
            </a:r>
            <a:br>
              <a:rPr sz="43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708000" y="1628640"/>
            <a:ext cx="5040360" cy="4392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ёл простейшие эксперименты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, ел, делал записи карандашо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ожив» карандаш рядом с собой, он случайно обнаружил, что тот моментально начал уплывать. Из этого Гагарин сделал вывод, что карандаши и прочие предметы в космосе лучше привязывать. Все свои ощущения и наблюдения он записывал на бортовой магнитофо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55:03Z</dcterms:created>
  <dc:creator>7</dc:creator>
  <dc:description/>
  <dc:language>en-US</dc:language>
  <cp:lastModifiedBy>bukarinova_katya@mail.ru</cp:lastModifiedBy>
  <dcterms:modified xsi:type="dcterms:W3CDTF">2021-04-13T06:30:00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270000000000010290310207f7000400038000</vt:lpwstr>
  </property>
</Properties>
</file>