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B520C-0A09-478B-8AD4-AB2F3FC0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AEDBD-4B93-4B13-98D7-725C7F19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04E60-C254-4351-8438-2FBBB1C6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6790C-CA6F-462B-AC14-56B58D32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5708-7834-45C9-84B8-571A025C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46AD-260B-4AA5-87AB-C8EE0086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C3D2-8689-40A2-A5F8-990A205B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A95B-B550-49D2-B5C0-F120B765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5679-86F2-4A5C-9862-C8B3023B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4AB0-D3A0-4AB4-A5C9-0E68AC0B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912F-ABDB-440C-9C3D-717C13BC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B17FC-9B41-4DAB-BE54-EE6B45A5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43A1-0725-46BB-B532-A072BDE5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014E-6A94-4FF1-B1B8-AEA42DCB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7A63-A536-414B-BCF8-A08AC6FB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34AD-1FEB-44BB-B1BD-901D4471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32FC-C2CC-4897-875F-80AEE761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437DE-19F0-45A7-94F9-DFFEBED3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14D0A-5279-4087-BF6D-100CF953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92CC-90D7-425F-A12D-72550623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DCA58-2AE7-410D-83BF-9FD7BECA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82007-E8AF-42FA-9001-A4AC3477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1D892-1E33-4208-9E92-092B2244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BD53-8C5B-43F8-9E85-455236B5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1BB5-1349-4BF9-840A-A0A6EF616E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AFF0-35DA-44B6-9E75-079A763F44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Блюда из жаренного мяс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24280" y="1219320"/>
            <a:ext cx="4191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скалоп из телят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нгредиен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резка телятины — 800 грам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йца – 3 шт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хари панировочные – 3 столовые  ло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сло растительное – 4 столовые ло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ь поваренная – ½ чайной ло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ц черный молотый – ¼ чайной лож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елень (петрушка или укроп) – несколько ве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имон — 1 шт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готовл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Мясо телятины хорошо промойте под струей холодной воды, обрезать ножом ненужные жилки и шкурку (если есть). Затем телятину режем пластами, поперек волокон мышц  на куски толщиной 1 – 1,5 сантиметра, которые в диаметре должны составлять примерно 10 сантиметров. Куски мяса отбиваем молотком до толщины 0,5 см, предварительно завернув их в пакет, чтобы не образовывались брызги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Панировочные сухари необходимо высыпать в плоскую тарелку. Яйца, после того, как их помоем, и разобьем, помещаем в миску и взбиваем венчиком до образования однородной ма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ырые эскалопы натрите хорошенько солью и черным перце.Сковороду поставьте на сильный огонь, подождите минуты 3 – 4, пока она раскалится. Далее налейте масло и разогрейте его. Тем временем отбитые кусочки мяса обваляете в панировочных сухарях и положите на сковородку. Обжарить их нужно с обеих сторон, чтобы образовалась золотистая корочка. Эскалопы должны быть хрустящими.м. Зелень помойте и нарежьте крупно, лимон нарежьте доль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Непосредственно перед подачей хрустящие эскалопы необходимо выложить на сервировочное блюдо и украсить дольками лимона и нарезанной зеленью. Это блюдо подходит и в качестве второго блюда, и на ужин и отлично смотрится на любом праздничном сто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вяжий ру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rulet"/>
          <p:cNvPicPr/>
          <p:nvPr/>
        </p:nvPicPr>
        <p:blipFill>
          <a:blip r:embed="rId1"/>
          <a:stretch/>
        </p:blipFill>
        <p:spPr>
          <a:xfrm>
            <a:off x="1981080" y="2209680"/>
            <a:ext cx="5715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нгредиент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вяжья вырезка - 1000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пчатый лук - 1 ш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ивочное масло - 3 ст 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ясной фарш - 250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чина - 200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адкий перец - 2 ш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ук зеленый - 2-3ш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ампиньоны - 150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йцо - 1ш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ульон - 250м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ивки - 2 ст ложки, растительное масл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готовл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Мясо надрезать острым ножом вдоль куска, но не до конца, развернуть по линии разреза и слегка отбить, чтоб получилась одна сплошная лента для руле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Почистить и порезать кубиками репчатый лук, обжарить на сливочном масле вместе с фаршем(свинина/говядина) около 3 минут. Слегка поперчить, посолить и дать остыть. Зеленый лук и грибы вымыть, дать стечь вод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Грибы почистить и порезать ломтиками, лук - тонкими кольцами. Посолить и поперчить мясо, выложить на него немного фарша, порезанную полосками ветчину и перец (желательно взять перцы разных цветов), посыпать зеленым луком. Уложить в промежутках шампиньоны, покрыть остальным фаршем. Мясо справа и слева немного подогнуть, затем скатать в рулет. Обвязать рулет нитками (не синтетическими!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Разогреть растительное масло и быстро обжарить в нем рулет со всех сторон. Затем рулет посыпать зеленью, облить горячим бульоном (можно из кубиков) и жарить около 90 минут в духовке при температуре 200 градусов. Вынуть мясо, удалить нитки и завернуть в фольгу, чтоб не остыл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Оставшийся соус развести водой, вскипятить и загустить сливк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0" y="106668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вяжий ру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35"/>
          <p:cNvSpPr/>
          <p:nvPr/>
        </p:nvSpPr>
        <p:spPr>
          <a:xfrm>
            <a:off x="4724280" y="1143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3581280" y="495360"/>
            <a:ext cx="243864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сные блю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р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762120" y="1600200"/>
            <a:ext cx="2209680" cy="838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ыми кус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6477120" y="1600200"/>
            <a:ext cx="2209680" cy="838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кими кус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3733920" y="1600200"/>
            <a:ext cx="2209680" cy="838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цион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с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4"/>
          <p:cNvSpPr/>
          <p:nvPr/>
        </p:nvSpPr>
        <p:spPr>
          <a:xfrm flipH="1">
            <a:off x="2286000" y="91440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6"/>
          <p:cNvSpPr/>
          <p:nvPr/>
        </p:nvSpPr>
        <p:spPr>
          <a:xfrm>
            <a:off x="6019920" y="91440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25524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тбиф                                         бифштекс                                   бефстро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бонат                                        филе                                           поджар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женина                                       лангет                                         раг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лет                                              антрек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скало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мштек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тлеты отби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7"/>
          <p:cNvSpPr/>
          <p:nvPr/>
        </p:nvSpPr>
        <p:spPr>
          <a:xfrm>
            <a:off x="838080" y="2438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8"/>
          <p:cNvSpPr/>
          <p:nvPr/>
        </p:nvSpPr>
        <p:spPr>
          <a:xfrm>
            <a:off x="838080" y="3657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9"/>
          <p:cNvSpPr/>
          <p:nvPr/>
        </p:nvSpPr>
        <p:spPr>
          <a:xfrm>
            <a:off x="8380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0"/>
          <p:cNvSpPr/>
          <p:nvPr/>
        </p:nvSpPr>
        <p:spPr>
          <a:xfrm>
            <a:off x="838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1"/>
          <p:cNvSpPr/>
          <p:nvPr/>
        </p:nvSpPr>
        <p:spPr>
          <a:xfrm>
            <a:off x="838080" y="2743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2"/>
          <p:cNvSpPr/>
          <p:nvPr/>
        </p:nvSpPr>
        <p:spPr>
          <a:xfrm>
            <a:off x="3886200" y="2438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4"/>
          <p:cNvSpPr/>
          <p:nvPr/>
        </p:nvSpPr>
        <p:spPr>
          <a:xfrm>
            <a:off x="38862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5"/>
          <p:cNvSpPr/>
          <p:nvPr/>
        </p:nvSpPr>
        <p:spPr>
          <a:xfrm>
            <a:off x="388620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6"/>
          <p:cNvSpPr/>
          <p:nvPr/>
        </p:nvSpPr>
        <p:spPr>
          <a:xfrm>
            <a:off x="3886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7"/>
          <p:cNvSpPr/>
          <p:nvPr/>
        </p:nvSpPr>
        <p:spPr>
          <a:xfrm>
            <a:off x="388620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8"/>
          <p:cNvSpPr/>
          <p:nvPr/>
        </p:nvSpPr>
        <p:spPr>
          <a:xfrm>
            <a:off x="38862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9"/>
          <p:cNvSpPr/>
          <p:nvPr/>
        </p:nvSpPr>
        <p:spPr>
          <a:xfrm>
            <a:off x="38862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388620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78168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781680" y="3352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3"/>
          <p:cNvSpPr/>
          <p:nvPr/>
        </p:nvSpPr>
        <p:spPr>
          <a:xfrm>
            <a:off x="6781680" y="3048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781680" y="2743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90720" y="533520"/>
            <a:ext cx="7386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а жарки мя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рционные куски чащ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всего жарят с небольшим количеством жира и реже в большом количестве жира (фритюре). Первым способом жарят натуральные и панированные куски сырого мяса, а вторым - только панированные. Значительно реже применяют обжарку на вертеле или решет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ля жарки тонких порционных кусков мяс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- лангета, антрекота, отбитого бифштекса - употребляют сотейники, железные или чугунные сковороды. Натуральные свиные и телячьи котлеты, филе, бифштексы рекомендуется жарить в сотейниках или на противн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рционные панированные кус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жарят на железных сковородах или противнях. Непосредственно перед жаркой мясо посыпают солью и перцем. Для жарки куски укладывают в посуду с жиром, предварительно разогретым до температуры 130-140°. После образования корочки с одной стороны мясо переворачивают. В процессе жарки температура не должна снижаться; только толстые куски мяса (филе и бифштексы) дожаривают при более низкой температу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рционные натуральные кус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жарят до полной готовности. Панированные куски, если они за время образования корочки не прожарились, доводят до готовности в жарочном шкаф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товность мяса определяю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по отсутствию кровянистого сока при проколе иглой или по степени упругости кусков при нажиме. Умение определять готовность мяса по упругости приобретается путем практического опы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ля жарки во фритюр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сваренные или жареные продукты панируют в муке, яйце и сухарях. Панированные куски закладывают в жир, разогретый до 160-170°. После образования корочки продукты вынимают и, если требуется, дожаривают в жарочном шкафу в течение 3-10 минут, в зависимости от толщины кус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д углями на решетке или без нее в шашлычной печи обжаривают натуральное панированное мясо; продолжительность жарки колеблется от 8 до 20 мину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4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обенности процессов происходящих при жарке мяс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арение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работка продуктов в горячем жире. При жарении следует следить за температурой жира: в слишком горячем жире продукты пригорят, а слишком холодный жир пропитает продукты, которые станут неприятно "сальными" на вк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жари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дает два преимущества: во-первых, оно создает драгоценные соки, становящиеся впоследствии основной для соусов, а во-вторых, обжаривание придает мясу любимый всеми вкус. Так что обжаривание - это отлично, только вот сочности оно не придает. И кстати, обжаривание - это не карамелизация, а процесс, называемый реакцией Майяра (Maillard reaction), один из самых сложных процессов кулинарии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пловая обработка мяса имеет две ц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- высвободить вкус и аромат мяса, и сделать его мягким и неж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ядина при жарке крупным куском теряет 35% своей массы, а при варке - 38%, баранина - 37 и 36, свинина - 32 и 40, телятина - 37 и 36%. Значительн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ьше потери массы при жарке панированных изделий, так как панировка препятствует испарению влаги, впитывая выделяющийся сок и ж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Блюд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86400" y="1600200"/>
            <a:ext cx="457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аренная свинина с овоща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Ингредиент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ломтиков свиного карбон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ст. ложки ж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головки лу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 стакана буль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00 г картоф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 помид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 стручка пер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лотая паприка, зелень, соль, пер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готовление: 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Мясо слегка отбить, обжарить в разогретом жире с обеих сторон до образования светло-коричневой корочки, посыпать солью и черным молотым перцем, выложить на плоское блюдо и держать в теплом месте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В том же жире подрумянить нарезанный кольцами лук, затем налить горячего бульона и положить разрезанный пополам картофель. Ломтики мяса разложить поверх картофеля и покрыть их нарезанными стручками фасоли, помидорами и приправами. Тушить под крышкой на слабом огне и в духовке до готов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Выложить мясо на подогретое блюдо, вокруг разложить овощи, соус подать в соуснице. Посыпать рубленой зеленью петрушки или укропа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На гарнир можно подать соленые огурцы или салат из маринованных ябл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Шницель по-швейцарс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наивкуснейший шницель по швейцарскому рецепту"/>
          <p:cNvPicPr/>
          <p:nvPr/>
        </p:nvPicPr>
        <p:blipFill>
          <a:blip r:embed="rId1"/>
          <a:stretch/>
        </p:blipFill>
        <p:spPr>
          <a:xfrm>
            <a:off x="1371600" y="1752480"/>
            <a:ext cx="62485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0" y="1295280"/>
            <a:ext cx="44956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ницель по-швейцар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Ингредиен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лятина (окорок) — 4 лом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лугуни — 4 ломтика (грузинский сы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чина-8 ломт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ка пшеничная— 3 ст. 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йца куриные — 1 ш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хари панировочные — 100 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сло сливочное  — 3 ст. 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готовл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Свежий кусок телятины хорошо промойте под холодной проточной водой, затем осушите его при помощи чистого бумажного кухонного полотен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Телятину выложите на разделочную доску, нарежьте четыре ломтика, толщина которых должна быть не больше одного сантиметра. Потом необходимо отбить мясо. Отбивайте до тех пор, пока телятина не превратится в тонкие ломт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Выложите их на большую плоскую тарелку отдельно друг от друга, это необходимо для дальнейшего собирания шницеля. От куска ветчины отрежьте 8 тонких ломтиков и уложите их на половинки ломтиков телятины. Затем нарежьте сулугуни на ломтики и уложите  их поверх ветчины. Сверху накройте вторыми половинками ломтиков телятины. Закрепите все зубочист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Муку просейте через мелкое сито в небольшую емкость. Яйца разбейте в мисочку и слегка взбейте их до легкой пены. Панировочные сухари пересыпьте в небольшую посуду. Сформированные шницели по очередности обваливайте со всех сторон сначала в муке, потом во взбитых яйцах, и наконец в панировочных сухаря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Обжаривайте на умеренном или слабом огне, примерно 6-8 минут. Не забывайте во время переворачивать шницеля, чтобы они  не пригор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скалоп из телят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Готовый эскалоп от телятины"/>
          <p:cNvPicPr/>
          <p:nvPr/>
        </p:nvPicPr>
        <p:blipFill>
          <a:blip r:embed="rId1"/>
          <a:stretch/>
        </p:blipFill>
        <p:spPr>
          <a:xfrm>
            <a:off x="1295280" y="2057400"/>
            <a:ext cx="6629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4:49:38Z</dcterms:created>
  <dc:creator>www.MRMARKER.ru</dc:creator>
  <dc:description/>
  <dc:language>en-US</dc:language>
  <cp:lastModifiedBy>Богдан</cp:lastModifiedBy>
  <dcterms:modified xsi:type="dcterms:W3CDTF">2015-03-23T12:53:2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