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54F5D1-E598-4F9E-8A00-9B6D4D634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27A177-B354-4161-8C01-E9BFCD444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40703B-55FC-428B-A543-53A1A0790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51CD4F-3656-482F-99E0-CBEC6F699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7A4FE-88B2-4419-B650-4A218BD83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451E5-CDB3-4A14-820C-FEDC18719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A1FF0-9923-4EBE-8D5A-97627FF43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AC670-59EF-4AF3-843E-7BEE4495C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F8EDC-C5E3-42AF-8129-5729610A8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97AC3-D1DF-4EFC-AC7D-91C4D4FC7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80E1F-FE23-4641-8F74-BC628EBA5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20AD05-AB50-4445-A6DA-08442B294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59BAD-CEAE-4F48-9795-0B4DF4B40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07573-8091-4154-B8A9-41A62E2B5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78E94-8816-49E6-B28F-2E6AFA608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1845B-3331-4AC1-8E4C-429C1E6CC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8845F-8D70-4FB7-B2C6-A7E80DEEF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8F88D0-08ED-4D50-9B82-C2CCDA850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79FEF1-4CF7-45C3-9B5D-176DABF1A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877E9C-2E75-4A24-8446-F3F2FE66D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5966B1-DB03-4544-BDC3-4AA4E9094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0B85D0-3F7D-4ADB-B776-28AE264A7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192CB6-E11E-4E8A-B706-B24220B39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479671-0DED-4D36-B08C-426C00216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DAF82-DCB3-4656-92F6-4A0B89ED8A4A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D5074-0AFB-4B9E-A297-FCBBDC34C48E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ffffff"/>
                </a:solidFill>
                <a:latin typeface="Arial"/>
              </a:rPr>
              <a:t>Блюда из жаренного мяса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724280" y="1219320"/>
            <a:ext cx="41911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Эскалоп из телятин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Ингредиенты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ырезка телятины — 800 грамм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Яйца – 3 шту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ухари панировочные – 3 столовые  лож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асло растительное – 4 столовые лож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оль поваренная – ½ чайной лож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ерец черный молотый – ¼ чайной лож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Зелень (петрушка или укроп) – несколько веточе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Лимон — 1 шту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Приготовление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Мясо телятины хорошо промойте под струей холодной воды, обрезать ножом ненужные жилки и шкурку (если есть). Затем телятину режем пластами, поперек волокон мышц  на куски толщиной 1 – 1,5 сантиметра, которые в диаметре должны составлять примерно 10 сантиметров. Куски мяса отбиваем молотком до толщины 0,5 см, предварительно завернув их в пакет, чтобы не образовывались брызги.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Панировочные сухари необходимо высыпать в плоскую тарелку. Яйца, после того, как их помоем, и разобьем, помещаем в миску и взбиваем венчиком до образования однородной масс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Сырые эскалопы натрите хорошенько солью и черным перце.Сковороду поставьте на сильный огонь, подождите минуты 3 – 4, пока она раскалится. Далее налейте масло и разогрейте его. Тем временем отбитые кусочки мяса обваляете в панировочных сухарях и положите на сковородку. Обжарить их нужно с обеих сторон, чтобы образовалась золотистая корочка. Эскалопы должны быть хрустящими.м. Зелень помойте и нарежьте крупно, лимон нарежьте долькам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Непосредственно перед подачей хрустящие эскалопы необходимо выложить на сервировочное блюдо и украсить дольками лимона и нарезанной зеленью. Это блюдо подходит и в качестве второго блюда, и на ужин и отлично смотрится на любом праздничном стол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Говяжий руле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4" descr="rulet"/>
          <p:cNvPicPr/>
          <p:nvPr/>
        </p:nvPicPr>
        <p:blipFill>
          <a:blip r:embed="rId1"/>
          <a:stretch/>
        </p:blipFill>
        <p:spPr>
          <a:xfrm>
            <a:off x="1981080" y="2209680"/>
            <a:ext cx="571500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Ингредиенты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говяжья вырезка - 1000г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епчатый лук - 1 ш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ливочное масло - 3 ст 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ясной фарш - 250г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етчина - 200г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ладкий перец - 2 ш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лук зеленый - 2-3ш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шампиньоны - 150г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яйцо - 1ш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бульон - 250м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ливки - 2 ст ложки, растительное масло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Приготовление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.Мясо надрезать острым ножом вдоль куска, но не до конца, развернуть по линии разреза и слегка отбить, чтоб получилась одна сплошная лента для рулет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.Почистить и порезать кубиками репчатый лук, обжарить на сливочном масле вместе с фаршем(свинина/говядина) около 3 минут. Слегка поперчить, посолить и дать остыть. Зеленый лук и грибы вымыть, дать стечь воде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3.Грибы почистить и порезать ломтиками, лук - тонкими кольцами. Посолить и поперчить мясо, выложить на него немного фарша, порезанную полосками ветчину и перец (желательно взять перцы разных цветов), посыпать зеленым луком. Уложить в промежутках шампиньоны, покрыть остальным фаршем. Мясо справа и слева немного подогнуть, затем скатать в рулет. Обвязать рулет нитками (не синтетическими!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4. Разогреть растительное масло и быстро обжарить в нем рулет со всех сторон. Затем рулет посыпать зеленью, облить горячим бульоном (можно из кубиков) и жарить около 90 минут в духовке при температуре 200 градусов. Вынуть мясо, удалить нитки и завернуть в фольгу, чтоб не остыло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5.Оставшийся соус развести водой, вскипятить и загустить сливкам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title"/>
          </p:nvPr>
        </p:nvSpPr>
        <p:spPr>
          <a:xfrm>
            <a:off x="4572000" y="1066680"/>
            <a:ext cx="41911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Говяжий руле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Line 35"/>
          <p:cNvSpPr/>
          <p:nvPr/>
        </p:nvSpPr>
        <p:spPr>
          <a:xfrm>
            <a:off x="4724280" y="11430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29"/>
          <p:cNvSpPr/>
          <p:nvPr/>
        </p:nvSpPr>
        <p:spPr>
          <a:xfrm>
            <a:off x="3581280" y="495360"/>
            <a:ext cx="2438640" cy="7621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ясные блюд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аренны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30"/>
          <p:cNvSpPr/>
          <p:nvPr/>
        </p:nvSpPr>
        <p:spPr>
          <a:xfrm>
            <a:off x="762120" y="1600200"/>
            <a:ext cx="2209680" cy="8380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рупными куск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31"/>
          <p:cNvSpPr/>
          <p:nvPr/>
        </p:nvSpPr>
        <p:spPr>
          <a:xfrm>
            <a:off x="6477120" y="1600200"/>
            <a:ext cx="2209680" cy="8380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лкими куск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32"/>
          <p:cNvSpPr/>
          <p:nvPr/>
        </p:nvSpPr>
        <p:spPr>
          <a:xfrm>
            <a:off x="3733920" y="1600200"/>
            <a:ext cx="2209680" cy="8380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рционным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уск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34"/>
          <p:cNvSpPr/>
          <p:nvPr/>
        </p:nvSpPr>
        <p:spPr>
          <a:xfrm flipH="1">
            <a:off x="2286000" y="914400"/>
            <a:ext cx="1295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36"/>
          <p:cNvSpPr/>
          <p:nvPr/>
        </p:nvSpPr>
        <p:spPr>
          <a:xfrm>
            <a:off x="6019920" y="914400"/>
            <a:ext cx="14475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533520" y="25524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остбиф                                         бифштекс                                   бефстроган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арбонат                                        филе                                           поджар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уженина                                       лангет                                         раг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улет                                              антреко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эскалоп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омштекс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тлеты отбивны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47"/>
          <p:cNvSpPr/>
          <p:nvPr/>
        </p:nvSpPr>
        <p:spPr>
          <a:xfrm>
            <a:off x="838080" y="243828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48"/>
          <p:cNvSpPr/>
          <p:nvPr/>
        </p:nvSpPr>
        <p:spPr>
          <a:xfrm>
            <a:off x="838080" y="365760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49"/>
          <p:cNvSpPr/>
          <p:nvPr/>
        </p:nvSpPr>
        <p:spPr>
          <a:xfrm>
            <a:off x="838080" y="335268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50"/>
          <p:cNvSpPr/>
          <p:nvPr/>
        </p:nvSpPr>
        <p:spPr>
          <a:xfrm>
            <a:off x="838080" y="304812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51"/>
          <p:cNvSpPr/>
          <p:nvPr/>
        </p:nvSpPr>
        <p:spPr>
          <a:xfrm>
            <a:off x="838080" y="274320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52"/>
          <p:cNvSpPr/>
          <p:nvPr/>
        </p:nvSpPr>
        <p:spPr>
          <a:xfrm>
            <a:off x="3886200" y="243828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54"/>
          <p:cNvSpPr/>
          <p:nvPr/>
        </p:nvSpPr>
        <p:spPr>
          <a:xfrm>
            <a:off x="3886200" y="44956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55"/>
          <p:cNvSpPr/>
          <p:nvPr/>
        </p:nvSpPr>
        <p:spPr>
          <a:xfrm>
            <a:off x="388620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56"/>
          <p:cNvSpPr/>
          <p:nvPr/>
        </p:nvSpPr>
        <p:spPr>
          <a:xfrm>
            <a:off x="3886200" y="3962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57"/>
          <p:cNvSpPr/>
          <p:nvPr/>
        </p:nvSpPr>
        <p:spPr>
          <a:xfrm>
            <a:off x="3886200" y="36576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58"/>
          <p:cNvSpPr/>
          <p:nvPr/>
        </p:nvSpPr>
        <p:spPr>
          <a:xfrm>
            <a:off x="3886200" y="33526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59"/>
          <p:cNvSpPr/>
          <p:nvPr/>
        </p:nvSpPr>
        <p:spPr>
          <a:xfrm>
            <a:off x="3886200" y="30481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3886200" y="27432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781680" y="24382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781680" y="33526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63"/>
          <p:cNvSpPr/>
          <p:nvPr/>
        </p:nvSpPr>
        <p:spPr>
          <a:xfrm>
            <a:off x="6781680" y="30481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781680" y="27432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990720" y="533520"/>
            <a:ext cx="738648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авила жарки мя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орционные куски чаще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 всего жарят с небольшим количеством жира и реже в большом количестве жира (фритюре). Первым способом жарят натуральные и панированные куски сырого мяса, а вторым - только панированные. Значительно реже применяют обжарку на вертеле или решетк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Для жарки тонких порционных кусков мяса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 - лангета, антрекота, отбитого бифштекса - употребляют сотейники, железные или чугунные сковороды. Натуральные свиные и телячьи котлеты, филе, бифштексы рекомендуется жарить в сотейниках или на противнях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орционные панированные куски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 жарят на железных сковородах или противнях. Непосредственно перед жаркой мясо посыпают солью и перцем. Для жарки куски укладывают в посуду с жиром, предварительно разогретым до температуры 130-140°. После образования корочки с одной стороны мясо переворачивают. В процессе жарки температура не должна снижаться; только толстые куски мяса (филе и бифштексы) дожаривают при более низкой температур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орционные натуральные куски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 жарят до полной готовности. Панированные куски, если они за время образования корочки не прожарились, доводят до готовности в жарочном шкаф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Готовность мяса определяют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 по отсутствию кровянистого сока при проколе иглой или по степени упругости кусков при нажиме. Умение определять готовность мяса по упругости приобретается путем практического опыт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Для жарки во фритюре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 сваренные или жареные продукты панируют в муке, яйце и сухарях. Панированные куски закладывают в жир, разогретый до 160-170°. После образования корочки продукты вынимают и, если требуется, дожаривают в жарочном шкафу в течение 3-10 минут, в зависимости от толщины куск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ад углями на решетке или без нее в шашлычной печи обжаривают натуральное панированное мясо; продолжительность жарки колеблется от 8 до 20 минут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45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собенности процессов происходящих при жарке мяса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Жарение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обработка продуктов в горячем жире. При жарении следует следить за температурой жира: в слишком горячем жире продукты пригорят, а слишком холодный жир пропитает продукты, которые станут неприятно "сальными" на вкус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жаривани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дает два преимущества: во-первых, оно создает драгоценные соки, становящиеся впоследствии основной для соусов, а во-вторых, обжаривание придает мясу любимый всеми вкус. Так что обжаривание - это отлично, только вот сочности оно не придает. И кстати, обжаривание - это не карамелизация, а процесс, называемый реакцией Майяра (Maillard reaction), один из самых сложных процессов кулинарии.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епловая обработка мяса имеет две цел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- высвободить вкус и аромат мяса, и сделать его мягким и нежны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овядина при жарке крупным куском теряет 35% своей массы, а при варке - 38%, баранина - 37 и 36, свинина - 32 и 40, телятина - 37 и 36%. Значительно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ньше потери массы при жарке панированных изделий, так как панировка препятствует испарению влаги, впитывая выделяющийся сок и жи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243792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0000"/>
                </a:solidFill>
                <a:latin typeface="Arial"/>
              </a:rPr>
              <a:t>Блюда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486400" y="1600200"/>
            <a:ext cx="4572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Жаренная свинина с овощами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Ингредиенты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5 ломтиков свиного карбона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2 ст. ложки жир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2 головки лу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3 стакана буль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800 г картофел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6 помидор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4 стручка перц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олотая паприка, зелень, соль, перец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   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Приготовление:    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.Мясо слегка отбить, обжарить в разогретом жире с обеих сторон до образования светло-коричневой корочки, посыпать солью и черным молотым перцем, выложить на плоское блюдо и держать в теплом месте.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.В том же жире подрумянить нарезанный кольцами лук, затем налить горячего бульона и положить разрезанный пополам картофель. Ломтики мяса разложить поверх картофеля и покрыть их нарезанными стручками фасоли, помидорами и приправами. Тушить под крышкой на слабом огне и в духовке до готовност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.Выложить мясо на подогретое блюдо, вокруг разложить овощи, соус подать в соуснице. Посыпать рубленой зеленью петрушки или укропа.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4.На гарнир можно подать соленые огурцы или салат из маринованных яблок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Шницель по-швейцарс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4" descr="наивкуснейший шницель по швейцарскому рецепту"/>
          <p:cNvPicPr/>
          <p:nvPr/>
        </p:nvPicPr>
        <p:blipFill>
          <a:blip r:embed="rId1"/>
          <a:stretch/>
        </p:blipFill>
        <p:spPr>
          <a:xfrm>
            <a:off x="1371600" y="1752480"/>
            <a:ext cx="6248520" cy="39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0" y="1295280"/>
            <a:ext cx="44956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Шницель по-швейцарс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609120"/>
            <a:ext cx="822960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560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Ингредиенты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Телятина (окорок) — 4 ломти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улугуни — 4 ломтика (грузинский сыр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етчина-8 ломтик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ука пшеничная— 3 ст. 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Яйца куриные — 1 ш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ухари панировочные — 100 г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асло сливочное  — 3 ст. 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Приготовление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.Свежий кусок телятины хорошо промойте под холодной проточной водой, затем осушите его при помощи чистого бумажного кухонного полотенц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.Телятину выложите на разделочную доску, нарежьте четыре ломтика, толщина которых должна быть не больше одного сантиметра. Потом необходимо отбить мясо. Отбивайте до тех пор, пока телятина не превратится в тонкие ломтик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3. Выложите их на большую плоскую тарелку отдельно друг от друга, это необходимо для дальнейшего собирания шницеля. От куска ветчины отрежьте 8 тонких ломтиков и уложите их на половинки ломтиков телятины. Затем нарежьте сулугуни на ломтики и уложите  их поверх ветчины. Сверху накройте вторыми половинками ломтиков телятины. Закрепите все зубочисткой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4.Муку просейте через мелкое сито в небольшую емкость. Яйца разбейте в мисочку и слегка взбейте их до легкой пены. Панировочные сухари пересыпьте в небольшую посуду. Сформированные шницели по очередности обваливайте со всех сторон сначала в муке, потом во взбитых яйцах, и наконец в панировочных сухарях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5.Обжаривайте на умеренном или слабом огне, примерно 6-8 минут. Не забывайте во время переворачивать шницеля, чтобы они  не пригорел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Эскалоп из телятин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4" descr="Готовый эскалоп от телятины"/>
          <p:cNvPicPr/>
          <p:nvPr/>
        </p:nvPicPr>
        <p:blipFill>
          <a:blip r:embed="rId1"/>
          <a:stretch/>
        </p:blipFill>
        <p:spPr>
          <a:xfrm>
            <a:off x="1295280" y="2057400"/>
            <a:ext cx="662940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7T14:49:38Z</dcterms:created>
  <dc:creator>www.MRMARKER.ru</dc:creator>
  <dc:description/>
  <dc:language>en-US</dc:language>
  <cp:lastModifiedBy>Богдан</cp:lastModifiedBy>
  <dcterms:modified xsi:type="dcterms:W3CDTF">2015-03-23T12:53:24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