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C1C-9916-46D4-8F8B-C29F4874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9D9-3710-4909-947C-EA995CF7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1A6-4844-414F-BB0F-052EB8B0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780-4619-4388-AFD9-85E59D8F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40C-FB59-4580-8DEC-75793215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8E1-9ACB-43C2-8E90-49AE8D93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495-E574-45DD-9984-265E157C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119-37A5-48B0-9BD6-0F161C7D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82E0-6607-4FC5-9E2A-90CAC5E2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FA84-C35B-4C38-823B-E5CBA5BA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B3D-6916-4A93-B8A8-CA944626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D5C-0E70-45C9-8C21-09485400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138A-6761-4E1C-89A2-C9A8C8D01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Тема исследования: «Сказка – ложь, да в ней намёк, добрым молодцам урок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5157720"/>
            <a:ext cx="5932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оспитатель гр.2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Галимьянова З.Ф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1252290181_kazkovi-15.jpg"/>
          <p:cNvPicPr/>
          <p:nvPr/>
        </p:nvPicPr>
        <p:blipFill>
          <a:blip r:embed="rId2"/>
          <a:stretch/>
        </p:blipFill>
        <p:spPr>
          <a:xfrm>
            <a:off x="4767120" y="895320"/>
            <a:ext cx="4584960" cy="4987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53735"/>
                </a:solidFill>
                <a:latin typeface="Calibri"/>
              </a:rPr>
              <a:t>Мы предположил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Если будешь слушать сказки, то научишься добр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53735"/>
                </a:solidFill>
                <a:latin typeface="Calibri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Выявление добра и зла в сказ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53735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Изучить сказ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Исследовать положительные и отрицательные качества геро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Calibri"/>
              </a:rPr>
              <a:t>Воспитать нравственные каче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56532800_1.jpg"/>
          <p:cNvPicPr/>
          <p:nvPr/>
        </p:nvPicPr>
        <p:blipFill>
          <a:blip r:embed="rId2"/>
          <a:stretch/>
        </p:blipFill>
        <p:spPr>
          <a:xfrm>
            <a:off x="500040" y="1457280"/>
            <a:ext cx="3747960" cy="4303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53735"/>
                </a:solidFill>
                <a:latin typeface="Calibri"/>
              </a:rPr>
              <a:t>Маленькие исследовател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Мы вместе со взрослыми провели эксперимент, который помог нам определить, какие хорошие поступки, а какие нет, что лучше совершать – добро или зло?  Предложили просмотреть сказки и охарактеризовать сказочных героев, что позволило оценить их поступ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Нам было интересно принимать участие в различных викторинах, рисовать сказочных героев, отгадывать загад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В один прекрасный день, мы сами инсценировали сказк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i.jpeg"/>
          <p:cNvPicPr/>
          <p:nvPr/>
        </p:nvPicPr>
        <p:blipFill>
          <a:blip r:embed="rId2"/>
          <a:stretch/>
        </p:blipFill>
        <p:spPr>
          <a:xfrm>
            <a:off x="4675320" y="1170000"/>
            <a:ext cx="4243320" cy="5091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53735"/>
                </a:solidFill>
                <a:latin typeface="Calibri"/>
              </a:rPr>
              <a:t>Результат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В ходе исследования мы изучили сказ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Исследовали положительные и отрицательные качества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Выявили хорошие и плохие поступ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c6be96133af5t.jpg"/>
          <p:cNvPicPr/>
          <p:nvPr/>
        </p:nvPicPr>
        <p:blipFill>
          <a:blip r:embed="rId2"/>
          <a:stretch/>
        </p:blipFill>
        <p:spPr>
          <a:xfrm>
            <a:off x="152280" y="2120760"/>
            <a:ext cx="4230720" cy="48531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53735"/>
                </a:solidFill>
                <a:latin typeface="Calibri"/>
              </a:rPr>
              <a:t>Сравнение с гипотез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7375e"/>
                </a:solidFill>
                <a:latin typeface="Calibri"/>
              </a:rPr>
              <a:t>Мы доказали, что если не слушать сказки, то не научишься добр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53735"/>
                </a:solidFill>
                <a:latin typeface="Calibri"/>
              </a:rPr>
              <a:t>Источники информаци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.А. Новиковская «Конспекты комплексных занятий по сказкам», М. 20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.С. Авдеев «Сказочка», М. 200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.А. Буракова «В гости к сказкам», М.20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9-25T15:38:01Z</dcterms:modified>
  <cp:revision>24</cp:revision>
  <dc:subject/>
  <dc:title>Тема исследования: «Сказка – ложь, да в ней намёк, добрым молодцам урок!»</dc:title>
</cp:coreProperties>
</file>