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0B5-0F20-44A2-9A8C-5B117143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D9C-E460-4D1E-BEBA-D6D3AFB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700-5D7A-4F03-89F6-916A5C5C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80B-23ED-494F-A534-A8A71E15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90D-F3EF-4BCB-B807-272AA5A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E03-A60C-4BC5-B098-CA181D7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83F-2AA3-4579-97F9-21A5F2F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5A9-7DA1-49D4-B8B4-BCD4EC3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CC2-0DC8-4E89-BD96-5518E119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31E-0383-49F8-BB06-99841B8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AA0-BE54-49E0-91D7-65A9C24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C40-C101-4103-9F06-81A044B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FA98-3BA7-4FEF-9DF4-714761839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Тема исследования: «Сказка – ложь, да в ней намёк, добрым молодцам урок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5932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тель гр.2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Галимьянова З.Ф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1252290181_kazkovi-15.jpg"/>
          <p:cNvPicPr/>
          <p:nvPr/>
        </p:nvPicPr>
        <p:blipFill>
          <a:blip r:embed="rId2"/>
          <a:stretch/>
        </p:blipFill>
        <p:spPr>
          <a:xfrm>
            <a:off x="4767120" y="895320"/>
            <a:ext cx="4584960" cy="498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53735"/>
                </a:solidFill>
                <a:latin typeface="Calibri"/>
              </a:rPr>
              <a:t>Мы предположил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Если будешь слушать сказки, то научишься добр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Calibri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ыявление добра и зла в сказ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зучить с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сследовать положительные и отрицательные качества геро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оспитать нравственные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56532800_1.jpg"/>
          <p:cNvPicPr/>
          <p:nvPr/>
        </p:nvPicPr>
        <p:blipFill>
          <a:blip r:embed="rId2"/>
          <a:stretch/>
        </p:blipFill>
        <p:spPr>
          <a:xfrm>
            <a:off x="500040" y="1457280"/>
            <a:ext cx="3747960" cy="430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Маленькие исследовате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Мы вместе со взрослыми провели эксперимент, который помог нам определить, какие хорошие поступки, а какие нет, что лучше совершать – добро или зло?  Предложили просмотреть сказки и охарактеризовать сказочных героев, что позволило оценить их поступ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Нам было интересно принимать участие в различных викторинах, рисовать сказочных героев, отгадывать загад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В один прекрасный день, мы сами инсценировали сказк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i.jpeg"/>
          <p:cNvPicPr/>
          <p:nvPr/>
        </p:nvPicPr>
        <p:blipFill>
          <a:blip r:embed="rId2"/>
          <a:stretch/>
        </p:blipFill>
        <p:spPr>
          <a:xfrm>
            <a:off x="4675320" y="1170000"/>
            <a:ext cx="4243320" cy="509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В ходе исследования мы изучили ска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Исследовали положительные и отрицательные качества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Выявили хорошие и плохие пост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c6be96133af5t.jpg"/>
          <p:cNvPicPr/>
          <p:nvPr/>
        </p:nvPicPr>
        <p:blipFill>
          <a:blip r:embed="rId2"/>
          <a:stretch/>
        </p:blipFill>
        <p:spPr>
          <a:xfrm>
            <a:off x="152280" y="2120760"/>
            <a:ext cx="4230720" cy="4853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Сравнение с гипотез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Мы доказали, что если не слушать сказки, то не научишься добр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.А. Новиковская «Конспекты комплексных занятий по сказкам», М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С. Авдеев «Сказочка», М.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А. Буракова «В гости к сказкам», М.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9-25T15:38:01Z</dcterms:modified>
  <cp:revision>24</cp:revision>
  <dc:subject/>
  <dc:title>Тема исследования: «Сказка – ложь, да в ней намёк, добрым молодцам урок!»</dc:title>
</cp:coreProperties>
</file>