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gif" ContentType="image/gif"/>
  <Override PartName="/ppt/media/image10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FD674-1A60-473F-86AD-94869D006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D8E3D-8811-41B2-A556-B7642BEF8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8E0FA-0009-4C9A-B837-F2B690A2C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0770D-6DEA-4575-BB76-42F3F3AB9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A60B0-C8F6-498F-94B5-698808D32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51DA5-E7AD-4EAD-83FF-EF6C1E3AE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A8E7A-705C-4837-99FB-CDCF37560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32764-0A7C-42C4-B0CD-687D7E9FC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A85AF-F294-4E29-931C-3791C03CF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14C7E-6505-4B89-B828-8AAC274B4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D8936-73A5-44C7-9072-E1F8003AA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C6D4E-462A-4CFD-95ED-2D0700439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69E6A-E2B9-4102-AA3F-360D9C01764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gif"/><Relationship Id="rId3" Type="http://schemas.openxmlformats.org/officeDocument/2006/relationships/image" Target="../media/image9.gif"/><Relationship Id="rId4" Type="http://schemas.openxmlformats.org/officeDocument/2006/relationships/image" Target="../media/image9.gif"/><Relationship Id="rId5" Type="http://schemas.openxmlformats.org/officeDocument/2006/relationships/image" Target="../media/image9.gif"/><Relationship Id="rId6" Type="http://schemas.openxmlformats.org/officeDocument/2006/relationships/image" Target="../media/image10.gif"/><Relationship Id="rId7" Type="http://schemas.openxmlformats.org/officeDocument/2006/relationships/image" Target="../media/image10.gi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160" y="1371240"/>
            <a:ext cx="7924680" cy="2514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Картинки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для развития речи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детей 3-7 лет</a:t>
            </a:r>
            <a:br>
              <a:rPr sz="4000"/>
            </a:b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(составление описательных рассказов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24280" y="4723920"/>
            <a:ext cx="3733920" cy="1752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40115577_258gg"/>
          <p:cNvPicPr/>
          <p:nvPr/>
        </p:nvPicPr>
        <p:blipFill>
          <a:blip r:embed="rId1"/>
          <a:stretch/>
        </p:blipFill>
        <p:spPr>
          <a:xfrm>
            <a:off x="304920" y="228600"/>
            <a:ext cx="853416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32292334_1239"/>
          <p:cNvPicPr/>
          <p:nvPr/>
        </p:nvPicPr>
        <p:blipFill>
          <a:blip r:embed="rId1"/>
          <a:stretch/>
        </p:blipFill>
        <p:spPr>
          <a:xfrm>
            <a:off x="380880" y="200160"/>
            <a:ext cx="8534520" cy="642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98784-i_016"/>
          <p:cNvPicPr/>
          <p:nvPr/>
        </p:nvPicPr>
        <p:blipFill>
          <a:blip r:embed="rId1"/>
          <a:stretch/>
        </p:blipFill>
        <p:spPr>
          <a:xfrm>
            <a:off x="304920" y="231840"/>
            <a:ext cx="8610480" cy="643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2e3b7e803040"/>
          <p:cNvPicPr/>
          <p:nvPr/>
        </p:nvPicPr>
        <p:blipFill>
          <a:blip r:embed="rId1"/>
          <a:stretch/>
        </p:blipFill>
        <p:spPr>
          <a:xfrm>
            <a:off x="152280" y="304920"/>
            <a:ext cx="883944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0_5ac2c_8211488d_L"/>
          <p:cNvPicPr/>
          <p:nvPr/>
        </p:nvPicPr>
        <p:blipFill>
          <a:blip r:embed="rId1"/>
          <a:stretch/>
        </p:blipFill>
        <p:spPr>
          <a:xfrm>
            <a:off x="1397160" y="254160"/>
            <a:ext cx="6349680" cy="63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0_75797_5fcffcc3_XL"/>
          <p:cNvPicPr/>
          <p:nvPr/>
        </p:nvPicPr>
        <p:blipFill>
          <a:blip r:embed="rId1"/>
          <a:stretch/>
        </p:blipFill>
        <p:spPr>
          <a:xfrm>
            <a:off x="1397160" y="266760"/>
            <a:ext cx="634968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39625803_space"/>
          <p:cNvPicPr/>
          <p:nvPr/>
        </p:nvPicPr>
        <p:blipFill>
          <a:blip r:embed="rId1"/>
          <a:stretch/>
        </p:blipFill>
        <p:spPr>
          <a:xfrm>
            <a:off x="2352600" y="380880"/>
            <a:ext cx="443880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5" descr="222626478"/>
          <p:cNvPicPr/>
          <p:nvPr/>
        </p:nvPicPr>
        <p:blipFill>
          <a:blip r:embed="rId1"/>
          <a:stretch/>
        </p:blipFill>
        <p:spPr>
          <a:xfrm>
            <a:off x="2470320" y="254160"/>
            <a:ext cx="4203360" cy="63496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20393_thumb"/>
          <p:cNvPicPr/>
          <p:nvPr/>
        </p:nvPicPr>
        <p:blipFill>
          <a:blip r:embed="rId2"/>
          <a:stretch/>
        </p:blipFill>
        <p:spPr>
          <a:xfrm rot="1884000">
            <a:off x="533160" y="4572000"/>
            <a:ext cx="1630080" cy="20574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20393_thumb"/>
          <p:cNvPicPr/>
          <p:nvPr/>
        </p:nvPicPr>
        <p:blipFill>
          <a:blip r:embed="rId3"/>
          <a:stretch/>
        </p:blipFill>
        <p:spPr>
          <a:xfrm rot="1872600">
            <a:off x="7086240" y="380520"/>
            <a:ext cx="1630440" cy="20574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20393_thumb"/>
          <p:cNvPicPr/>
          <p:nvPr/>
        </p:nvPicPr>
        <p:blipFill>
          <a:blip r:embed="rId4"/>
          <a:stretch/>
        </p:blipFill>
        <p:spPr>
          <a:xfrm rot="19845000">
            <a:off x="838080" y="228600"/>
            <a:ext cx="1751040" cy="22096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20393_thumb"/>
          <p:cNvPicPr/>
          <p:nvPr/>
        </p:nvPicPr>
        <p:blipFill>
          <a:blip r:embed="rId5"/>
          <a:stretch/>
        </p:blipFill>
        <p:spPr>
          <a:xfrm rot="20667000">
            <a:off x="7162560" y="4647960"/>
            <a:ext cx="1388880" cy="17524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0" descr="268874424"/>
          <p:cNvPicPr/>
          <p:nvPr/>
        </p:nvPicPr>
        <p:blipFill>
          <a:blip r:embed="rId6"/>
          <a:stretch/>
        </p:blipFill>
        <p:spPr>
          <a:xfrm rot="1767600">
            <a:off x="151920" y="2361960"/>
            <a:ext cx="2095560" cy="16239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1" descr="268874424"/>
          <p:cNvPicPr/>
          <p:nvPr/>
        </p:nvPicPr>
        <p:blipFill>
          <a:blip r:embed="rId7"/>
          <a:stretch/>
        </p:blipFill>
        <p:spPr>
          <a:xfrm rot="19684200">
            <a:off x="7048440" y="2666520"/>
            <a:ext cx="2095560" cy="16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20T11:01:45Z</dcterms:created>
  <dc:creator>Администратор</dc:creator>
  <dc:description/>
  <dc:language>en-US</dc:language>
  <cp:lastModifiedBy>1</cp:lastModifiedBy>
  <dcterms:modified xsi:type="dcterms:W3CDTF">2021-04-13T20:09:57Z</dcterms:modified>
  <cp:revision>2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