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77E-45D7-43C7-A95B-56B848484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980-C8AC-4186-9873-CB3B225B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274-B367-45E5-9206-06CE6484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BB1-B659-48C6-80BB-7F1F79FA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C98-2CF2-41B8-AA7A-A1609C4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52D-E384-459D-A89A-6D79E912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12B-7055-4199-B839-0C8065D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0A7-CEC3-4860-93B7-107FB87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5F6-C283-4EB0-8D4A-3753BA12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8CE-8DB7-48D5-952E-CCADBB7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3D9-AE14-4BD9-B98F-D63C222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FE4-1863-4DCA-BB19-88952AC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25D8-9412-4E0C-AD72-69A1E543B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артинк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развития реч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етей 3-7 лет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ставление описательных расск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4723920"/>
            <a:ext cx="3733920" cy="175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40115577_258g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2292334_1239"/>
          <p:cNvPicPr/>
          <p:nvPr/>
        </p:nvPicPr>
        <p:blipFill>
          <a:blip r:embed="rId1"/>
          <a:stretch/>
        </p:blipFill>
        <p:spPr>
          <a:xfrm>
            <a:off x="380880" y="200160"/>
            <a:ext cx="853452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98784-i_016"/>
          <p:cNvPicPr/>
          <p:nvPr/>
        </p:nvPicPr>
        <p:blipFill>
          <a:blip r:embed="rId1"/>
          <a:stretch/>
        </p:blipFill>
        <p:spPr>
          <a:xfrm>
            <a:off x="304920" y="23184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e3b7e803040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0_5ac2c_8211488d_L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_75797_5fcffcc3_XL"/>
          <p:cNvPicPr/>
          <p:nvPr/>
        </p:nvPicPr>
        <p:blipFill>
          <a:blip r:embed="rId1"/>
          <a:stretch/>
        </p:blipFill>
        <p:spPr>
          <a:xfrm>
            <a:off x="1397160" y="266760"/>
            <a:ext cx="634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9625803_space"/>
          <p:cNvPicPr/>
          <p:nvPr/>
        </p:nvPicPr>
        <p:blipFill>
          <a:blip r:embed="rId1"/>
          <a:stretch/>
        </p:blipFill>
        <p:spPr>
          <a:xfrm>
            <a:off x="2352600" y="380880"/>
            <a:ext cx="4438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22626478"/>
          <p:cNvPicPr/>
          <p:nvPr/>
        </p:nvPicPr>
        <p:blipFill>
          <a:blip r:embed="rId1"/>
          <a:stretch/>
        </p:blipFill>
        <p:spPr>
          <a:xfrm>
            <a:off x="2470320" y="254160"/>
            <a:ext cx="4203360" cy="634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0393_thumb"/>
          <p:cNvPicPr/>
          <p:nvPr/>
        </p:nvPicPr>
        <p:blipFill>
          <a:blip r:embed="rId2"/>
          <a:stretch/>
        </p:blipFill>
        <p:spPr>
          <a:xfrm rot="1884000">
            <a:off x="533160" y="457200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0393_thumb"/>
          <p:cNvPicPr/>
          <p:nvPr/>
        </p:nvPicPr>
        <p:blipFill>
          <a:blip r:embed="rId3"/>
          <a:stretch/>
        </p:blipFill>
        <p:spPr>
          <a:xfrm rot="1872600">
            <a:off x="7086240" y="380520"/>
            <a:ext cx="16304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0393_thumb"/>
          <p:cNvPicPr/>
          <p:nvPr/>
        </p:nvPicPr>
        <p:blipFill>
          <a:blip r:embed="rId4"/>
          <a:stretch/>
        </p:blipFill>
        <p:spPr>
          <a:xfrm rot="19845000">
            <a:off x="838080" y="228600"/>
            <a:ext cx="175104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20393_thumb"/>
          <p:cNvPicPr/>
          <p:nvPr/>
        </p:nvPicPr>
        <p:blipFill>
          <a:blip r:embed="rId5"/>
          <a:stretch/>
        </p:blipFill>
        <p:spPr>
          <a:xfrm rot="20667000">
            <a:off x="7162560" y="4647960"/>
            <a:ext cx="13888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268874424"/>
          <p:cNvPicPr/>
          <p:nvPr/>
        </p:nvPicPr>
        <p:blipFill>
          <a:blip r:embed="rId6"/>
          <a:stretch/>
        </p:blipFill>
        <p:spPr>
          <a:xfrm rot="1767600">
            <a:off x="151920" y="2361960"/>
            <a:ext cx="2095560" cy="162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68874424"/>
          <p:cNvPicPr/>
          <p:nvPr/>
        </p:nvPicPr>
        <p:blipFill>
          <a:blip r:embed="rId7"/>
          <a:stretch/>
        </p:blipFill>
        <p:spPr>
          <a:xfrm rot="19684200">
            <a:off x="7048440" y="2666520"/>
            <a:ext cx="20955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1:01:45Z</dcterms:created>
  <dc:creator>Администратор</dc:creator>
  <dc:description/>
  <dc:language>en-US</dc:language>
  <cp:lastModifiedBy>1</cp:lastModifiedBy>
  <dcterms:modified xsi:type="dcterms:W3CDTF">2021-04-13T20:09:5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