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3435-2A13-417C-8CB0-83D63289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9F7-FC9A-49C0-81A4-194E7924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D54-F054-472B-9043-BADCF148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C23-0934-49FD-ACB1-8BA6027A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99E4-F99B-47D3-875E-646B8196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A7E8-FBE2-41C5-81D6-C7C5B6A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CEE6-EF69-456C-B236-614B2D19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986-DA8E-42F5-9575-0A85D91E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392-34A6-4235-BA90-AC6F49BF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5AF6-B8E2-48CD-804B-6FD0AAD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51C-F287-4E02-91C3-065FEE80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7A3-E3D9-4B3B-9B3C-68FC1E0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00F0-0E8E-488A-AD67-E3CA094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870E-3B12-4FE1-B430-1D960783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82E-9C10-4911-A27A-6FAC0094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D0FC-C30F-4ECE-842F-CE24C629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A20B-04C7-4D96-B9C7-E3D98EC7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B6E-4B59-4F16-9402-66EEE3DA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72B-21CF-4391-861F-DCCD41C1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C42-8014-4F5F-B847-31CFB7F9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228-ED27-4E26-803B-B111A7B5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21C-FD54-43D1-86E2-7461416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C6F-3A7F-4DC9-ABA2-7C4E564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69E-1FC4-491C-A5A9-3A84BDB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1B06-10A5-4CCC-A437-5CCFE77B362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501D-7A27-4FC4-83AF-4EBC1C85EC77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Классификация ЗПР К.С.Лебединской.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4628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218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183"/>
                </a:solidFill>
                <a:latin typeface="Arial"/>
              </a:rPr>
              <a:t>конституционального происхождения;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218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183"/>
                </a:solidFill>
                <a:latin typeface="Arial"/>
              </a:rPr>
              <a:t>соматогенного происхождения;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1218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2183"/>
                </a:solidFill>
                <a:latin typeface="Arial"/>
              </a:rPr>
              <a:t>психогенного происхождения;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12183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12183"/>
                </a:solidFill>
                <a:latin typeface="Arial"/>
              </a:rPr>
              <a:t>4.</a:t>
            </a:r>
            <a:r>
              <a:rPr b="1" i="1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церебрально – органического генеза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5692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2109"/>
                </a:solidFill>
                <a:latin typeface="Times New Roman"/>
              </a:rPr>
              <a:t>ЗПР конституционального происхождени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13372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121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психический и психофизический инфантилизм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8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инфантильный тип телосложения, детская мимика и моторика, а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акже инфантильность психики.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buClr>
                <a:srgbClr val="2121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</a:rPr>
              <a:t>преобладают 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игровые интересы.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8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buClr>
                <a:srgbClr val="2121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183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ети внушаемы и недостаточно самостоятельны</a:t>
            </a:r>
            <a:r>
              <a:rPr b="0" lang="ru-RU" sz="2800" spc="-1" strike="noStrike">
                <a:solidFill>
                  <a:srgbClr val="212183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212183"/>
                </a:solidFill>
                <a:latin typeface="Arial"/>
                <a:ea typeface="Times New Roman"/>
              </a:rPr>
              <a:t> очень быстро устают от учебной деятельности.</a:t>
            </a:r>
            <a:r>
              <a:rPr b="0" lang="en-US" sz="2800" spc="-1" strike="noStrike">
                <a:solidFill>
                  <a:srgbClr val="21218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2109"/>
                </a:solidFill>
                <a:latin typeface="Times New Roman"/>
              </a:rPr>
              <a:t>ЗПР</a:t>
            </a:r>
            <a:r>
              <a:rPr b="0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самотогенного</a:t>
            </a:r>
            <a:r>
              <a:rPr b="0" lang="ru-RU" sz="44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 происхождени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длительны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хронически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е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заболевания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физическ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ая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и психическ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ая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астени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я (у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детей отмечается большая  физическая и психическая истощаемость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у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них формируются такие черты характера, как робость, боязливость, неуверенность в себе.</a:t>
            </a:r>
            <a:r>
              <a:rPr b="0" lang="ru-RU" sz="3200" spc="-1" strike="noStrike">
                <a:solidFill>
                  <a:srgbClr val="21218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1127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ЗПР </a:t>
            </a:r>
            <a:r>
              <a:rPr b="0" i="1" lang="ru-RU" sz="32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психогенного </a:t>
            </a:r>
            <a:r>
              <a:rPr b="0" lang="ru-RU" sz="32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происхождения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неблагоприятные условия воспитания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стойкие отклонения нервно – психической  сферы, что обусловливает патологическое развитие лично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преимущественно страдает эмоционально – волевая сфера.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(т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ак при педагогической запущенности, безнадзорности у ребенка формируется психическая неустойчивость, импульсивность, отсутствие чувства долга и ответственности. При гиперопеке появляются эгоцентрические установки, эмоциональная холодность, неспособность к волевому усилию, к труду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1200" y="43308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f2109"/>
                </a:solidFill>
                <a:latin typeface="Times New Roman"/>
              </a:rPr>
              <a:t>ЗПР </a:t>
            </a:r>
            <a:r>
              <a:rPr b="0" i="1" lang="ru-RU" sz="3600" spc="-1" strike="noStrike">
                <a:solidFill>
                  <a:srgbClr val="cf2109"/>
                </a:solidFill>
                <a:latin typeface="Times New Roman"/>
                <a:ea typeface="Times New Roman"/>
              </a:rPr>
              <a:t>церебрально – органического генез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органическ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ое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 поражение ЦНС на ранних этапах онтогенеза 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(к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онкретными причинами являются: патология беременности и родов, интоксикация, инфекции, травмы ЦНС в первые годы жизни ребенка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83"/>
                </a:solidFill>
                <a:latin typeface="Times New Roman"/>
                <a:ea typeface="Times New Roman"/>
              </a:rPr>
              <a:t>При этой форме ЗПР, наряду с признаками замедления темпа развития, имеются и симптомы повреждения ЦНС (гидроцефалии, нарушений черепно – мозговой иннервации, выраженной вегето – сосудистой дистонии).</a:t>
            </a:r>
            <a:r>
              <a:rPr b="0" lang="ru-RU" sz="2400" spc="-1" strike="noStrike">
                <a:solidFill>
                  <a:srgbClr val="21218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3:05:31Z</dcterms:created>
  <dc:creator>1</dc:creator>
  <dc:description/>
  <dc:language>en-US</dc:language>
  <cp:lastModifiedBy>1</cp:lastModifiedBy>
  <dcterms:modified xsi:type="dcterms:W3CDTF">2007-02-05T05:56:16Z</dcterms:modified>
  <cp:revision>4</cp:revision>
  <dc:subject/>
  <dc:title>Презентация PowerPoint</dc:title>
</cp:coreProperties>
</file>