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08F-2D7B-4453-8800-8F9C30BF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B42-8DBD-440E-9B02-5DC3B64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FD3-BD53-41EE-AAFA-8A438500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D58-302C-45B8-BF79-21918AC2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1E0-E25C-46BD-8AF1-58545814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A22-3FA6-41C1-9B8B-AD8363D7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A54-CF1E-4AAD-B389-F45F411A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4FE-7EE7-4979-BE40-31CB224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646-23A8-4986-A6C3-834FE34B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939-09D6-4732-841F-36B9E8E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170-DC5A-4771-AD63-9094B46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277-87AE-4C73-AB47-9CB9198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0BCA-495D-4169-87EA-0B1DC4B3C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МДОУ «ЦРР ДЕТСКИЙ САД №4 п. Майский»</a:t>
            </a:r>
            <a:br>
              <a:rPr sz="2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Проект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«Этот таинственный, бескрайний  космо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4840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Разработал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 провела :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асько Елена Адам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оспитанни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йский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2320" y="3095640"/>
            <a:ext cx="4694040" cy="37497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ервый пол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4" descr="4def59049656336852ef715f5cc02fa4.jpg"/>
          <p:cNvPicPr/>
          <p:nvPr/>
        </p:nvPicPr>
        <p:blipFill>
          <a:blip r:embed="rId1"/>
          <a:stretch/>
        </p:blipFill>
        <p:spPr>
          <a:xfrm>
            <a:off x="324000" y="1844640"/>
            <a:ext cx="4659120" cy="343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932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«Восток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еленно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alibri"/>
              </a:rPr>
              <a:t>Интересный факт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после полета Первому космонавту лейтенанту Гагарину присвоили звание майора. И в новостях передали о Майоре Гагарине, покорившем космос, а день 12 апреля стал международным днем космонавтики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ервый космонав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06973381.jpg"/>
          <p:cNvPicPr/>
          <p:nvPr/>
        </p:nvPicPr>
        <p:blipFill>
          <a:blip r:embed="rId1"/>
          <a:stretch/>
        </p:blipFill>
        <p:spPr>
          <a:xfrm>
            <a:off x="461880" y="1268280"/>
            <a:ext cx="1878120" cy="288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Юрий Гагарин стал первым человеком в мировой истории, совершившим полёт в космическое пространство. Ракета-носитель «Восток»с кораблём «Восток», на борту которого находился Гагарин, была запущена с космодрома Байконур. После 108 минут полёта Гагарин успешно приземлился в Саратовской области, неподалёку от города Энгельса. Начиная с 12 апреля 1962 года, день полёта Гагарина в космос был объявлен праздником -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нём космонав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D:\космос\raketa_vostok.jpg"/>
          <p:cNvPicPr/>
          <p:nvPr/>
        </p:nvPicPr>
        <p:blipFill>
          <a:blip r:embed="rId2"/>
          <a:stretch/>
        </p:blipFill>
        <p:spPr>
          <a:xfrm>
            <a:off x="2357280" y="1268280"/>
            <a:ext cx="1927440" cy="28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s://upload.wikimedia.org/wikipedia/ru/0/0d/%D0%97%D0%B0%D0%BF%D0%B8%D1%81%D0%BA%D0%B0_%D0%93%D0%B0%D0%B3%D0%B0%D1%80%D0%B8%D0%BD%D0%B0.jpg"/>
          <p:cNvPicPr/>
          <p:nvPr/>
        </p:nvPicPr>
        <p:blipFill>
          <a:blip r:embed="rId3"/>
          <a:stretch/>
        </p:blipFill>
        <p:spPr>
          <a:xfrm>
            <a:off x="468360" y="4365720"/>
            <a:ext cx="3809880" cy="21812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ловек в открытом космо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05.jpg"/>
          <p:cNvPicPr/>
          <p:nvPr/>
        </p:nvPicPr>
        <p:blipFill>
          <a:blip r:embed="rId1"/>
          <a:stretch/>
        </p:blipFill>
        <p:spPr>
          <a:xfrm>
            <a:off x="452520" y="1486080"/>
            <a:ext cx="3255840" cy="3598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0" y="4941720"/>
            <a:ext cx="874872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 марта 1965 года космонавт СССР Алексей Архипович Леонов совершил первый в истории человечества выход в открытый космос. Событие произошло во время полета космического корабля “Восход-2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выхода в космос был разработан скафандр “Беркут”. Он обеспечивал пребывание в открытом космосе в течение 30 минут. Первый же выход занял 23 минуты 41 секунду (вне корабля 12 минут 9 секунд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://www.kuzrab.ru/upload/medialibrary/c95/041_46_2014.jpg"/>
          <p:cNvPicPr/>
          <p:nvPr/>
        </p:nvPicPr>
        <p:blipFill>
          <a:blip r:embed="rId2"/>
          <a:stretch/>
        </p:blipFill>
        <p:spPr>
          <a:xfrm>
            <a:off x="3913200" y="1486080"/>
            <a:ext cx="4762440" cy="35985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ервая женщина-космона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560" y="4548240"/>
            <a:ext cx="475308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ая  женщина, которая  16 – 19 июня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963 года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 корабле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Восток – 6»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нялась  в  космос – Терешкова Валентина Владимировна. Продолжительность  полёта составила 70 ча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9" descr="1371265810_99c7e30bcc7d4fe1db06fd87b416d314.jpg"/>
          <p:cNvPicPr/>
          <p:nvPr/>
        </p:nvPicPr>
        <p:blipFill>
          <a:blip r:embed="rId1"/>
          <a:stretch/>
        </p:blipFill>
        <p:spPr>
          <a:xfrm>
            <a:off x="539640" y="1341360"/>
            <a:ext cx="4038840" cy="3033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873600" cy="518328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ервая женщина в открытом космо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тлана Евгеньевна Савицкая – вторая женщина-космонавт и первая женщина, вышедшая в открытый космос. На  корабле «Союз Т» в  августе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82 год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ила  космический  полёт. А во  время второго своего  полёта  25 июл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84 год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ила  выход  в  открытый  космос продолжительностью 3 часа 35 минут  с  орбитальной  станции  «Салют 7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3_172.jpg"/>
          <p:cNvPicPr/>
          <p:nvPr/>
        </p:nvPicPr>
        <p:blipFill>
          <a:blip r:embed="rId1"/>
          <a:stretch/>
        </p:blipFill>
        <p:spPr>
          <a:xfrm>
            <a:off x="885960" y="1600200"/>
            <a:ext cx="3181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ЛОВЕК НА ЛУ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4" descr="1437386672_b50e887370855827c31794d65b8e0c0d.jpg"/>
          <p:cNvPicPr/>
          <p:nvPr/>
        </p:nvPicPr>
        <p:blipFill>
          <a:blip r:embed="rId1"/>
          <a:stretch/>
        </p:blipFill>
        <p:spPr>
          <a:xfrm>
            <a:off x="457200" y="1557360"/>
            <a:ext cx="3600360" cy="224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Нил А́рмстрон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американский астронавт, первый человек, ступивший на Луну. Это произошло 20 июля 1969 года в ходе лунной экспедиции корабля «Аполлон-11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пая на поверхность Луны, Армстронг произнес историческую фраз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о один маленький шаг для человека, но гигантский скачок для всего человечеств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 на поверхность Луны продолжительностью 2 часа 31 минута 40 секун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98920" cy="24591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6" descr="3d_space_74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7640" y="4005000"/>
            <a:ext cx="24242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2"/>
          <a:stretch/>
        </p:blipFill>
        <p:spPr>
          <a:xfrm>
            <a:off x="6588000" y="395280"/>
            <a:ext cx="2059200" cy="2529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3"/>
          <a:stretch/>
        </p:blipFill>
        <p:spPr>
          <a:xfrm>
            <a:off x="3176640" y="260280"/>
            <a:ext cx="2790720" cy="2820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"/>
          <p:cNvPicPr/>
          <p:nvPr/>
        </p:nvPicPr>
        <p:blipFill>
          <a:blip r:embed="rId4"/>
          <a:stretch/>
        </p:blipFill>
        <p:spPr>
          <a:xfrm>
            <a:off x="3371760" y="3233880"/>
            <a:ext cx="2595600" cy="1995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"/>
          <p:cNvPicPr/>
          <p:nvPr/>
        </p:nvPicPr>
        <p:blipFill>
          <a:blip r:embed="rId5"/>
          <a:stretch/>
        </p:blipFill>
        <p:spPr>
          <a:xfrm>
            <a:off x="6461280" y="3267000"/>
            <a:ext cx="2468520" cy="1962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"/>
          <p:cNvPicPr/>
          <p:nvPr/>
        </p:nvPicPr>
        <p:blipFill>
          <a:blip r:embed="rId6"/>
          <a:stretch/>
        </p:blipFill>
        <p:spPr>
          <a:xfrm>
            <a:off x="263520" y="3314880"/>
            <a:ext cx="255420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"/>
          <p:cNvPicPr/>
          <p:nvPr/>
        </p:nvPicPr>
        <p:blipFill>
          <a:blip r:embed="rId7"/>
          <a:stretch/>
        </p:blipFill>
        <p:spPr>
          <a:xfrm>
            <a:off x="263520" y="249120"/>
            <a:ext cx="2554200" cy="2820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2340000" y="4365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8640"/>
            <a:ext cx="8578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5364000" y="1060560"/>
            <a:ext cx="3780000" cy="4365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3"/>
          <a:stretch/>
        </p:blipFill>
        <p:spPr>
          <a:xfrm>
            <a:off x="1332000" y="2548080"/>
            <a:ext cx="3189240" cy="400356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пплик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85840" cy="2779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2576520" y="1341360"/>
            <a:ext cx="2066760" cy="2779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849920" y="1314360"/>
            <a:ext cx="1993680" cy="2781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"/>
          <p:cNvPicPr/>
          <p:nvPr/>
        </p:nvPicPr>
        <p:blipFill>
          <a:blip r:embed="rId4"/>
          <a:stretch/>
        </p:blipFill>
        <p:spPr>
          <a:xfrm>
            <a:off x="2336760" y="4121280"/>
            <a:ext cx="4068720" cy="2755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"/>
          <p:cNvPicPr/>
          <p:nvPr/>
        </p:nvPicPr>
        <p:blipFill>
          <a:blip r:embed="rId5"/>
          <a:stretch/>
        </p:blipFill>
        <p:spPr>
          <a:xfrm>
            <a:off x="6969240" y="1314360"/>
            <a:ext cx="2066760" cy="2806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а в нашем детском са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2519280" cy="3311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2"/>
          <a:stretch/>
        </p:blipFill>
        <p:spPr>
          <a:xfrm>
            <a:off x="2592360" y="1197000"/>
            <a:ext cx="3059280" cy="5661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3"/>
          <a:stretch/>
        </p:blipFill>
        <p:spPr>
          <a:xfrm>
            <a:off x="5952960" y="1112760"/>
            <a:ext cx="308304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Zhan-Mishel_-Zhar-Oxygene-2(muzofon.com).mp3" descr=""/>
          <p:cNvPicPr/>
          <p:nvPr/>
        </p:nvPicPr>
        <p:blipFill>
          <a:blip r:embed="rId1"/>
          <a:stretch/>
        </p:blipFill>
        <p:spPr>
          <a:xfrm>
            <a:off x="-900000" y="508464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27040" y="1413000"/>
          <a:ext cx="6289920" cy="4895640"/>
        </p:xfrm>
        <a:graphic>
          <a:graphicData uri="http://schemas.openxmlformats.org/drawingml/2006/table">
            <a:tbl>
              <a:tblPr/>
              <a:tblGrid>
                <a:gridCol w="6289920"/>
              </a:tblGrid>
              <a:tr h="489564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: краткосрочный (1 неделя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проекта: познавательно - творче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раст: 6-7 л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ники: дети, воспитатели, родите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97000" y="522000"/>
            <a:ext cx="6750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онная карта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пим 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Объект 6" descr=""/>
          <p:cNvPicPr/>
          <p:nvPr/>
        </p:nvPicPr>
        <p:blipFill>
          <a:blip r:embed="rId1"/>
          <a:stretch/>
        </p:blipFill>
        <p:spPr>
          <a:xfrm>
            <a:off x="457200" y="2292480"/>
            <a:ext cx="1812960" cy="2476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тающие тар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7" descr=""/>
          <p:cNvPicPr/>
          <p:nvPr/>
        </p:nvPicPr>
        <p:blipFill>
          <a:blip r:embed="rId2"/>
          <a:stretch/>
        </p:blipFill>
        <p:spPr>
          <a:xfrm>
            <a:off x="2478240" y="2313000"/>
            <a:ext cx="1733400" cy="24559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"/>
          <p:cNvPicPr/>
          <p:nvPr/>
        </p:nvPicPr>
        <p:blipFill>
          <a:blip r:embed="rId3"/>
          <a:stretch/>
        </p:blipFill>
        <p:spPr>
          <a:xfrm>
            <a:off x="4645080" y="2292480"/>
            <a:ext cx="1727280" cy="24764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"/>
          <p:cNvPicPr/>
          <p:nvPr/>
        </p:nvPicPr>
        <p:blipFill>
          <a:blip r:embed="rId4"/>
          <a:stretch/>
        </p:blipFill>
        <p:spPr>
          <a:xfrm>
            <a:off x="6892920" y="2292480"/>
            <a:ext cx="1639800" cy="24764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Объект 6" descr=""/>
          <p:cNvPicPr/>
          <p:nvPr/>
        </p:nvPicPr>
        <p:blipFill>
          <a:blip r:embed="rId1"/>
          <a:stretch/>
        </p:blipFill>
        <p:spPr>
          <a:xfrm>
            <a:off x="328680" y="136440"/>
            <a:ext cx="2789280" cy="3951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Объект 7" descr=""/>
          <p:cNvPicPr/>
          <p:nvPr/>
        </p:nvPicPr>
        <p:blipFill>
          <a:blip r:embed="rId2"/>
          <a:stretch/>
        </p:blipFill>
        <p:spPr>
          <a:xfrm>
            <a:off x="3614760" y="1700280"/>
            <a:ext cx="2789280" cy="3951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3"/>
          <a:stretch/>
        </p:blipFill>
        <p:spPr>
          <a:xfrm>
            <a:off x="7058160" y="4129200"/>
            <a:ext cx="1917720" cy="27144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"/>
          <p:cNvPicPr/>
          <p:nvPr/>
        </p:nvPicPr>
        <p:blipFill>
          <a:blip r:embed="rId4"/>
          <a:stretch/>
        </p:blipFill>
        <p:spPr>
          <a:xfrm>
            <a:off x="727200" y="4129200"/>
            <a:ext cx="2549520" cy="272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5"/>
          <a:stretch/>
        </p:blipFill>
        <p:spPr>
          <a:xfrm>
            <a:off x="7102440" y="1052640"/>
            <a:ext cx="1916280" cy="28526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ы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Объект 6" descr=""/>
          <p:cNvPicPr/>
          <p:nvPr/>
        </p:nvPicPr>
        <p:blipFill>
          <a:blip r:embed="rId1"/>
          <a:stretch/>
        </p:blipFill>
        <p:spPr>
          <a:xfrm>
            <a:off x="5813280" y="2201760"/>
            <a:ext cx="3025800" cy="2138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Объект 7" descr=""/>
          <p:cNvPicPr/>
          <p:nvPr/>
        </p:nvPicPr>
        <p:blipFill>
          <a:blip r:embed="rId2"/>
          <a:stretch/>
        </p:blipFill>
        <p:spPr>
          <a:xfrm>
            <a:off x="3218040" y="2363760"/>
            <a:ext cx="2663640" cy="1893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"/>
          <p:cNvPicPr/>
          <p:nvPr/>
        </p:nvPicPr>
        <p:blipFill>
          <a:blip r:embed="rId3"/>
          <a:stretch/>
        </p:blipFill>
        <p:spPr>
          <a:xfrm>
            <a:off x="0" y="3784680"/>
            <a:ext cx="4067280" cy="287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"/>
          <p:cNvPicPr/>
          <p:nvPr/>
        </p:nvPicPr>
        <p:blipFill>
          <a:blip r:embed="rId4"/>
          <a:stretch/>
        </p:blipFill>
        <p:spPr>
          <a:xfrm>
            <a:off x="25560" y="2097000"/>
            <a:ext cx="3144600" cy="22240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"/>
          <p:cNvPicPr/>
          <p:nvPr/>
        </p:nvPicPr>
        <p:blipFill>
          <a:blip r:embed="rId5"/>
          <a:stretch/>
        </p:blipFill>
        <p:spPr>
          <a:xfrm>
            <a:off x="4091040" y="4444920"/>
            <a:ext cx="2941560" cy="2081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"/>
          <p:cNvPicPr/>
          <p:nvPr/>
        </p:nvPicPr>
        <p:blipFill>
          <a:blip r:embed="rId6"/>
          <a:stretch/>
        </p:blipFill>
        <p:spPr>
          <a:xfrm>
            <a:off x="6210360" y="4606920"/>
            <a:ext cx="294300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формация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520720" cy="367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"/>
          <p:cNvPicPr/>
          <p:nvPr/>
        </p:nvPicPr>
        <p:blipFill>
          <a:blip r:embed="rId2"/>
          <a:stretch/>
        </p:blipFill>
        <p:spPr>
          <a:xfrm>
            <a:off x="2987640" y="1181160"/>
            <a:ext cx="2592360" cy="36878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3"/>
          <a:stretch/>
        </p:blipFill>
        <p:spPr>
          <a:xfrm>
            <a:off x="5856120" y="1208160"/>
            <a:ext cx="2954520" cy="366084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1419120" y="1600200"/>
            <a:ext cx="63057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основание актуальности проектной 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апреля в нашей стране отмечается День космонавтики. В этот день в 1961 году нашу планету потрясла неожиданная весть: «Человек в космосе!». Мечта людей о полете в космос наконец-то сбылась. А самое главное, что на борту корабля «Восток-1» был гражданини нашей страны - космонавт Юрий Алексеевич Гагарин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21 год – круглая дата в отечественной космолог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о ли знать о ней воспитанникам ДОО? Безусловно, да! Сегодня, во времена космических ракет, спутников и луноходов, нам есть, что рассказать своим детям. Однако масштабы Вселенной трудно представить даже взрослому человеку. Настоящий проект легко и доступно познакомит детей с основами астрономии, а для кого-то, возможно, станет первым шагом к будущей профессии.</a:t>
            </a:r>
            <a:br>
              <a:rPr sz="1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88000" y="549360"/>
            <a:ext cx="383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осмос\галилей.jpg"/>
          <p:cNvPicPr/>
          <p:nvPr/>
        </p:nvPicPr>
        <p:blipFill>
          <a:blip r:embed="rId1"/>
          <a:stretch/>
        </p:blipFill>
        <p:spPr>
          <a:xfrm>
            <a:off x="179280" y="3684600"/>
            <a:ext cx="4191120" cy="3173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ОД «Путешествие в центр Космонавтики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атривание иллюстраций «Планеты Солнечной систем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дактические игры: «Космический словарь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ение стихов о космо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2592360" cy="1765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2916360" y="2660760"/>
            <a:ext cx="2904840" cy="1785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3"/>
          <a:stretch/>
        </p:blipFill>
        <p:spPr>
          <a:xfrm>
            <a:off x="6156360" y="2682720"/>
            <a:ext cx="2651040" cy="1791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"/>
          <p:cNvPicPr/>
          <p:nvPr/>
        </p:nvPicPr>
        <p:blipFill>
          <a:blip r:embed="rId4"/>
          <a:stretch/>
        </p:blipFill>
        <p:spPr>
          <a:xfrm>
            <a:off x="108000" y="4653000"/>
            <a:ext cx="2592360" cy="18334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"/>
          <p:cNvPicPr/>
          <p:nvPr/>
        </p:nvPicPr>
        <p:blipFill>
          <a:blip r:embed="rId5"/>
          <a:stretch/>
        </p:blipFill>
        <p:spPr>
          <a:xfrm>
            <a:off x="2914560" y="4686480"/>
            <a:ext cx="290664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"/>
          <p:cNvPicPr/>
          <p:nvPr/>
        </p:nvPicPr>
        <p:blipFill>
          <a:blip r:embed="rId6"/>
          <a:stretch/>
        </p:blipFill>
        <p:spPr>
          <a:xfrm>
            <a:off x="6111720" y="4653000"/>
            <a:ext cx="2700360" cy="18223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тцы космонав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Константин Эдуардович Циолковский </a:t>
            </a: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— русский и советский учёный и изобретатель . Основоположник теоретической космонавт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Обосновал использование ракет для полётов в космос, пришёл к выводу о необходимости использования «ракетных поездов» — прототипов многоступенчатых рак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Основные  его научные труды относятся к аэронавтике, ракетодинамике и космонав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640" algn="just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5720" y="1600200"/>
            <a:ext cx="37814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4" descr="SKorolow.jpg"/>
          <p:cNvPicPr/>
          <p:nvPr/>
        </p:nvPicPr>
        <p:blipFill>
          <a:blip r:embed="rId1"/>
          <a:stretch/>
        </p:blipFill>
        <p:spPr>
          <a:xfrm>
            <a:off x="1042920" y="549360"/>
            <a:ext cx="2384640" cy="36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149720"/>
            <a:ext cx="79912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гей Павлович Королё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советский учёный, конструкт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ргей Королёв является известным создателем советской ракетно-космической техники, обеспечившей стратегический паритет и сделавшей СССР передовой ракетно-космической державой, и ключевой фигурой в освоении человеком космоса, создателем практической космонавтики. По его инициативе и под его руководством был осуществлён запуск первого искусственного спутника Земли и первого космонавта планеты Юрия Гагар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259160" y="549360"/>
            <a:ext cx="3913200" cy="3598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9280" y="4403520"/>
            <a:ext cx="814716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там побывали живот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ервой была – маленькая  собачка Лайка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95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у                                    (на космическом  аппарате  «Спутник – 2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28600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Наташа\Pictures\лайка.jpg"/>
          <p:cNvPicPr/>
          <p:nvPr/>
        </p:nvPicPr>
        <p:blipFill>
          <a:blip r:embed="rId2"/>
          <a:stretch/>
        </p:blipFill>
        <p:spPr>
          <a:xfrm>
            <a:off x="3348000" y="836640"/>
            <a:ext cx="485136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76720" y="1844280"/>
            <a:ext cx="3533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недавно про приключения звёздных собак был снят мультипликационный фильм о приключениях Белки и Стрелки в космо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1439983663_2.jpg"/>
          <p:cNvPicPr/>
          <p:nvPr/>
        </p:nvPicPr>
        <p:blipFill>
          <a:blip r:embed="rId1"/>
          <a:stretch/>
        </p:blipFill>
        <p:spPr>
          <a:xfrm>
            <a:off x="252360" y="1550880"/>
            <a:ext cx="4680000" cy="194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50920" y="3747960"/>
            <a:ext cx="4680000" cy="2633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1835280" y="4046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СМОДРОМ БАЙКОН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000" y="4797000"/>
            <a:ext cx="82184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дром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это территория, на которой размещается комплекс сооружений, предназначенный для запуска космических аппаратов в косм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с космодрома Байконур 12 апреля 1961 года стартовал советский космический корабль  «Восток» и вся страна услышала знаменитые слова Юрия Алексеевича Гагар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ЕХАЛИ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original.jpg"/>
          <p:cNvPicPr/>
          <p:nvPr/>
        </p:nvPicPr>
        <p:blipFill>
          <a:blip r:embed="rId1"/>
          <a:stretch/>
        </p:blipFill>
        <p:spPr>
          <a:xfrm>
            <a:off x="684360" y="1332000"/>
            <a:ext cx="4763880" cy="32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08296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13:48:59Z</dcterms:created>
  <dc:creator>Денис</dc:creator>
  <dc:description/>
  <dc:language>en-US</dc:language>
  <cp:lastModifiedBy>Пользователь</cp:lastModifiedBy>
  <dcterms:modified xsi:type="dcterms:W3CDTF">2021-04-13T16:43:50Z</dcterms:modified>
  <cp:revision>106</cp:revision>
  <dc:subject/>
  <dc:title>Космо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e0000000000010290310207f7000400038000</vt:lpwstr>
  </property>
</Properties>
</file>