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3FC-435B-4FAE-A8EE-52CD4E04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77F-3F93-478B-BF94-AF64044A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547-ED14-4D28-B86F-A4076D4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ADB-2A2A-49B7-BBC3-DAC80F27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533-40C3-4B20-A853-6A172FE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CCA-1944-49A7-ACCB-1EE22108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09E-D22D-450D-9DE9-9DDCDE1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772-E887-485F-9235-5FD8F00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810-1AED-4115-9F85-1AD1DDD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495-2799-4CCD-B679-73B733A8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DA3-5DC3-48E4-9DE8-E9253E5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320-C2C9-4EBD-86AD-D017FB5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96C2-FC48-4A11-90C8-24108C37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1267920"/>
            <a:ext cx="483408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ейчас, как никогда, мы понимаем, что без природы нам не прожить. Природа обойдется без нас, а вот мы без неё – нет. И ещё: природа не может сама себя погубить, погубить её можем только мы, люди»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.Слад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9280" cy="640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420372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3995640" y="4876920"/>
            <a:ext cx="5148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ЧНОЙ БОБ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68360" y="6093000"/>
            <a:ext cx="1150920" cy="558720"/>
          </a:xfrm>
          <a:prstGeom prst="rightArrow">
            <a:avLst>
              <a:gd name="adj1" fmla="val 50000"/>
              <a:gd name="adj2" fmla="val 514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84216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8668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обры издавна добываются ради своего красивого и прочного меха. В результате хищнического промысла они оказались на грани вымирания. Бобры занесены в Красную книгу Росси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раницах записаны названия животных, которые до сих пор мало изучены.Места их обитания труднодоступны или точно не установле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971640" y="5084640"/>
            <a:ext cx="2663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новая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репаха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3" name="Picture 11" descr="геркулес"/>
          <p:cNvPicPr/>
          <p:nvPr/>
        </p:nvPicPr>
        <p:blipFill>
          <a:blip r:embed="rId1"/>
          <a:stretch/>
        </p:blipFill>
        <p:spPr>
          <a:xfrm>
            <a:off x="4788000" y="1773360"/>
            <a:ext cx="3986280" cy="3230280"/>
          </a:xfrm>
          <a:prstGeom prst="rect">
            <a:avLst/>
          </a:prstGeom>
          <a:ln w="0">
            <a:noFill/>
          </a:ln>
        </p:spPr>
      </p:pic>
      <p:sp>
        <p:nvSpPr>
          <p:cNvPr id="94" name="WordArt 12"/>
          <p:cNvSpPr txBox="1"/>
          <p:nvPr/>
        </p:nvSpPr>
        <p:spPr>
          <a:xfrm>
            <a:off x="4859280" y="5300640"/>
            <a:ext cx="352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к - геркулес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392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ператорский пинг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280" y="1628280"/>
            <a:ext cx="475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орские пингвины живут в Антарктиде. Когда морозы достигают минус шестьдесят градусов, у пары пингвинов появляется одно-единственное яйцо. Если оно упадет на снег, то погибнет. Самец два месяца согревает яйцо, держа его между лапами, пока малыш не проклюнется. Между тем мама уже ловит рыбу и рачков. Подросший детеныш ест до четырех килограммов рыбы 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пингвин"/>
          <p:cNvPicPr/>
          <p:nvPr/>
        </p:nvPicPr>
        <p:blipFill>
          <a:blip r:embed="rId1"/>
          <a:stretch/>
        </p:blipFill>
        <p:spPr>
          <a:xfrm>
            <a:off x="395280" y="1916280"/>
            <a:ext cx="3960720" cy="3054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/>
          <p:cNvSpPr/>
          <p:nvPr/>
        </p:nvSpPr>
        <p:spPr>
          <a:xfrm>
            <a:off x="539640" y="5950080"/>
            <a:ext cx="1224000" cy="628560"/>
          </a:xfrm>
          <a:prstGeom prst="right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л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ицах записаны животные, численность которых всегда была не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755640" y="4941720"/>
            <a:ext cx="3095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ятнистый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л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292720" y="5084640"/>
            <a:ext cx="2352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тконо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05080" cy="335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4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8"/>
          <p:cNvSpPr txBox="1"/>
          <p:nvPr/>
        </p:nvSpPr>
        <p:spPr>
          <a:xfrm>
            <a:off x="900000" y="4005360"/>
            <a:ext cx="32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неж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р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5148360" y="1628640"/>
            <a:ext cx="31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вед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333360"/>
            <a:ext cx="4176720" cy="331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956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8920" y="18864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360" y="1484280"/>
            <a:ext cx="4259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ают они, вытянув шеи вперед, а ноги назад, плавают хорошо, гнездятся и кормятся на мелководьях. Когда фламинго закрывает клюв, мясистый язык падает вперед и, как поршнем, выталкивает воду из клюва. Пища же остается в клю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х птиц можно встретить на Кас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95280" y="5950080"/>
            <a:ext cx="1224000" cy="628560"/>
          </a:xfrm>
          <a:prstGeom prst="right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37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ицах записаны животные, которых удалось спасти от вымир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755640" y="134136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рый медвед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7740720" y="6308640"/>
            <a:ext cx="1224000" cy="549360"/>
          </a:xfrm>
          <a:prstGeom prst="rightArrow">
            <a:avLst>
              <a:gd name="adj1" fmla="val 50000"/>
              <a:gd name="adj2" fmla="val 557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23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50920" y="3500280"/>
            <a:ext cx="4284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рые медведи живут в лес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равнинах, в горах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11280" y="4221000"/>
            <a:ext cx="4392720" cy="25005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9"/>
          <p:cNvSpPr txBox="1"/>
          <p:nvPr/>
        </p:nvSpPr>
        <p:spPr>
          <a:xfrm>
            <a:off x="755640" y="595008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с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7093080" y="422100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убр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устроена Красная книг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цветные ст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981000"/>
          <a:ext cx="8569080" cy="5797800"/>
        </p:xfrm>
        <a:graphic>
          <a:graphicData uri="http://schemas.openxmlformats.org/drawingml/2006/table">
            <a:tbl>
              <a:tblPr/>
              <a:tblGrid>
                <a:gridCol w="1660320"/>
                <a:gridCol w="4260960"/>
                <a:gridCol w="2647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животные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ки тех, кого уже нет, кого мы больше никогда не увидим, кто уже выме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 корова, странствующие голуб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ывают исчезающих и особо редких животных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 кит, стерх полосатая гие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есены животные, количество которых стремительно уменьшаетс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ский тигр, речной бобр, морж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ы названия животных, численность которых всегда была невелик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новая черепаха, жук-геркулес, императорские пингвин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ы те животные, которые очень плохо изучены, а места их обитания малодоступн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медведь, снежный барс, пятнистый олень, утконос, фламин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ы названия животных, которых нам удалось сохранить и спасти от вымирани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сь, бурый медведь, зуб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755640" y="2133720"/>
            <a:ext cx="792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708280"/>
            <a:ext cx="792000" cy="287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357720"/>
            <a:ext cx="79200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792000" cy="28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15772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6093000"/>
            <a:ext cx="792000" cy="28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яемые животные природных 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448000" cy="2041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3280" y="5589720"/>
            <a:ext cx="3168720" cy="109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87640" y="765000"/>
            <a:ext cx="3311640" cy="2327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592360" cy="191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156360" y="3500280"/>
            <a:ext cx="2736720" cy="171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443640" y="907920"/>
            <a:ext cx="2448000" cy="220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2665440" cy="17780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9"/>
          <p:cNvSpPr txBox="1"/>
          <p:nvPr/>
        </p:nvSpPr>
        <p:spPr>
          <a:xfrm>
            <a:off x="1258920" y="2637000"/>
            <a:ext cx="1368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395280" y="4724280"/>
            <a:ext cx="2376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шаный лес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4067280" y="5589720"/>
            <a:ext cx="151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3348000" y="3357720"/>
            <a:ext cx="1368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п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4572000" y="90792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ндр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7451640" y="981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6156360" y="4581360"/>
            <a:ext cx="20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морс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режь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2997360"/>
            <a:ext cx="136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ж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395280" y="530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чной боб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6659640" y="530064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рноморска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ли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843280" y="6237360"/>
            <a:ext cx="19033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шканч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3203640" y="2852640"/>
            <a:ext cx="1944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верный ол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6877080" y="3213000"/>
            <a:ext cx="1079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3059280" y="5013360"/>
            <a:ext cx="1223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оф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яемые растения природных 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879640" cy="176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19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2160720" cy="1974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2305080" cy="1939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00720" y="1125360"/>
            <a:ext cx="2448000" cy="17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214956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643280" y="4005360"/>
            <a:ext cx="2016360" cy="19605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9"/>
          <p:cNvSpPr txBox="1"/>
          <p:nvPr/>
        </p:nvSpPr>
        <p:spPr>
          <a:xfrm>
            <a:off x="611280" y="3141720"/>
            <a:ext cx="21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ярный ма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9"/>
          <p:cNvSpPr txBox="1"/>
          <p:nvPr/>
        </p:nvSpPr>
        <p:spPr>
          <a:xfrm>
            <a:off x="2195640" y="5950080"/>
            <a:ext cx="2519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он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нколист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3780000" y="2997360"/>
            <a:ext cx="1871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иад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чечна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324000" y="6021360"/>
            <a:ext cx="1758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ньш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6372360" y="2924280"/>
            <a:ext cx="22618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войничек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осемян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4788000" y="6021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усиный л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7093080" y="6021360"/>
            <a:ext cx="180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с ягод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1476360" y="2492280"/>
            <a:ext cx="15843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4859280" y="4149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250920" y="4076640"/>
            <a:ext cx="20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шаный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2556000" y="5445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п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4140360" y="249228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ндр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6877080" y="1197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6804000" y="429264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морс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режь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ую книгу учредил Международный союз охраны  природы в 1966 году. Хранится она в Швейцарии, в городе Морхе.  В нее занесены данные о  птицах,  рыбах, зверях,  растениях, которые срочно нуждаются в охране. Красный цвет сигнализиру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щити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Многие   страны   составляют   сегодня собственные Красные книги. Подобная книга    в  России  была  создана  в  1974  году.  В ее списках  значились  52  вида  зверей   и   65      видов птиц.  С  тех  пор  этот  список  рас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1" action="ppaction://hlinksldjump"/>
          </p:cNvPr>
          <p:cNvSpPr/>
          <p:nvPr/>
        </p:nvSpPr>
        <p:spPr>
          <a:xfrm>
            <a:off x="7524720" y="6165720"/>
            <a:ext cx="1119240" cy="503280"/>
          </a:xfrm>
          <a:prstGeom prst="rightArrow">
            <a:avLst>
              <a:gd name="adj1" fmla="val 50000"/>
              <a:gd name="adj2" fmla="val 55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84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отные            природная зона           растения                                                                    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Красной книг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Красной книг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ной бобр                    Арктика              пион тонколист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ж                                 тунд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тис ягод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номорская                   тайга                        женьшен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рофа                   смешанные леса              гусиный лу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сь                             степь                       мак поляр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верный олень            пустыня                      хвойничек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семян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ушканчик              черноморское            дриада точечн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бережь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989000"/>
            <a:ext cx="1081080" cy="19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35640" y="3068640"/>
            <a:ext cx="1512720" cy="72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1916280"/>
            <a:ext cx="1297080" cy="252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79640" y="1773360"/>
            <a:ext cx="2378160" cy="57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429000"/>
            <a:ext cx="936720" cy="2592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64000" y="2492280"/>
            <a:ext cx="1656000" cy="338472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3860640"/>
            <a:ext cx="1729080" cy="6480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292720" y="3933360"/>
            <a:ext cx="1511280" cy="1079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68360" y="5157360"/>
            <a:ext cx="1944720" cy="7923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1844280"/>
            <a:ext cx="1728720" cy="25923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71640" y="2421000"/>
            <a:ext cx="1511280" cy="259056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2421000"/>
            <a:ext cx="1441440" cy="345600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997360"/>
            <a:ext cx="1584360" cy="2303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24000" y="3068640"/>
            <a:ext cx="2303640" cy="1440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274680"/>
          <a:ext cx="8229240" cy="5850720"/>
        </p:xfrm>
        <a:graphic>
          <a:graphicData uri="http://schemas.openxmlformats.org/drawingml/2006/table">
            <a:tbl>
              <a:tblPr/>
              <a:tblGrid>
                <a:gridCol w="518760"/>
                <a:gridCol w="6674040"/>
                <a:gridCol w="1036440"/>
              </a:tblGrid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выбрано  правильно и записан верный ответ – 3 балла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алл за каждую верно заполненную строку таблицы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аксимально – 7 баллов)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алл за каждую верно соединённую «цепочку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аксимально – 7 баллов).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 -  17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 - 16  - 13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 - 12 - 9 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2" - менее 9 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ы Красной книги разноцветны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делано не для украшения. По тому, на странице какого цвета содержится информация о данном животном, можно сразу определить, в каком положении оно нах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е 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красн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жёлт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ер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ел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елён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>
            <a:hlinkClick r:id="rId1" action="ppaction://hlinksldjump"/>
          </p:cNvPr>
          <p:cNvSpPr/>
          <p:nvPr/>
        </p:nvSpPr>
        <p:spPr>
          <a:xfrm>
            <a:off x="826920" y="24210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rId2" action="ppaction://hlinksldjump"/>
          </p:cNvPr>
          <p:cNvSpPr/>
          <p:nvPr/>
        </p:nvSpPr>
        <p:spPr>
          <a:xfrm>
            <a:off x="826920" y="3068640"/>
            <a:ext cx="360360" cy="360360"/>
          </a:xfrm>
          <a:prstGeom prst="rect">
            <a:avLst/>
          </a:prstGeom>
          <a:solidFill>
            <a:srgbClr val="cc33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>
            <a:hlinkClick r:id="rId3" action="ppaction://hlinksldjump"/>
          </p:cNvPr>
          <p:cNvSpPr/>
          <p:nvPr/>
        </p:nvSpPr>
        <p:spPr>
          <a:xfrm>
            <a:off x="826920" y="3645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>
            <a:hlinkClick r:id="rId4" action="ppaction://hlinksldjump"/>
          </p:cNvPr>
          <p:cNvSpPr/>
          <p:nvPr/>
        </p:nvSpPr>
        <p:spPr>
          <a:xfrm>
            <a:off x="826920" y="4149720"/>
            <a:ext cx="360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>
            <a:hlinkClick r:id="rId5" action="ppaction://hlinksldjump"/>
          </p:cNvPr>
          <p:cNvSpPr/>
          <p:nvPr/>
        </p:nvSpPr>
        <p:spPr>
          <a:xfrm>
            <a:off x="826920" y="4653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>
            <a:hlinkClick r:id="rId6" action="ppaction://hlinksldjump"/>
          </p:cNvPr>
          <p:cNvSpPr/>
          <p:nvPr/>
        </p:nvSpPr>
        <p:spPr>
          <a:xfrm>
            <a:off x="826920" y="5157720"/>
            <a:ext cx="360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ерны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раницах записаны те животные, которых мы больше не увиди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9"/>
          <p:cNvSpPr txBox="1"/>
          <p:nvPr/>
        </p:nvSpPr>
        <p:spPr>
          <a:xfrm>
            <a:off x="1042920" y="1557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онт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1"/>
          <p:cNvSpPr txBox="1"/>
          <p:nvPr/>
        </p:nvSpPr>
        <p:spPr>
          <a:xfrm>
            <a:off x="4427640" y="1628640"/>
            <a:ext cx="3817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рские коровы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952720" cy="279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30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мерший вид нелетающей птицы. Из-за вкусного мяса она становилась жертвой голодных моряко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5229360"/>
            <a:ext cx="43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рская или сте́ллерова коро́ва. Хищническое истребление ради вкусного мяса привело к полному исчезновению этого млекопитающего к 1768 год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54356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>
            <a:hlinkClick r:id="rId1" action="ppaction://hlinksldjump"/>
          </p:cNvPr>
          <p:cNvSpPr/>
          <p:nvPr/>
        </p:nvSpPr>
        <p:spPr>
          <a:xfrm>
            <a:off x="468360" y="6093000"/>
            <a:ext cx="976320" cy="558720"/>
          </a:xfrm>
          <a:prstGeom prst="rightArrow">
            <a:avLst>
              <a:gd name="adj1" fmla="val 50000"/>
              <a:gd name="adj2" fmla="val 436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887640" cy="349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419280" y="2133720"/>
            <a:ext cx="561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красивая птица с изящным телом длинным хвост  и  узкими крыльями,    приспособленными   для быстрого  пол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 птицы  обитали  в   старых   лиственных   лесах. Привычка  держаться  стаями, строить гнезда   и   находиться   в   тесном соседстве  превратила  их  в легкую добычу  охотников. Последний  странствующий   голубь умер в 1900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 редкие, исчезающие животные. Их мало, но еще можно встретить. Они могут исчезну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лошадь пр"/>
          <p:cNvPicPr/>
          <p:nvPr/>
        </p:nvPicPr>
        <p:blipFill>
          <a:blip r:embed="rId1"/>
          <a:stretch/>
        </p:blipFill>
        <p:spPr>
          <a:xfrm>
            <a:off x="395280" y="1819440"/>
            <a:ext cx="3889440" cy="28335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611280" y="4797360"/>
            <a:ext cx="314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шад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жевальского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9" name="Picture 13" descr="кит"/>
          <p:cNvPicPr/>
          <p:nvPr/>
        </p:nvPicPr>
        <p:blipFill>
          <a:blip r:embed="rId2"/>
          <a:stretch/>
        </p:blipFill>
        <p:spPr>
          <a:xfrm>
            <a:off x="4572000" y="1773360"/>
            <a:ext cx="4183200" cy="2879640"/>
          </a:xfrm>
          <a:prstGeom prst="rect">
            <a:avLst/>
          </a:prstGeom>
          <a:ln w="0">
            <a:noFill/>
          </a:ln>
        </p:spPr>
      </p:pic>
      <p:sp>
        <p:nvSpPr>
          <p:cNvPr id="70" name="WordArt 14"/>
          <p:cNvSpPr txBox="1"/>
          <p:nvPr/>
        </p:nvSpPr>
        <p:spPr>
          <a:xfrm>
            <a:off x="5219640" y="5084640"/>
            <a:ext cx="280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ий ки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357408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осатая гиена — единственный в России представитель гиен.  На территории России эта гиена изредка попадается лишь в южных пределах Дагестана. Длина тела свыше 1 м, масса — 30—50 кг. Она придерживается глухих мест среди глинистых пустынь и каменистых ущелий. Ведет ночной образ жизни. Питается в основном падалью, но иногда нападает и на мелкий домашний скот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248360" cy="3246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826920" y="2997360"/>
            <a:ext cx="360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осатая гиена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744720" cy="2222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6588000" y="4365720"/>
            <a:ext cx="2109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пар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1150920" cy="647640"/>
          </a:xfrm>
          <a:prstGeom prst="rightArrow">
            <a:avLst>
              <a:gd name="adj1" fmla="val 50000"/>
              <a:gd name="adj2" fmla="val 44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90920" y="1125360"/>
            <a:ext cx="464508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84720" y="4508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рх — вид журавлей северных территорий России. Стерхи находятся под угрозой исчезновения и внесены в Красную книг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395280" y="1052640"/>
            <a:ext cx="37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равль-красав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4643280" y="404640"/>
            <a:ext cx="395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ерх или белый журав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лт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раницы занесены животные, количество которых стремительно уменьшается. Если мы не поможем им, то они могут попасть на опасные красные страниц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тигр х"/>
          <p:cNvPicPr/>
          <p:nvPr/>
        </p:nvPicPr>
        <p:blipFill>
          <a:blip r:embed="rId1"/>
          <a:stretch/>
        </p:blipFill>
        <p:spPr>
          <a:xfrm>
            <a:off x="324000" y="1773360"/>
            <a:ext cx="4098600" cy="3074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>
            <a:off x="684360" y="5084640"/>
            <a:ext cx="3382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мурски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г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5" name="Picture 11" descr="морж"/>
          <p:cNvPicPr/>
          <p:nvPr/>
        </p:nvPicPr>
        <p:blipFill>
          <a:blip r:embed="rId2"/>
          <a:stretch/>
        </p:blipFill>
        <p:spPr>
          <a:xfrm>
            <a:off x="4859280" y="1773360"/>
            <a:ext cx="3960720" cy="3024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2"/>
          <p:cNvSpPr txBox="1"/>
          <p:nvPr/>
        </p:nvSpPr>
        <p:spPr>
          <a:xfrm>
            <a:off x="5580000" y="515772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ж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5:14:53Z</dcterms:created>
  <dc:creator>Пользователь</dc:creator>
  <dc:description/>
  <dc:language>en-US</dc:language>
  <cp:lastModifiedBy>User</cp:lastModifiedBy>
  <dcterms:modified xsi:type="dcterms:W3CDTF">2021-04-13T12:59:45Z</dcterms:modified>
  <cp:revision>20</cp:revision>
  <dc:subject/>
  <dc:title>Слайд 1</dc:title>
</cp:coreProperties>
</file>