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569-6948-4795-8EAB-85745AEF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B23-E456-44A3-8422-156F23A4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72F-27AD-4D12-8734-32096175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45E-B8FA-4AF0-B1C8-B11F1383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F2008-6AFB-46DD-B81D-A36AB360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C0EA3-6CDA-41C3-9230-AA30104B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02856-CC0D-4111-9E8A-422EDB30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74AC6-54EF-475F-8BAF-FF653CF0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28766-DAA1-45D2-B465-938FD31C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0D104-2E3C-4774-9BCF-8C34E805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B0A85-438E-4265-8E72-894A4590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8F8-5D8E-4F7F-BBFB-017207EE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5E291-69C5-42C0-B529-71C883F0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BF706-E068-43D3-A7CE-2E0EED29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A27E9-C003-4654-A210-629C90A5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B475C-5CB0-4E63-B68A-5CE97B54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1C42D-A469-48A7-9D70-60D408EB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B8E-63B0-42E5-A2A5-BE036AF9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429-7410-41FF-A9AA-21762A27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09E-166A-417B-8DBA-B4BA0564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3805-E076-46D3-9CCC-B5598DB7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F1F-F9E3-4BF3-8143-828A3E46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F167-66FD-4703-BF83-99FECC2D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794-B002-4ADF-A08A-B2E1EF45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F4F1-D5FA-4B60-A752-08321AC78F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5DE7-0B17-41D0-A6CA-715C4226F9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ПРЕЗЕНТ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непосредственной образовательной деятель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по ознакомлению с окружающим ми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с использованием интерактивной дос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a00"/>
                </a:solidFill>
                <a:latin typeface="Tahoma"/>
              </a:rPr>
              <a:t>Тема: «Поможем зайчику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5a00"/>
                </a:solidFill>
                <a:latin typeface="Tahoma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Подготовила:</a:t>
            </a:r>
            <a:r>
              <a:rPr b="0" lang="ru-RU" sz="2400" spc="-1" strike="noStrike">
                <a:solidFill>
                  <a:srgbClr val="005a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Воспитатель Федченкова Л. 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                                 </a:t>
            </a: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МБДОУ «Детский сад №33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00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a00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85840"/>
            <a:ext cx="83296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14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73"/>
                </a:solidFill>
                <a:latin typeface="Tahoma"/>
              </a:rPr>
              <a:t>Цель: </a:t>
            </a:r>
            <a:br>
              <a:rPr sz="1400"/>
            </a:b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Обобщить знания детей по теме дикие и домашние животные; сезонные изменения в природе, овощи и фрукты.        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Совершенствовать навык работы с интерактивной доско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73"/>
                </a:solidFill>
                <a:latin typeface="Tahoma"/>
              </a:rPr>
              <a:t>Задачи:</a:t>
            </a:r>
            <a:br>
              <a:rPr sz="1400"/>
            </a:br>
            <a:r>
              <a:rPr b="1" lang="ru-RU" sz="1400" spc="-1" strike="noStrike">
                <a:solidFill>
                  <a:srgbClr val="010173"/>
                </a:solidFill>
                <a:latin typeface="Tahoma"/>
              </a:rPr>
              <a:t>Образовательные задачи:</a:t>
            </a: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                                                                                                                Учить видеть изменения в природе, делать элементарные умозаключения и применять знания на практике.                                                                                                                                                        Формировать понятие о том, что для жизни на земле нужно солнц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       </a:t>
            </a: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Познакомить с народными приметами.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       </a:t>
            </a: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Закреплять знания детей о домашних и диких животных и их голосами, о месте их обитания.  Закреплять умение отгадывать загад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       </a:t>
            </a: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Формировать умение отвечать на поставленный вопрос, давать полный ответ, говорить громким голосом;</a:t>
            </a:r>
            <a:br>
              <a:rPr sz="1400"/>
            </a:b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Расширять и активизировать словарный запас детей;</a:t>
            </a:r>
            <a:br>
              <a:rPr sz="1400"/>
            </a:br>
            <a:r>
              <a:rPr b="1" lang="ru-RU" sz="1400" spc="-1" strike="noStrike">
                <a:solidFill>
                  <a:srgbClr val="010173"/>
                </a:solidFill>
                <a:latin typeface="Tahoma"/>
              </a:rPr>
              <a:t> Развивающие задачи: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 Активизировать у детей развитие воображения;</a:t>
            </a:r>
            <a:r>
              <a:rPr b="1" lang="ru-RU" sz="1400" spc="-1" strike="noStrike">
                <a:solidFill>
                  <a:srgbClr val="010173"/>
                </a:solidFill>
                <a:latin typeface="Tahoma"/>
              </a:rPr>
              <a:t> 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 Развивать у детей образное внимание, память, восприятие, любознательность, творчество;</a:t>
            </a:r>
            <a:r>
              <a:rPr b="1" lang="ru-RU" sz="1400" spc="-1" strike="noStrike">
                <a:solidFill>
                  <a:srgbClr val="010173"/>
                </a:solidFill>
                <a:latin typeface="Tahoma"/>
              </a:rPr>
              <a:t>                     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 Развивать эмоциональную отзывчивость при встрече с прекрасным.                                                              Развивать мелкую моторику рук, двигательные умения и навыки.                                                  Развивать познавательную и творческую активность детей, образное мышление;</a:t>
            </a:r>
            <a:br>
              <a:rPr sz="1400"/>
            </a:b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Развивать интерес к работе с ИКТ.</a:t>
            </a:r>
            <a:br>
              <a:rPr sz="1400"/>
            </a:br>
            <a:r>
              <a:rPr b="1" lang="ru-RU" sz="1400" spc="-1" strike="noStrike">
                <a:solidFill>
                  <a:srgbClr val="010173"/>
                </a:solidFill>
                <a:latin typeface="Tahoma"/>
              </a:rPr>
              <a:t>Воспитательные задачи: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10173"/>
                </a:solidFill>
                <a:latin typeface="Tahoma"/>
              </a:rPr>
              <a:t>Воспитывать любовь к родной природе;                                                                                     Формировать умение работать коллективно, воспитывать самостоятельность, активность, аккуратность, отзывчивость, доброжелательность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3296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73"/>
                </a:solidFill>
                <a:latin typeface="Tahoma"/>
              </a:rPr>
              <a:t>П</a:t>
            </a: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редварительная работа:</a:t>
            </a:r>
            <a:br>
              <a:rPr sz="1800"/>
            </a:b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Загадывание загадок, чтение художественных произведений о домашних животных, овощах и фруктах, беседа о весне; заучивание стихотворений о весне.</a:t>
            </a:r>
            <a:br>
              <a:rPr sz="1800"/>
            </a:b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Беседа «Домашние и дикие животные»; рассматривание иллюстраций о домашних и диких животных;                                                                                                                                                         Рассматривание альбома «Домашние животные», «Дикие животные»;</a:t>
            </a:r>
            <a:br>
              <a:rPr sz="1800"/>
            </a:b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Д/и «Кто что ест», «Кто где живёт», «Чей малыш»;</a:t>
            </a: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Чудесный мешочек» (овощи и фрукты), «Что сажают в огороде?»</a:t>
            </a: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,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Зоологическое лото»</a:t>
            </a: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,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Кто летает, прыгает, плавает».                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Использование ИКТ: игры «Сортировка», «Найди лишнее», «Пары», «Цветные предметы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4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Материалы: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Дидактическая игра</a:t>
            </a: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«Чей домик?», маска зайчика, музыкальный центр, интерактивная доска,</a:t>
            </a: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ноутбук, игры к ИК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4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Словарная работа: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 активизация словаря: дикие животные, домашние животные, природные явления.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4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73"/>
                </a:solidFill>
                <a:latin typeface="Tahoma"/>
              </a:rPr>
              <a:t>Интеграция образовательных областей:</a:t>
            </a:r>
            <a:r>
              <a:rPr b="0" lang="ru-RU" sz="1800" spc="-1" strike="noStrike">
                <a:solidFill>
                  <a:srgbClr val="010173"/>
                </a:solidFill>
                <a:latin typeface="Tahoma"/>
              </a:rPr>
              <a:t> Познавательное развитие, речевое развитие, социально-коммуникативное развитие, физическое развитие, художественно-эстетическое развит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47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10173"/>
                </a:solidFill>
                <a:latin typeface="Tahoma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1472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32968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73"/>
                </a:solidFill>
                <a:latin typeface="Tahoma"/>
              </a:rPr>
              <a:t>Ход Н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10173"/>
                </a:solidFill>
                <a:uFillTx/>
                <a:latin typeface="Tahoma"/>
              </a:rPr>
              <a:t>Вводная часть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В гости к детям приходит зайчи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Он просит дет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помочь ему найти корм для животны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Беседа о времени год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2" descr="C:\Users\User\Desktop\Новая папка\WP_20160512_15_47_09_Pro.jpg"/>
          <p:cNvPicPr/>
          <p:nvPr/>
        </p:nvPicPr>
        <p:blipFill>
          <a:blip r:embed="rId2"/>
          <a:stretch/>
        </p:blipFill>
        <p:spPr>
          <a:xfrm>
            <a:off x="5357880" y="428760"/>
            <a:ext cx="3357360" cy="595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3296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73"/>
                </a:solidFill>
                <a:latin typeface="Tahoma"/>
              </a:rPr>
              <a:t>Ход Н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9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10173"/>
                </a:solidFill>
                <a:uFillTx/>
                <a:latin typeface="Tahoma"/>
              </a:rPr>
              <a:t>Основная  часть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29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Рассмотрение погодных явлений, беседа, дидактические игры «Найди пары»,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«Чей домик?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9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2" descr="C:\Users\User\Desktop\Новая папка\WP_20160511_16_34_12_Pro.jpg"/>
          <p:cNvPicPr/>
          <p:nvPr/>
        </p:nvPicPr>
        <p:blipFill>
          <a:blip r:embed="rId2"/>
          <a:stretch/>
        </p:blipFill>
        <p:spPr>
          <a:xfrm>
            <a:off x="357120" y="2286000"/>
            <a:ext cx="2160720" cy="3832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User\Desktop\Новая папка\WP_20160511_16_26_41_Pro.jpg"/>
          <p:cNvPicPr/>
          <p:nvPr/>
        </p:nvPicPr>
        <p:blipFill>
          <a:blip r:embed="rId3"/>
          <a:srcRect l="14918" t="0" r="8643" b="0"/>
          <a:stretch/>
        </p:blipFill>
        <p:spPr>
          <a:xfrm>
            <a:off x="5357880" y="1857240"/>
            <a:ext cx="2928960" cy="216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User\Desktop\Новая папка\WP_20160511_16_27_39_Pro.jpg"/>
          <p:cNvPicPr/>
          <p:nvPr/>
        </p:nvPicPr>
        <p:blipFill>
          <a:blip r:embed="rId4"/>
          <a:srcRect l="14918" t="0" r="4913" b="0"/>
          <a:stretch/>
        </p:blipFill>
        <p:spPr>
          <a:xfrm>
            <a:off x="5286240" y="4286160"/>
            <a:ext cx="3071880" cy="216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User\Desktop\Новая папка\WP_20160511_16_34_26_Pro.jpg"/>
          <p:cNvPicPr/>
          <p:nvPr/>
        </p:nvPicPr>
        <p:blipFill>
          <a:blip r:embed="rId5"/>
          <a:stretch/>
        </p:blipFill>
        <p:spPr>
          <a:xfrm>
            <a:off x="2786040" y="2286000"/>
            <a:ext cx="2160720" cy="38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3296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73"/>
                </a:solidFill>
                <a:latin typeface="Tahoma"/>
              </a:rPr>
              <a:t>Ход Н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10173"/>
                </a:solidFill>
                <a:uFillTx/>
                <a:latin typeface="Tahoma"/>
              </a:rPr>
              <a:t>Основная  часть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7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73"/>
                </a:solidFill>
                <a:latin typeface="Tahoma"/>
              </a:rPr>
              <a:t>Физкультминут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73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«Мы по лугу прогулялись»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C:\Users\User\Desktop\Новая папка\WP_20160512_15_53_11_Pro.jpg"/>
          <p:cNvPicPr/>
          <p:nvPr/>
        </p:nvPicPr>
        <p:blipFill>
          <a:blip r:embed="rId2"/>
          <a:srcRect l="7459" t="0" r="0" b="0"/>
          <a:stretch/>
        </p:blipFill>
        <p:spPr>
          <a:xfrm>
            <a:off x="928800" y="3857760"/>
            <a:ext cx="3546360" cy="2160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User\Desktop\Новая папка\WP_20160512_15_52_30_Pro.jpg"/>
          <p:cNvPicPr/>
          <p:nvPr/>
        </p:nvPicPr>
        <p:blipFill>
          <a:blip r:embed="rId3"/>
          <a:srcRect l="11188" t="0" r="0" b="0"/>
          <a:stretch/>
        </p:blipFill>
        <p:spPr>
          <a:xfrm>
            <a:off x="5286240" y="1357200"/>
            <a:ext cx="3403800" cy="216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User\Desktop\Новая папка\WP_20160512_15_50_47_Pro.jpg"/>
          <p:cNvPicPr/>
          <p:nvPr/>
        </p:nvPicPr>
        <p:blipFill>
          <a:blip r:embed="rId4"/>
          <a:srcRect l="0" t="0" r="8643" b="0"/>
          <a:stretch/>
        </p:blipFill>
        <p:spPr>
          <a:xfrm>
            <a:off x="5214960" y="3786120"/>
            <a:ext cx="350028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3296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73"/>
                </a:solidFill>
                <a:latin typeface="Tahoma"/>
              </a:rPr>
              <a:t>Ход Н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10173"/>
                </a:solidFill>
                <a:uFillTx/>
                <a:latin typeface="Tahoma"/>
              </a:rPr>
              <a:t>Основная  часть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Рассмотрение погодных явлений, беседа, дидактические игры «Огород», зрительная гимнастика «Бабочк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10173"/>
                </a:solidFill>
                <a:uFillTx/>
                <a:latin typeface="Tahoma"/>
              </a:rPr>
              <a:t>Заключительная часть</a:t>
            </a:r>
            <a:r>
              <a:rPr b="0" i="1" lang="ru-RU" sz="2000" spc="-1" strike="noStrike">
                <a:solidFill>
                  <a:srgbClr val="010173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010173"/>
                </a:solidFill>
                <a:latin typeface="Tahoma"/>
              </a:rPr>
              <a:t>  игра «Смайлики» с использованием интерактивной дос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85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2" descr="C:\Users\User\Desktop\Новая папка\WP_20160511_16_36_09_Pro.jpg"/>
          <p:cNvPicPr/>
          <p:nvPr/>
        </p:nvPicPr>
        <p:blipFill>
          <a:blip r:embed="rId2"/>
          <a:srcRect l="0" t="0" r="0" b="20395"/>
          <a:stretch/>
        </p:blipFill>
        <p:spPr>
          <a:xfrm>
            <a:off x="428760" y="2286000"/>
            <a:ext cx="2160360" cy="3051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User\Desktop\Новая папка\WP_20160511_16_36_50_Pro.jpg"/>
          <p:cNvPicPr/>
          <p:nvPr/>
        </p:nvPicPr>
        <p:blipFill>
          <a:blip r:embed="rId3"/>
          <a:srcRect l="0" t="0" r="0" b="20395"/>
          <a:stretch/>
        </p:blipFill>
        <p:spPr>
          <a:xfrm>
            <a:off x="2786040" y="2286000"/>
            <a:ext cx="2160720" cy="3051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:\Users\User\Desktop\Новая папка\WP_20160512_15_49_45_Pro.jpg"/>
          <p:cNvPicPr/>
          <p:nvPr/>
        </p:nvPicPr>
        <p:blipFill>
          <a:blip r:embed="rId4"/>
          <a:srcRect l="0" t="0" r="14241" b="0"/>
          <a:stretch/>
        </p:blipFill>
        <p:spPr>
          <a:xfrm>
            <a:off x="5286240" y="2643120"/>
            <a:ext cx="32864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3:13:55Z</dcterms:created>
  <dc:creator>user</dc:creator>
  <dc:description/>
  <dc:language>en-US</dc:language>
  <cp:lastModifiedBy>User</cp:lastModifiedBy>
  <dcterms:modified xsi:type="dcterms:W3CDTF">2016-05-13T07:24:18Z</dcterms:modified>
  <cp:revision>24</cp:revision>
  <dc:subject/>
  <dc:title>ЗНАКОМЬТЕСЬ:</dc:title>
</cp:coreProperties>
</file>