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F1F3-D06D-4070-B080-D96594B5D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B03B-0CAE-46D1-A5B2-A3629DA26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619A-83D5-4AB9-8688-470508B57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4475-144C-465E-A215-54189F303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780A-19BC-4BD4-AAE7-A9389F340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C2E1-CEBB-49C9-AFF7-AFFF50E8E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CEDE-CE15-48F9-990E-9785E4449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2D5D-595B-404C-BEC2-DCCA39061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7124-5636-43E5-AB32-759E9DEFA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B98D-9A02-4869-B2A9-746BE526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A9EF-6256-4441-A077-92CF93B2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737A-88C5-466F-92FB-9D2E4AA18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A8047-9BBE-483F-89E7-B705E5994B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Содержимое 3" descr="2401dc21d5c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3"/>
          <p:cNvSpPr/>
          <p:nvPr/>
        </p:nvSpPr>
        <p:spPr>
          <a:xfrm>
            <a:off x="250920" y="1166040"/>
            <a:ext cx="8602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Чистая вода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залог жизн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Земле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еловек своей хозяйственной деятельностью порой наносит природе большой вред, что ведет к гибели живых существ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3" descr="4uUkYh.jpg"/>
          <p:cNvPicPr/>
          <p:nvPr/>
        </p:nvPicPr>
        <p:blipFill>
          <a:blip r:embed="rId1"/>
          <a:stretch/>
        </p:blipFill>
        <p:spPr>
          <a:xfrm>
            <a:off x="285840" y="2643120"/>
            <a:ext cx="4000320" cy="292896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4" descr="eko_670.jpg"/>
          <p:cNvPicPr/>
          <p:nvPr/>
        </p:nvPicPr>
        <p:blipFill>
          <a:blip r:embed="rId2"/>
          <a:stretch/>
        </p:blipFill>
        <p:spPr>
          <a:xfrm>
            <a:off x="4857840" y="2214720"/>
            <a:ext cx="40719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Содержимое 3" descr="f8ci5ytfuc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7184880"/>
          </a:xfrm>
          <a:prstGeom prst="rect">
            <a:avLst/>
          </a:prstGeom>
          <a:ln w="0">
            <a:noFill/>
          </a:ln>
        </p:spPr>
      </p:pic>
      <p:sp>
        <p:nvSpPr>
          <p:cNvPr id="46" name="TextBox 5"/>
          <p:cNvSpPr/>
          <p:nvPr/>
        </p:nvSpPr>
        <p:spPr>
          <a:xfrm>
            <a:off x="214200" y="1500120"/>
            <a:ext cx="8929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ЛЬ РАБО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Обозначить экологические пробл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Изучить основные причины загрязнения 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Анализировать основные источники загрязнения 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Выявить основные методы по очистке в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Воспитывать у учащихся бережное отношение к в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3" descr="0_381e_37576bfc_X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e1c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e1c11"/>
                </a:solidFill>
                <a:latin typeface="Calibri"/>
              </a:rPr>
              <a:t>Вода играет исключительную роль в процессах обмена веществ, составляющих основу жизни. Огромное значение вода имеет в промышленном и сельскохозяйственном производстве. Необходима она и для бытовых потребностей человека, всех растений и животных. Для многих живых существ она служит средой обит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3" descr="0_1a4e7_6092727f_X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днако, рост городов, бурное развитие промышленности, расширение площадей орошаемых земель, улучшение культурно-бытовых условий и ряд других факторов все больше усложняет проблемы обеспечения вод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требности в воде огромны и ежегодно возрастаю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3" descr="natural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нимая во внимание то значение, которое вода имеет для жизнедеятельности человека и всего живого на Земле, приведенные цифры наглядно подтверждают тезис о том, что вода одно из самых драгоценных сокровищ нашей планет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6" descr="boat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ОСНОВНЫ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Е ВИДЫ ЗАГРЯЗНЕНИЙ 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В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Д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00040" y="2428920"/>
            <a:ext cx="8229600" cy="33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дним из основных загрязнителей воды  является нефть и нефтепродукт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Нефть может попадать в воду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результате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естественных ее выходов в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йонах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залеган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3" descr="0_d0c1_f3b55e6d_X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7" name="Содержимое 2"/>
          <p:cNvGrpSpPr/>
          <p:nvPr/>
        </p:nvGrpSpPr>
        <p:grpSpPr>
          <a:xfrm>
            <a:off x="438120" y="907920"/>
            <a:ext cx="8261280" cy="5230800"/>
            <a:chOff x="438120" y="907920"/>
            <a:chExt cx="8261280" cy="5230800"/>
          </a:xfrm>
        </p:grpSpPr>
        <p:pic>
          <p:nvPicPr>
            <p:cNvPr id="58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438120" y="907920"/>
              <a:ext cx="8261280" cy="52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457200" y="928800"/>
              <a:ext cx="8229600" cy="51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75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ffffff"/>
                  </a:solidFill>
                  <a:latin typeface="Calibri"/>
                </a:rPr>
                <a:t>В загрязненном водоеме вначале резко увеличивается количество микроскопических водорослей. С увеличением кормовой базы возрастает количество ракообразных, рыб и других водных организмов. Затем происходит отмирание огромного количества организмов, что приводит к расходованию всех запасов кислорода, содержащегося в воде, и накоплению сероводорода. Обстановка в водоеме меняется настолько, что он становится непригодным для существования любых форм организмов. Водоем постепенно "умирает".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5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3" descr="maree_noire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2f2f2"/>
                </a:solidFill>
                <a:latin typeface="Calibri"/>
              </a:rPr>
              <a:t>ИСТОЧНИКИ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f2f2f2"/>
                </a:solidFill>
                <a:latin typeface="Calibri"/>
              </a:rPr>
              <a:t>ЗАГРЯЗНЕН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2f2f2"/>
                </a:solidFill>
                <a:latin typeface="Calibri"/>
              </a:rPr>
              <a:t>Эти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изменен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я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изич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еских, </a:t>
            </a:r>
            <a:r>
              <a:rPr b="0" lang="ru-RU" sz="3200" spc="-1" strike="noStrike">
                <a:solidFill>
                  <a:srgbClr val="f2f2f2"/>
                </a:solidFill>
                <a:latin typeface="Calibri"/>
              </a:rPr>
              <a:t>химических и биологических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войс</a:t>
            </a:r>
            <a:r>
              <a:rPr b="0" lang="ru-RU" sz="3200" spc="-1" strike="noStrike">
                <a:solidFill>
                  <a:srgbClr val="f2f2f2"/>
                </a:solidFill>
                <a:latin typeface="Calibri"/>
              </a:rPr>
              <a:t>тв воды в водоемах в связи со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брасыванием</a:t>
            </a:r>
            <a:r>
              <a:rPr b="0" lang="ru-RU" sz="3200" spc="-1" strike="noStrike">
                <a:solidFill>
                  <a:srgbClr val="f2f2f2"/>
                </a:solidFill>
                <a:latin typeface="Calibri"/>
              </a:rPr>
              <a:t> в них жидких, твердых и газообр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3200" spc="-1" strike="noStrike">
                <a:solidFill>
                  <a:srgbClr val="f2f2f2"/>
                </a:solidFill>
                <a:latin typeface="Calibri"/>
              </a:rPr>
              <a:t>зных веществ, причиняющих  неудобства, делая воду данных водоемов опасной для использования, нанося ущерб народному хозяйству, здоровью и безопасности насел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3" descr="e1acc453dd9fbe9ccb67ed7f8263253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dce6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dce6f2"/>
                </a:solidFill>
                <a:latin typeface="Calibri"/>
              </a:rPr>
              <a:t>Нефть и нефтепродукты на современном этапе также являются основными загрязнителями внутренних водоемов, вод и морей, Мирового океан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dce6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dce6f2"/>
                </a:solidFill>
                <a:latin typeface="Calibri"/>
              </a:rPr>
              <a:t>На жизнь населения водоемов пагубно влияют сточные воды целлюлозно-бумажной промышленности. Окисление древесной массы сопровождается поглощением значительного количества кислорода, что приводит к гибели икры, мальков и взрослых рыб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dce6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1T18:03:26Z</dcterms:created>
  <dc:creator>Гульнара</dc:creator>
  <dc:description/>
  <dc:language>en-US</dc:language>
  <cp:lastModifiedBy>USER</cp:lastModifiedBy>
  <dcterms:modified xsi:type="dcterms:W3CDTF">2021-04-14T19:57:12Z</dcterms:modified>
  <cp:revision>35</cp:revision>
  <dc:subject/>
  <dc:title>Слайд 1</dc:title>
</cp:coreProperties>
</file>