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FCB-CBFC-40F4-8775-BD2E8317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85A-A09C-49A2-B5ED-589B35BE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E66-0F63-4511-99FE-B5BC0AAC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767-C1E3-4B5F-B32D-4479A898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CBD-E12E-4F47-90C1-0AE07C5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EE9-B3C6-49DE-B803-D816181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D68-BD5C-467C-9250-8AC8FBF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A70-83B6-4896-8511-CE345FF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2F7-4EFF-4466-AD05-1CE807E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111-025A-40EC-A14A-3427823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D32-4B1D-41D0-B7DE-2A6D1E9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911-9DBE-44E2-8FE8-844E70F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A73-D282-4E08-86A2-0B1A2911F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2401dc21d5c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0920" y="1166040"/>
            <a:ext cx="860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я вод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лог жи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Земл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своей хозяйственной деятельностью порой наносит природе большой вред, что ведет к гибели живых су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4uUkYh.jpg"/>
          <p:cNvPicPr/>
          <p:nvPr/>
        </p:nvPicPr>
        <p:blipFill>
          <a:blip r:embed="rId1"/>
          <a:stretch/>
        </p:blipFill>
        <p:spPr>
          <a:xfrm>
            <a:off x="285840" y="2643120"/>
            <a:ext cx="40003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eko_670.jpg"/>
          <p:cNvPicPr/>
          <p:nvPr/>
        </p:nvPicPr>
        <p:blipFill>
          <a:blip r:embed="rId2"/>
          <a:stretch/>
        </p:blipFill>
        <p:spPr>
          <a:xfrm>
            <a:off x="4857840" y="2214720"/>
            <a:ext cx="407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f8ci5ytfu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214200" y="150012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означить экологическ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зучить основные причины загрязне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Анализировать основные источники загрязне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явить основные методы по очистке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оспитывать у учащихся бережное отношение к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0_381e_37576bf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Вода играет исключительную роль в процессах обмена веществ, составляющих основу жизни. Огромное значение вода имеет в промышленном и сельскохозяйственном производстве. Необходима она и для бытовых потребностей человека, всех растений и животных. Для многих живых существ она служит средой об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1a4e7_6092727f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, рост городов, бурное развитие промышленности, расширение площадей орошаемых земель, улучшение культурно-бытовых условий и ряд других факторов все больше усложняет проблемы обеспечения в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ребности в воде огромны и ежегодно возрас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natural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я во внимание то значение, которое вода имеет для жизнедеятельности человека и всего живого на Земле, приведенные цифры наглядно подтверждают тезис о том, что вода одно из самых драгоценных сокровищ нашей план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oat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НОВН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 ВИДЫ ЗАГРЯЗНЕНИЙ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24289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дним из основных загрязнителей воды  является нефть и нефтепродук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фть может попадать в вод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тественных ее выходов 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йона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залег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0_d0c1_f3b55e6d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Содержимое 2"/>
          <p:cNvGrpSpPr/>
          <p:nvPr/>
        </p:nvGrpSpPr>
        <p:grpSpPr>
          <a:xfrm>
            <a:off x="438120" y="907920"/>
            <a:ext cx="8261280" cy="5230800"/>
            <a:chOff x="438120" y="907920"/>
            <a:chExt cx="8261280" cy="5230800"/>
          </a:xfrm>
        </p:grpSpPr>
        <p:pic>
          <p:nvPicPr>
            <p:cNvPr id="5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38120" y="907920"/>
              <a:ext cx="826128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928800"/>
              <a:ext cx="8229600" cy="51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alibri"/>
                </a:rPr>
                <a:t>В загрязненном водоеме вначале резко увеличивается количество микроскопических водорослей. С увеличением кормовой базы возрастает количество ракообразных, рыб и других водных организмов. Затем происходит отмирание огромного количества организмов, что приводит к расходованию всех запасов кислорода, содержащегося в воде, и накоплению сероводорода. Обстановка в водоеме меняется настолько, что он становится непригодным для существования любых форм организмов. Водоем постепенно "умирает"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maree_noire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ИСТОЧНИ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ЗАГРЯЗН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Эти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мен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ч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ких,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химических и биологически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с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тв воды в водоемах в связи с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расыванием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в них жидких, твердых и газооб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зных веществ, причиняющих  неудобства, делая воду данных водоемов опасной для использования, нанося ущерб народному хозяйству, здоровью и безопасности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e1acc453dd9fbe9ccb67ed7f826325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ce6f2"/>
                </a:solidFill>
                <a:latin typeface="Calibri"/>
              </a:rPr>
              <a:t>Нефть и нефтепродукты на современном этапе также являются основными загрязнителями внутренних водоемов, вод и морей, Мирового океа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ce6f2"/>
                </a:solidFill>
                <a:latin typeface="Calibri"/>
              </a:rPr>
              <a:t>На жизнь населения водоемов пагубно влияют сточные воды целлюлозно-бумажной промышленности. Окисление древесной массы сопровождается поглощением значительного количества кислорода, что приводит к гибели икры, мальков и взрослых рыб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8:03:26Z</dcterms:created>
  <dc:creator>Гульнара</dc:creator>
  <dc:description/>
  <dc:language>en-US</dc:language>
  <cp:lastModifiedBy>USER</cp:lastModifiedBy>
  <dcterms:modified xsi:type="dcterms:W3CDTF">2021-04-14T19:57:12Z</dcterms:modified>
  <cp:revision>35</cp:revision>
  <dc:subject/>
  <dc:title>Слайд 1</dc:title>
</cp:coreProperties>
</file>