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429-72D5-4EDE-BD4C-236A0C76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BA2-3B86-4194-8E79-6AE53230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D0A-2E20-4E91-91D0-C597612A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9FB-3EBA-45C6-B916-D28F1E04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B4E-4DFD-48F3-B6F3-31E0809D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050-58BB-49B4-BFA1-FC841E56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68D-2BA6-437E-9518-EE68F17C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9A8-10B8-498D-9561-92BC8D05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869-A8E2-4EAF-9268-A4BFC2C5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478-4B86-4F30-A133-5C76F9C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2F1-935F-4BB8-ADDE-56036BF1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5D0-089B-4DAF-87CE-9EB16CB4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C08-EBDF-4DEF-9C2E-85379A9F46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s05.infourok.ru/uploads/ex/04e5/0004e6e4-e27f5269/img1.jpg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468360" y="1413000"/>
            <a:ext cx="838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ТТ с.46 №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s://cf2.ppt-online.org/files2/slide/g/GKgufZsMhPo7398Rt0kvTdJwqVnLNUIHlYja4bXer5/slide-2.jpg"/>
          <p:cNvPicPr/>
          <p:nvPr/>
        </p:nvPicPr>
        <p:blipFill>
          <a:blip r:embed="rId1"/>
          <a:stretch/>
        </p:blipFill>
        <p:spPr>
          <a:xfrm>
            <a:off x="-31680" y="-44136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468360" y="1413000"/>
            <a:ext cx="996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Т с.46-47 №2,3,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ds04.infourok.ru/uploads/ex/0b56/0018d6fd-183b5888/img15.jpg"/>
          <p:cNvPicPr/>
          <p:nvPr/>
        </p:nvPicPr>
        <p:blipFill>
          <a:blip r:embed="rId1"/>
          <a:stretch/>
        </p:blipFill>
        <p:spPr>
          <a:xfrm>
            <a:off x="-936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684360" y="1125360"/>
            <a:ext cx="712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/з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.25, выучить строение Земли и классификацию г.п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ТТ с.57 №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2.bp.blogspot.com/-kU36yTY0bQc/XEQzVbnopnI/AAAAAAAAyY8/USJQEpGmv8E_Rvqp_Iu0HuGhg8McsmS5ACLcBGAs/s1600/DSC_0440.jpg"/>
          <p:cNvPicPr/>
          <p:nvPr/>
        </p:nvPicPr>
        <p:blipFill>
          <a:blip r:embed="rId1"/>
          <a:stretch/>
        </p:blipFill>
        <p:spPr>
          <a:xfrm>
            <a:off x="1042920" y="4154400"/>
            <a:ext cx="2957760" cy="2264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042920" y="1187280"/>
            <a:ext cx="2957760" cy="226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003640" y="1187280"/>
            <a:ext cx="2957760" cy="22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2957760" cy="2268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258920" y="620640"/>
            <a:ext cx="29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219640" y="62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042920" y="3456000"/>
            <a:ext cx="45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219640" y="3456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о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fs01.infourok.ru/images/doc/43/54304/img5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ds05.infourok.ru/uploads/ex/0a95/0012a834-e275be7e/img9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m.polit.ru/media/photolib/2020/06/29/ps_UbOw1_1593419091.jpg"/>
          <p:cNvPicPr/>
          <p:nvPr/>
        </p:nvPicPr>
        <p:blipFill>
          <a:blip r:embed="rId1"/>
          <a:stretch/>
        </p:blipFill>
        <p:spPr>
          <a:xfrm>
            <a:off x="1370160" y="1871640"/>
            <a:ext cx="6403680" cy="4802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0" y="115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нутреннее строение Зем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7956720" y="5732640"/>
            <a:ext cx="11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ds03.infourok.ru/uploads/ex/1218/00009acf-aca72a60/4/img4.jpg"/>
          <p:cNvPicPr/>
          <p:nvPr/>
        </p:nvPicPr>
        <p:blipFill>
          <a:blip r:embed="rId1"/>
          <a:stretch/>
        </p:blipFill>
        <p:spPr>
          <a:xfrm>
            <a:off x="-8568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4486320" y="6165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емную к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611280" y="54936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нутреннее строение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емная к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орные породы и их классифик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ds02.infourok.ru/uploads/ex/0685/0008094c-bad74e0a/img7.jpg"/>
          <p:cNvPicPr/>
          <p:nvPr/>
        </p:nvPicPr>
        <p:blipFill>
          <a:blip r:embed="rId1"/>
          <a:stretch/>
        </p:blipFill>
        <p:spPr>
          <a:xfrm>
            <a:off x="-334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cloud.prezentacii.org/18/08/68726/images/screen2.jpg"/>
          <p:cNvPicPr/>
          <p:nvPr/>
        </p:nvPicPr>
        <p:blipFill>
          <a:blip r:embed="rId1"/>
          <a:stretch/>
        </p:blipFill>
        <p:spPr>
          <a:xfrm>
            <a:off x="-14400" y="-60336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0:36:16Z</dcterms:created>
  <dc:creator>Лиля</dc:creator>
  <dc:description/>
  <dc:language>en-US</dc:language>
  <cp:lastModifiedBy>МБОУ ШИ</cp:lastModifiedBy>
  <dcterms:modified xsi:type="dcterms:W3CDTF">2021-04-13T02:22:38Z</dcterms:modified>
  <cp:revision>22</cp:revision>
  <dc:subject/>
  <dc:title>ЗЕМЛЯ  Что у Земли внутри</dc:title>
</cp:coreProperties>
</file>