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1D3-084A-4347-8135-1FAABA3E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EEB-3C04-4E0C-B207-48F8769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1B1-875E-4C7B-9082-94E690AF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3AB-AFEF-4A89-9356-272295D0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DCB-9574-4802-BD09-30D2F49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497-A83B-40EA-A976-B54C6CC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690-389F-4443-813A-83504F9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F55-8EE6-42BB-B9A4-C6D32ECF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28D-7E16-436A-95C7-78339F5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933-D8BA-427E-BF3A-B5D747F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5C1-D97E-470B-AB92-AEE01F0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17F-02D7-4E26-BA9D-43FAD61E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6D7B-FB7B-4313-900B-9101FB4DC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instal.at.ua/_ph/2/84773482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857240" y="257184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Georgia"/>
              </a:rPr>
              <a:t>«МОЙ ДО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35728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Georgia"/>
              </a:rPr>
              <a:t>МАДОУ ЦРР д/с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928800" y="40719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Georgi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14400" y="11592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ВАННАЯ КОМ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http://boberportal.ru/wp-content/uploads/2014/07/377.jpg"/>
          <p:cNvPicPr/>
          <p:nvPr/>
        </p:nvPicPr>
        <p:blipFill>
          <a:blip r:embed="rId2"/>
          <a:stretch/>
        </p:blipFill>
        <p:spPr>
          <a:xfrm>
            <a:off x="792000" y="1728720"/>
            <a:ext cx="7525080" cy="4869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792000" y="765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ванной комнате – умываются, моются, принимают душ, купаются, чистят  зубы, причесываютс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617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Профессии людей,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которые строят до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785880" y="1785960"/>
            <a:ext cx="650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АРХИТ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КРАНОВ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КАМЕН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СТОЛ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МАЛ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ЭЛЕКТ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СЛЕСАРЬ-САНТЕХ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АРХИТЕ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http://vuzyinfo.ru/wp-content/uploads/2015/11/kakie-ekzameny-nuzhno-sdavat-na-arxitektora.jpg"/>
          <p:cNvPicPr/>
          <p:nvPr/>
        </p:nvPicPr>
        <p:blipFill>
          <a:blip r:embed="rId2"/>
          <a:stretch/>
        </p:blipFill>
        <p:spPr>
          <a:xfrm>
            <a:off x="1103400" y="1647720"/>
            <a:ext cx="7213680" cy="480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6600" y="758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GungsuhChe"/>
              </a:rPr>
              <a:t>Задумывает и разрабатывает проект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1440" y="0"/>
            <a:ext cx="55004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РАНОВЩ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170000" y="765000"/>
            <a:ext cx="53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правляет подъёмным к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днимает, перемещает и укладывает гр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forum.ngs.ru/preview/forum/upload_files/85bfce0e1f291ff8e7fef21584801a52_30b931f6e300d7546e9d42a59282269c_134555761181_800px.jpg"/>
          <p:cNvPicPr/>
          <p:nvPr/>
        </p:nvPicPr>
        <p:blipFill>
          <a:blip r:embed="rId2"/>
          <a:stretch/>
        </p:blipFill>
        <p:spPr>
          <a:xfrm>
            <a:off x="1258920" y="1557360"/>
            <a:ext cx="6472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35280" y="82080"/>
            <a:ext cx="244944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АМЕНЩ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00040" y="7142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ыкладывает стены домов из кирпича и железобетонных п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101course.ru/assets/images/photo_courses/kursy_kamenschikov.jpg"/>
          <p:cNvPicPr/>
          <p:nvPr/>
        </p:nvPicPr>
        <p:blipFill>
          <a:blip r:embed="rId2"/>
          <a:stretch/>
        </p:blipFill>
        <p:spPr>
          <a:xfrm>
            <a:off x="1357200" y="1495440"/>
            <a:ext cx="67438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20680" y="115920"/>
            <a:ext cx="5500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ТОЛЯ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878120" y="6922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зготавливает из дерева двери, окна, полы, плинтуса, нали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s://www.pics-zone.ru/img.php?url=http://www.admiterea.md/wp-content/uploads/2013/05/opm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434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08360" y="14040"/>
            <a:ext cx="14191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МАЛЯ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57120" y="1357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рашивает стены, окна,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леивает стены и потолки об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www.stroitel.club/loadfiles/moduls/catalog/bigfoto/11b7bc4ee67eae4470c1d07f52d31495.jpg"/>
          <p:cNvPicPr/>
          <p:nvPr/>
        </p:nvPicPr>
        <p:blipFill>
          <a:blip r:embed="rId2"/>
          <a:stretch/>
        </p:blipFill>
        <p:spPr>
          <a:xfrm>
            <a:off x="4786200" y="857160"/>
            <a:ext cx="4143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ЭЛЕКТР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s://encrypted-tbn1.gstatic.com/images?q=tbn:ANd9GcTpxz9FcTMtqN-6K7DQat8zjeTs_ZBoEsP4eugh8KOATVLjdFkj"/>
          <p:cNvPicPr/>
          <p:nvPr/>
        </p:nvPicPr>
        <p:blipFill>
          <a:blip r:embed="rId2"/>
          <a:stretch/>
        </p:blipFill>
        <p:spPr>
          <a:xfrm>
            <a:off x="785880" y="1314360"/>
            <a:ext cx="7889760" cy="5249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611280" y="67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электрическую проводку, розетки, выключ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-360"/>
            <a:ext cx="5500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ЛЕСАРЬ - САНТЕХ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6923160" cy="5016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639720" y="84312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водопроводные и канализационные тр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28880" y="2000160"/>
            <a:ext cx="5500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ЗА 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429400" cy="657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Пускай мне хорошо в гостях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Но лучше дом родной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 каких бы ни был я местах –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сегда вернусь домой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Меня родные стены ждут –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Помогут, защитят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едь дома нас всегда поймут,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утешат и простят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43080" y="3567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214200" y="1285920"/>
            <a:ext cx="8715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Гомзяк О.С. Говорим правильно. Конспекты фронтальных занятий        </a:t>
            </a:r>
            <a:r>
              <a:rPr b="0" lang="en-US" sz="2000" spc="-1" strike="noStrike">
                <a:solidFill>
                  <a:srgbClr val="800000"/>
                </a:solidFill>
                <a:latin typeface="Georgia"/>
              </a:rPr>
              <a:t>III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периода обучения в старшей логогруппе. – М.: Издательство ГНОМ и Д, 2009. – 16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Светлана Вохринцева  Методическое пособие для педагогов и родителей. Виды домов. – Издательство «Страна Фантазий». Для детей дошкольного и младшего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http://www.google.ru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-648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56880"/>
            <a:ext cx="385776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МНОГОЭТАЖ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rusiap.ru/uploads/posts/2015-05/1431322304_build836.jpg"/>
          <p:cNvPicPr/>
          <p:nvPr/>
        </p:nvPicPr>
        <p:blipFill>
          <a:blip r:embed="rId2"/>
          <a:stretch/>
        </p:blipFill>
        <p:spPr>
          <a:xfrm>
            <a:off x="0" y="620640"/>
            <a:ext cx="5119560" cy="5589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291280" y="620640"/>
            <a:ext cx="37447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- это городское жилище. В большом городе земельный участок под застройку стоит дорого, и чтобы сэкономить место, одну квартиру стали размещать над другой. Получились эт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состоит из многих помещений. Во-первых, это отдельные квартиры, в которых живут семьи. Во-вторых, это лестницы, коридоры, лифты, подъезды, которыми пользуются все жильцы. А в третьих, это специальные помещения - подвалы и чердаки, - где расположены системы жизнеобеспечения дома и входить туда могут только специальные рабо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Из чего стро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е дома часто строят из кирпича. Если в доме больше пяти этажей, то дом считается высотным. Для строительства высотных домов используют железобетон. Это строительный материал, который состоит из цемента, перемешанного с водой, песком и мелкими камнями и металлическими стальными стержнями. Они образуют «скелет» будущего до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- очень сложная конструкция. Чтобы подниматься на верхние этажи, нужна лестница. В современных домах есть еще и лиф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роме лестницы и лифта в многоэтажном доме есть инженерные «коммуникации»: водопровод, канализация, электрические кабели, телефон, вентиля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2052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5520" y="1833120"/>
            <a:ext cx="264816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КВАРТ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68360" y="263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ПРИХО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26920" y="692280"/>
            <a:ext cx="79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Многоэтажный дом состоит из отдельных кварт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908000" y="3268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7003440" y="266688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ДЕ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768560" y="32670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СПА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133680" y="407664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ВАНН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41680" y="4043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КУХ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1042920" y="1268280"/>
            <a:ext cx="61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вартира состоит из отдельных комна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4"/>
          <p:cNvCxnSpPr/>
          <p:nvPr/>
        </p:nvCxnSpPr>
        <p:spPr>
          <a:xfrm flipH="1">
            <a:off x="2267640" y="2349360"/>
            <a:ext cx="1367640" cy="4723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3131640" y="2584440"/>
            <a:ext cx="734400" cy="6829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 flipH="1">
            <a:off x="4139640" y="2584440"/>
            <a:ext cx="216360" cy="135000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4" name="Прямая со стрелкой 20"/>
          <p:cNvCxnSpPr/>
          <p:nvPr/>
        </p:nvCxnSpPr>
        <p:spPr>
          <a:xfrm>
            <a:off x="4932360" y="2584440"/>
            <a:ext cx="288000" cy="67536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/>
          <p:nvPr/>
        </p:nvCxnSpPr>
        <p:spPr>
          <a:xfrm>
            <a:off x="5651640" y="2584080"/>
            <a:ext cx="1297440" cy="120564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/>
          <p:nvPr/>
        </p:nvCxnSpPr>
        <p:spPr>
          <a:xfrm>
            <a:off x="5795640" y="2346120"/>
            <a:ext cx="1152720" cy="46260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385776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ПРИХОЖ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extra-room.ru/wp-content/uploads/2015/09/dizain-prihozhei-v-kvartire-12.jpg"/>
          <p:cNvPicPr/>
          <p:nvPr/>
        </p:nvPicPr>
        <p:blipFill>
          <a:blip r:embed="rId2"/>
          <a:stretch/>
        </p:blipFill>
        <p:spPr>
          <a:xfrm>
            <a:off x="1241280" y="1374840"/>
            <a:ext cx="7075800" cy="528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714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прихожей - одеваются, раздеваются, разуваются, обуваются, встречают и провожают г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ГОСТИ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Картинка 43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" y="2421000"/>
            <a:ext cx="6688080" cy="4273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24000" y="69228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гостиной - смотрят телевизор, отдыхают, принимают г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140360" y="1200240"/>
            <a:ext cx="47862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егодня я жду своих лучших друз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Они соберутся в гостиной мо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Мы будем играть, веселиться и пе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Задорно плясать, телевизор смотреть</a:t>
            </a: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r>
              <a:rPr b="0" i="1" lang="ru-RU" sz="1600" spc="-1" strike="noStrike">
                <a:solidFill>
                  <a:srgbClr val="990033"/>
                </a:solidFill>
                <a:latin typeface="Georgia"/>
              </a:rPr>
              <a:t>К. Нефед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ДЕТСКАЯ  КОМ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redlight.com.ua/uploads/images/detskaya-dlya-dvoih.jpg"/>
          <p:cNvPicPr/>
          <p:nvPr/>
        </p:nvPicPr>
        <p:blipFill>
          <a:blip r:embed="rId2"/>
          <a:stretch/>
        </p:blipFill>
        <p:spPr>
          <a:xfrm>
            <a:off x="950760" y="1197000"/>
            <a:ext cx="6959880" cy="5446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4764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детской комнате – играют, занимаются, спят, отды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ПАЛЬ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4240" y="6429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Georgia"/>
              </a:rPr>
              <a:t>В спальне – спят, отды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357880" y="78588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Эта комната для 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В ней обычно тиш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В уголке кровать стоит, рядом с ней ночник го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0000"/>
                </a:solidFill>
                <a:latin typeface="Georgia"/>
              </a:rPr>
              <a:t>                                        </a:t>
            </a:r>
            <a:r>
              <a:rPr b="0" i="1" lang="ru-RU" sz="1600" spc="-1" strike="noStrike">
                <a:solidFill>
                  <a:srgbClr val="800000"/>
                </a:solidFill>
                <a:latin typeface="Georgia"/>
              </a:rPr>
              <a:t>К. Нефе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http://world-fact.ru/wp-content/uploads/2014/11/modulnaya-spalnya-anna-rita-b-2.jpg"/>
          <p:cNvPicPr/>
          <p:nvPr/>
        </p:nvPicPr>
        <p:blipFill>
          <a:blip r:embed="rId2"/>
          <a:stretch/>
        </p:blipFill>
        <p:spPr>
          <a:xfrm>
            <a:off x="87480" y="2109960"/>
            <a:ext cx="73929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1480" y="17280"/>
            <a:ext cx="3857400" cy="51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УХ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female-happiness.com/uploads/posts/2015-09/1443238811_vybor-kuhni.gif"/>
          <p:cNvPicPr/>
          <p:nvPr/>
        </p:nvPicPr>
        <p:blipFill>
          <a:blip r:embed="rId2"/>
          <a:srcRect l="4546" t="1460" r="4546" b="2299"/>
          <a:stretch/>
        </p:blipFill>
        <p:spPr>
          <a:xfrm>
            <a:off x="1258920" y="1198440"/>
            <a:ext cx="6697800" cy="5526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25600" y="504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кухне – готовят, варят, жарят, режут, моют посуду, кушаю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1:09:40Z</dcterms:created>
  <dc:creator>Альбина</dc:creator>
  <dc:description/>
  <dc:language>en-US</dc:language>
  <cp:lastModifiedBy>Пользователь</cp:lastModifiedBy>
  <dcterms:modified xsi:type="dcterms:W3CDTF">2021-04-14T14:09:36Z</dcterms:modified>
  <cp:revision>107</cp:revision>
  <dc:subject/>
  <dc:title>Слайд 1</dc:title>
</cp:coreProperties>
</file>