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7BF9-EDD9-4ED5-800B-2FB3D8A9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9F09-7DFE-4DDE-BFB0-DB250A70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494E7-7444-45B4-8BA5-AB83BC51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3183-C140-49FC-B48F-8A4F8C8E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DB09-24DD-4FE4-AD72-DDAD0F33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5E48-0D44-4419-823F-F1A2B0D2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0C8A-99B2-4E59-B54F-D131EDC1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3D17-36F6-4C9E-8394-626B3519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77A9-CB15-4C3F-BB01-D9BF29B2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4F9F-1569-4E94-8FC7-04A3FA05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5981-1BB8-4F76-AA84-697F3DC0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54FD-03D6-47F0-8886-4A3726C6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e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b77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e077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9890-23A4-4468-A623-1842F8FB50FD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ece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75DD-1113-40AD-96A9-CA2B6FD803F8}" type="datetime">
              <a:rPr b="0" lang="ru-RU" sz="1200" spc="-1" strike="noStrike">
                <a:solidFill>
                  <a:srgbClr val="e7eced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92d050"/>
                </a:solidFill>
                <a:latin typeface="Cambria"/>
              </a:rPr>
              <a:t>Аттестационная работа</a:t>
            </a: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44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ABBD-51D2-45FF-9789-E6BB26CDDCCB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Прямоугольник 5"/>
          <p:cNvGrpSpPr/>
          <p:nvPr/>
        </p:nvGrpSpPr>
        <p:grpSpPr>
          <a:xfrm>
            <a:off x="476280" y="1414440"/>
            <a:ext cx="7875720" cy="3475080"/>
            <a:chOff x="476280" y="1414440"/>
            <a:chExt cx="7875720" cy="3475080"/>
          </a:xfrm>
        </p:grpSpPr>
        <p:pic>
          <p:nvPicPr>
            <p:cNvPr id="46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476280" y="1414440"/>
              <a:ext cx="7875720" cy="34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11280" y="1557360"/>
              <a:ext cx="7539120" cy="31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62626"/>
                  </a:solidFill>
                  <a:latin typeface="Основной текст"/>
                  <a:ea typeface="Estrangelo Edessa"/>
                </a:rPr>
                <a:t>Слушателя курсов повышения квалификации по программе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62626"/>
                  </a:solidFill>
                  <a:latin typeface="Основной текст"/>
                  <a:ea typeface="Estrangelo Edessa"/>
                </a:rPr>
                <a:t>«Проектная и исследовательская деятельность как способ формирования метапредметных результатов обучения в условиях реализации ФГОС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262626"/>
                  </a:solidFill>
                  <a:latin typeface="Основной текст"/>
                  <a:ea typeface="Estrangelo Edess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62626"/>
                  </a:solidFill>
                  <a:latin typeface="Основной текст"/>
                  <a:ea typeface="Estrangelo Edessa"/>
                </a:rPr>
                <a:t>Выполнила 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262626"/>
                  </a:solidFill>
                  <a:latin typeface="Основной текст"/>
                  <a:ea typeface="Estrangelo Edessa"/>
                </a:rPr>
                <a:t>Борзова  </a:t>
              </a:r>
              <a:r>
                <a:rPr b="0" lang="ru-RU" sz="2000" spc="-1" strike="noStrike">
                  <a:solidFill>
                    <a:srgbClr val="262626"/>
                  </a:solidFill>
                  <a:latin typeface="Основной текст"/>
                  <a:ea typeface="Estrangelo Edessa"/>
                </a:rPr>
                <a:t>Надежда Викторовна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62626"/>
                  </a:solidFill>
                  <a:latin typeface="Основной текст"/>
                  <a:ea typeface="Estrangelo Edessa"/>
                </a:rPr>
                <a:t>учитель физи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62626"/>
                  </a:solidFill>
                  <a:latin typeface="Calibri"/>
                  <a:ea typeface="Estrangelo Edessa"/>
                </a:rPr>
                <a:t>МБОУ ЦО № 44 г. Тул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Box 6"/>
          <p:cNvSpPr/>
          <p:nvPr/>
        </p:nvSpPr>
        <p:spPr>
          <a:xfrm>
            <a:off x="1320840" y="513396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2195640" y="5084640"/>
            <a:ext cx="4572000" cy="916920"/>
          </a:xfrm>
          <a:prstGeom prst="rect">
            <a:avLst/>
          </a:prstGeom>
          <a:solidFill>
            <a:srgbClr val="92d050"/>
          </a:solidFill>
          <a:ln w="12600">
            <a:solidFill>
              <a:srgbClr val="8fce4b"/>
            </a:solidFill>
            <a:miter/>
          </a:ln>
          <a:effectLst>
            <a:outerShdw dist="1260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именение полученных в ходе освоения программы  знаний в своем образовательном учреж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7" descr="Награждение грамотами..jpg"/>
          <p:cNvPicPr/>
          <p:nvPr/>
        </p:nvPicPr>
        <p:blipFill>
          <a:blip r:embed="rId2"/>
          <a:stretch/>
        </p:blipFill>
        <p:spPr>
          <a:xfrm>
            <a:off x="1042920" y="3051000"/>
            <a:ext cx="22338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C6C0-1BAC-4914-B10A-DF59F87FC099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395280" y="189000"/>
            <a:ext cx="7993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721e"/>
                </a:solidFill>
                <a:latin typeface="Arial"/>
              </a:rPr>
              <a:t>Перспективы разви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721e"/>
                </a:solidFill>
                <a:latin typeface="Arial"/>
              </a:rPr>
              <a:t>Проектной и исследователь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721e"/>
                </a:solidFill>
                <a:latin typeface="Arial"/>
              </a:rPr>
              <a:t>деятельности в МБОУЦО № 44 г. Т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ствование методической подготовки учителе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вующих в проектной работе на ШМО, педсоветах, в творческих мастерских, на мастер – класс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лекать педагогов к участию в работе НОУ  МБОУ ЦО № 44 «ПУТЬ К ИСТИН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ые семинары, конкурсаы, в том числе и по обмену опытом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Участие в социальных и благотворительных ак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Наша самодельная машина времени..jpg"/>
          <p:cNvPicPr/>
          <p:nvPr/>
        </p:nvPicPr>
        <p:blipFill>
          <a:blip r:embed="rId1"/>
          <a:srcRect l="0" t="4852" r="11413" b="14306"/>
          <a:stretch/>
        </p:blipFill>
        <p:spPr>
          <a:xfrm>
            <a:off x="2843280" y="1620720"/>
            <a:ext cx="30607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92d050"/>
                </a:solidFill>
                <a:latin typeface="Cambria"/>
              </a:rPr>
              <a:t>Итоговая аттестационная работа</a:t>
            </a: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920" y="1483920"/>
            <a:ext cx="820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21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дним из путей повышения мотивации и эффективности учебной деятельности в основной школе является включение обучающихся в учебно-исследовательскую и проектную деятельнос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221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221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учебно-исследовательской и проектной деятельности обучающихся МБОУ ЦО №44 обеспечивает требования Стандарта к организации системно - деятельностного подхода в обучении и организации самостоятельной работы обучающихся, является средством реализации задач  по формированию основных универсальных учебных действий: личностных, регулятивных, познавательных и коммуникативных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221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направлена на формирование у обучающихся универсальных учебных действий, основ культуры исследовательской и проектной деятельности,  предусматривает выбор, разработку, реализацию и общественную презентацию предметного или межпредметного учебного проекта, направленного на решение личностно и социально-значимой пробле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221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1B24-7A2B-4A43-9941-7D2A90F3E6BE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92d050"/>
                </a:solidFill>
                <a:latin typeface="Cambria"/>
              </a:rPr>
              <a:t>Методологическая основа применения исследования</a:t>
            </a:r>
            <a:endParaRPr b="0" lang="en-US" sz="4600" spc="-1" strike="noStrike">
              <a:solidFill>
                <a:srgbClr val="92d050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2565000"/>
            <a:ext cx="835344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олевая иг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рттехн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Живая скульпту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нтиврем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Эсс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ечер загад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учный эксперимент и фокус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6448-C48C-413B-92F6-1CEEABD6ADA9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17. Мост.jpg"/>
          <p:cNvPicPr/>
          <p:nvPr/>
        </p:nvPicPr>
        <p:blipFill>
          <a:blip r:embed="rId1"/>
          <a:stretch/>
        </p:blipFill>
        <p:spPr>
          <a:xfrm>
            <a:off x="4211640" y="2060640"/>
            <a:ext cx="380376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A7C9-3E28-4F15-9A6B-92EA935389FB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826920" y="1125360"/>
            <a:ext cx="667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ь программы – создать условия для формирования и развития учебно-исследовательской компетенции учащихся посредством интеграции урочной и внеуроч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721e"/>
                </a:solidFill>
                <a:latin typeface="Calibri"/>
              </a:rPr>
              <a:t>Основные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Описать специфику учебно-исследовательской и проектной деятельности учащихся на этапе основно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Объяснить принципы организации учебно-исследовательской и проектной деятельности учеников на ступени ОО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Определить направления и возможные формы организации учебно-исследовательской и проектной деятельности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Сформулировать планируемые результаты учебно-исследовательской и проектной деятельности школь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Сконструировать систему оценивания проектных и учебно-исследовательских раб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2818080" y="40464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9721e"/>
                </a:solidFill>
                <a:latin typeface="Calibri"/>
              </a:rPr>
              <a:t>Цель програм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EDD9-A342-46A9-AFFF-0486E93ED320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684360" y="1773360"/>
            <a:ext cx="7559640" cy="42087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0773c"/>
                </a:solidFill>
                <a:latin typeface="Calibri"/>
              </a:rPr>
              <a:t>Умения 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077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0773c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ие видеть проблему приравнивается к проблемной  ситуации и понимается как возникновение трудностей в решении  проблемы при отсутствии необходимых знаний и сред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ие ставить  вопросы можно рассматривать как вариант, компонент умения видеть пробле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ие  выдвигать гипотезы - это формулирование возможного варианта решения проблемы, который проверяется в ходе проведения исслед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ие структурировать тексты является частью умения работать с текстом, которые включают достаточно большой набор опер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ие давать определение понятиям – это логическая операция, которая направлена на раскрытие сущности  понятия либо установление значения терм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611280" y="549360"/>
            <a:ext cx="763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ановка проблемы, создание проблемной  ситуации, обеспечивающей возникновение вопроса, аргументирование актуальности пробле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ABA7-17F3-46BA-8BC5-0BE58759E373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1258920" y="260280"/>
            <a:ext cx="6121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движение гипотезы, формулировка гипоте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раскрытие замысла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954000" y="1413000"/>
            <a:ext cx="343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формулировки гипотезы необходимо проведение предварительного анализа имеющейс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5" descr=""/>
          <p:cNvPicPr/>
          <p:nvPr/>
        </p:nvPicPr>
        <p:blipFill>
          <a:blip r:embed="rId1"/>
          <a:stretch/>
        </p:blipFill>
        <p:spPr>
          <a:xfrm>
            <a:off x="1152360" y="4761000"/>
            <a:ext cx="6680520" cy="1974600"/>
          </a:xfrm>
          <a:prstGeom prst="rect">
            <a:avLst/>
          </a:prstGeom>
          <a:ln w="0">
            <a:noFill/>
          </a:ln>
        </p:spPr>
      </p:pic>
      <p:grpSp>
        <p:nvGrpSpPr>
          <p:cNvPr id="68" name="Группа 47"/>
          <p:cNvGrpSpPr/>
          <p:nvPr/>
        </p:nvGrpSpPr>
        <p:grpSpPr>
          <a:xfrm>
            <a:off x="5003640" y="1125360"/>
            <a:ext cx="3073680" cy="2016360"/>
            <a:chOff x="5003640" y="1125360"/>
            <a:chExt cx="3073680" cy="2016360"/>
          </a:xfrm>
        </p:grpSpPr>
        <p:pic>
          <p:nvPicPr>
            <p:cNvPr id="69" name="Рисунок 27" descr="равные углы"/>
            <p:cNvPicPr/>
            <p:nvPr/>
          </p:nvPicPr>
          <p:blipFill>
            <a:blip r:embed="rId2"/>
            <a:stretch/>
          </p:blipFill>
          <p:spPr>
            <a:xfrm>
              <a:off x="5003640" y="2455560"/>
              <a:ext cx="307368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Рисунок 29" descr="прямой угол1"/>
            <p:cNvPicPr/>
            <p:nvPr/>
          </p:nvPicPr>
          <p:blipFill>
            <a:blip r:embed="rId3"/>
            <a:stretch/>
          </p:blipFill>
          <p:spPr>
            <a:xfrm>
              <a:off x="5074560" y="1125360"/>
              <a:ext cx="2842920" cy="12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Группа 65"/>
          <p:cNvGrpSpPr/>
          <p:nvPr/>
        </p:nvGrpSpPr>
        <p:grpSpPr>
          <a:xfrm>
            <a:off x="539640" y="3451320"/>
            <a:ext cx="5688000" cy="1057320"/>
            <a:chOff x="539640" y="3451320"/>
            <a:chExt cx="5688000" cy="1057320"/>
          </a:xfrm>
        </p:grpSpPr>
        <p:pic>
          <p:nvPicPr>
            <p:cNvPr id="72" name="Рисунок 58" descr="https://pp.vk.me/c604523/v604523775/2e7b/5A-yAo8-vio.jpg"/>
            <p:cNvPicPr/>
            <p:nvPr/>
          </p:nvPicPr>
          <p:blipFill>
            <a:blip r:embed="rId4"/>
            <a:srcRect l="24036" t="16683" r="14104" b="11122"/>
            <a:stretch/>
          </p:blipFill>
          <p:spPr>
            <a:xfrm>
              <a:off x="539640" y="3451320"/>
              <a:ext cx="210240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Рисунок 61" descr="https://pp.vk.me/c604523/v604523775/2e67/YYCktPkvhw8.jpg"/>
            <p:cNvPicPr/>
            <p:nvPr/>
          </p:nvPicPr>
          <p:blipFill>
            <a:blip r:embed="rId5"/>
            <a:srcRect l="35109" t="22708" r="18088" b="12772"/>
            <a:stretch/>
          </p:blipFill>
          <p:spPr>
            <a:xfrm>
              <a:off x="4444200" y="3451320"/>
              <a:ext cx="178344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Рисунок 64" descr="https://pp.vk.me/c604523/v604523775/2e85/bozI3aTGEbs.jpg"/>
            <p:cNvPicPr/>
            <p:nvPr/>
          </p:nvPicPr>
          <p:blipFill>
            <a:blip r:embed="rId6"/>
            <a:srcRect l="13787" t="14665" r="12506" b="31969"/>
            <a:stretch/>
          </p:blipFill>
          <p:spPr>
            <a:xfrm>
              <a:off x="2642040" y="3472560"/>
              <a:ext cx="1802160" cy="100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C396-4828-4C13-B189-3CACBA246FE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1187280" y="3724200"/>
            <a:ext cx="6264360" cy="256284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0773c"/>
                </a:solidFill>
                <a:latin typeface="Arial"/>
              </a:rPr>
              <a:t>Умения 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0773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ение материала, который будет использован в исследова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ы (показатели) оценки, анализа (количественные и качественны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, предлагаемые для обсуждения и пр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900000" y="404640"/>
            <a:ext cx="6551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 исследовательских (проектных) работ и выбор необходимого инструмент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Отвечаем на вопросы.Дианы.jpg"/>
          <p:cNvPicPr/>
          <p:nvPr/>
        </p:nvPicPr>
        <p:blipFill>
          <a:blip r:embed="rId1"/>
          <a:stretch/>
        </p:blipFill>
        <p:spPr>
          <a:xfrm>
            <a:off x="2987640" y="1484280"/>
            <a:ext cx="2540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C739-F500-4969-93B2-84E77EF07E51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1042920" y="620640"/>
            <a:ext cx="691380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 решения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826920" y="3429000"/>
            <a:ext cx="7093080" cy="28371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0773c"/>
                </a:solidFill>
                <a:latin typeface="Calibri"/>
              </a:rPr>
              <a:t>Умения 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 наблюдать, умения и навыки провед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ксперимент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делать выводы и умозаклю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наблюдения, планирование и проведение опытов, нахождение необходимой информации и проверка гипотезы; использование разных источников информ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и оценка полученных результатов и применение их к новым ситуация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делать выводы и заключения; умение классифицир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Диаграмма 4" descr=""/>
          <p:cNvPicPr/>
          <p:nvPr/>
        </p:nvPicPr>
        <p:blipFill>
          <a:blip r:embed="rId1"/>
          <a:stretch/>
        </p:blipFill>
        <p:spPr>
          <a:xfrm>
            <a:off x="2073240" y="1433520"/>
            <a:ext cx="51418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1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392C-8C4D-45E8-B9B9-E8888FB43D0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900000" y="476280"/>
            <a:ext cx="6985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ление проектной, исследовательск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900000" y="3789360"/>
            <a:ext cx="7126560" cy="228852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0773c"/>
                </a:solidFill>
                <a:latin typeface="Arial"/>
              </a:rPr>
              <a:t>Умения 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0773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ние структурировать материа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суждение, объяснение, доказательство, защита результатов, подготовка, планирование сообщение о проведении исследования, его результатах и защи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полученных результатов и их применение к новым ситуац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1" descr="https://pp.vk.me/c604523/v604523775/2e49/DtFFJSJJygc.jpg"/>
          <p:cNvPicPr/>
          <p:nvPr/>
        </p:nvPicPr>
        <p:blipFill>
          <a:blip r:embed="rId1"/>
          <a:srcRect l="0" t="16623" r="0" b="22745"/>
          <a:stretch/>
        </p:blipFill>
        <p:spPr>
          <a:xfrm>
            <a:off x="2843280" y="1989000"/>
            <a:ext cx="295272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7T09:38:06Z</dcterms:created>
  <dc:creator>User</dc:creator>
  <dc:description/>
  <dc:language>en-US</dc:language>
  <cp:lastModifiedBy>K18</cp:lastModifiedBy>
  <dcterms:modified xsi:type="dcterms:W3CDTF">2021-04-14T15:12:51Z</dcterms:modified>
  <cp:revision>12</cp:revision>
  <dc:subject/>
  <dc:title>Аттестационная работа</dc:title>
</cp:coreProperties>
</file>