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6182-AE48-4A92-AFEE-2A9A2662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6C50-D533-4652-81B8-C853066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16D0-18B4-4BA5-B347-66DFBA54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FB4E-331A-4717-B6C6-6D7D6C01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3885-A649-4D0B-A5E7-CBD60D0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D278-4C6F-4AF7-8CEF-B8B19111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3D97-E7AE-4AA5-AE09-1ED3C12D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B7FE-9567-46BC-A03D-E6F9896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5933-9019-40E1-B8ED-35ED507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3700-4FCD-49BA-9E69-9D3C2A1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7D2D-896D-4C50-8B0F-3B35CFF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5994-6BB7-45F7-88E8-7E48B55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e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b77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e07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0ADC-B1EB-4ED6-A493-B525CD28AC3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ece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6A56-18F2-4CF9-A79D-E8CCD96D8DF7}" type="datetime">
              <a:rPr b="0" lang="ru-RU" sz="1200" spc="-1" strike="noStrike">
                <a:solidFill>
                  <a:srgbClr val="e7eced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2d050"/>
                </a:solidFill>
                <a:latin typeface="Cambria"/>
              </a:rPr>
              <a:t>Аттестационная работа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055-D1E9-49AB-8311-5586F68C04A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Прямоугольник 5"/>
          <p:cNvGrpSpPr/>
          <p:nvPr/>
        </p:nvGrpSpPr>
        <p:grpSpPr>
          <a:xfrm>
            <a:off x="476280" y="1414440"/>
            <a:ext cx="7875720" cy="3475080"/>
            <a:chOff x="476280" y="1414440"/>
            <a:chExt cx="7875720" cy="3475080"/>
          </a:xfrm>
        </p:grpSpPr>
        <p:pic>
          <p:nvPicPr>
            <p:cNvPr id="4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76280" y="1414440"/>
              <a:ext cx="7875720" cy="34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1280" y="1557360"/>
              <a:ext cx="7539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Слушателя курсов повышения квалификации по программ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«Проектная и исследовательская деятельность как способ формирования метапредметных результатов обучения в условиях реализации ФГОС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Выполнила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Борзова  </a:t>
              </a:r>
              <a:r>
                <a:rPr b="0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Надежда Викторовна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учитель физ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62626"/>
                  </a:solidFill>
                  <a:latin typeface="Calibri"/>
                  <a:ea typeface="Estrangelo Edessa"/>
                </a:rPr>
                <a:t>МБОУ ЦО № 44 г. Тул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6"/>
          <p:cNvSpPr/>
          <p:nvPr/>
        </p:nvSpPr>
        <p:spPr>
          <a:xfrm>
            <a:off x="1320840" y="51339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195640" y="5084640"/>
            <a:ext cx="4572000" cy="916920"/>
          </a:xfrm>
          <a:prstGeom prst="rect">
            <a:avLst/>
          </a:prstGeom>
          <a:solidFill>
            <a:srgbClr val="92d050"/>
          </a:solidFill>
          <a:ln w="12600">
            <a:solidFill>
              <a:srgbClr val="8fce4b"/>
            </a:solidFill>
            <a:miter/>
          </a:ln>
          <a:effectLst>
            <a:outerShdw dist="1260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менение полученных в ходе освоения программы  знаний в своем 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7" descr="Награждение грамотами..jpg"/>
          <p:cNvPicPr/>
          <p:nvPr/>
        </p:nvPicPr>
        <p:blipFill>
          <a:blip r:embed="rId2"/>
          <a:stretch/>
        </p:blipFill>
        <p:spPr>
          <a:xfrm>
            <a:off x="1042920" y="3051000"/>
            <a:ext cx="22338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CAF1-D26B-42D5-9E9E-29A8C2A218E9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395280" y="189000"/>
            <a:ext cx="7993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</a:rPr>
              <a:t>Перспективы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</a:rPr>
              <a:t>Проектной и исследователь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</a:rPr>
              <a:t>деятельности в МБОУЦО № 44 г. Т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методической подготовки учител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ующих в проектной работе на ШМО, педсоветах, в творческих мастерских, на мастер – класс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кать педагогов к участию в работе НОУ  МБОУ ЦО № 44 «ПУТЬ К ИСТ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е семинары, конкурсаы, в том числе и по обмену опыто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частие в социальных и благотворительных 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Наша самодельная машина времени..jpg"/>
          <p:cNvPicPr/>
          <p:nvPr/>
        </p:nvPicPr>
        <p:blipFill>
          <a:blip r:embed="rId1"/>
          <a:srcRect l="0" t="4852" r="11413" b="14306"/>
          <a:stretch/>
        </p:blipFill>
        <p:spPr>
          <a:xfrm>
            <a:off x="2843280" y="1620720"/>
            <a:ext cx="306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2d050"/>
                </a:solidFill>
                <a:latin typeface="Cambria"/>
              </a:rPr>
              <a:t>Итоговая аттестационная работа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483920"/>
            <a:ext cx="820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дним из путей повышения мотивации и эффективности учебной деятельности в основной школе является включение обучающихся в учебно-исследовательскую и проектную деятельн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учебно-исследовательской и проектной деятельности обучающихся МБОУ ЦО №44 обеспечивает требования Стандарта к организации системно - деятельностного подхода в обучении и организации самостоятельной работы обучающихся, является средством реализации задач  по формированию основных универсальных учебных действий: личностных, регулятивных, познавательных и коммуникативны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направлена на формирование у обучающихся универсальных учебных действий, основ культуры исследовательской и проектной деятельности,  предусматривает выбор, разработку, реализацию и общественную презентацию предметного или межпредметного учебного проекта, направленного на решение личностно и социально-значимой пробл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ADC7-ABD0-41A9-8EA7-058D6553927D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2d050"/>
                </a:solidFill>
                <a:latin typeface="Cambria"/>
              </a:rPr>
              <a:t>Методологическая основа применения исследования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2565000"/>
            <a:ext cx="835344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олевая иг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рттех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Живая скульпт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врем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с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чер загад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эксперимент и фокус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5ED-67F8-4E40-B151-67FFFDF1F31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17. Мост.jpg"/>
          <p:cNvPicPr/>
          <p:nvPr/>
        </p:nvPicPr>
        <p:blipFill>
          <a:blip r:embed="rId1"/>
          <a:stretch/>
        </p:blipFill>
        <p:spPr>
          <a:xfrm>
            <a:off x="4211640" y="2060640"/>
            <a:ext cx="38037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7666-04A0-491F-8086-AFC62AF923E2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826920" y="1125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 программы – создать условия для формирования и развития учебно-исследовательской компетенции учащихся посредством интеграции урочной и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libri"/>
              </a:rPr>
              <a:t>Основ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Описать специфику учебно-исследовательской и проектной деятельности учащихся на этапе основ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Объяснить принципы организации учебно-исследовательской и проектной деятельности учеников на ступени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пределить направления и возможные формы организации учебно-исследовательской и проектной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формулировать планируемые результаты учебно-исследовательской и проектной деятельности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конструировать систему оценивания проектных и учебно-исследователь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818080" y="40464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libri"/>
              </a:rPr>
              <a:t>Цель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8D57-FE5C-4846-A2E7-9782C565AC4D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84360" y="1773360"/>
            <a:ext cx="7559640" cy="42087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Calibri"/>
              </a:rPr>
              <a:t>Умения 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077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видеть проблему приравнивается к проблемной  ситуации и понимается как возникновение трудностей в решении  проблемы при отсутствии необходимых знаний и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тавить  вопросы можно рассматривать как вариант, компонент умения видеть пробл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 выдвигать гипотезы - это формулирование возможного варианта решения проблемы, который проверяется в ходе проведения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труктурировать тексты является частью умения работать с текстом, которые включают достаточно большой набор опер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давать определение понятиям – это логическая операция, которая направлена на раскрытие сущности  понятия либо установление значения тер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611280" y="549360"/>
            <a:ext cx="763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новка проблемы, создание проблемной  ситуации, обеспечивающей возникновение вопроса, аргументирование актуальности пробл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D89E-53F8-4DBC-A4D6-81708A1AFFE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258920" y="260280"/>
            <a:ext cx="6121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вижение гипотезы, формулировка гипот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скрытие замысл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954000" y="1413000"/>
            <a:ext cx="34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формулировки гипотезы необходимо проведение предварительного анализа имеющейс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1152360" y="4761000"/>
            <a:ext cx="6680520" cy="1974600"/>
          </a:xfrm>
          <a:prstGeom prst="rect">
            <a:avLst/>
          </a:prstGeom>
          <a:ln w="0">
            <a:noFill/>
          </a:ln>
        </p:spPr>
      </p:pic>
      <p:grpSp>
        <p:nvGrpSpPr>
          <p:cNvPr id="68" name="Группа 47"/>
          <p:cNvGrpSpPr/>
          <p:nvPr/>
        </p:nvGrpSpPr>
        <p:grpSpPr>
          <a:xfrm>
            <a:off x="5003640" y="1125360"/>
            <a:ext cx="3073680" cy="2016360"/>
            <a:chOff x="5003640" y="1125360"/>
            <a:chExt cx="3073680" cy="2016360"/>
          </a:xfrm>
        </p:grpSpPr>
        <p:pic>
          <p:nvPicPr>
            <p:cNvPr id="69" name="Рисунок 27" descr="равные углы"/>
            <p:cNvPicPr/>
            <p:nvPr/>
          </p:nvPicPr>
          <p:blipFill>
            <a:blip r:embed="rId2"/>
            <a:stretch/>
          </p:blipFill>
          <p:spPr>
            <a:xfrm>
              <a:off x="5003640" y="2455560"/>
              <a:ext cx="307368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Рисунок 29" descr="прямой угол1"/>
            <p:cNvPicPr/>
            <p:nvPr/>
          </p:nvPicPr>
          <p:blipFill>
            <a:blip r:embed="rId3"/>
            <a:stretch/>
          </p:blipFill>
          <p:spPr>
            <a:xfrm>
              <a:off x="5074560" y="1125360"/>
              <a:ext cx="284292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65"/>
          <p:cNvGrpSpPr/>
          <p:nvPr/>
        </p:nvGrpSpPr>
        <p:grpSpPr>
          <a:xfrm>
            <a:off x="539640" y="3451320"/>
            <a:ext cx="5688000" cy="1057320"/>
            <a:chOff x="539640" y="3451320"/>
            <a:chExt cx="5688000" cy="1057320"/>
          </a:xfrm>
        </p:grpSpPr>
        <p:pic>
          <p:nvPicPr>
            <p:cNvPr id="72" name="Рисунок 58" descr="https://pp.vk.me/c604523/v604523775/2e7b/5A-yAo8-vio.jpg"/>
            <p:cNvPicPr/>
            <p:nvPr/>
          </p:nvPicPr>
          <p:blipFill>
            <a:blip r:embed="rId4"/>
            <a:srcRect l="24036" t="16683" r="14104" b="11122"/>
            <a:stretch/>
          </p:blipFill>
          <p:spPr>
            <a:xfrm>
              <a:off x="539640" y="3451320"/>
              <a:ext cx="2102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Рисунок 61" descr="https://pp.vk.me/c604523/v604523775/2e67/YYCktPkvhw8.jpg"/>
            <p:cNvPicPr/>
            <p:nvPr/>
          </p:nvPicPr>
          <p:blipFill>
            <a:blip r:embed="rId5"/>
            <a:srcRect l="35109" t="22708" r="18088" b="12772"/>
            <a:stretch/>
          </p:blipFill>
          <p:spPr>
            <a:xfrm>
              <a:off x="4444200" y="3451320"/>
              <a:ext cx="17834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Рисунок 64" descr="https://pp.vk.me/c604523/v604523775/2e85/bozI3aTGEbs.jpg"/>
            <p:cNvPicPr/>
            <p:nvPr/>
          </p:nvPicPr>
          <p:blipFill>
            <a:blip r:embed="rId6"/>
            <a:srcRect l="13787" t="14665" r="12506" b="31969"/>
            <a:stretch/>
          </p:blipFill>
          <p:spPr>
            <a:xfrm>
              <a:off x="2642040" y="3472560"/>
              <a:ext cx="1802160" cy="10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EB5-339D-4E28-9A6D-0BA4DED2174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187280" y="3724200"/>
            <a:ext cx="6264360" cy="25628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Arial"/>
              </a:rPr>
              <a:t>Умения 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077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ие материала, который будет использован в исслед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ы (показатели) оценки, анализа (количественные и качественны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, предлагаемые для обсуждения и 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900000" y="404640"/>
            <a:ext cx="655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исследовательских (проектных) работ и выбор необходимого инструмент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Отвечаем на вопросы.Дианы.jpg"/>
          <p:cNvPicPr/>
          <p:nvPr/>
        </p:nvPicPr>
        <p:blipFill>
          <a:blip r:embed="rId1"/>
          <a:stretch/>
        </p:blipFill>
        <p:spPr>
          <a:xfrm>
            <a:off x="2987640" y="14842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C99B-F63C-4D99-B1FA-A424E11E6BB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042920" y="620640"/>
            <a:ext cx="69138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 решения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826920" y="3429000"/>
            <a:ext cx="7093080" cy="2837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Calibri"/>
              </a:rPr>
              <a:t>Умения 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 наблюдать, умения и навыки прове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еримен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выводы и умозаклю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блюдения, планирование и проведение опытов, нахождение необходимой информации и проверка гипотезы; использование разных источников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 оценка полученных результатов и применение их к новым ситуац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выводы и заключения; умение классифиц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Диаграмма 4" descr=""/>
          <p:cNvPicPr/>
          <p:nvPr/>
        </p:nvPicPr>
        <p:blipFill>
          <a:blip r:embed="rId1"/>
          <a:stretch/>
        </p:blipFill>
        <p:spPr>
          <a:xfrm>
            <a:off x="2073240" y="1433520"/>
            <a:ext cx="514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1AC1-45FF-4B3A-B390-AB6D9899709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900000" y="476280"/>
            <a:ext cx="6985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проектной, исследователь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900000" y="3789360"/>
            <a:ext cx="7126560" cy="22885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Arial"/>
              </a:rPr>
              <a:t>Умения 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структурировать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уждение, объяснение, доказательство, защита результатов, подготовка, планирование сообщение о проведении исследования, его результатах и защи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полученных результатов и их применение к нов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1" descr="https://pp.vk.me/c604523/v604523775/2e49/DtFFJSJJygc.jpg"/>
          <p:cNvPicPr/>
          <p:nvPr/>
        </p:nvPicPr>
        <p:blipFill>
          <a:blip r:embed="rId1"/>
          <a:srcRect l="0" t="16623" r="0" b="22745"/>
          <a:stretch/>
        </p:blipFill>
        <p:spPr>
          <a:xfrm>
            <a:off x="2843280" y="1989000"/>
            <a:ext cx="29527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7T09:38:06Z</dcterms:created>
  <dc:creator>User</dc:creator>
  <dc:description/>
  <dc:language>en-US</dc:language>
  <cp:lastModifiedBy>K18</cp:lastModifiedBy>
  <dcterms:modified xsi:type="dcterms:W3CDTF">2021-04-14T15:12:51Z</dcterms:modified>
  <cp:revision>12</cp:revision>
  <dc:subject/>
  <dc:title>Аттестационная работа</dc:title>
</cp:coreProperties>
</file>