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push.wav" ContentType="audio/x-wav"/>
  <Override PartName="/ppt/media/image22.png" ContentType="image/png"/>
  <Override PartName="/ppt/media/applause.wav" ContentType="audio/x-wav"/>
  <Override PartName="/ppt/media/image35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3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16.png" ContentType="image/png"/>
  <Override PartName="/ppt/media/chimes.wav" ContentType="audio/x-wav"/>
  <Override PartName="/ppt/media/image6.gif" ContentType="image/gif"/>
  <Override PartName="/ppt/media/image29.png" ContentType="image/png"/>
  <Override PartName="/ppt/media/image12.wmf" ContentType="image/x-wmf"/>
  <Override PartName="/ppt/media/image51.png" ContentType="image/png"/>
  <Override PartName="/ppt/media/image14.jpeg" ContentType="image/jpeg"/>
  <Override PartName="/ppt/media/image8.png" ContentType="image/png"/>
  <Override PartName="/ppt/media/image38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3.gif" ContentType="image/gif"/>
  <Override PartName="/ppt/media/image46.png" ContentType="image/png"/>
  <Override PartName="/ppt/media/image54.gif" ContentType="image/gif"/>
  <Override PartName="/ppt/media/image47.png" ContentType="image/png"/>
  <Override PartName="/ppt/media/image55.gif" ContentType="image/gif"/>
  <Override PartName="/ppt/media/image48.png" ContentType="image/png"/>
  <Override PartName="/ppt/media/image50.png" ContentType="image/png"/>
  <Override PartName="/ppt/media/image49.png" ContentType="image/png"/>
  <Override PartName="/ppt/media/image56.gif" ContentType="image/gif"/>
  <Override PartName="/ppt/media/image52.png" ContentType="image/png"/>
  <Override PartName="/ppt/media/image42.png" ContentType="image/png"/>
  <Override PartName="/ppt/media/image41.png" ContentType="image/png"/>
  <Override PartName="/ppt/media/image39.png" ContentType="image/png"/>
  <Override PartName="/ppt/media/image40.png" ContentType="image/png"/>
  <Override PartName="/ppt/media/image36.png" ContentType="image/png"/>
  <Override PartName="/ppt/media/image33.png" ContentType="image/png"/>
  <Override PartName="/ppt/media/image5.gif" ContentType="image/gif"/>
  <Override PartName="/ppt/media/image32.png" ContentType="image/png"/>
  <Override PartName="/ppt/media/image28.jpeg" ContentType="image/jpeg"/>
  <Override PartName="/ppt/media/image9.gif" ContentType="image/gif"/>
  <Override PartName="/ppt/media/image7.png" ContentType="image/png"/>
  <Override PartName="/ppt/media/image34.jpeg" ContentType="image/jpeg"/>
  <Override PartName="/ppt/media/image37.png" ContentType="image/png"/>
  <Override PartName="/ppt/media/image4.gif" ContentType="image/gif"/>
  <Override PartName="/ppt/media/image27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CAC3-DB96-40B6-8D09-6B1D604E79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5CC4-D4E6-4293-9327-5D5E592AAB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3A19-C138-41AF-B49D-EB05883AFB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BDEA-D381-47A3-876D-5CBA1F69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BE0F-5949-4FDE-9471-498D79DF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1E86-94BF-42DE-814B-E6CD367A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7F53-5E40-4F44-A158-749F8891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A9DB-87E4-441E-A02A-E586AB79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970C-2D32-4FEE-9FCE-A57A2615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446-CF88-4410-8C02-2F12599A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EF26-3D51-4530-A06E-4174FB32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776A-A9D2-4216-9EB6-DA3BF62E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9144-121D-472B-AE32-94C3BCB7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DD52-497D-42A1-9524-421618F9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0E94-7486-4C72-A563-87D8F850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693D-F626-4F50-AC22-7FFDCE876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audio" Target="../media/push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1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image" Target="../media/image41.png"/><Relationship Id="rId13" Type="http://schemas.openxmlformats.org/officeDocument/2006/relationships/image" Target="../media/image45.png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54.gif"/><Relationship Id="rId3" Type="http://schemas.openxmlformats.org/officeDocument/2006/relationships/image" Target="../media/image55.gif"/><Relationship Id="rId4" Type="http://schemas.openxmlformats.org/officeDocument/2006/relationships/image" Target="../media/image53.gi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7.png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6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1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0233964"/>
          <p:cNvPicPr/>
          <p:nvPr/>
        </p:nvPicPr>
        <p:blipFill>
          <a:blip r:embed="rId1"/>
          <a:stretch/>
        </p:blipFill>
        <p:spPr>
          <a:xfrm>
            <a:off x="3348000" y="3357720"/>
            <a:ext cx="2813040" cy="28526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Рисунок1.jpg"/>
          <p:cNvPicPr/>
          <p:nvPr/>
        </p:nvPicPr>
        <p:blipFill>
          <a:blip r:embed="rId2"/>
          <a:stretch/>
        </p:blipFill>
        <p:spPr>
          <a:xfrm>
            <a:off x="0" y="0"/>
            <a:ext cx="9510840" cy="7126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928800" y="3141720"/>
            <a:ext cx="3143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Учитель: Макеева Нина Михайловна ГБОУ ООШ с.Песоч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 flipV="1">
            <a:off x="1187280" y="89748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857160" y="785880"/>
            <a:ext cx="3500640" cy="20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исло 10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став числа 10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Рисунок2"/>
          <p:cNvPicPr/>
          <p:nvPr/>
        </p:nvPicPr>
        <p:blipFill>
          <a:blip r:embed="rId2"/>
          <a:stretch/>
        </p:blipFill>
        <p:spPr>
          <a:xfrm>
            <a:off x="611280" y="1773360"/>
            <a:ext cx="4120920" cy="4267080"/>
          </a:xfrm>
          <a:prstGeom prst="rect">
            <a:avLst/>
          </a:prstGeom>
          <a:ln w="0">
            <a:noFill/>
          </a:ln>
        </p:spPr>
      </p:pic>
      <p:sp>
        <p:nvSpPr>
          <p:cNvPr id="144" name="Капля 23"/>
          <p:cNvSpPr/>
          <p:nvPr/>
        </p:nvSpPr>
        <p:spPr>
          <a:xfrm>
            <a:off x="250920" y="607212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Капля 23"/>
          <p:cNvSpPr/>
          <p:nvPr/>
        </p:nvSpPr>
        <p:spPr>
          <a:xfrm>
            <a:off x="1258920" y="566100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Капля 23"/>
          <p:cNvSpPr/>
          <p:nvPr/>
        </p:nvSpPr>
        <p:spPr>
          <a:xfrm>
            <a:off x="2195640" y="6072120"/>
            <a:ext cx="78552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Капля 23"/>
          <p:cNvSpPr/>
          <p:nvPr/>
        </p:nvSpPr>
        <p:spPr>
          <a:xfrm>
            <a:off x="3348000" y="566100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Капля 23"/>
          <p:cNvSpPr/>
          <p:nvPr/>
        </p:nvSpPr>
        <p:spPr>
          <a:xfrm>
            <a:off x="4284720" y="607212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Капля 23"/>
          <p:cNvSpPr/>
          <p:nvPr/>
        </p:nvSpPr>
        <p:spPr>
          <a:xfrm>
            <a:off x="5292720" y="544500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Капля 23"/>
          <p:cNvSpPr/>
          <p:nvPr/>
        </p:nvSpPr>
        <p:spPr>
          <a:xfrm>
            <a:off x="6012000" y="6072120"/>
            <a:ext cx="78552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Капля 23"/>
          <p:cNvSpPr/>
          <p:nvPr/>
        </p:nvSpPr>
        <p:spPr>
          <a:xfrm>
            <a:off x="6804000" y="530064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Капля 23"/>
          <p:cNvSpPr/>
          <p:nvPr/>
        </p:nvSpPr>
        <p:spPr>
          <a:xfrm>
            <a:off x="7380360" y="607212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Капля 23"/>
          <p:cNvSpPr/>
          <p:nvPr/>
        </p:nvSpPr>
        <p:spPr>
          <a:xfrm>
            <a:off x="8072280" y="5214960"/>
            <a:ext cx="857520" cy="92880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6372360" y="112536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Группа 18"/>
          <p:cNvGrpSpPr/>
          <p:nvPr/>
        </p:nvGrpSpPr>
        <p:grpSpPr>
          <a:xfrm>
            <a:off x="5940360" y="692280"/>
            <a:ext cx="2519280" cy="1224000"/>
            <a:chOff x="5940360" y="692280"/>
            <a:chExt cx="2519280" cy="1224000"/>
          </a:xfrm>
        </p:grpSpPr>
        <p:sp>
          <p:nvSpPr>
            <p:cNvPr id="156" name="AutoShape 6"/>
            <p:cNvSpPr/>
            <p:nvPr/>
          </p:nvSpPr>
          <p:spPr>
            <a:xfrm>
              <a:off x="5940360" y="692280"/>
              <a:ext cx="2519280" cy="12240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8"/>
            <p:cNvSpPr/>
            <p:nvPr/>
          </p:nvSpPr>
          <p:spPr>
            <a:xfrm>
              <a:off x="6156000" y="1052640"/>
              <a:ext cx="172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99"/>
                  </a:solidFill>
                  <a:latin typeface="Arial"/>
                </a:rPr>
                <a:t>6 + 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Управляющая кнопка: в конец 19">
            <a:hlinkClick r:id="" action="ppaction://hlinkshowjump?jump=nextslide"/>
          </p:cNvPr>
          <p:cNvSpPr/>
          <p:nvPr/>
        </p:nvSpPr>
        <p:spPr>
          <a:xfrm>
            <a:off x="0" y="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22007" y="10800"/>
                </a:moveTo>
                <a:lnTo>
                  <a:pt x="11501" y="17806"/>
                </a:lnTo>
                <a:lnTo>
                  <a:pt x="11501" y="3794"/>
                </a:lnTo>
                <a:close/>
              </a:path>
              <a:path fill="darken" w="37015" h="21600">
                <a:moveTo>
                  <a:pt x="23852" y="3794"/>
                </a:moveTo>
                <a:lnTo>
                  <a:pt x="23852" y="17806"/>
                </a:lnTo>
                <a:lnTo>
                  <a:pt x="25514" y="17806"/>
                </a:lnTo>
                <a:lnTo>
                  <a:pt x="25514" y="379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animMotion origin="layout" path="M 0 0 C -0.01649 -0.00301 -0.01753 -0.00763 -0.03107 -0.01526 C -0.04791 -0.02474 -0.06545 -0.03029 -0.0835 -0.03261 C -0.09548 -0.03815 -0.1066 -0.03792 -0.11962 -0.03931 C -0.13541 -0.04255 -0.15139 -0.04625 -0.16719 -0.05018 C -0.17535 -0.05226 -0.19184 -0.05457 -0.19184 -0.05457 C -0.21285 -0.06359 -0.24097 -0.05758 -0.26059 -0.05665 C -0.27864 -0.05087 -0.29826 -0.0407 -0.31632 -0.037 C -0.33802 -0.03261 -0.36024 -0.03076 -0.38194 -0.02613 C -0.40104 -0.01711 -0.41007 -0.02266 -0.43594 -0.02382 C -0.43802 -0.02798 -0.43871 -0.03307 -0.44097 -0.037 C -0.44219 -0.03908 -0.44427 -0.03977 -0.44583 -0.04139 C -0.45035 -0.04648 -0.45364 -0.05087 -0.45903 -0.05457 E">
                                      <p:cBhvr>
                                        <p:cTn id="425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Рисунок2"/>
          <p:cNvPicPr/>
          <p:nvPr/>
        </p:nvPicPr>
        <p:blipFill>
          <a:blip r:embed="rId2"/>
          <a:stretch/>
        </p:blipFill>
        <p:spPr>
          <a:xfrm>
            <a:off x="611280" y="1773360"/>
            <a:ext cx="4120920" cy="426708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6"/>
          <p:cNvSpPr/>
          <p:nvPr/>
        </p:nvSpPr>
        <p:spPr>
          <a:xfrm>
            <a:off x="5940360" y="692280"/>
            <a:ext cx="2519280" cy="1224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5 -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Капля 23"/>
          <p:cNvSpPr/>
          <p:nvPr/>
        </p:nvSpPr>
        <p:spPr>
          <a:xfrm>
            <a:off x="250920" y="607212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Капля 23"/>
          <p:cNvSpPr/>
          <p:nvPr/>
        </p:nvSpPr>
        <p:spPr>
          <a:xfrm>
            <a:off x="1258920" y="566100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Капля 23"/>
          <p:cNvSpPr/>
          <p:nvPr/>
        </p:nvSpPr>
        <p:spPr>
          <a:xfrm>
            <a:off x="2195640" y="6072120"/>
            <a:ext cx="78552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Капля 23"/>
          <p:cNvSpPr/>
          <p:nvPr/>
        </p:nvSpPr>
        <p:spPr>
          <a:xfrm>
            <a:off x="3348000" y="566100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Капля 23"/>
          <p:cNvSpPr/>
          <p:nvPr/>
        </p:nvSpPr>
        <p:spPr>
          <a:xfrm>
            <a:off x="4284720" y="607212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Капля 23"/>
          <p:cNvSpPr/>
          <p:nvPr/>
        </p:nvSpPr>
        <p:spPr>
          <a:xfrm>
            <a:off x="5292720" y="544500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Капля 23"/>
          <p:cNvSpPr/>
          <p:nvPr/>
        </p:nvSpPr>
        <p:spPr>
          <a:xfrm>
            <a:off x="6012000" y="6072120"/>
            <a:ext cx="78552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Капля 23"/>
          <p:cNvSpPr/>
          <p:nvPr/>
        </p:nvSpPr>
        <p:spPr>
          <a:xfrm>
            <a:off x="6804000" y="530064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Капля 23"/>
          <p:cNvSpPr/>
          <p:nvPr/>
        </p:nvSpPr>
        <p:spPr>
          <a:xfrm>
            <a:off x="7380360" y="607212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Капля 23"/>
          <p:cNvSpPr/>
          <p:nvPr/>
        </p:nvSpPr>
        <p:spPr>
          <a:xfrm>
            <a:off x="8244000" y="5373720"/>
            <a:ext cx="900000" cy="77004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Управляющая кнопка: в конец 16">
            <a:hlinkClick r:id="" action="ppaction://hlinkshowjump?jump=nextslide"/>
          </p:cNvPr>
          <p:cNvSpPr/>
          <p:nvPr/>
        </p:nvSpPr>
        <p:spPr>
          <a:xfrm>
            <a:off x="0" y="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22007" y="10800"/>
                </a:moveTo>
                <a:lnTo>
                  <a:pt x="11501" y="17806"/>
                </a:lnTo>
                <a:lnTo>
                  <a:pt x="11501" y="3794"/>
                </a:lnTo>
                <a:close/>
              </a:path>
              <a:path fill="darken" w="37015" h="21600">
                <a:moveTo>
                  <a:pt x="23852" y="3794"/>
                </a:moveTo>
                <a:lnTo>
                  <a:pt x="23852" y="17806"/>
                </a:lnTo>
                <a:lnTo>
                  <a:pt x="25514" y="17806"/>
                </a:lnTo>
                <a:lnTo>
                  <a:pt x="25514" y="379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animMotion origin="layout" path="M 4.44444E-006 1.50289E-006 C 0.00555 -0.00116 0.01145 -0.00116 0.01701 -0.00324 C 0.01979 -0.00416 0.02152 -0.0074 0.02413 -0.00856 C 0.03194 -0.01226 0.04079 -0.01364 0.04878 -0.01642 C 0.05156 -0.01757 0.05347 -0.02058 0.0559 -0.02197 C 0.08732 -0.03723 0.05434 -0.01549 0.08524 -0.03769 C 0.09236 -0.04301 0.1 -0.04856 0.10711 -0.05387 C 0.11007 -0.05619 0.11163 -0.05965 0.11475 -0.06174 C 0.11909 -0.06451 0.12934 -0.06705 0.12934 -0.06682 C 0.14062 -0.07977 0.14375 -0.09133 0.14878 -0.10752 C 0.14531 -0.14104 0.15399 -0.13156 0.11944 -0.13156 E">
                                      <p:cBhvr>
                                        <p:cTn id="491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4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Рисунок2"/>
          <p:cNvPicPr/>
          <p:nvPr/>
        </p:nvPicPr>
        <p:blipFill>
          <a:blip r:embed="rId2"/>
          <a:stretch/>
        </p:blipFill>
        <p:spPr>
          <a:xfrm>
            <a:off x="611280" y="1773360"/>
            <a:ext cx="4120920" cy="426708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6"/>
          <p:cNvSpPr/>
          <p:nvPr/>
        </p:nvSpPr>
        <p:spPr>
          <a:xfrm>
            <a:off x="5940360" y="692280"/>
            <a:ext cx="2519280" cy="1224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9 +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Капля 23"/>
          <p:cNvSpPr/>
          <p:nvPr/>
        </p:nvSpPr>
        <p:spPr>
          <a:xfrm>
            <a:off x="250920" y="607212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Капля 23"/>
          <p:cNvSpPr/>
          <p:nvPr/>
        </p:nvSpPr>
        <p:spPr>
          <a:xfrm>
            <a:off x="1258920" y="566100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Капля 23"/>
          <p:cNvSpPr/>
          <p:nvPr/>
        </p:nvSpPr>
        <p:spPr>
          <a:xfrm>
            <a:off x="2195640" y="6072120"/>
            <a:ext cx="78552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Капля 23"/>
          <p:cNvSpPr/>
          <p:nvPr/>
        </p:nvSpPr>
        <p:spPr>
          <a:xfrm>
            <a:off x="3348000" y="566100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Капля 23"/>
          <p:cNvSpPr/>
          <p:nvPr/>
        </p:nvSpPr>
        <p:spPr>
          <a:xfrm>
            <a:off x="4284720" y="607212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Капля 23"/>
          <p:cNvSpPr/>
          <p:nvPr/>
        </p:nvSpPr>
        <p:spPr>
          <a:xfrm>
            <a:off x="5292720" y="544500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Капля 23"/>
          <p:cNvSpPr/>
          <p:nvPr/>
        </p:nvSpPr>
        <p:spPr>
          <a:xfrm>
            <a:off x="6012000" y="6072120"/>
            <a:ext cx="78552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Капля 23"/>
          <p:cNvSpPr/>
          <p:nvPr/>
        </p:nvSpPr>
        <p:spPr>
          <a:xfrm>
            <a:off x="6804000" y="530064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Капля 23"/>
          <p:cNvSpPr/>
          <p:nvPr/>
        </p:nvSpPr>
        <p:spPr>
          <a:xfrm>
            <a:off x="7380360" y="607212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Капля 23"/>
          <p:cNvSpPr/>
          <p:nvPr/>
        </p:nvSpPr>
        <p:spPr>
          <a:xfrm>
            <a:off x="8072280" y="5214960"/>
            <a:ext cx="957600" cy="94464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Прямоугольник 17" descr=""/>
          <p:cNvPicPr/>
          <p:nvPr/>
        </p:nvPicPr>
        <p:blipFill>
          <a:blip r:embed="rId3"/>
          <a:stretch/>
        </p:blipFill>
        <p:spPr>
          <a:xfrm>
            <a:off x="2322360" y="738360"/>
            <a:ext cx="714564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animMotion origin="layout" path="M 0 0 C -0.00139 -0.03191 0.00087 -0.02867 -0.00642 -0.04809 C -0.00712 -0.05018 -0.00712 -0.05272 -0.00816 -0.05457 C -0.01163 -0.06035 -0.01371 -0.05804 -0.01805 -0.06127 C -0.03524 -0.07399 -0.04739 -0.08278 -0.06719 -0.0874 C -0.08298 -0.08671 -0.09896 -0.08694 -0.11476 -0.08509 C -0.11823 -0.08463 -0.12118 -0.08231 -0.12448 -0.08093 C -0.12969 -0.07861 -0.16007 -0.07653 -0.16059 -0.07653 C -0.16858 -0.07283 -0.17708 -0.0726 -0.18524 -0.06983 C -0.20417 -0.06359 -0.22292 -0.05919 -0.24253 -0.05688 C -0.25712 -0.05341 -0.27083 -0.04486 -0.28524 -0.04162 C -0.31736 -0.03445 -0.34965 -0.0296 -0.38194 -0.02405 C -0.39653 -0.01781 -0.41423 -0.01757 -0.42951 -0.01526 C -0.45226 -0.00555 -0.47951 -0.00509 -0.5033 -0.00231 C -0.53385 -0.00301 -0.56441 -0.00162 -0.59496 -0.00439 C -0.59531 -0.00439 -0.59826 -0.01757 -0.59826 -0.01757 C -0.59983 -0.02613 -0.60156 -0.0437 -0.60156 -0.0437 E">
                                      <p:cBhvr>
                                        <p:cTn id="557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500"/>
                            </p:stCondLst>
                            <p:childTnLst>
                              <p:par>
                                <p:cTn id="5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571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586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601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0" y="5715000"/>
            <a:ext cx="762120" cy="7621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638680" y="5715000"/>
            <a:ext cx="762120" cy="7621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5105520" y="4952880"/>
            <a:ext cx="76176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6781680" y="571500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7848720" y="5715000"/>
            <a:ext cx="76176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6248520" y="4952880"/>
            <a:ext cx="76176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5638680" y="4191120"/>
            <a:ext cx="76212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7467480" y="4952880"/>
            <a:ext cx="76212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6934320" y="4191120"/>
            <a:ext cx="761760" cy="7617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04920" y="22860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Сколько понадобилось гному кубиков для башн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6172200" y="22860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6324480" y="342900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F:\фоны\64201001_1284869724_13.png"/>
          <p:cNvPicPr/>
          <p:nvPr/>
        </p:nvPicPr>
        <p:blipFill>
          <a:blip r:embed="rId1"/>
          <a:stretch/>
        </p:blipFill>
        <p:spPr>
          <a:xfrm>
            <a:off x="717480" y="3143160"/>
            <a:ext cx="32832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mph" presetID="35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0"/>
                            </p:stCondLst>
                            <p:childTnLst>
                              <p:par>
                                <p:cTn id="62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6000"/>
                            </p:stCondLst>
                            <p:childTnLst>
                              <p:par>
                                <p:cTn id="6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7000"/>
                            </p:stCondLst>
                            <p:childTnLst>
                              <p:par>
                                <p:cTn id="63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8000"/>
                            </p:stCondLst>
                            <p:childTnLst>
                              <p:par>
                                <p:cTn id="63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9000"/>
                            </p:stCondLst>
                            <p:childTnLst>
                              <p:par>
                                <p:cTn id="63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65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685800" y="1295280"/>
            <a:ext cx="3657600" cy="350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4343400" y="1295280"/>
            <a:ext cx="3505320" cy="350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 flipV="1">
            <a:off x="2514600" y="1294920"/>
            <a:ext cx="1752480" cy="16002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 flipH="1">
            <a:off x="2590560" y="1371600"/>
            <a:ext cx="1600200" cy="34290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6"/>
          <p:cNvSpPr/>
          <p:nvPr/>
        </p:nvSpPr>
        <p:spPr>
          <a:xfrm rot="1392600">
            <a:off x="5867280" y="1268280"/>
            <a:ext cx="1676520" cy="358164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8"/>
          <p:cNvSpPr/>
          <p:nvPr/>
        </p:nvSpPr>
        <p:spPr>
          <a:xfrm>
            <a:off x="2438280" y="2743200"/>
            <a:ext cx="15264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9" descr=""/>
          <p:cNvPicPr/>
          <p:nvPr/>
        </p:nvPicPr>
        <p:blipFill>
          <a:blip r:embed="rId1"/>
          <a:stretch/>
        </p:blipFill>
        <p:spPr>
          <a:xfrm rot="7451400">
            <a:off x="1729800" y="154584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211" name="Oval 20"/>
          <p:cNvSpPr/>
          <p:nvPr/>
        </p:nvSpPr>
        <p:spPr>
          <a:xfrm>
            <a:off x="7667640" y="213372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1" descr=""/>
          <p:cNvPicPr/>
          <p:nvPr/>
        </p:nvPicPr>
        <p:blipFill>
          <a:blip r:embed="rId2"/>
          <a:stretch/>
        </p:blipFill>
        <p:spPr>
          <a:xfrm rot="7489200">
            <a:off x="6963840" y="893520"/>
            <a:ext cx="3873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1.23959E-006 L 0.18958 -0.22803 E">
                                      <p:cBhvr>
                                        <p:cTn id="663" dur="5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500"/>
                            </p:stCondLst>
                            <p:childTnLst>
                              <p:par>
                                <p:cTn id="6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958 -0.22803 L 0.00625 0.28261 E">
                                      <p:cBhvr>
                                        <p:cTn id="666" dur="5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1000"/>
                            </p:stCondLst>
                            <p:childTnLst>
                              <p:par>
                                <p:cTn id="6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12139E-006 C -3.05556E-006 -0.01549 0.004 -0.02705 0.00157 -0.04231 C -0.00086 -0.05757 -0.00729 -0.07907 -0.01423 -0.0911 C -0.02118 -0.10312 -0.02951 -0.11075 -0.03975 -0.11422 C -0.05 -0.11768 -0.06666 -0.11399 -0.07621 -0.11214 C -0.08576 -0.11029 -0.08923 -0.11029 -0.09687 -0.10358 C -0.10451 -0.09688 -0.11475 -0.08138 -0.12222 -0.0719 C -0.12968 -0.06242 -0.1342 -0.05826 -0.14132 -0.0467 C -0.14843 -0.03514 -0.15746 -0.01734 -0.1651 -0.00231 C -0.17274 0.01272 -0.17968 0.02151 -0.18732 0.0444 C -0.19496 0.06729 -0.20486 0.10567 -0.21111 0.13526 C -0.21736 0.16486 -0.22274 0.19838 -0.22534 0.22197 C -0.22795 0.24555 -0.22847 0.25943 -0.22691 0.27677 C -0.22534 0.29411 -0.21944 0.31284 -0.2158 0.32555 C -0.21215 0.33827 -0.21076 0.3459 -0.20468 0.35284 C -0.19861 0.35977 -0.19062 0.36694 -0.17934 0.36763 C -0.16805 0.36833 -0.14809 0.36255 -0.13646 0.35723 C -0.12482 0.35191 -0.11927 0.34682 -0.10955 0.33596 C -0.09982 0.32509 -0.08732 0.30706 -0.07777 0.29156 C -0.06823 0.27607 -0.06093 0.26174 -0.05243 0.24301 C -0.04392 0.22428 -0.0335 0.20047 -0.02691 0.17966 C -0.02031 0.15885 -0.01736 0.13989 -0.01267 0.11838 C -0.00798 0.09688 -0.00086 0.07075 0.00157 0.05064 C 0.004 0.03052 -3.05556E-006 0.01549 -3.05556E-006 -3.12139E-006 Z">
                                      <p:cBhvr>
                                        <p:cTn id="679" dur="5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4952880" y="228600"/>
            <a:ext cx="3962520" cy="2133720"/>
            <a:chOff x="4952880" y="228600"/>
            <a:chExt cx="3962520" cy="2133720"/>
          </a:xfrm>
        </p:grpSpPr>
        <p:sp>
          <p:nvSpPr>
            <p:cNvPr id="214" name="Line 3"/>
            <p:cNvSpPr/>
            <p:nvPr/>
          </p:nvSpPr>
          <p:spPr>
            <a:xfrm>
              <a:off x="6705720" y="533520"/>
              <a:ext cx="2209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4"/>
            <p:cNvSpPr/>
            <p:nvPr/>
          </p:nvSpPr>
          <p:spPr>
            <a:xfrm>
              <a:off x="6705720" y="2133720"/>
              <a:ext cx="2209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5"/>
            <p:cNvSpPr/>
            <p:nvPr/>
          </p:nvSpPr>
          <p:spPr>
            <a:xfrm>
              <a:off x="8610480" y="228600"/>
              <a:ext cx="0" cy="2133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6"/>
            <p:cNvSpPr/>
            <p:nvPr/>
          </p:nvSpPr>
          <p:spPr>
            <a:xfrm>
              <a:off x="4952880" y="533520"/>
              <a:ext cx="2210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7"/>
            <p:cNvSpPr/>
            <p:nvPr/>
          </p:nvSpPr>
          <p:spPr>
            <a:xfrm>
              <a:off x="5257800" y="228600"/>
              <a:ext cx="0" cy="2133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8"/>
            <p:cNvSpPr/>
            <p:nvPr/>
          </p:nvSpPr>
          <p:spPr>
            <a:xfrm>
              <a:off x="4952880" y="2133720"/>
              <a:ext cx="2210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9"/>
            <p:cNvSpPr/>
            <p:nvPr/>
          </p:nvSpPr>
          <p:spPr>
            <a:xfrm>
              <a:off x="6934320" y="228600"/>
              <a:ext cx="0" cy="2133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 flipV="1">
              <a:off x="6248520" y="533160"/>
              <a:ext cx="685800" cy="609480"/>
            </a:xfrm>
            <a:prstGeom prst="line">
              <a:avLst/>
            </a:prstGeom>
            <a:ln w="7632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 flipH="1">
              <a:off x="6324480" y="609480"/>
              <a:ext cx="533520" cy="1524240"/>
            </a:xfrm>
            <a:prstGeom prst="line">
              <a:avLst/>
            </a:prstGeom>
            <a:ln w="7632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2"/>
            <p:cNvSpPr/>
            <p:nvPr/>
          </p:nvSpPr>
          <p:spPr>
            <a:xfrm rot="1105800">
              <a:off x="7021440" y="534600"/>
              <a:ext cx="914400" cy="1600200"/>
            </a:xfrm>
            <a:prstGeom prst="ellipse">
              <a:avLst/>
            </a:prstGeom>
            <a:noFill/>
            <a:ln w="7632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3"/>
          <p:cNvSpPr/>
          <p:nvPr/>
        </p:nvSpPr>
        <p:spPr>
          <a:xfrm>
            <a:off x="3352680" y="2819520"/>
            <a:ext cx="579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9900"/>
                </a:solidFill>
                <a:latin typeface="Arial"/>
              </a:rPr>
              <a:t>9 + 1 = 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4" descr=""/>
          <p:cNvPicPr/>
          <p:nvPr/>
        </p:nvPicPr>
        <p:blipFill>
          <a:blip r:embed="rId1"/>
          <a:srcRect l="0" t="0" r="-42" b="0"/>
          <a:stretch/>
        </p:blipFill>
        <p:spPr>
          <a:xfrm>
            <a:off x="152280" y="1104840"/>
            <a:ext cx="3733920" cy="575316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15"/>
          <p:cNvSpPr/>
          <p:nvPr/>
        </p:nvSpPr>
        <p:spPr>
          <a:xfrm>
            <a:off x="228600" y="152280"/>
            <a:ext cx="3581280" cy="1219320"/>
          </a:xfrm>
          <a:prstGeom prst="triangle">
            <a:avLst>
              <a:gd name="adj" fmla="val 50000"/>
            </a:avLst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6"/>
          <p:cNvSpPr/>
          <p:nvPr/>
        </p:nvSpPr>
        <p:spPr>
          <a:xfrm>
            <a:off x="1523880" y="380880"/>
            <a:ext cx="990720" cy="990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685800" y="5410080"/>
            <a:ext cx="6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3399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2514600" y="530208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457200" y="4343400"/>
            <a:ext cx="121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0"/>
          <p:cNvSpPr/>
          <p:nvPr/>
        </p:nvSpPr>
        <p:spPr>
          <a:xfrm>
            <a:off x="609480" y="327672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2438280" y="327672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3399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533520" y="213372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3"/>
          <p:cNvSpPr/>
          <p:nvPr/>
        </p:nvSpPr>
        <p:spPr>
          <a:xfrm>
            <a:off x="2438280" y="213372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ff33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4"/>
          <p:cNvSpPr/>
          <p:nvPr/>
        </p:nvSpPr>
        <p:spPr>
          <a:xfrm>
            <a:off x="609480" y="114300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5"/>
          <p:cNvSpPr/>
          <p:nvPr/>
        </p:nvSpPr>
        <p:spPr>
          <a:xfrm>
            <a:off x="2362320" y="1143000"/>
            <a:ext cx="121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6"/>
          <p:cNvSpPr/>
          <p:nvPr/>
        </p:nvSpPr>
        <p:spPr>
          <a:xfrm>
            <a:off x="2438280" y="426708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99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6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7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500"/>
                            </p:stCondLst>
                            <p:childTnLst>
                              <p:par>
                                <p:cTn id="69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8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8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8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8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000"/>
                            </p:stCondLst>
                            <p:childTnLst>
                              <p:par>
                                <p:cTn id="7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Line 2"/>
          <p:cNvSpPr/>
          <p:nvPr/>
        </p:nvSpPr>
        <p:spPr>
          <a:xfrm>
            <a:off x="6705720" y="5335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"/>
          <p:cNvSpPr/>
          <p:nvPr/>
        </p:nvSpPr>
        <p:spPr>
          <a:xfrm>
            <a:off x="6705720" y="2133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4"/>
          <p:cNvSpPr/>
          <p:nvPr/>
        </p:nvSpPr>
        <p:spPr>
          <a:xfrm>
            <a:off x="861048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5"/>
          <p:cNvSpPr/>
          <p:nvPr/>
        </p:nvSpPr>
        <p:spPr>
          <a:xfrm>
            <a:off x="4952880" y="53352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"/>
          <p:cNvSpPr/>
          <p:nvPr/>
        </p:nvSpPr>
        <p:spPr>
          <a:xfrm>
            <a:off x="525780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"/>
          <p:cNvSpPr/>
          <p:nvPr/>
        </p:nvSpPr>
        <p:spPr>
          <a:xfrm>
            <a:off x="4952880" y="213372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693432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9"/>
          <p:cNvSpPr/>
          <p:nvPr/>
        </p:nvSpPr>
        <p:spPr>
          <a:xfrm flipV="1">
            <a:off x="6248520" y="533160"/>
            <a:ext cx="685800" cy="609480"/>
          </a:xfrm>
          <a:prstGeom prst="line">
            <a:avLst/>
          </a:prstGeom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0"/>
          <p:cNvSpPr/>
          <p:nvPr/>
        </p:nvSpPr>
        <p:spPr>
          <a:xfrm flipH="1">
            <a:off x="6324480" y="609480"/>
            <a:ext cx="533520" cy="1524240"/>
          </a:xfrm>
          <a:prstGeom prst="line">
            <a:avLst/>
          </a:prstGeom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1"/>
          <p:cNvSpPr/>
          <p:nvPr/>
        </p:nvSpPr>
        <p:spPr>
          <a:xfrm rot="1105800">
            <a:off x="7021440" y="534600"/>
            <a:ext cx="914400" cy="1600200"/>
          </a:xfrm>
          <a:prstGeom prst="ellipse">
            <a:avLst/>
          </a:prstGeom>
          <a:noFill/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500040" y="3786120"/>
            <a:ext cx="8072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За девятью идет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ДЕСЯТК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Ты это знаешь? 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Сочти все пальцы по порядку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И счету нашему коне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3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433600" cy="234144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14"/>
          <p:cNvSpPr/>
          <p:nvPr/>
        </p:nvSpPr>
        <p:spPr>
          <a:xfrm rot="19894200">
            <a:off x="1828440" y="1141200"/>
            <a:ext cx="2514600" cy="156960"/>
          </a:xfrm>
          <a:prstGeom prst="leftArrow">
            <a:avLst>
              <a:gd name="adj1" fmla="val 50000"/>
              <a:gd name="adj2" fmla="val 400516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5"/>
          <p:cNvSpPr/>
          <p:nvPr/>
        </p:nvSpPr>
        <p:spPr>
          <a:xfrm flipH="1">
            <a:off x="3657240" y="533520"/>
            <a:ext cx="1522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6"/>
          <p:cNvSpPr/>
          <p:nvPr/>
        </p:nvSpPr>
        <p:spPr>
          <a:xfrm flipH="1">
            <a:off x="3809880" y="45720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7"/>
          <p:cNvSpPr/>
          <p:nvPr/>
        </p:nvSpPr>
        <p:spPr>
          <a:xfrm flipH="1">
            <a:off x="3962160" y="3808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8"/>
          <p:cNvSpPr/>
          <p:nvPr/>
        </p:nvSpPr>
        <p:spPr>
          <a:xfrm flipH="1">
            <a:off x="4114440" y="304920"/>
            <a:ext cx="1522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1295280" y="12952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"/>
          <p:cNvSpPr/>
          <p:nvPr/>
        </p:nvSpPr>
        <p:spPr>
          <a:xfrm>
            <a:off x="4191120" y="6858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1"/>
          <p:cNvSpPr/>
          <p:nvPr/>
        </p:nvSpPr>
        <p:spPr>
          <a:xfrm>
            <a:off x="4038480" y="762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2"/>
          <p:cNvSpPr/>
          <p:nvPr/>
        </p:nvSpPr>
        <p:spPr>
          <a:xfrm>
            <a:off x="3886200" y="838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3"/>
          <p:cNvSpPr/>
          <p:nvPr/>
        </p:nvSpPr>
        <p:spPr>
          <a:xfrm>
            <a:off x="3733920" y="914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5" descr=""/>
          <p:cNvPicPr/>
          <p:nvPr/>
        </p:nvPicPr>
        <p:blipFill>
          <a:blip r:embed="rId2">
            <a:lum bright="-6000"/>
          </a:blip>
          <a:srcRect l="0" t="0" r="5480" b="5457"/>
          <a:stretch/>
        </p:blipFill>
        <p:spPr>
          <a:xfrm>
            <a:off x="3714840" y="200016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6" descr=""/>
          <p:cNvPicPr/>
          <p:nvPr/>
        </p:nvPicPr>
        <p:blipFill>
          <a:blip r:embed="rId3">
            <a:lum bright="-6000"/>
          </a:blip>
          <a:srcRect l="5480" t="0" r="0" b="5457"/>
          <a:stretch/>
        </p:blipFill>
        <p:spPr>
          <a:xfrm>
            <a:off x="2571840" y="2000160"/>
            <a:ext cx="1447560" cy="1828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F:\фоны\64200993_1284869669_09.png"/>
          <p:cNvPicPr/>
          <p:nvPr/>
        </p:nvPicPr>
        <p:blipFill>
          <a:blip r:embed="rId4"/>
          <a:stretch/>
        </p:blipFill>
        <p:spPr>
          <a:xfrm>
            <a:off x="6858000" y="2428920"/>
            <a:ext cx="22860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СЕЛЬЧ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номик по лесу гулял, (Ходьба на месте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лпачок свой потерял. (Наклоны вперед – «ищем пропажу»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лпачок был непростым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 звоночком золотым. (Хлопки в ладоши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ному кто точней подскажет, (Прыжки на месте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де искать ему пропажу? (Ходьба на ме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F:\фоны\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F:\фоны\24053761.png"/>
          <p:cNvPicPr/>
          <p:nvPr/>
        </p:nvPicPr>
        <p:blipFill>
          <a:blip r:embed="rId2"/>
          <a:stretch/>
        </p:blipFill>
        <p:spPr>
          <a:xfrm>
            <a:off x="5884920" y="2571840"/>
            <a:ext cx="2898720" cy="4286160"/>
          </a:xfrm>
          <a:prstGeom prst="rect">
            <a:avLst/>
          </a:prstGeom>
          <a:ln w="0">
            <a:noFill/>
          </a:ln>
        </p:spPr>
      </p:pic>
      <p:grpSp>
        <p:nvGrpSpPr>
          <p:cNvPr id="267" name="Группа 8"/>
          <p:cNvGrpSpPr/>
          <p:nvPr/>
        </p:nvGrpSpPr>
        <p:grpSpPr>
          <a:xfrm>
            <a:off x="714240" y="285840"/>
            <a:ext cx="7358040" cy="2071440"/>
            <a:chOff x="714240" y="285840"/>
            <a:chExt cx="7358040" cy="2071440"/>
          </a:xfrm>
        </p:grpSpPr>
        <p:sp>
          <p:nvSpPr>
            <p:cNvPr id="268" name="Скругленная прямоугольная выноска 3"/>
            <p:cNvSpPr/>
            <p:nvPr/>
          </p:nvSpPr>
          <p:spPr>
            <a:xfrm>
              <a:off x="714240" y="285840"/>
              <a:ext cx="7358040" cy="2071440"/>
            </a:xfrm>
            <a:prstGeom prst="wedgeRoundRectCallout">
              <a:avLst>
                <a:gd name="adj1" fmla="val -3111"/>
                <a:gd name="adj2" fmla="val 83481"/>
                <a:gd name="adj3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4"/>
            <p:cNvSpPr/>
            <p:nvPr/>
          </p:nvSpPr>
          <p:spPr>
            <a:xfrm>
              <a:off x="999720" y="357120"/>
              <a:ext cx="7000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060"/>
                  </a:solidFill>
                  <a:latin typeface="Arial"/>
                </a:rPr>
                <a:t>Я – гном Молчун. Я люблю приходить на луг и наблюдать за бабочками. Ведь они такие красивые! Вместе с бабочками мы предлагаем вам выбрать задание, которое вы, по-вашему мнению, сможете выполнить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0" name="Picture 7" descr="F:\0_7ae74_efbc872d_L.png"/>
          <p:cNvPicPr/>
          <p:nvPr/>
        </p:nvPicPr>
        <p:blipFill>
          <a:blip r:embed="rId3"/>
          <a:stretch/>
        </p:blipFill>
        <p:spPr>
          <a:xfrm>
            <a:off x="857160" y="4786200"/>
            <a:ext cx="1639800" cy="1714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F:\0_7ae52_9f3f095f_XXS.png"/>
          <p:cNvPicPr/>
          <p:nvPr/>
        </p:nvPicPr>
        <p:blipFill>
          <a:blip r:embed="rId4"/>
          <a:stretch/>
        </p:blipFill>
        <p:spPr>
          <a:xfrm>
            <a:off x="3929040" y="457200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F:\0_7ae6f_55dbf1d6_XXS.png"/>
          <p:cNvPicPr/>
          <p:nvPr/>
        </p:nvPicPr>
        <p:blipFill>
          <a:blip r:embed="rId5"/>
          <a:stretch/>
        </p:blipFill>
        <p:spPr>
          <a:xfrm>
            <a:off x="2286000" y="300024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F:\фоны\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F:\фоны\24053761.png"/>
          <p:cNvPicPr/>
          <p:nvPr/>
        </p:nvPicPr>
        <p:blipFill>
          <a:blip r:embed="rId2"/>
          <a:stretch/>
        </p:blipFill>
        <p:spPr>
          <a:xfrm>
            <a:off x="6200640" y="2214720"/>
            <a:ext cx="3140280" cy="4643280"/>
          </a:xfrm>
          <a:prstGeom prst="rect">
            <a:avLst/>
          </a:prstGeom>
          <a:ln w="0">
            <a:noFill/>
          </a:ln>
        </p:spPr>
      </p:pic>
      <p:grpSp>
        <p:nvGrpSpPr>
          <p:cNvPr id="275" name="Группа 18"/>
          <p:cNvGrpSpPr/>
          <p:nvPr/>
        </p:nvGrpSpPr>
        <p:grpSpPr>
          <a:xfrm>
            <a:off x="214200" y="0"/>
            <a:ext cx="2286000" cy="3643200"/>
            <a:chOff x="214200" y="0"/>
            <a:chExt cx="2286000" cy="3643200"/>
          </a:xfrm>
        </p:grpSpPr>
        <p:pic>
          <p:nvPicPr>
            <p:cNvPr id="276" name="Picture 6" descr="F:\0_7ae6f_55dbf1d6_XXS.png"/>
            <p:cNvPicPr/>
            <p:nvPr/>
          </p:nvPicPr>
          <p:blipFill>
            <a:blip r:embed="rId3"/>
            <a:stretch/>
          </p:blipFill>
          <p:spPr>
            <a:xfrm>
              <a:off x="214200" y="0"/>
              <a:ext cx="2286000" cy="22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Блок-схема: процесс 9"/>
            <p:cNvSpPr/>
            <p:nvPr/>
          </p:nvSpPr>
          <p:spPr>
            <a:xfrm>
              <a:off x="458640" y="2217600"/>
              <a:ext cx="2041560" cy="1425600"/>
            </a:xfrm>
            <a:prstGeom prst="flowChartProcess">
              <a:avLst/>
            </a:prstGeom>
            <a:solidFill>
              <a:srgbClr val="00b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Box 13"/>
            <p:cNvSpPr/>
            <p:nvPr/>
          </p:nvSpPr>
          <p:spPr>
            <a:xfrm>
              <a:off x="459000" y="2455200"/>
              <a:ext cx="2041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060"/>
                  </a:solidFill>
                  <a:latin typeface="Arial"/>
                </a:rPr>
                <a:t>Сравн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060"/>
                  </a:solidFill>
                  <a:latin typeface="Arial"/>
                </a:rPr>
                <a:t>выраж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Группа 17"/>
          <p:cNvGrpSpPr/>
          <p:nvPr/>
        </p:nvGrpSpPr>
        <p:grpSpPr>
          <a:xfrm>
            <a:off x="2143080" y="3071880"/>
            <a:ext cx="2357640" cy="3786120"/>
            <a:chOff x="2143080" y="3071880"/>
            <a:chExt cx="2357640" cy="3786120"/>
          </a:xfrm>
        </p:grpSpPr>
        <p:pic>
          <p:nvPicPr>
            <p:cNvPr id="280" name="Picture 7" descr="F:\0_7ae74_efbc872d_L.png"/>
            <p:cNvPicPr/>
            <p:nvPr/>
          </p:nvPicPr>
          <p:blipFill>
            <a:blip r:embed="rId4"/>
            <a:stretch/>
          </p:blipFill>
          <p:spPr>
            <a:xfrm>
              <a:off x="2143080" y="3071880"/>
              <a:ext cx="2357640" cy="23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Блок-схема: процесс 11"/>
            <p:cNvSpPr/>
            <p:nvPr/>
          </p:nvSpPr>
          <p:spPr>
            <a:xfrm>
              <a:off x="2379600" y="5343480"/>
              <a:ext cx="1964160" cy="1514520"/>
            </a:xfrm>
            <a:prstGeom prst="flowChartProcess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4"/>
            <p:cNvSpPr/>
            <p:nvPr/>
          </p:nvSpPr>
          <p:spPr>
            <a:xfrm>
              <a:off x="2378520" y="5646600"/>
              <a:ext cx="1964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Arial"/>
                </a:rPr>
                <a:t>Заполн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Arial"/>
                </a:rPr>
                <a:t>пропус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Группа 19"/>
          <p:cNvGrpSpPr/>
          <p:nvPr/>
        </p:nvGrpSpPr>
        <p:grpSpPr>
          <a:xfrm>
            <a:off x="4214880" y="0"/>
            <a:ext cx="2286000" cy="3143160"/>
            <a:chOff x="4214880" y="0"/>
            <a:chExt cx="2286000" cy="3143160"/>
          </a:xfrm>
        </p:grpSpPr>
        <p:pic>
          <p:nvPicPr>
            <p:cNvPr id="284" name="Picture 5" descr="F:\0_7ae52_9f3f095f_XXS.png"/>
            <p:cNvPicPr/>
            <p:nvPr/>
          </p:nvPicPr>
          <p:blipFill>
            <a:blip r:embed="rId5"/>
            <a:stretch/>
          </p:blipFill>
          <p:spPr>
            <a:xfrm>
              <a:off x="4214880" y="0"/>
              <a:ext cx="185760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Блок-схема: процесс 12"/>
            <p:cNvSpPr/>
            <p:nvPr/>
          </p:nvSpPr>
          <p:spPr>
            <a:xfrm>
              <a:off x="4500360" y="1714320"/>
              <a:ext cx="2000520" cy="1428840"/>
            </a:xfrm>
            <a:prstGeom prst="flowChartProcess">
              <a:avLst/>
            </a:prstGeom>
            <a:solidFill>
              <a:srgbClr val="ff33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15"/>
            <p:cNvSpPr/>
            <p:nvPr/>
          </p:nvSpPr>
          <p:spPr>
            <a:xfrm>
              <a:off x="4572000" y="1714320"/>
              <a:ext cx="1928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060"/>
                  </a:solidFill>
                  <a:latin typeface="Arial"/>
                </a:rPr>
                <a:t>Придумай и запиши 4 примера с числом 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7160" y="-401040"/>
            <a:ext cx="8226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88880"/>
            <a:ext cx="822960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Прозвенел уже звон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Начинается уро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Куда мы с вами попад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Узнаете вы скор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В стране далекой мы найд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Помощников веселы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Группа 10"/>
          <p:cNvGrpSpPr/>
          <p:nvPr/>
        </p:nvGrpSpPr>
        <p:grpSpPr>
          <a:xfrm>
            <a:off x="6572160" y="428760"/>
            <a:ext cx="2286000" cy="4714920"/>
            <a:chOff x="6572160" y="428760"/>
            <a:chExt cx="2286000" cy="4714920"/>
          </a:xfrm>
        </p:grpSpPr>
        <p:pic>
          <p:nvPicPr>
            <p:cNvPr id="288" name="Picture 5" descr="F:\0_7ae52_9f3f095f_XXS.png"/>
            <p:cNvPicPr/>
            <p:nvPr/>
          </p:nvPicPr>
          <p:blipFill>
            <a:blip r:embed="rId1"/>
            <a:stretch/>
          </p:blipFill>
          <p:spPr>
            <a:xfrm>
              <a:off x="6714720" y="428760"/>
              <a:ext cx="1797480" cy="189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Блок-схема: процесс 12"/>
            <p:cNvSpPr/>
            <p:nvPr/>
          </p:nvSpPr>
          <p:spPr>
            <a:xfrm>
              <a:off x="6572160" y="2394000"/>
              <a:ext cx="2286000" cy="2749680"/>
            </a:xfrm>
            <a:prstGeom prst="flowChartProcess">
              <a:avLst/>
            </a:prstGeom>
            <a:solidFill>
              <a:srgbClr val="ff33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13"/>
            <p:cNvSpPr/>
            <p:nvPr/>
          </p:nvSpPr>
          <p:spPr>
            <a:xfrm>
              <a:off x="6643440" y="2393280"/>
              <a:ext cx="214344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Группа 15"/>
          <p:cNvGrpSpPr/>
          <p:nvPr/>
        </p:nvGrpSpPr>
        <p:grpSpPr>
          <a:xfrm>
            <a:off x="214200" y="785880"/>
            <a:ext cx="2786040" cy="5072040"/>
            <a:chOff x="214200" y="785880"/>
            <a:chExt cx="2786040" cy="5072040"/>
          </a:xfrm>
        </p:grpSpPr>
        <p:grpSp>
          <p:nvGrpSpPr>
            <p:cNvPr id="292" name="Группа 1"/>
            <p:cNvGrpSpPr/>
            <p:nvPr/>
          </p:nvGrpSpPr>
          <p:grpSpPr>
            <a:xfrm>
              <a:off x="214200" y="785880"/>
              <a:ext cx="2786040" cy="5072040"/>
              <a:chOff x="214200" y="785880"/>
              <a:chExt cx="2786040" cy="5072040"/>
            </a:xfrm>
          </p:grpSpPr>
          <p:pic>
            <p:nvPicPr>
              <p:cNvPr id="293" name="Picture 6" descr="F:\0_7ae6f_55dbf1d6_XXS.png"/>
              <p:cNvPicPr/>
              <p:nvPr/>
            </p:nvPicPr>
            <p:blipFill>
              <a:blip r:embed="rId2"/>
              <a:stretch/>
            </p:blipFill>
            <p:spPr>
              <a:xfrm>
                <a:off x="542880" y="785880"/>
                <a:ext cx="2302560" cy="230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Блок-схема: процесс 3"/>
              <p:cNvSpPr/>
              <p:nvPr/>
            </p:nvSpPr>
            <p:spPr>
              <a:xfrm>
                <a:off x="214200" y="3168720"/>
                <a:ext cx="2786040" cy="2689200"/>
              </a:xfrm>
              <a:prstGeom prst="flowChartProcess">
                <a:avLst/>
              </a:prstGeom>
              <a:solidFill>
                <a:srgbClr val="00b05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Box 4"/>
              <p:cNvSpPr/>
              <p:nvPr/>
            </p:nvSpPr>
            <p:spPr>
              <a:xfrm>
                <a:off x="789480" y="3400200"/>
                <a:ext cx="20559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TextBox 16"/>
            <p:cNvSpPr/>
            <p:nvPr/>
          </p:nvSpPr>
          <p:spPr>
            <a:xfrm>
              <a:off x="214200" y="3429000"/>
              <a:ext cx="25718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2060"/>
                  </a:solidFill>
                  <a:latin typeface="Arial"/>
                </a:rPr>
                <a:t>   </a:t>
              </a:r>
              <a:r>
                <a:rPr b="0" lang="ru-RU" sz="3200" spc="-1" strike="noStrike">
                  <a:solidFill>
                    <a:srgbClr val="002060"/>
                  </a:solidFill>
                  <a:latin typeface="Arial"/>
                </a:rPr>
                <a:t>7 </a:t>
              </a:r>
              <a:r>
                <a:rPr b="0" lang="ru-RU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&lt;</a:t>
              </a:r>
              <a:r>
                <a:rPr b="0" lang="ru-RU" sz="3200" spc="-1" strike="noStrike">
                  <a:solidFill>
                    <a:srgbClr val="002060"/>
                  </a:solidFill>
                  <a:latin typeface="Arial"/>
                </a:rPr>
                <a:t> 10</a:t>
              </a:r>
              <a:r>
                <a:rPr b="0" lang="en-US" sz="32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ru-RU" sz="3200" spc="-1" strike="noStrike">
                  <a:solidFill>
                    <a:srgbClr val="002060"/>
                  </a:solidFill>
                  <a:latin typeface="Arial"/>
                </a:rPr>
                <a:t>- 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060"/>
                  </a:solidFill>
                  <a:latin typeface="Arial"/>
                </a:rPr>
                <a:t>  </a:t>
              </a:r>
              <a:r>
                <a:rPr b="0" lang="ru-RU" sz="3200" spc="-1" strike="noStrike">
                  <a:solidFill>
                    <a:srgbClr val="002060"/>
                  </a:solidFill>
                  <a:latin typeface="Arial"/>
                </a:rPr>
                <a:t>10 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0" lang="en-US" sz="3200" spc="-1" strike="noStrike">
                  <a:solidFill>
                    <a:srgbClr val="002060"/>
                  </a:solidFill>
                  <a:latin typeface="Arial"/>
                </a:rPr>
                <a:t>  9  +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06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2060"/>
                  </a:solidFill>
                  <a:latin typeface="Arial"/>
                </a:rPr>
                <a:t>1 </a:t>
              </a:r>
              <a:r>
                <a:rPr b="0" lang="ru-RU" sz="32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&lt;</a:t>
              </a:r>
              <a:r>
                <a:rPr b="0" lang="ru-RU" sz="32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2060"/>
                  </a:solidFill>
                  <a:latin typeface="Arial"/>
                </a:rPr>
                <a:t> 4  - 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06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2060"/>
                  </a:solidFill>
                  <a:latin typeface="Arial"/>
                </a:rPr>
                <a:t>6</a:t>
              </a:r>
              <a:r>
                <a:rPr b="0" lang="ru-RU" sz="32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&lt; </a:t>
              </a:r>
              <a:r>
                <a:rPr b="0" lang="en-US" sz="3200" spc="-1" strike="noStrike">
                  <a:solidFill>
                    <a:srgbClr val="002060"/>
                  </a:solidFill>
                  <a:latin typeface="Arial"/>
                </a:rPr>
                <a:t> 9  - 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Группа 16"/>
          <p:cNvGrpSpPr/>
          <p:nvPr/>
        </p:nvGrpSpPr>
        <p:grpSpPr>
          <a:xfrm>
            <a:off x="3348000" y="189000"/>
            <a:ext cx="2874960" cy="5500440"/>
            <a:chOff x="3348000" y="189000"/>
            <a:chExt cx="2874960" cy="5500440"/>
          </a:xfrm>
        </p:grpSpPr>
        <p:grpSp>
          <p:nvGrpSpPr>
            <p:cNvPr id="298" name="Группа 6"/>
            <p:cNvGrpSpPr/>
            <p:nvPr/>
          </p:nvGrpSpPr>
          <p:grpSpPr>
            <a:xfrm>
              <a:off x="3348000" y="189000"/>
              <a:ext cx="2500560" cy="5500440"/>
              <a:chOff x="3348000" y="189000"/>
              <a:chExt cx="2500560" cy="5500440"/>
            </a:xfrm>
          </p:grpSpPr>
          <p:pic>
            <p:nvPicPr>
              <p:cNvPr id="299" name="Picture 7" descr="F:\0_7ae74_efbc872d_L.png"/>
              <p:cNvPicPr/>
              <p:nvPr/>
            </p:nvPicPr>
            <p:blipFill>
              <a:blip r:embed="rId3"/>
              <a:stretch/>
            </p:blipFill>
            <p:spPr>
              <a:xfrm>
                <a:off x="3348000" y="189000"/>
                <a:ext cx="2143440" cy="224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Блок-схема: процесс 8"/>
              <p:cNvSpPr/>
              <p:nvPr/>
            </p:nvSpPr>
            <p:spPr>
              <a:xfrm>
                <a:off x="3562200" y="2903400"/>
                <a:ext cx="2286360" cy="2786040"/>
              </a:xfrm>
              <a:prstGeom prst="flowChartProcess">
                <a:avLst/>
              </a:prstGeom>
              <a:solidFill>
                <a:srgbClr val="ffff0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Box 9"/>
              <p:cNvSpPr/>
              <p:nvPr/>
            </p:nvSpPr>
            <p:spPr>
              <a:xfrm>
                <a:off x="3562200" y="2617920"/>
                <a:ext cx="1786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Прямоугольник 17"/>
            <p:cNvSpPr/>
            <p:nvPr/>
          </p:nvSpPr>
          <p:spPr>
            <a:xfrm>
              <a:off x="3562200" y="3219480"/>
              <a:ext cx="26607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2060"/>
                  </a:solidFill>
                  <a:latin typeface="Arial"/>
                </a:rPr>
                <a:t>3</a:t>
              </a:r>
              <a:r>
                <a:rPr b="0" lang="ru-RU" sz="3600" spc="-1" strike="noStrike">
                  <a:solidFill>
                    <a:srgbClr val="002060"/>
                  </a:solidFill>
                  <a:latin typeface="Arial"/>
                </a:rPr>
                <a:t>,5,9,10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2060"/>
                  </a:solidFill>
                  <a:latin typeface="Arial"/>
                </a:rPr>
                <a:t>10,9,5,3. Всего 4 мест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F:\фоны\1267036135_fon4.jpg"/>
          <p:cNvPicPr/>
          <p:nvPr/>
        </p:nvPicPr>
        <p:blipFill>
          <a:blip r:embed="rId1"/>
          <a:stretch/>
        </p:blipFill>
        <p:spPr>
          <a:xfrm>
            <a:off x="0" y="-527040"/>
            <a:ext cx="9144000" cy="7385040"/>
          </a:xfrm>
          <a:prstGeom prst="rect">
            <a:avLst/>
          </a:prstGeom>
          <a:ln w="0">
            <a:noFill/>
          </a:ln>
        </p:spPr>
      </p:pic>
      <p:grpSp>
        <p:nvGrpSpPr>
          <p:cNvPr id="304" name="Group 13"/>
          <p:cNvGrpSpPr/>
          <p:nvPr/>
        </p:nvGrpSpPr>
        <p:grpSpPr>
          <a:xfrm>
            <a:off x="0" y="714240"/>
            <a:ext cx="5857560" cy="5000400"/>
            <a:chOff x="0" y="714240"/>
            <a:chExt cx="5857560" cy="5000400"/>
          </a:xfrm>
        </p:grpSpPr>
        <p:pic>
          <p:nvPicPr>
            <p:cNvPr id="305" name="Picture 2" descr="I:\для перегрузки\гномы\п.bmp"/>
            <p:cNvPicPr/>
            <p:nvPr/>
          </p:nvPicPr>
          <p:blipFill>
            <a:blip r:embed="rId2"/>
            <a:stretch/>
          </p:blipFill>
          <p:spPr>
            <a:xfrm>
              <a:off x="0" y="1429560"/>
              <a:ext cx="5857560" cy="428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4" descr="D:\новый диск\картинки\картинки овые\фоны\мои\для задач\огщджж5.bmp"/>
            <p:cNvPicPr/>
            <p:nvPr/>
          </p:nvPicPr>
          <p:blipFill>
            <a:blip r:embed="rId3"/>
            <a:srcRect l="0" t="0" r="-249" b="0"/>
            <a:stretch/>
          </p:blipFill>
          <p:spPr>
            <a:xfrm>
              <a:off x="4172400" y="714240"/>
              <a:ext cx="1003320" cy="79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7" name="Скругленная прямоугольная выноска 9"/>
          <p:cNvSpPr/>
          <p:nvPr/>
        </p:nvSpPr>
        <p:spPr>
          <a:xfrm>
            <a:off x="2428920" y="785880"/>
            <a:ext cx="6215040" cy="2214360"/>
          </a:xfrm>
          <a:prstGeom prst="wedgeRoundRectCallout">
            <a:avLst>
              <a:gd name="adj1" fmla="val -48087"/>
              <a:gd name="adj2" fmla="val 64532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рузья! Меня зовут Хитрун. Я очень люблю математику, но особенно мне нравится решать зада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2041560" cy="2552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2000160" cy="2667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"/>
          <p:cNvPicPr/>
          <p:nvPr/>
        </p:nvPicPr>
        <p:blipFill>
          <a:blip r:embed="rId3"/>
          <a:stretch/>
        </p:blipFill>
        <p:spPr>
          <a:xfrm>
            <a:off x="2209680" y="4621320"/>
            <a:ext cx="4267440" cy="2236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850"/>
          <p:cNvPicPr/>
          <p:nvPr/>
        </p:nvPicPr>
        <p:blipFill>
          <a:blip r:embed="rId4"/>
          <a:stretch/>
        </p:blipFill>
        <p:spPr>
          <a:xfrm rot="18542400">
            <a:off x="2623320" y="5987160"/>
            <a:ext cx="392040" cy="9144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850"/>
          <p:cNvPicPr/>
          <p:nvPr/>
        </p:nvPicPr>
        <p:blipFill>
          <a:blip r:embed="rId5"/>
          <a:stretch/>
        </p:blipFill>
        <p:spPr>
          <a:xfrm rot="20020200">
            <a:off x="1828800" y="5435280"/>
            <a:ext cx="608040" cy="1422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850"/>
          <p:cNvPicPr/>
          <p:nvPr/>
        </p:nvPicPr>
        <p:blipFill>
          <a:blip r:embed="rId6"/>
          <a:stretch/>
        </p:blipFill>
        <p:spPr>
          <a:xfrm rot="20965200">
            <a:off x="5638320" y="3809520"/>
            <a:ext cx="390600" cy="9144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850"/>
          <p:cNvPicPr/>
          <p:nvPr/>
        </p:nvPicPr>
        <p:blipFill>
          <a:blip r:embed="rId7"/>
          <a:stretch/>
        </p:blipFill>
        <p:spPr>
          <a:xfrm>
            <a:off x="152280" y="6019920"/>
            <a:ext cx="1498680" cy="641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850"/>
          <p:cNvPicPr/>
          <p:nvPr/>
        </p:nvPicPr>
        <p:blipFill>
          <a:blip r:embed="rId8"/>
          <a:stretch/>
        </p:blipFill>
        <p:spPr>
          <a:xfrm rot="19456800">
            <a:off x="1295280" y="5638320"/>
            <a:ext cx="522360" cy="1219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0" descr="850"/>
          <p:cNvPicPr/>
          <p:nvPr/>
        </p:nvPicPr>
        <p:blipFill>
          <a:blip r:embed="rId9"/>
          <a:stretch/>
        </p:blipFill>
        <p:spPr>
          <a:xfrm rot="4993200">
            <a:off x="7417080" y="5612760"/>
            <a:ext cx="608040" cy="14223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1" descr="850"/>
          <p:cNvPicPr/>
          <p:nvPr/>
        </p:nvPicPr>
        <p:blipFill>
          <a:blip r:embed="rId10"/>
          <a:stretch/>
        </p:blipFill>
        <p:spPr>
          <a:xfrm rot="20493600">
            <a:off x="2742840" y="3733560"/>
            <a:ext cx="444600" cy="10411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2" descr="850"/>
          <p:cNvPicPr/>
          <p:nvPr/>
        </p:nvPicPr>
        <p:blipFill>
          <a:blip r:embed="rId11"/>
          <a:stretch/>
        </p:blipFill>
        <p:spPr>
          <a:xfrm rot="19270800">
            <a:off x="5714640" y="5790960"/>
            <a:ext cx="455760" cy="10666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3" descr="850"/>
          <p:cNvPicPr/>
          <p:nvPr/>
        </p:nvPicPr>
        <p:blipFill>
          <a:blip r:embed="rId12"/>
          <a:stretch/>
        </p:blipFill>
        <p:spPr>
          <a:xfrm rot="17512800">
            <a:off x="5741280" y="5383800"/>
            <a:ext cx="608040" cy="1422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4" descr="850"/>
          <p:cNvPicPr/>
          <p:nvPr/>
        </p:nvPicPr>
        <p:blipFill>
          <a:blip r:embed="rId13"/>
          <a:stretch/>
        </p:blipFill>
        <p:spPr>
          <a:xfrm rot="3252600">
            <a:off x="7003800" y="5645160"/>
            <a:ext cx="444600" cy="104112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5"/>
          <p:cNvSpPr/>
          <p:nvPr/>
        </p:nvSpPr>
        <p:spPr>
          <a:xfrm>
            <a:off x="4648320" y="152280"/>
            <a:ext cx="426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Раз к зайчонку на обед Прискакал дружок-сосед.   На пенёк зайчата сели        И по</a:t>
            </a:r>
            <a:r>
              <a:rPr b="1" lang="en-US" sz="2400" spc="-1" strike="noStrike">
                <a:solidFill>
                  <a:srgbClr val="127a04"/>
                </a:solidFill>
                <a:latin typeface="Arial"/>
              </a:rPr>
              <a:t> ПЯТЬ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морковок съели.       Кто считать, ребята, ловок? Сколько съедено морков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228600" y="6094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8000"/>
                </a:solidFill>
                <a:latin typeface="Arial"/>
              </a:rPr>
              <a:t>5 </a:t>
            </a:r>
            <a:r>
              <a:rPr b="1" lang="en-US" sz="7200" spc="-1" strike="noStrike">
                <a:solidFill>
                  <a:srgbClr val="ff6600"/>
                </a:solidFill>
                <a:latin typeface="Arial"/>
              </a:rPr>
              <a:t>+</a:t>
            </a:r>
            <a:r>
              <a:rPr b="1" lang="en-US" sz="7200" spc="-1" strike="noStrike">
                <a:solidFill>
                  <a:srgbClr val="008000"/>
                </a:solidFill>
                <a:latin typeface="Arial"/>
              </a:rPr>
              <a:t> 5 = </a:t>
            </a:r>
            <a:r>
              <a:rPr b="1" lang="en-US" sz="7200" spc="-1" strike="noStrike">
                <a:solidFill>
                  <a:srgbClr val="ff6600"/>
                </a:solidFill>
                <a:latin typeface="Arial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8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9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0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1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"/>
          <p:cNvPicPr/>
          <p:nvPr/>
        </p:nvPicPr>
        <p:blipFill>
          <a:blip r:embed="rId1"/>
          <a:srcRect l="0" t="0" r="0" b="58"/>
          <a:stretch/>
        </p:blipFill>
        <p:spPr>
          <a:xfrm>
            <a:off x="0" y="1670040"/>
            <a:ext cx="6324480" cy="2063880"/>
          </a:xfrm>
          <a:prstGeom prst="rect">
            <a:avLst/>
          </a:prstGeom>
          <a:ln w="0">
            <a:noFill/>
          </a:ln>
        </p:spPr>
      </p:pic>
      <p:grpSp>
        <p:nvGrpSpPr>
          <p:cNvPr id="324" name="Группа 13"/>
          <p:cNvGrpSpPr/>
          <p:nvPr/>
        </p:nvGrpSpPr>
        <p:grpSpPr>
          <a:xfrm>
            <a:off x="3519720" y="5081400"/>
            <a:ext cx="1699200" cy="1504080"/>
            <a:chOff x="3519720" y="5081400"/>
            <a:chExt cx="1699200" cy="1504080"/>
          </a:xfrm>
        </p:grpSpPr>
        <p:pic>
          <p:nvPicPr>
            <p:cNvPr id="325" name="Picture 4" descr=""/>
            <p:cNvPicPr/>
            <p:nvPr/>
          </p:nvPicPr>
          <p:blipFill>
            <a:blip r:embed="rId2"/>
            <a:stretch/>
          </p:blipFill>
          <p:spPr>
            <a:xfrm rot="1887600">
              <a:off x="3786120" y="5281920"/>
              <a:ext cx="684000" cy="121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5" descr=""/>
            <p:cNvPicPr/>
            <p:nvPr/>
          </p:nvPicPr>
          <p:blipFill>
            <a:blip r:embed="rId3"/>
            <a:stretch/>
          </p:blipFill>
          <p:spPr>
            <a:xfrm rot="19198800">
              <a:off x="4237560" y="5143320"/>
              <a:ext cx="651960" cy="126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7" name="Picture 6" descr=""/>
          <p:cNvPicPr/>
          <p:nvPr/>
        </p:nvPicPr>
        <p:blipFill>
          <a:blip r:embed="rId4"/>
          <a:stretch/>
        </p:blipFill>
        <p:spPr>
          <a:xfrm>
            <a:off x="2928960" y="4786200"/>
            <a:ext cx="1371600" cy="1219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"/>
          <p:cNvPicPr/>
          <p:nvPr/>
        </p:nvPicPr>
        <p:blipFill>
          <a:blip r:embed="rId5"/>
          <a:stretch/>
        </p:blipFill>
        <p:spPr>
          <a:xfrm rot="12739200">
            <a:off x="2903040" y="5524200"/>
            <a:ext cx="1276560" cy="10764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"/>
          <p:cNvPicPr/>
          <p:nvPr/>
        </p:nvPicPr>
        <p:blipFill>
          <a:blip r:embed="rId6"/>
          <a:stretch/>
        </p:blipFill>
        <p:spPr>
          <a:xfrm flipH="1" rot="7376400">
            <a:off x="3435120" y="4749480"/>
            <a:ext cx="1009800" cy="107640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9"/>
          <p:cNvSpPr/>
          <p:nvPr/>
        </p:nvSpPr>
        <p:spPr>
          <a:xfrm>
            <a:off x="4572000" y="4286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72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7200" spc="-1" strike="noStrike">
                <a:solidFill>
                  <a:srgbClr val="008000"/>
                </a:solidFill>
                <a:latin typeface="Arial"/>
              </a:rPr>
              <a:t>6=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0" descr=""/>
          <p:cNvPicPr/>
          <p:nvPr/>
        </p:nvPicPr>
        <p:blipFill>
          <a:blip r:embed="rId7"/>
          <a:stretch/>
        </p:blipFill>
        <p:spPr>
          <a:xfrm>
            <a:off x="2643120" y="4714920"/>
            <a:ext cx="2438640" cy="197316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11"/>
          <p:cNvSpPr/>
          <p:nvPr/>
        </p:nvSpPr>
        <p:spPr>
          <a:xfrm>
            <a:off x="228600" y="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лка на ёлке грибочки сушила, Песенку пела и говорила:            «Мне зимой не знать хлопот,     Потому что есть грибок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4800600" y="106668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Д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аслёнка,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Д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пёнка,           А лисичек ровно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ШЕ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              Ты попробуй все их счест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Рисунок 9" descr="2044663_0.jpg"/>
          <p:cNvPicPr/>
          <p:nvPr/>
        </p:nvPicPr>
        <p:blipFill>
          <a:blip r:embed="rId8"/>
          <a:stretch/>
        </p:blipFill>
        <p:spPr>
          <a:xfrm>
            <a:off x="0" y="3429000"/>
            <a:ext cx="2793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650"/>
                                  </p:iterate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8.84393E-006 C -0.0151 -0.04139 -0.04184 -0.07885 -0.04427 -0.12463 C -0.04583 -0.1533 -0.04392 -0.19053 -0.05399 -0.2185 C -0.06111 -0.23769 -0.08264 -0.24717 -0.09687 -0.25342 C -0.10243 -0.25596 -0.11076 -0.2659 -0.11649 -0.27076 C -0.11962 -0.27376 -0.12621 -0.27954 -0.12621 -0.27954 C -0.1316 -0.29018 -0.12795 -0.28486 -0.13924 -0.2948 C -0.14097 -0.29619 -0.14427 -0.2992 -0.14427 -0.2992 C -0.14948 -0.30983 -0.15816 -0.31723 -0.16719 -0.32093 C -0.17934 -0.3318 -0.16389 -0.31908 -0.17865 -0.32764 C -0.18038 -0.32879 -0.18177 -0.33087 -0.18351 -0.33203 C -0.18681 -0.33388 -0.1934 -0.33619 -0.1934 -0.33619 C -0.20521 -0.34659 -0.19948 -0.34359 -0.20972 -0.34729 C -0.21597 -0.35261 -0.22257 -0.35492 -0.22951 -0.35816 C -0.23142 -0.35908 -0.23264 -0.36139 -0.23437 -0.36255 C -0.2375 -0.3644 -0.24427 -0.36694 -0.24427 -0.36694 C -0.24861 -0.37272 -0.2533 -0.37642 -0.25903 -0.37989 C -0.26215 -0.38174 -0.26875 -0.38428 -0.26875 -0.38428 C -0.27413 -0.38891 -0.28785 -0.39746 -0.29496 -0.39746 E">
                                      <p:cBhvr>
                                        <p:cTn id="918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9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00711 -5.78035E-008 C 0.01093 -0.00879 0.01232 -0.0185 0.01545 -0.02775 C 0.01684 -0.03699 0.01979 -0.04277 0.02222 -0.05133 C 0.02447 -0.05873 0.02465 -0.06682 0.02656 -0.07445 C 0.02708 -0.07699 0.02829 -0.07884 0.02916 -0.08092 C 0.02968 -0.08301 0.0302 -0.08532 0.03055 -0.0874 C 0.03107 -0.09225 0.03107 -0.09734 0.03194 -0.1022 C 0.03246 -0.1052 0.03402 -0.10751 0.03472 -0.11075 C 0.03593 -0.11769 0.03611 -0.12486 0.0375 -0.13179 C 0.03888 -0.13965 0.04149 -0.15538 0.04149 -0.15514 C 0.04114 -0.17572 0.04479 -0.23168 0.03333 -0.25734 C 0.03107 -0.2763 0.02656 -0.29688 0.01944 -0.31283 C 0.0177 -0.3237 0.01388 -0.3415 0.00989 -0.35098 C 0.00816 -0.35954 0.00572 -0.36393 0.00173 -0.37017 C 0.00121 -0.37225 0.00104 -0.3748 0.00017 -0.37642 C -0.00035 -0.37757 -0.01268 -0.39838 -0.01493 -0.4 C -0.01754 -0.40185 -0.02032 -0.40277 -0.02309 -0.40416 C -0.02448 -0.40486 -0.02726 -0.40624 -0.02726 -0.40601 C -0.04046 -0.41988 -0.07969 -0.42012 -0.09462 -0.42127 C -0.13334 -0.43561 -0.17344 -0.43746 -0.21303 -0.44046 C -0.21858 -0.44324 -0.22414 -0.44624 -0.22969 -0.44879 C -0.23247 -0.45179 -0.23507 -0.45457 -0.23785 -0.45734 C -0.23941 -0.45919 -0.24202 -0.46358 -0.24202 -0.46358 E">
                                      <p:cBhvr>
                                        <p:cTn id="920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1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8.33333E-006 -3.46821E-006 C 0.00052 -0.00208 0.00086 -0.00439 0.00156 -0.00647 C 0.00243 -0.00879 0.00416 -0.01041 0.00486 -0.01295 C 0.00833 -0.02474 0.00868 -0.03815 0.01145 -0.05017 C 0.01111 -0.07515 0.02378 -0.18243 -8.33333E-006 -0.22913 C -0.00053 -0.23422 -0.00139 -0.23931 -0.00174 -0.24439 C -0.00261 -0.25896 -0.00209 -0.27353 -0.0033 -0.28809 C -0.00365 -0.29272 -0.0066 -0.30127 -0.0066 -0.30127 C -0.00712 -0.31445 -0.0073 -0.32763 -0.00816 -0.34058 C -0.00886 -0.35029 -0.01459 -0.35769 -0.0165 -0.36671 C -0.01771 -0.37272 -0.01771 -0.37965 -0.02136 -0.38405 E">
                                      <p:cBhvr>
                                        <p:cTn id="922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3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1.66667E-006 4.85549E-006 C 0.00174 -0.01017 0.0033 -0.01387 0.00972 -0.01965 C 0.00972 -0.01989 0.01233 -0.03353 0.01302 -0.03491 C 0.02101 -0.05087 0.01545 -0.03307 0.02118 -0.04809 C 0.02379 -0.05503 0.02431 -0.06104 0.02778 -0.06775 C 0.03108 -0.08463 0.03333 -0.10035 0.03924 -0.11584 C 0.0434 -0.12671 0.04392 -0.13827 0.04913 -0.14844 C 0.05052 -0.15607 0.05278 -0.1637 0.05573 -0.17041 C 0.05764 -0.17503 0.06233 -0.18335 0.06233 -0.18335 C 0.06511 -0.19538 0.07292 -0.19607 0.07865 -0.2074 C 0.08438 -0.21896 0.09097 -0.2289 0.0967 -0.24023 C 0.09965 -0.25272 0.09583 -0.24139 0.1033 -0.2511 C 0.11493 -0.26636 0.09774 -0.24948 0.11146 -0.26197 C 0.11424 -0.27353 0.11684 -0.28532 0.11962 -0.29688 C 0.11788 -0.3089 0.11719 -0.31237 0.10972 -0.31885 C 0.1092 -0.32093 0.10816 -0.32532 0.10816 -0.32532 E">
                                      <p:cBhvr>
                                        <p:cTn id="924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828800" y="816120"/>
            <a:ext cx="1106640" cy="10508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1633680" y="2579760"/>
            <a:ext cx="1617480" cy="14396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1566720" y="4735440"/>
            <a:ext cx="1828800" cy="14032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462480" y="816120"/>
            <a:ext cx="45370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300" spc="-1" strike="noStrike">
                <a:solidFill>
                  <a:srgbClr val="3366ff"/>
                </a:solidFill>
                <a:latin typeface="Arial"/>
              </a:rPr>
              <a:t>Сегодня я работал лучше, чем вчер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789360" y="2841480"/>
            <a:ext cx="3657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300" spc="-1" strike="noStrike">
                <a:solidFill>
                  <a:srgbClr val="3366ff"/>
                </a:solidFill>
                <a:latin typeface="Arial"/>
              </a:rPr>
              <a:t>Я мог бы работать лучше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114800" y="5062680"/>
            <a:ext cx="30225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300" spc="-1" strike="noStrike">
                <a:solidFill>
                  <a:srgbClr val="3366ff"/>
                </a:solidFill>
                <a:latin typeface="Arial"/>
              </a:rPr>
              <a:t>Не доволен работо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4"/>
          <a:stretch/>
        </p:blipFill>
        <p:spPr>
          <a:xfrm>
            <a:off x="1835280" y="836640"/>
            <a:ext cx="110628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5000"/>
                            </p:stCondLst>
                            <p:childTnLst>
                              <p:par>
                                <p:cTn id="94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F:\фоны\0_6bf2e_c1dd00a3_L (2)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Скругленная прямоугольная выноска 4"/>
          <p:cNvSpPr/>
          <p:nvPr/>
        </p:nvSpPr>
        <p:spPr>
          <a:xfrm>
            <a:off x="1285920" y="0"/>
            <a:ext cx="7429320" cy="1357200"/>
          </a:xfrm>
          <a:prstGeom prst="wedgeRoundRectCallout">
            <a:avLst>
              <a:gd name="adj1" fmla="val 28314"/>
              <a:gd name="adj2" fmla="val 121032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5"/>
          <p:cNvSpPr/>
          <p:nvPr/>
        </p:nvSpPr>
        <p:spPr>
          <a:xfrm>
            <a:off x="1571760" y="0"/>
            <a:ext cx="700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Arial"/>
              </a:rPr>
              <a:t>Спасибо за урок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ajy!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b39"/>
          <p:cNvPicPr/>
          <p:nvPr/>
        </p:nvPicPr>
        <p:blipFill>
          <a:blip r:embed="rId2"/>
          <a:stretch/>
        </p:blipFill>
        <p:spPr>
          <a:xfrm>
            <a:off x="1214280" y="2071800"/>
            <a:ext cx="1928880" cy="1949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b39"/>
          <p:cNvPicPr/>
          <p:nvPr/>
        </p:nvPicPr>
        <p:blipFill>
          <a:blip r:embed="rId3"/>
          <a:stretch/>
        </p:blipFill>
        <p:spPr>
          <a:xfrm>
            <a:off x="5000760" y="2428920"/>
            <a:ext cx="1571400" cy="1589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b39"/>
          <p:cNvPicPr/>
          <p:nvPr/>
        </p:nvPicPr>
        <p:blipFill>
          <a:blip r:embed="rId4"/>
          <a:stretch/>
        </p:blipFill>
        <p:spPr>
          <a:xfrm>
            <a:off x="3071880" y="4071960"/>
            <a:ext cx="1785960" cy="1805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b39"/>
          <p:cNvPicPr/>
          <p:nvPr/>
        </p:nvPicPr>
        <p:blipFill>
          <a:blip r:embed="rId5"/>
          <a:stretch/>
        </p:blipFill>
        <p:spPr>
          <a:xfrm>
            <a:off x="6500880" y="4000680"/>
            <a:ext cx="1695240" cy="171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b39"/>
          <p:cNvPicPr/>
          <p:nvPr/>
        </p:nvPicPr>
        <p:blipFill>
          <a:blip r:embed="rId6"/>
          <a:stretch/>
        </p:blipFill>
        <p:spPr>
          <a:xfrm>
            <a:off x="0" y="3857760"/>
            <a:ext cx="1996920" cy="2017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цветы2"/>
          <p:cNvPicPr/>
          <p:nvPr/>
        </p:nvPicPr>
        <p:blipFill>
          <a:blip r:embed="rId7"/>
          <a:stretch/>
        </p:blipFill>
        <p:spPr>
          <a:xfrm>
            <a:off x="2071800" y="4000680"/>
            <a:ext cx="896760" cy="1079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цветы2"/>
          <p:cNvPicPr/>
          <p:nvPr/>
        </p:nvPicPr>
        <p:blipFill>
          <a:blip r:embed="rId8"/>
          <a:stretch/>
        </p:blipFill>
        <p:spPr>
          <a:xfrm>
            <a:off x="5000760" y="5357880"/>
            <a:ext cx="896760" cy="1079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цветы2"/>
          <p:cNvPicPr/>
          <p:nvPr/>
        </p:nvPicPr>
        <p:blipFill>
          <a:blip r:embed="rId9"/>
          <a:stretch/>
        </p:blipFill>
        <p:spPr>
          <a:xfrm>
            <a:off x="0" y="3143160"/>
            <a:ext cx="896760" cy="107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колокольчики"/>
          <p:cNvPicPr/>
          <p:nvPr/>
        </p:nvPicPr>
        <p:blipFill>
          <a:blip r:embed="rId10">
            <a:lum contrast="18000"/>
          </a:blip>
          <a:stretch/>
        </p:blipFill>
        <p:spPr>
          <a:xfrm>
            <a:off x="4071960" y="285768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колокольчики"/>
          <p:cNvPicPr/>
          <p:nvPr/>
        </p:nvPicPr>
        <p:blipFill>
          <a:blip r:embed="rId11">
            <a:lum contrast="18000"/>
          </a:blip>
          <a:stretch/>
        </p:blipFill>
        <p:spPr>
          <a:xfrm>
            <a:off x="1643040" y="5357880"/>
            <a:ext cx="942840" cy="11905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4"/>
          <p:cNvSpPr/>
          <p:nvPr/>
        </p:nvSpPr>
        <p:spPr>
          <a:xfrm>
            <a:off x="571680" y="4214880"/>
            <a:ext cx="78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1785960" y="2357280"/>
            <a:ext cx="71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5357880" y="2643120"/>
            <a:ext cx="78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2060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3500280" y="4286160"/>
            <a:ext cx="14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8"/>
          <p:cNvSpPr/>
          <p:nvPr/>
        </p:nvSpPr>
        <p:spPr>
          <a:xfrm>
            <a:off x="4786200" y="4929120"/>
            <a:ext cx="121464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9"/>
          <p:cNvSpPr/>
          <p:nvPr/>
        </p:nvSpPr>
        <p:spPr>
          <a:xfrm>
            <a:off x="6929280" y="4143240"/>
            <a:ext cx="78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2060"/>
                </a:solidFill>
                <a:latin typeface="Arial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0"/>
          <p:cNvSpPr/>
          <p:nvPr/>
        </p:nvSpPr>
        <p:spPr>
          <a:xfrm>
            <a:off x="3000240" y="1285920"/>
            <a:ext cx="100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1"/>
          <p:cNvSpPr/>
          <p:nvPr/>
        </p:nvSpPr>
        <p:spPr>
          <a:xfrm>
            <a:off x="3929040" y="150012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2"/>
          <p:cNvSpPr/>
          <p:nvPr/>
        </p:nvSpPr>
        <p:spPr>
          <a:xfrm>
            <a:off x="4929120" y="1071720"/>
            <a:ext cx="107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3"/>
          <p:cNvSpPr/>
          <p:nvPr/>
        </p:nvSpPr>
        <p:spPr>
          <a:xfrm>
            <a:off x="6143760" y="1285920"/>
            <a:ext cx="107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4"/>
          <p:cNvSpPr/>
          <p:nvPr/>
        </p:nvSpPr>
        <p:spPr>
          <a:xfrm>
            <a:off x="7500960" y="142884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j0214098.wav" descr=""/>
          <p:cNvPicPr/>
          <p:nvPr/>
        </p:nvPicPr>
        <p:blipFill>
          <a:blip r:embed="rId12"/>
          <a:stretch/>
        </p:blipFill>
        <p:spPr>
          <a:xfrm>
            <a:off x="857268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4745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ajy!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6"/>
          <p:cNvSpPr/>
          <p:nvPr/>
        </p:nvSpPr>
        <p:spPr>
          <a:xfrm>
            <a:off x="2230560" y="714240"/>
            <a:ext cx="6913440" cy="2444760"/>
          </a:xfrm>
          <a:prstGeom prst="wedgeRoundRectCallout">
            <a:avLst>
              <a:gd name="adj1" fmla="val -42722"/>
              <a:gd name="adj2" fmla="val 6338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Здравствуйте, ребята! Меня зовут Смельчак. Я приглашаю вас в гости к моим друзьям-гномам. Мы очень любим математику и приготовили вам много интересных заданий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F:\фоны\0_6beed_e5a8dea6_XL.png"/>
          <p:cNvPicPr/>
          <p:nvPr/>
        </p:nvPicPr>
        <p:blipFill>
          <a:blip r:embed="rId2"/>
          <a:stretch/>
        </p:blipFill>
        <p:spPr>
          <a:xfrm>
            <a:off x="-214200" y="2571840"/>
            <a:ext cx="5648040" cy="4286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цветы1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0" y="4429080"/>
            <a:ext cx="952560" cy="1019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цветы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4929120" y="5143680"/>
            <a:ext cx="952560" cy="101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колокольчики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4286160" y="3571920"/>
            <a:ext cx="943200" cy="1190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8" descr="цветы2"/>
          <p:cNvPicPr/>
          <p:nvPr/>
        </p:nvPicPr>
        <p:blipFill>
          <a:blip r:embed="rId6"/>
          <a:stretch/>
        </p:blipFill>
        <p:spPr>
          <a:xfrm>
            <a:off x="3000240" y="5500800"/>
            <a:ext cx="8971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971640" y="333360"/>
            <a:ext cx="7920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2060"/>
                </a:solidFill>
                <a:latin typeface="Arial"/>
              </a:rPr>
              <a:t>У крышки стола 4 угла. Сколько останется углов, если 1 угол отпили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187280" y="3500280"/>
            <a:ext cx="5329440" cy="302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 flipV="1" rot="5512800">
            <a:off x="5253480" y="3179160"/>
            <a:ext cx="1228680" cy="158292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042920" y="335772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5148360" y="335772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8"/>
          <p:cNvSpPr/>
          <p:nvPr/>
        </p:nvSpPr>
        <p:spPr>
          <a:xfrm>
            <a:off x="6372360" y="443700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9"/>
          <p:cNvSpPr/>
          <p:nvPr/>
        </p:nvSpPr>
        <p:spPr>
          <a:xfrm>
            <a:off x="1042920" y="630864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0"/>
          <p:cNvSpPr/>
          <p:nvPr/>
        </p:nvSpPr>
        <p:spPr>
          <a:xfrm>
            <a:off x="6372360" y="630864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11"/>
          <p:cNvSpPr txBox="1"/>
          <p:nvPr/>
        </p:nvSpPr>
        <p:spPr>
          <a:xfrm>
            <a:off x="1979640" y="620640"/>
            <a:ext cx="50418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5 углов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94" name="Picture 12" descr="W12"/>
          <p:cNvPicPr/>
          <p:nvPr/>
        </p:nvPicPr>
        <p:blipFill>
          <a:blip r:embed="rId3"/>
          <a:stretch/>
        </p:blipFill>
        <p:spPr>
          <a:xfrm flipH="1" rot="1402200">
            <a:off x="4095360" y="3652920"/>
            <a:ext cx="4159440" cy="2004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"/>
          <p:cNvPicPr/>
          <p:nvPr/>
        </p:nvPicPr>
        <p:blipFill>
          <a:blip r:embed="rId4"/>
          <a:stretch/>
        </p:blipFill>
        <p:spPr>
          <a:xfrm>
            <a:off x="9144000" y="7174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5.92593E-006 C -0.00589 -0.01203 -0.01319 -0.01689 -0.02083 -0.02592 C -0.02638 -0.0324 -0.03211 -0.04004 -0.03888 -0.04444 C -0.04339 -0.04745 -0.04878 -0.04745 -0.05277 -0.05184 C -0.05589 -0.05508 -0.0578 -0.05995 -0.0611 -0.06296 C -0.06249 -0.06411 -0.06388 -0.0655 -0.06527 -0.06666 C -0.06926 -0.07453 -0.07551 -0.08032 -0.08055 -0.08703 C -0.08541 -0.09351 -0.0901 -0.10231 -0.09583 -0.1074 C -0.0967 -0.10925 -0.10017 -0.11249 -0.0986 -0.11296 C -0.0986 -0.11296 -0.08819 -0.10833 -0.0861 -0.1074 C -0.08472 -0.10671 -0.08194 -0.10555 -0.08194 -0.10555 C -0.07882 -0.10231 -0.07482 -0.10022 -0.07221 -0.09629 C -0.06683 -0.08819 -0.06336 -0.07569 -0.05694 -0.06851 C -0.05537 -0.06666 -0.05312 -0.06643 -0.05138 -0.06481 C -0.0493 -0.06272 -0.04792 -0.05948 -0.04583 -0.0574 C -0.0401 -0.05138 -0.03367 -0.04791 -0.02777 -0.04258 C -0.02378 -0.03448 -0.01475 -0.02175 -0.01249 -0.01296 C -0.0111 -0.0074 -0.01128 -0.00671 -0.00833 -0.00184 C -0.00711 0.00024 -0.00572 0.00209 -0.00416 0.00371 C -0.00155 0.00649 0.00417 0.01112 0.00417 0.01112 C 0.00869 0.02015 0.0172 0.02617 0.02362 0.03334 C 0.02518 0.03496 0.02622 0.03728 0.02779 0.0389 C 0.03039 0.04167 0.03612 0.0463 0.03612 0.0463 C 0.03803 0.05001 0.03924 0.05417 0.04167 0.05742 C 0.04445 0.06112 0.05001 0.06853 0.05001 0.06853 C 0.04827 0.05973 0.04411 0.05117 0.03751 0.04816 C 0.03334 0.03982 0.02692 0.03404 0.02223 0.02593 C 0.01286 0.00927 0.00417 -0.00925 -0.00694 -0.02407 C -0.0099 -0.03958 -0.00572 -0.02499 -0.01249 -0.03518 C -0.01579 -0.04027 -0.01735 -0.04721 -0.02083 -0.05184 C -0.0236 -0.05555 -0.02586 -0.05995 -0.02916 -0.06296 C -0.03055 -0.06411 -0.03211 -0.06527 -0.03333 -0.06666 C -0.04027 -0.0743 -0.03437 -0.07083 -0.04166 -0.07407 C -0.04739 -0.08171 -0.05468 -0.08772 -0.0611 -0.09444 C -0.0651 -0.0986 -0.07013 -0.10092 -0.0736 -0.10555 C -0.07621 -0.10902 -0.07794 -0.11319 -0.08055 -0.11666 C -0.08177 -0.11828 -0.08472 -0.12036 -0.08472 -0.12036 E">
                                      <p:cBhvr>
                                        <p:cTn id="14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1864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Сколько зайцев в корзин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img069"/>
          <p:cNvPicPr/>
          <p:nvPr/>
        </p:nvPicPr>
        <p:blipFill>
          <a:blip r:embed="rId1"/>
          <a:stretch/>
        </p:blipFill>
        <p:spPr>
          <a:xfrm>
            <a:off x="1692360" y="1844640"/>
            <a:ext cx="5543640" cy="4680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7740720" y="3429000"/>
            <a:ext cx="4554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:\38aa84e6a788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bel26"/>
          <p:cNvPicPr/>
          <p:nvPr/>
        </p:nvPicPr>
        <p:blipFill>
          <a:blip r:embed="rId2"/>
          <a:stretch/>
        </p:blipFill>
        <p:spPr>
          <a:xfrm>
            <a:off x="-285840" y="2071800"/>
            <a:ext cx="2500560" cy="4000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b39"/>
          <p:cNvPicPr/>
          <p:nvPr/>
        </p:nvPicPr>
        <p:blipFill>
          <a:blip r:embed="rId3"/>
          <a:stretch/>
        </p:blipFill>
        <p:spPr>
          <a:xfrm>
            <a:off x="2928960" y="2786040"/>
            <a:ext cx="1625400" cy="1643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b39"/>
          <p:cNvPicPr/>
          <p:nvPr/>
        </p:nvPicPr>
        <p:blipFill>
          <a:blip r:embed="rId4"/>
          <a:stretch/>
        </p:blipFill>
        <p:spPr>
          <a:xfrm>
            <a:off x="4572000" y="5214960"/>
            <a:ext cx="1625760" cy="1643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b39"/>
          <p:cNvPicPr/>
          <p:nvPr/>
        </p:nvPicPr>
        <p:blipFill>
          <a:blip r:embed="rId5"/>
          <a:stretch/>
        </p:blipFill>
        <p:spPr>
          <a:xfrm>
            <a:off x="7286760" y="2428920"/>
            <a:ext cx="1625400" cy="1643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солнечко"/>
          <p:cNvPicPr/>
          <p:nvPr/>
        </p:nvPicPr>
        <p:blipFill>
          <a:blip r:embed="rId6"/>
          <a:stretch/>
        </p:blipFill>
        <p:spPr>
          <a:xfrm>
            <a:off x="0" y="214200"/>
            <a:ext cx="1714680" cy="1646280"/>
          </a:xfrm>
          <a:prstGeom prst="rect">
            <a:avLst/>
          </a:prstGeom>
          <a:ln w="0">
            <a:noFill/>
          </a:ln>
        </p:spPr>
      </p:pic>
      <p:pic>
        <p:nvPicPr>
          <p:cNvPr id="105" name="381_Muzyka_titry.mp3" descr=""/>
          <p:cNvPicPr/>
          <p:nvPr/>
        </p:nvPicPr>
        <p:blipFill>
          <a:blip r:embed="rId7"/>
          <a:stretch/>
        </p:blipFill>
        <p:spPr>
          <a:xfrm>
            <a:off x="25092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0.07191 C -0.00816 0.05688 0.00069 0.04971 0.00868 0.03908 C 0.0092 0.037 0.00903 0.03422 0.01024 0.0326 C 0.01302 0.0289 0.01684 0.02682 0.02014 0.02382 C 0.02361 0.02058 0.02639 0.01596 0.03003 0.01295 C 0.03142 0.01179 0.03333 0.01156 0.0349 0.01087 C 0.05347 -0.00555 0.0776 -0.01295 0.09878 -0.02196 C 0.10833 -0.02612 0.1283 -0.02844 0.1283 -0.02821 C 0.21441 -0.02682 0.20747 -0.03144 0.25625 -0.02404 C 0.29358 -0.01849 0.32882 -0.00323 0.36597 0.00208 C 0.37552 0.00601 0.39531 0.00856 0.39531 0.00879 C 0.40573 0.01318 0.41493 0.01919 0.425 0.02382 C 0.42674 0.02451 0.4283 0.02544 0.43003 0.02613 C 0.4316 0.02682 0.4349 0.02821 0.4349 0.02844 C 0.44253 0.03515 0.43802 0.03191 0.44965 0.037 C 0.45122 0.03769 0.45451 0.03908 0.45451 0.03931 C 0.46719 0.05018 0.48125 0.0585 0.49375 0.06983 C 0.50052 0.07561 0.51146 0.08856 0.5184 0.09156 C 0.5217 0.09457 0.52604 0.09596 0.5283 0.10035 C 0.5316 0.10682 0.53576 0.11468 0.53976 0.12 C 0.54948 0.13295 0.5401 0.11445 0.54948 0.13087 C 0.55556 0.14081 0.55694 0.14821 0.56441 0.15492 C 0.56476 0.157 0.5651 0.15931 0.56597 0.16139 C 0.56788 0.16601 0.57118 0.16948 0.57257 0.17457 C 0.57552 0.18544 0.58125 0.19908 0.58733 0.2074 C 0.58941 0.21642 0.59306 0.22567 0.59705 0.23353 C 0.60122 0.24902 0.59878 0.24255 0.60365 0.25318 C 0.60556 0.26636 0.60868 0.27977 0.61198 0.29249 C 0.61163 0.32231 0.62378 0.46174 0.59549 0.51723 C 0.58993 0.54127 0.57639 0.56185 0.56597 0.58289 C 0.56163 0.59168 0.55278 0.60047 0.54792 0.60902 C 0.54549 0.61318 0.5434 0.61781 0.54149 0.6222 C 0.53924 0.62705 0.53438 0.62867 0.5316 0.63307 C 0.52708 0.64047 0.52969 0.63954 0.52344 0.64601 C 0.52031 0.64925 0.51632 0.6511 0.51354 0.6548 C 0.50573 0.66544 0.49618 0.67468 0.48733 0.68324 C 0.47483 0.69503 0.49497 0.68578 0.47743 0.69203 C 0.47396 0.69503 0.47153 0.69919 0.46753 0.70081 C 0.46267 0.70289 0.45747 0.70405 0.45295 0.70729 C 0.44635 0.71168 0.43889 0.71677 0.4316 0.71815 C 0.42344 0.71954 0.41493 0.72 0.40694 0.72255 C 0.39045 0.72786 0.37309 0.73041 0.35625 0.73341 C 0.33819 0.73249 0.31892 0.73781 0.30208 0.72902 C 0.30017 0.7281 0.29913 0.72532 0.29722 0.72463 C 0.29184 0.72255 0.28073 0.72047 0.28073 0.7207 C 0.27691 0.70451 0.28247 0.72278 0.27431 0.70937 C 0.26806 0.69896 0.27813 0.7052 0.26771 0.70081 C 0.26007 0.68555 0.26441 0.69064 0.25625 0.68324 C 0.25017 0.67145 0.24774 0.67029 0.23802 0.66567 C 0.23247 0.65434 0.2375 0.66081 0.22344 0.65711 C 0.21788 0.65573 0.21406 0.65064 0.20868 0.64833 C 0.20174 0.63445 0.19063 0.63052 0.18073 0.6222 C 0.17813 0.6111 0.17552 0.60416 0.16927 0.59584 C 0.16615 0.58312 0.15851 0.57411 0.15295 0.56324 C 0.15191 0.56093 0.15069 0.55885 0.14965 0.55653 C 0.14861 0.55445 0.14635 0.55006 0.14635 0.55029 C 0.14306 0.53688 0.14236 0.52532 0.13316 0.51723 C 0.12917 0.49573 0.13455 0.52047 0.1283 0.50197 C 0.12691 0.49781 0.125 0.48902 0.125 0.48925 C 0.12326 0.47376 0.12031 0.46104 0.11528 0.4474 C 0.10938 0.43122 0.10816 0.41734 0.10052 0.40162 C 0.09792 0.38497 0.09688 0.36786 0.09392 0.35145 C 0.08958 0.30174 0.09028 0.31838 0.09392 0.22914 C 0.09427 0.22174 0.09722 0.2074 0.09722 0.20763 C 0.09844 0.18821 0.10069 0.17503 0.10365 0.157 C 0.10451 0.15191 0.10451 0.1459 0.10694 0.14174 C 0.10816 0.13966 0.11024 0.13873 0.11198 0.13734 C 0.11823 0.12509 0.11181 0.13503 0.12014 0.12879 C 0.12882 0.12231 0.13542 0.11307 0.14479 0.10914 C 0.18021 0.077 0.22066 0.07006 0.26267 0.06312 C 0.27535 0.06104 0.28576 0.05804 0.29878 0.05665 C 0.3158 0.05734 0.33264 0.05757 0.34965 0.05873 C 0.3592 0.05942 0.3684 0.0659 0.37743 0.06983 C 0.38681 0.07399 0.39809 0.07468 0.40694 0.0807 C 0.41545 0.08648 0.42552 0.09272 0.4349 0.09596 C 0.43976 0.10035 0.4441 0.1022 0.44965 0.10474 C 0.45451 0.11122 0.45781 0.11492 0.46441 0.11769 C 0.4724 0.12486 0.48073 0.13226 0.48889 0.13966 C 0.4908 0.14151 0.49201 0.14428 0.49375 0.14613 C 0.49705 0.14937 0.50347 0.15492 0.50347 0.15515 C 0.51233 0.17203 0.50087 0.15145 0.51198 0.16578 C 0.51337 0.16763 0.51389 0.17041 0.51528 0.17226 C 0.51944 0.17781 0.52483 0.18336 0.53003 0.18775 C 0.5309 0.18983 0.53177 0.19237 0.53316 0.19422 C 0.53455 0.19607 0.53698 0.19653 0.53819 0.19862 C 0.5474 0.21364 0.53003 0.19653 0.54462 0.20948 C 0.54983 0.23052 0.54201 0.19977 0.54948 0.22266 C 0.55469 0.23769 0.55712 0.2548 0.56111 0.27052 C 0.56753 0.33249 0.5651 0.30336 0.56111 0.43445 C 0.56076 0.44694 0.55417 0.46405 0.55104 0.47584 C 0.54948 0.48301 0.54306 0.49549 0.54306 0.49573 C 0.54201 0.49989 0.54167 0.50474 0.53976 0.50867 C 0.53733 0.51307 0.53316 0.52162 0.53316 0.52185 C 0.53038 0.53364 0.52483 0.53734 0.5184 0.54567 C 0.51563 0.557 0.51771 0.55052 0.51024 0.56532 C 0.50347 0.5785 0.4974 0.59538 0.48733 0.60463 C 0.48368 0.60786 0.48125 0.61272 0.47743 0.61549 C 0.47448 0.61781 0.46753 0.61989 0.46753 0.62012 C 0.46719 0.62359 0.46753 0.62775 0.46597 0.63075 C 0.46354 0.63561 0.45729 0.63376 0.45295 0.63515 C 0.43733 0.64047 0.43281 0.64023 0.41198 0.64185 C 0.38333 0.65388 0.40538 0.64625 0.34306 0.64393 C 0.33646 0.63792 0.33038 0.63492 0.32344 0.62867 C 0.32049 0.62613 0.31354 0.62428 0.31354 0.62451 C 0.30799 0.61688 0.30139 0.6081 0.29392 0.60463 C 0.29219 0.60255 0.29097 0.59977 0.28889 0.59815 C 0.28594 0.59584 0.27917 0.59376 0.27917 0.59399 C 0.27535 0.58613 0.2717 0.58127 0.26597 0.57619 C 0.26319 0.56463 0.26632 0.57411 0.25955 0.56324 C 0.25417 0.55492 0.25677 0.55214 0.24965 0.54567 C 0.24653 0.53434 0.24878 0.54104 0.24149 0.52601 C 0.24063 0.52416 0.24063 0.52162 0.23976 0.51954 C 0.23646 0.51191 0.22899 0.50197 0.22674 0.49318 C 0.22431 0.48416 0.22604 0.48856 0.2217 0.48023 C 0.21875 0.46844 0.21528 0.45781 0.21024 0.4474 C 0.20694 0.43422 0.20451 0.41966 0.19878 0.4081 C 0.19653 0.39931 0.19444 0.39052 0.19201 0.38197 C 0.18837 0.34937 0.17882 0.31815 0.17431 0.28578 C 0.17552 0.24 0.17031 0.21156 0.19549 0.18336 C 0.20365 0.17434 0.19688 0.17827 0.20538 0.17457 C 0.21372 0.15838 0.23264 0.157 0.24635 0.15492 C 0.28247 0.15561 0.3184 0.15561 0.35451 0.157 C 0.36233 0.15723 0.37309 0.16301 0.38073 0.16578 C 0.38403 0.16694 0.39045 0.17018 0.39045 0.17041 C 0.40174 0.18012 0.39653 0.17734 0.40538 0.18104 C 0.41128 0.18914 0.41424 0.18752 0.42014 0.19422 C 0.43194 0.2074 0.41823 0.19492 0.43003 0.20509 C 0.43576 0.21665 0.4408 0.22798 0.44774 0.23792 C 0.44948 0.24393 0.45226 0.25203 0.45451 0.25757 C 0.45625 0.2622 0.46111 0.27052 0.46111 0.27075 C 0.46458 0.28532 0.46632 0.30382 0.4724 0.31653 C 0.47309 0.32023 0.47361 0.32393 0.47431 0.3274 C 0.47517 0.33179 0.47743 0.34058 0.47743 0.34081 C 0.47951 0.38405 0.48854 0.43792 0.46927 0.47584 C 0.46389 0.49781 0.45087 0.50983 0.43646 0.51954 C 0.41667 0.53295 0.40365 0.53873 0.38073 0.54127 C 0.36493 0.54058 0.34896 0.54104 0.33316 0.53919 C 0.32622 0.53827 0.31979 0.52301 0.31354 0.51723 C 0.30868 0.50752 0.30399 0.49989 0.29878 0.4911 C 0.29635 0.48694 0.29444 0.48231 0.29219 0.47792 C 0.29115 0.47584 0.28889 0.47145 0.28889 0.47168 C 0.28247 0.44416 0.27309 0.41942 0.26927 0.39075 C 0.26753 0.3644 0.26406 0.32786 0.27431 0.30336 C 0.27882 0.29249 0.28333 0.28625 0.28889 0.27723 C 0.29549 0.26636 0.30156 0.25757 0.31198 0.25318 C 0.31684 0.24879 0.32101 0.24671 0.32674 0.2444 C 0.33663 0.24509 0.34653 0.24509 0.35625 0.24648 C 0.36181 0.24717 0.37257 0.25087 0.37257 0.2511 C 0.38056 0.25804 0.38802 0.26682 0.39722 0.27052 C 0.41094 0.28301 0.42552 0.29318 0.4349 0.31214 C 0.43767 0.3244 0.44774 0.33226 0.45122 0.34474 C 0.45694 0.36694 0.46024 0.38914 0.46267 0.41249 C 0.46233 0.42474 0.4651 0.47191 0.45451 0.48902 C 0.44896 0.49781 0.4441 0.50405 0.43646 0.50867 C 0.43333 0.51052 0.42674 0.51284 0.42674 0.51307 C 0.41406 0.51214 0.40156 0.51191 0.38889 0.51075 C 0.38385 0.51029 0.37431 0.50428 0.37431 0.50451 C 0.36736 0.49827 0.36215 0.49226 0.35451 0.48902 C 0.35295 0.48671 0.35156 0.48416 0.34965 0.48231 C 0.34826 0.48093 0.34618 0.48162 0.34479 0.48023 C 0.34132 0.47653 0.33194 0.45804 0.33003 0.45411 C 0.32604 0.44601 0.32708 0.44948 0.325 0.44093 C 0.32396 0.43653 0.3217 0.42775 0.3217 0.42798 C 0.32118 0.42197 0.32014 0.41619 0.32014 0.41041 C 0.32014 0.38775 0.32066 0.36532 0.3217 0.34266 C 0.32274 0.3207 0.34896 0.31561 0.36111 0.30983 C 0.36181 0.30983 0.37778 0.31075 0.38247 0.31422 C 0.39931 0.32671 0.38559 0.32047 0.39722 0.32509 C 0.40174 0.33411 0.40382 0.33249 0.41024 0.33827 C 0.41597 0.3496 0.42257 0.35977 0.4283 0.3711 C 0.43038 0.37549 0.43264 0.37966 0.4349 0.38405 C 0.43594 0.38636 0.43819 0.39075 0.43819 0.39099 C 0.44097 0.40162 0.44375 0.41249 0.44635 0.42336 C 0.44583 0.43492 0.44618 0.44671 0.44479 0.45827 C 0.44306 0.47284 0.42674 0.47792 0.4184 0.48023 C 0.41719 0.48 0.40208 0.47931 0.39722 0.47584 C 0.38038 0.46336 0.3934 0.4696 0.38247 0.46497 C 0.37917 0.46197 0.37587 0.45919 0.37257 0.45619 C 0.37101 0.4548 0.36771 0.45179 0.36771 0.45203 C 0.36319 0.44278 0.36059 0.43422 0.35625 0.42567 C 0.35313 0.39052 0.35139 0.35723 0.36597 0.3274 C 0.36979 0.31977 0.36962 0.31538 0.37587 0.30983 C 0.38663 0.28856 0.40243 0.27214 0.41667 0.25526 C 0.42031 0.2511 0.42344 0.24671 0.42674 0.24231 C 0.42951 0.23862 0.43646 0.23353 0.43646 0.23376 C 0.44097 0.22428 0.44809 0.2185 0.45451 0.21156 C 0.46597 0.19908 0.47639 0.18567 0.48889 0.17457 C 0.49375 0.17018 0.49826 0.16255 0.50347 0.15931 C 0.50677 0.15746 0.51354 0.15492 0.51354 0.15515 C 0.51788 0.14659 0.52431 0.13827 0.5316 0.13526 C 0.53785 0.12971 0.55417 0.11214 0.56111 0.10914 C 0.57257 0.09896 0.56771 0.10336 0.57569 0.09596 C 0.58142 0.09087 0.58941 0.09133 0.59549 0.08717 C 0.60347 0.08162 0.61198 0.07746 0.62014 0.07191 C 0.62188 0.07075 0.62326 0.06844 0.625 0.06752 C 0.63351 0.06266 0.6441 0.06035 0.65295 0.05665 C 0.66146 0.04902 0.67257 0.04555 0.68247 0.04139 C 0.68698 0.03746 0.69236 0.03353 0.69722 0.03052 C 0.70035 0.02867 0.70694 0.02613 0.70694 0.02636 C 0.70868 0.02474 0.71007 0.02289 0.71198 0.02174 C 0.7151 0.01989 0.7217 0.01734 0.7217 0.01757 C 0.72951 0.01064 0.73924 0.00763 0.74635 -0.00023 C 0.75208 -0.0067 0.75313 -0.01063 0.75781 -0.01988 C 0.75885 -0.02196 0.76111 -0.02243 0.76267 -0.02404 C 0.76684 -0.02867 0.7691 -0.03422 0.77257 -0.03953 E">
                                      <p:cBhvr>
                                        <p:cTn id="212" dur="5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6000"/>
                            </p:stCondLst>
                            <p:childTnLst>
                              <p:par>
                                <p:cTn id="25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7000"/>
                            </p:stCondLst>
                            <p:childTnLst>
                              <p:par>
                                <p:cTn id="2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6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9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1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8.20809E-006 C 0.00243 -0.00462 0.00573 -0.00832 0.00816 -0.01294 C 0.0092 -0.01502 0.00903 -0.01757 0.0099 -0.01965 C 0.01268 -0.02658 0.01771 -0.0319 0.01962 -0.0393 C 0.02205 -0.04832 0.02031 -0.04393 0.02465 -0.05225 C 0.02813 -0.06728 0.02327 -0.05017 0.03108 -0.06543 C 0.03212 -0.06728 0.03177 -0.07005 0.03281 -0.0719 C 0.0382 -0.08115 0.04549 -0.08901 0.05087 -0.09826 C 0.06007 -0.11398 0.05278 -0.10913 0.06233 -0.11352 C 0.06927 -0.12277 0.07743 -0.13132 0.08681 -0.13525 C 0.1132 -0.13341 0.11597 -0.13271 0.13611 -0.12439 C 0.14844 -0.11329 0.16007 -0.09895 0.17049 -0.08508 C 0.17882 -0.07398 0.17205 -0.08832 0.18038 -0.07421 C 0.18577 -0.06497 0.18733 -0.05618 0.1934 -0.04809 C 0.19584 -0.03907 0.19931 -0.02982 0.2033 -0.02173 C 0.20729 -0.00624 0.20469 -0.01248 0.2099 -0.00208 C 0.21372 0.01365 0.22066 0.02544 0.23108 0.03492 C 0.29809 0.03145 0.2533 0.03446 0.28524 0.02636 C 0.29011 0.02197 0.29566 0.02035 0.3 0.01527 C 0.31059 0.00278 0.31979 -0.01595 0.33108 -0.02612 C 0.33559 -0.043 0.32899 -0.02242 0.33768 -0.03699 C 0.3467 -0.05225 0.33056 -0.03583 0.34427 -0.04809 C 0.34913 -0.05757 0.35504 -0.06543 0.36059 -0.07421 C 0.36597 -0.08277 0.36997 -0.09202 0.37709 -0.09826 C 0.37917 -0.10265 0.38073 -0.10751 0.38351 -0.11121 C 0.38524 -0.11352 0.38715 -0.11537 0.38854 -0.11791 C 0.39896 -0.13549 0.39063 -0.1267 0.4 -0.13525 C 0.40278 -0.14682 0.39965 -0.1378 0.4066 -0.14843 C 0.40781 -0.15051 0.40851 -0.15306 0.4099 -0.15491 C 0.41563 -0.16254 0.4283 -0.16393 0.43611 -0.16577 C 0.48611 -0.16254 0.45521 -0.16716 0.47865 -0.15722 C 0.48177 -0.15445 0.48559 -0.15352 0.48854 -0.15051 C 0.49011 -0.1489 0.49045 -0.14566 0.49184 -0.14404 C 0.49636 -0.13872 0.50243 -0.13641 0.5066 -0.13086 C 0.5099 -0.12647 0.51632 -0.11791 0.51632 -0.11791 C 0.51962 -0.1052 0.53056 -0.09872 0.53611 -0.08739 C 0.54722 -0.06473 0.53038 -0.09803 0.54427 -0.07421 C 0.55469 -0.05641 0.54618 -0.0652 0.55573 -0.05664 C 0.56337 -0.04161 0.55903 -0.0467 0.56719 -0.0393 C 0.57587 -0.0215 0.59011 -0.00901 0.60486 -0.00208 C 0.6283 -0.00369 0.63542 -0.00161 0.65243 -0.01294 C 0.65712 -0.01595 0.66268 -0.01618 0.66719 -0.01965 C 0.67379 -0.0245 0.68038 -0.03005 0.68681 -0.03491 C 0.69028 -0.03745 0.6967 -0.04369 0.6967 -0.04369 C 0.70052 -0.05132 0.70556 -0.0541 0.7099 -0.06104 C 0.71406 -0.06774 0.71372 -0.07722 0.71806 -0.083 E">
                                      <p:cBhvr>
                                        <p:cTn id="275" dur="5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Рисунок2"/>
          <p:cNvPicPr/>
          <p:nvPr/>
        </p:nvPicPr>
        <p:blipFill>
          <a:blip r:embed="rId2"/>
          <a:stretch/>
        </p:blipFill>
        <p:spPr>
          <a:xfrm>
            <a:off x="611280" y="1773360"/>
            <a:ext cx="4120920" cy="42670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7"/>
          <p:cNvSpPr/>
          <p:nvPr/>
        </p:nvSpPr>
        <p:spPr>
          <a:xfrm>
            <a:off x="5940360" y="692280"/>
            <a:ext cx="2519280" cy="1224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4 +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Капля 23"/>
          <p:cNvSpPr/>
          <p:nvPr/>
        </p:nvSpPr>
        <p:spPr>
          <a:xfrm>
            <a:off x="250920" y="607212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Капля 23"/>
          <p:cNvSpPr/>
          <p:nvPr/>
        </p:nvSpPr>
        <p:spPr>
          <a:xfrm>
            <a:off x="1258920" y="566100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Капля 23"/>
          <p:cNvSpPr/>
          <p:nvPr/>
        </p:nvSpPr>
        <p:spPr>
          <a:xfrm>
            <a:off x="2195640" y="6072120"/>
            <a:ext cx="78552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Капля 23"/>
          <p:cNvSpPr/>
          <p:nvPr/>
        </p:nvSpPr>
        <p:spPr>
          <a:xfrm>
            <a:off x="3348000" y="566100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Капля 23"/>
          <p:cNvSpPr/>
          <p:nvPr/>
        </p:nvSpPr>
        <p:spPr>
          <a:xfrm>
            <a:off x="4284720" y="607212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Капля 23"/>
          <p:cNvSpPr/>
          <p:nvPr/>
        </p:nvSpPr>
        <p:spPr>
          <a:xfrm>
            <a:off x="5292720" y="544500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Капля 23"/>
          <p:cNvSpPr/>
          <p:nvPr/>
        </p:nvSpPr>
        <p:spPr>
          <a:xfrm>
            <a:off x="6012000" y="6072120"/>
            <a:ext cx="78552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Капля 23"/>
          <p:cNvSpPr/>
          <p:nvPr/>
        </p:nvSpPr>
        <p:spPr>
          <a:xfrm>
            <a:off x="6804000" y="530064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Капля 23"/>
          <p:cNvSpPr/>
          <p:nvPr/>
        </p:nvSpPr>
        <p:spPr>
          <a:xfrm>
            <a:off x="7380360" y="607212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Капля 23"/>
          <p:cNvSpPr/>
          <p:nvPr/>
        </p:nvSpPr>
        <p:spPr>
          <a:xfrm>
            <a:off x="8143920" y="5373720"/>
            <a:ext cx="88596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Управляющая кнопка: в конец 16">
            <a:hlinkClick r:id="" action="ppaction://hlinkshowjump?jump=nextslide"/>
          </p:cNvPr>
          <p:cNvSpPr/>
          <p:nvPr/>
        </p:nvSpPr>
        <p:spPr>
          <a:xfrm>
            <a:off x="0" y="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22007" y="10800"/>
                </a:moveTo>
                <a:lnTo>
                  <a:pt x="11501" y="17806"/>
                </a:lnTo>
                <a:lnTo>
                  <a:pt x="11501" y="3794"/>
                </a:lnTo>
                <a:close/>
              </a:path>
              <a:path fill="darken" w="37015" h="21600">
                <a:moveTo>
                  <a:pt x="23852" y="3794"/>
                </a:moveTo>
                <a:lnTo>
                  <a:pt x="23852" y="17806"/>
                </a:lnTo>
                <a:lnTo>
                  <a:pt x="25514" y="17806"/>
                </a:lnTo>
                <a:lnTo>
                  <a:pt x="25514" y="379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animMotion origin="layout" path="M 0 0 C -0.00139 -0.01619 -0.00035 -0.02012 -0.00973 -0.02844 C -0.01737 -0.04347 -0.02743 -0.04486 -0.03924 -0.05041 C -0.04966 -0.04971 -0.06007 -0.04925 -0.07049 -0.04809 C -0.07761 -0.04717 -0.07414 -0.04463 -0.08021 -0.03931 C -0.09098 -0.02983 -0.11303 -0.02752 -0.12448 -0.02636 C -0.14584 -0.01665 -0.17379 -0.02613 -0.19671 -0.02844 C -0.21962 -0.03885 -0.24132 -0.04948 -0.26546 -0.05249 C -0.27223 -0.05041 -0.27535 -0.0474 -0.28195 -0.05041 C -0.28247 -0.05619 -0.2816 -0.06243 -0.28351 -0.06775 C -0.28559 -0.0733 -0.29341 -0.08093 -0.29341 -0.08093 C -0.29532 -0.07283 -0.29497 -0.07653 -0.29497 -0.07006 E">
                                      <p:cBhvr>
                                        <p:cTn id="298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Рисунок2"/>
          <p:cNvPicPr/>
          <p:nvPr/>
        </p:nvPicPr>
        <p:blipFill>
          <a:blip r:embed="rId2"/>
          <a:stretch/>
        </p:blipFill>
        <p:spPr>
          <a:xfrm>
            <a:off x="611280" y="1773360"/>
            <a:ext cx="4120920" cy="4267080"/>
          </a:xfrm>
          <a:prstGeom prst="rect">
            <a:avLst/>
          </a:prstGeom>
          <a:ln w="0">
            <a:noFill/>
          </a:ln>
        </p:spPr>
      </p:pic>
      <p:sp>
        <p:nvSpPr>
          <p:cNvPr id="126" name="Капля 23"/>
          <p:cNvSpPr/>
          <p:nvPr/>
        </p:nvSpPr>
        <p:spPr>
          <a:xfrm>
            <a:off x="250920" y="607212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Капля 23"/>
          <p:cNvSpPr/>
          <p:nvPr/>
        </p:nvSpPr>
        <p:spPr>
          <a:xfrm>
            <a:off x="1258920" y="566100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Капля 23"/>
          <p:cNvSpPr/>
          <p:nvPr/>
        </p:nvSpPr>
        <p:spPr>
          <a:xfrm>
            <a:off x="2195640" y="6072120"/>
            <a:ext cx="78552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Капля 23"/>
          <p:cNvSpPr/>
          <p:nvPr/>
        </p:nvSpPr>
        <p:spPr>
          <a:xfrm>
            <a:off x="3348000" y="566100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Капля 23"/>
          <p:cNvSpPr/>
          <p:nvPr/>
        </p:nvSpPr>
        <p:spPr>
          <a:xfrm>
            <a:off x="4284720" y="607212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Капля 23"/>
          <p:cNvSpPr/>
          <p:nvPr/>
        </p:nvSpPr>
        <p:spPr>
          <a:xfrm>
            <a:off x="5292720" y="544500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Капля 23"/>
          <p:cNvSpPr/>
          <p:nvPr/>
        </p:nvSpPr>
        <p:spPr>
          <a:xfrm>
            <a:off x="6012000" y="6072120"/>
            <a:ext cx="78552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Капля 23"/>
          <p:cNvSpPr/>
          <p:nvPr/>
        </p:nvSpPr>
        <p:spPr>
          <a:xfrm>
            <a:off x="6804000" y="530064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Капля 23"/>
          <p:cNvSpPr/>
          <p:nvPr/>
        </p:nvSpPr>
        <p:spPr>
          <a:xfrm>
            <a:off x="7380360" y="607212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Капля 23"/>
          <p:cNvSpPr/>
          <p:nvPr/>
        </p:nvSpPr>
        <p:spPr>
          <a:xfrm>
            <a:off x="8072280" y="5286240"/>
            <a:ext cx="957600" cy="87336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Группа 17"/>
          <p:cNvGrpSpPr/>
          <p:nvPr/>
        </p:nvGrpSpPr>
        <p:grpSpPr>
          <a:xfrm>
            <a:off x="5940360" y="692280"/>
            <a:ext cx="2519280" cy="1224000"/>
            <a:chOff x="5940360" y="692280"/>
            <a:chExt cx="2519280" cy="1224000"/>
          </a:xfrm>
        </p:grpSpPr>
        <p:sp>
          <p:nvSpPr>
            <p:cNvPr id="137" name="AutoShape 6"/>
            <p:cNvSpPr/>
            <p:nvPr/>
          </p:nvSpPr>
          <p:spPr>
            <a:xfrm>
              <a:off x="5940360" y="692280"/>
              <a:ext cx="2519280" cy="12240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6300720" y="1052640"/>
              <a:ext cx="1727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99"/>
                  </a:solidFill>
                  <a:latin typeface="Arial"/>
                </a:rPr>
                <a:t>7 - 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Управляющая кнопка: в конец 19">
            <a:hlinkClick r:id="" action="ppaction://hlinkshowjump?jump=nextslide"/>
          </p:cNvPr>
          <p:cNvSpPr/>
          <p:nvPr/>
        </p:nvSpPr>
        <p:spPr>
          <a:xfrm>
            <a:off x="0" y="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22007" y="10800"/>
                </a:moveTo>
                <a:lnTo>
                  <a:pt x="11501" y="17806"/>
                </a:lnTo>
                <a:lnTo>
                  <a:pt x="11501" y="3794"/>
                </a:lnTo>
                <a:close/>
              </a:path>
              <a:path fill="darken" w="37015" h="21600">
                <a:moveTo>
                  <a:pt x="23852" y="3794"/>
                </a:moveTo>
                <a:lnTo>
                  <a:pt x="23852" y="17806"/>
                </a:lnTo>
                <a:lnTo>
                  <a:pt x="25514" y="17806"/>
                </a:lnTo>
                <a:lnTo>
                  <a:pt x="25514" y="379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animMotion origin="layout" path="M 0 0 C -0.00243 -0.00462 -0.00591 -0.00832 -0.00816 -0.01317 C -0.00903 -0.01502 -0.00903 -0.01757 -0.00972 -0.01965 C -0.01337 -0.02936 -0.01702 -0.03791 -0.02292 -0.04578 C -0.02535 -0.05595 -0.03177 -0.06543 -0.03924 -0.06982 C -0.04236 -0.07167 -0.04913 -0.07422 -0.04913 -0.07422 C -0.05764 -0.08185 -0.0665 -0.08739 -0.07691 -0.08739 E">
                                      <p:cBhvr>
                                        <p:cTn id="359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1:49:17Z</dcterms:created>
  <dc:creator>SamLab.ws</dc:creator>
  <dc:description/>
  <dc:language>en-US</dc:language>
  <cp:lastModifiedBy>Нина</cp:lastModifiedBy>
  <dcterms:modified xsi:type="dcterms:W3CDTF">2020-04-26T13:59:35Z</dcterms:modified>
  <cp:revision>1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02c0000000000010290310207f7000400038000</vt:lpwstr>
  </property>
</Properties>
</file>