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F01-070F-4C04-9309-4CE0D51A17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F193-0640-4015-B3D0-159253654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бальные способы педагогического взаимодействия могут быть выражены в технике «Я – сообщения», где Вы отражаете Ваши чувства, на событи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-со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ыч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т человека в оборонительную позицию, у него подсознательно возникает ощущение, что на него нападают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есмотря на легкость и понятность для профессионалов данной техники, очень легко допустить погрешности и уже «Я – сообщение» может превратиться в сильнейший конфликтоген для род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ушайте, пожалуйста, пример высказывания педагога родителю, напишите в чате, как еще можно построить высказывание с матерью мальчика по поводу опозданий: «Когда Вы приводите Матвея поздно, когда уже идет занятие, меня беспокоит то, что другие дети начинают отвлекаться, Матвею сложно включиться в процесс, занятие каждый раз находится под угрозой срыва!» Я предпочла бы, чтобы Матвей приходил вовремя к 8:00 в детский сад. Если Вы продолжите опаздывать, Ваш сын ничему не научится к школе, у Вас будут проблемы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BEDD-7129-4C84-811D-92B62D3D4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: где должна происходить беседа и в какое время (условия), как и с помощью каких «Я-сообщений» начать обсуждение заявленных ситуаций. Возникают ли и какие сложности в построении беседы, в решении данных ситуац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BA1-E73A-4CB6-BA2A-726F65311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ж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Что было труднее — сочинять свою фразу или повторять чужую?» Иногда половина участников говорит — сочинять, а другая половина — повторять. Однако чаще участники признают, что повторять сложнее, когда ты сконцентрирован на том, что будешь говорить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вод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ы слишком занят своими мыслями, ты не всегда в состоянии повторить сказанное собеседник. И собеседник может эту ситуацию истолковать, как нежелание с ним общаться или обсуждать что-то важ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5967-F54B-47D8-B52D-B72F579FD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читаем, что самое главное для педагога – это его психологическое благополучие, высокий уровень самосознания и уверенного поведения в своей педагогической деятельности. Каждый из нас уникален как человек, как специалист. Развитие социального интеллекта является своеобразным ресурсом для профилактики конфликтов между участниками педагогического процесса, профилактики профессионального (эмоционального выгорания), а также повышения эффективности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665-CF93-425F-A8FD-9B53138CB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е выступления хотелось бы прочитать знаменитые слова Ф.Перлза. Он очень мудро отметил о значимости личных границ и зоны ответственности за наше взаимодействие с людьми, о наших ожидания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922-C792-42E8-9C62-3371BACAD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Общение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основа педагогической деятельности. </a:t>
            </a:r>
            <a:r>
              <a:rPr b="0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новные коммуникативные задачи говорящего были определены еще Цицероном: </a:t>
            </a:r>
            <a:br>
              <a:rPr sz="1100"/>
            </a:b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сказать, где сказать и как сказать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 общительность  - качество человека, педагога, которое значительно облегчает процесс общения, так как общительный человек испытывает удовольствие от процесса общения, имеет потребность находиться в обществе, способен к эмпатии, сочувствию к другим людям и способен понять другого за счет процесса идентификации, «побывать в чужой шкуре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асто даже среди педагогов встречаются внешне общительные люди, но у которых притуплено чувство эмпатии или им очень тяжело перенести себя в мир другого человека. Это может быть связано, как с индивидуальными особенностями личности, так и являться симптомом профессионального (эмоционального) выгорания, что значительно затрудняет осуществление бесконфликтного обще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9900"/>
                </a:solidFill>
                <a:latin typeface="Calibri"/>
              </a:rPr>
              <a:t>Препятствия во взаимодействии педагога и родителя (законного представителя)/члена семьи воспитанни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еотипы (стереотипное мышление как относительно педагога, так и по отношению к родителям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игидность мышле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зкий круг используемых стратегий в поведен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сутствие заинтересованности сторон в общении (уставший педагог, уставший родитель и все хотят домой и никому не нужны разборки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моциональное неблагополучие (эмоциональное выгорание как педагога, так и родител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сутствие возможности выразить негативные переживания «безопасным», приемлемым способом (негативные переживания, накопившиеся за день, которые не могут бесконечно сдерживаться, рано или поздно выражаются в вербальной агрессии явной или пассивной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C96F-A659-4ECC-ABF4-4909E6D00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едлагаем Вашему вниманию короткий тест: «На сколько Вы общительный челов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Вашему вниманию предлагается экспресс-тест самооценки уровня общительности. Прочитайте каждое утверждение и оцените, на сколько развито это качества у Вас по школе: низкий, средний, выше среднего и высокий. Старайтесь отвечать себе честно, эта информация остается только для Вас и мы ей не обмениваемся в ч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0C55-136F-4C46-8C6B-2F89ED252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му вниманию представлена интерпретация теста. Найдите себя. Узнаете ли Вы в этом себя или тест был ошибочным? Хотелось бы Вам развить какие-то качества? Чего еще не хватает или в избытке для комфортного, эффективного, бесконфликтного об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навыка рефлексии, если трудно оценить себя самостоятельно или проверить, на сколько Ваше самовос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внешним проявлениям, как Вас воспринимают окружающие, попросите своего коллегу, которому Вы доверяете оценить себя по данной шкале и сравните результа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F04-08A2-4A28-871A-D3A3DD860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иен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 условиях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усматривает изучение особенностей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реды и учет собственного эмоционального состояния, а также состояния собеседника. Если вы увидели, что собеседник, скажем, возбужденный, сначала надо помочь ему успокоиться, иначе он вас не пойм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содержания своего общения, человек представляет себе, что именно скаж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умная аргументация при деловом общении является возможной и перспективной до тех пор, пока эмоции партнеров не превысили некоторой критической для данной деловой ситуации точки. А неверное подобранные слова в общении с родителем могут спровоцировать обострение зреющего конфли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находить адекватные интонацию, слова, жесты поможет Вам более точно донести Вашу мысль. Ведь как мы знаем, одной фразой с разной интонаций можно как похвалить, так и поругать. Слова могут быть восприняты, как насмешка, издевка, сарказм и спровоцирова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братной связи способствует снижению эмоционального напряжения, повышению доверия между участниками общения, способствует достижению договорен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44CB-D114-497E-87F9-148A77F7B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 в своей работе имеет дело с большими объемами информации, контактов и общения. Стиль педагогического общения педагога может быть у каждого свой, но стоит придерживаться основных правил уважительного делового общения, которые помогут сделать общение более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айте родителям информацию порционно, не стоит выкладывать им за одну встречу все, что у Вас накипело. Определите конкретную цель и тематику беседы, наиболее актуальную в данный мо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должна быть «качественной», что это значит?.. Отделяем факты от нашей интерпретации. Говорим только о том, что сами видели, слышали от ребенка. Если Ваши аргументы основаны только на Вашем негодовании, жалобах других детей, но сами Вы не видели саму ситуацию, то подобный разговор с родителем может зайти в туп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ечевого этикета, уважение к собеседнику – одно из главных правил. Возможно, что мы повторяем уже заученно, но несмотря, что кажется это само собой разумеющимся, все равно от разных педагогов в различных ситуациях я все равно слышу грубости и просторечные, неподобающие слова в общении педагогов с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A15-A400-4A80-A54F-071A4899D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Вам предлагается потренировать паравербальные способы взаимодействия (тон, интонацию, тембр, громкость голоса, темп). Попробуйте сказать фразу: «Я очень рад Вас видеть», меня паравербальные характеристики Вашей речи 10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879-A742-4C14-836E-0B464EAF9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1C2-6E12-4729-8180-2B9B1F59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9C9-30E4-43AA-8E31-F5170C73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A63-465F-4E40-827D-E2AEC6FC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95C-5C22-478E-BB6E-FCA92884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F5E-B5A0-4085-90AC-8AE76D11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170-F16D-432A-8E1D-F15AB85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056-54FF-43BE-A29A-47A966D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B9D0-C89C-4E27-935C-07F1EA5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FFF4-5544-431E-9C5A-E92581E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B5B-281C-44CB-84D9-2224798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B75-7C54-4FFA-9E31-D10DBA5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2B2-19D3-4077-A31E-254C2ABF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539-F702-4EF3-8309-8406980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1DD-1FA6-46B1-8CBF-BB28938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C6EB-2E1E-4BEE-9947-975D57AF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0C70-9A28-42D3-B651-E6B692B9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8E37-4BAF-4CD5-959E-128BDCD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B312-A743-4B95-945B-0656EF7E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C3B8-84BC-4D23-A853-A9BAA52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9D09-5C8D-4D12-B651-C810F99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A562-7A92-41B6-855F-A271E15C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8964-D326-46AC-A01A-DC26F8D0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21B-3452-4DE5-BC02-23B1C17B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C06E-4479-4F88-9AC2-34F6CC9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E854-FAC5-47E2-A8FE-428B2DB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824F-4F81-4C01-A163-FB39751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31C9-217D-4D0E-AB63-C04048C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E12B-B44B-45F7-89CD-730D6530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0FC1-0E35-4379-B9CE-42AA3C29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6019-7619-4831-85AA-BDE0D4FB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B1E5-3C18-4274-B658-E521F43F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145F-9934-494B-B121-9A06917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15E0-C96A-471F-B3B2-BD90901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5A8-E5C7-4A7B-99DE-D96DC0DF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79C4-A675-44CB-B94B-E9C49E87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231A-60E8-454E-9CFE-1A36167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27015-A011-4977-8F9E-5672351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6194-0EF9-490E-9438-E0FDB30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BCE8-DD51-4CE6-AE88-C367782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169C-89BB-4446-900D-3D5EE7A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F201-B929-47AA-A2A5-204086E8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95E4-29D4-40B6-91E2-0B4B625D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337F-1416-4A52-B1B9-0DF10F32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4C63-E596-4AE1-A14C-251E46FF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948-F254-4355-A010-EE06076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2836-D914-4D9B-9800-0D5E912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1709-294A-40E9-80DB-B3EA5C96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DC8A-111A-4F8D-BBF6-385B9023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E471-893B-4FAA-928C-2A01337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F7BA-48D1-470E-8577-C190686A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D040-B126-41DC-A7C8-B63FD16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FBE7-0FF8-4E3A-B6EA-24AFB0C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2124-CA32-48F9-97C9-9A6168E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4B4C0-E8F9-4280-A32A-136927E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0362-2760-46B0-9F58-267BA65D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FE2-69AD-449E-B3E8-C8D88F3F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45754-A3DC-4EF1-9703-E2A05379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2307-E0AD-4FFA-903D-EF1C3E50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FD0B-58A6-423B-8C82-D817646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EF27-433F-4E15-8DC8-950F58F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B3B6-636F-4BDA-B7F2-DD4C4FC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E77E-7C38-41AA-ACA5-E413B9B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AC9A1-ECC9-45AA-B615-B781E39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09A3C-DF83-4DDE-BE5A-034AB84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43BC-3526-40BE-A021-F44A177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A231-773D-422A-81C8-433D34F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BB4-3869-49B0-BAEA-C6C9351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8C37-17A8-4BE9-929B-BFD0EB3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9695-16D1-4CAA-8F51-40C8183C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3707-49CF-4983-A766-9089AE6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34291-27DB-45E5-BF89-3AD265B0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2EE0E-A896-4275-B205-C68CF293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1061-72C9-4DA9-8345-086DFBF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1555-4D16-4D1E-9447-F0909E2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4524-62E1-4DEE-AA1D-E4ACB7F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2A5A-C826-4F6A-9945-DDDEA58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B73B-A6A3-4D01-95EA-D362268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52E-E937-461F-BA0E-3C6B89A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6BD82-86E9-4427-ADD2-46CEB36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194C-78CB-4C77-8AB0-E9E99DD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A577-6C9A-453E-A77D-E0664EAC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D16A-DAD4-4D1F-B146-85710F71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7A89-6FC0-4085-BD8E-2A664916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5C0-9D46-4AEB-86A8-15198D6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12F8-BADC-4763-A8D4-6A17356390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615-BABD-41F2-B90C-F6A5C2AF40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FE4-77E6-43F0-846C-01C9C74CC9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8DA4-45A9-4449-A0DD-C3BED9905A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7E1B-EFB5-41A7-8241-203BA9C472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5D4A-1261-4820-9C7E-819267B62E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7ED6-6BE6-457D-8059-36AA3C8BFE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61722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Эффективная коммуникация в педагогической деятельности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Бесконфликтный стиль обще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268360" y="3860640"/>
            <a:ext cx="6429600" cy="2517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ДОУ детский сад № 92 города Тюмен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Фицай Э.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ДОУ Детский сад № 100 города Тюмен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 Силиверстова Е.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9707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72314"/>
                </a:solidFill>
                <a:uFillTx/>
                <a:latin typeface="Corbel"/>
              </a:rPr>
              <a:t>приемы установления хорошего контакта с собеседником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9040" y="1149120"/>
            <a:ext cx="83469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оброжелательны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внимательны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згляд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контакт глаз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ть по ходу разговор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крытые жест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не скрещивать перед собой руки, ног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м своим видо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ддерживать состояние безопасности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комфорта (спокойная поза, плавные движения, взгляд прямой, мягкая, спокойная интонация в голосе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ть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ем присоедин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найти общее «Я»: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Я сам такой же,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 меня то же самое!»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 можно реже употреблять местоимение «Вы…» 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аще говорить; «Мы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«Мы все заинтересован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чтобы наши дети были здоровы, умели…, знали…!», «Нас всех беспокоит, что дети…», «Наши дет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…», «Нас объединяет общее дело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это воспитание наших с вами детей!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67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Техника «Я-сообщение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Объект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9240" cy="512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467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314"/>
                </a:solidFill>
                <a:uFillTx/>
                <a:latin typeface="Corbel"/>
              </a:rPr>
              <a:t>Решение педагогических ситуаций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50920" y="1052640"/>
            <a:ext cx="84247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жалуется воспитателю, что ее ребенок приходит покусанный из детского сад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родители приводят явно недолеченного ребенка в детский сад без медицинской справки и требуют, чтобы вы приняли ребенка, т.к. им просто некуда деть ребенка. Вам необходимо вежливо, тактично объяснить родителям, что вы не можете принять такого ребенк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жалуется воспитателю, что ее ребенок приходит с прогулки в грязной одежд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приходит к воспитателю за советом: у нас в семье появился второй ребенок. Как помочь старшему ребенку адаптироваться к появлению малыша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34920" y="290160"/>
            <a:ext cx="519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572314"/>
                </a:solidFill>
                <a:uFillTx/>
                <a:latin typeface="Corbel"/>
              </a:rPr>
              <a:t>Упражнение «Детектив»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052280"/>
            <a:ext cx="8147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«Предлагаю всем сыграть в детектив.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Каждый из нас будет автором этого детектива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Я придумываю первую фразу, например: «Рано утром мисс Марпл услышала телефонный звонок». И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передаю микрофон одному из участников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еперь он будет продолжать сочинять наш детектив. Но, прежде чем произнести следующую фразу, необходимо точно повторить то, что сказала я.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Следующий человек должен будет сначала повторить то, что сказал предыдущий, а потом произнести свою фразу, и т. д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так, прежде чем вносить свой вклад в совместное творчество, мы сначала повторяем то, что сказал предыдущий «автор». Есть ли какие-нибудь вопросы? Начинаем.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2590920"/>
          </a:xfrm>
          <a:prstGeom prst="rect">
            <a:avLst/>
          </a:prstGeom>
          <a:gradFill rotWithShape="0">
            <a:gsLst>
              <a:gs pos="0">
                <a:srgbClr val="3891a7">
                  <a:alpha val="40000"/>
                </a:srgbClr>
              </a:gs>
              <a:gs pos="50000">
                <a:srgbClr val="ffffff"/>
              </a:gs>
              <a:gs pos="100000">
                <a:srgbClr val="3891a7">
                  <a:alpha val="40000"/>
                </a:srgbClr>
              </a:gs>
            </a:gsLst>
            <a:lin ang="2700000"/>
          </a:gra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Уверенность и спокойствие</a:t>
            </a: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 в коммуникативном (речевом) поведении педагога в различных ситуациях профессионального общения – </a:t>
            </a: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важное условие плодотворного сотрудничества и успешного взаимодействия.</a:t>
            </a: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232160" y="31338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85560" y="5000400"/>
            <a:ext cx="6329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57160" y="285480"/>
            <a:ext cx="74678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Я живу в этом мире не для того, чтобы соответствовать твоим ожидан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И ты живешь в этом мире не для того, чтобы соответствовать моим ожидан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Ты – это 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А я – это 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И если нам случилось встретить друг друга – это прекрас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Если нет, то ничего не поделаеш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27130e"/>
                </a:solidFill>
                <a:latin typeface="Corbel"/>
              </a:rPr>
              <a:t>Уважаемые коллеги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331640" y="1268280"/>
            <a:ext cx="7499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тключите звук вашего микрофо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Пройдите регистрацию в чат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ФИО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бразовательное учрежден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должность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адрес электронной поч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бщение проходит через чат до дополнительных инструкций организатор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В случае согласия знак «+», в случае отказа знак «-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880" y="2133360"/>
            <a:ext cx="8075520" cy="1136520"/>
          </a:xfrm>
          <a:prstGeom prst="rect">
            <a:avLst/>
          </a:prstGeom>
          <a:solidFill>
            <a:srgbClr val="ffcc99">
              <a:alpha val="20000"/>
            </a:srgbClr>
          </a:soli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тельность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устойчивое стремление к контактам с людьми, умение быстро установить контакты.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57080" y="3573000"/>
            <a:ext cx="8002800" cy="309564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ключает в себ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оммуникабель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способность испытывать удовольствие от процесса общен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оциальное родств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желание находиться в обществе, среди других люде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ьтруистические тенденции –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эмпатию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как способность к сочувствию, сопереживани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идентификацию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как умение переносить себя в мир друг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395280" y="189000"/>
            <a:ext cx="8497800" cy="16178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жный, многогранный процесс установл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контактов между людь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мый потребностями совместной деятель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реализации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57120" y="214200"/>
          <a:ext cx="8258400" cy="6278760"/>
        </p:xfrm>
        <a:graphic>
          <a:graphicData uri="http://schemas.openxmlformats.org/drawingml/2006/table">
            <a:tbl>
              <a:tblPr/>
              <a:tblGrid>
                <a:gridCol w="428760"/>
                <a:gridCol w="3570120"/>
                <a:gridCol w="936720"/>
                <a:gridCol w="1079640"/>
                <a:gridCol w="1152360"/>
                <a:gridCol w="10908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ара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ыше средн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эмпатии, сопережи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рефлек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епень общи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ибкость личности в мышлении, пове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сотрудничест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моциональная привлека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оказанию влияния на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организации какого-либо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  передач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зультаты анкетиров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1280" y="764640"/>
            <a:ext cx="828648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4-16 баллов - Низкий уровень общ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 эти педагоги неразговорчивы и замкнуты, предпочитают одиночеств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17-24 балла - Средний уровень общительности,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.е. достаточно общительны и в незнакомой обстановке чувствуют себя вполне уверенно, хотя с новыми людьми сходятся с оглядкой и в диспутах участвуют неохот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5-32 балла - Общительность выше среднего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для этих педагогов характерна нормальная коммуникабельность: они любознательны, охотно слушают интересного собеседника, достаточно терпеливы в общении с другими, отстаивают свою точку зрения без вспыльчивости; без неприятных переживаний идут на встречу с новыми людь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33-40 баллов - Высокий уровень общ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 они весьма общительны, любопытны, разговорчивы; любят высказываться по разным вопросам, охотно знакомятся с новыми людьми; любят быть в центре внимания, могут вспылить, но быстро успокаиваю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7467480" cy="114300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Corbel"/>
              </a:rPr>
              <a:t>4 группы </a:t>
            </a:r>
            <a:br>
              <a:rPr sz="3200"/>
            </a:br>
            <a:r>
              <a:rPr b="1" lang="ru-RU" sz="3200" spc="-1" strike="noStrike">
                <a:solidFill>
                  <a:srgbClr val="669900"/>
                </a:solidFill>
                <a:latin typeface="Corbel"/>
              </a:rPr>
              <a:t>коммуникативных уме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6560" y="3212640"/>
            <a:ext cx="8075880" cy="331308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dc765"/>
                </a:solidFill>
                <a:latin typeface="Corbel"/>
              </a:rPr>
              <a:t>-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умения быстро и правильно ориентироваться в условиях внешней ситуации общ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 умения правильно планировать свою речь, т.е. содержание акта общ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 умения находить адекватные средства для передачи этого содержания (верный тон, нужные слова и т.д.)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умения обеспечивать обратную связ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6748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70c0"/>
                </a:solidFill>
                <a:latin typeface="Corbel"/>
              </a:rPr>
              <a:t>Профилактика конфликта </a:t>
            </a:r>
            <a:r>
              <a:rPr b="1" i="1" lang="ru-RU" sz="2900" spc="-1" strike="noStrike">
                <a:solidFill>
                  <a:srgbClr val="002060"/>
                </a:solidFill>
                <a:latin typeface="Corbel"/>
              </a:rPr>
              <a:t>– повышение социально-психологических компетенций педагога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gradFill rotWithShape="0">
            <a:gsLst>
              <a:gs pos="0">
                <a:srgbClr val="3891a7">
                  <a:alpha val="46274"/>
                </a:srgbClr>
              </a:gs>
              <a:gs pos="50000">
                <a:srgbClr val="ffffff"/>
              </a:gs>
              <a:gs pos="100000">
                <a:srgbClr val="3891a7">
                  <a:alpha val="46274"/>
                </a:srgbClr>
              </a:gs>
            </a:gsLst>
            <a:lin ang="2700000"/>
          </a:gra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Corbel"/>
              </a:rPr>
              <a:t>Основные правила уважительного делового общ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6560" y="1628640"/>
            <a:ext cx="8075880" cy="478152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оличество информации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сообщается столько информации, сколько требуется для данной цели общения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ачество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(она должна быть правдивой, истинной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уще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(говорить о важном для данной ситуации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ежливость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соблюдать правила речевого этикет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5"/>
          <p:cNvSpPr/>
          <p:nvPr/>
        </p:nvSpPr>
        <p:spPr>
          <a:xfrm>
            <a:off x="1071720" y="357120"/>
            <a:ext cx="720072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5857920" y="1785960"/>
            <a:ext cx="2714760" cy="2232000"/>
          </a:xfrm>
          <a:prstGeom prst="upArrowCallout">
            <a:avLst>
              <a:gd name="adj1" fmla="val 44365"/>
              <a:gd name="adj2" fmla="val 44366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357120" y="1785960"/>
            <a:ext cx="2786040" cy="2232000"/>
          </a:xfrm>
          <a:prstGeom prst="upArrowCallout">
            <a:avLst>
              <a:gd name="adj1" fmla="val 44362"/>
              <a:gd name="adj2" fmla="val 44364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2500200" y="3143160"/>
            <a:ext cx="3961080" cy="2232000"/>
          </a:xfrm>
          <a:prstGeom prst="upArrowCallout">
            <a:avLst>
              <a:gd name="adj1" fmla="val 44371"/>
              <a:gd name="adj2" fmla="val 44367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ила построения эффективного общ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128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снова отношения к нам человека закладывается в первые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15 секунд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еобходима искренняя, доброжелательная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улыб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! Демонстрация готовности общаться с собеседником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Имя челове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– это самый сладостный и самый важный для него звук на любом языке. Важно использовать имя и отчество при приветствии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общении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наиболее применим косвенный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комплимент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: мы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хвалим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не самого человека, а то, что ему дорого, -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его ребен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облюдение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умеренной дистанц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удобное расположение (от 50 см до 1,5 м). Убрать барьеры, «увеличивающие»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расстояние в нашем восприятии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в общении (стол, книга, лист бумаги в руках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8:44:54Z</dcterms:created>
  <dc:creator>Admin</dc:creator>
  <dc:description/>
  <dc:language>en-US</dc:language>
  <cp:lastModifiedBy>User</cp:lastModifiedBy>
  <dcterms:modified xsi:type="dcterms:W3CDTF">2021-04-08T05:15:02Z</dcterms:modified>
  <cp:revision>154</cp:revision>
  <dc:subject/>
  <dc:title>Культура педагога – условие успешной профессиональной деятельности</dc:title>
</cp:coreProperties>
</file>