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1BB8-D946-449B-9707-A85A0E6402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733B-48BC-4F89-9B3E-11AA21DD4D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бальные способы педагогического взаимодействия могут быть выражены в технике «Я – сообщения», где Вы отражаете Ваши чувства, на событие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-сооб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ычно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вят человека в оборонительную позицию, у него подсознательно возникает ощущение, что на него нападают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Несмотря на легкость и понятность для профессионалов данной техники, очень легко допустить погрешности и уже «Я – сообщение» может превратиться в сильнейший конфликтоген для род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ушайте, пожалуйста, пример высказывания педагога родителю, напишите в чате, как еще можно построить высказывание с матерью мальчика по поводу опозданий: «Когда Вы приводите Матвея поздно, когда уже идет занятие, меня беспокоит то, что другие дети начинают отвлекаться, Матвею сложно включиться в процесс, занятие каждый раз находится под угрозой срыва!» Я предпочла бы, чтобы Матвей приходил вовремя к 8:00 в детский сад. Если Вы продолжите опаздывать, Ваш сын ничему не научится к школе, у Вас будут проблемы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290E-B5DE-47D1-B1BE-C2A1F60E34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ение: где должна происходить беседа и в какое время (условия), как и с помощью каких «Я-сообщений» начать обсуждение заявленных ситуаций. Возникают ли и какие сложности в построении беседы, в решении данных ситуац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8631-053A-4910-B198-D22A67904D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суж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«Что было труднее — сочинять свою фразу или повторять чужую?» Иногда половина участников говорит — сочинять, а другая половина — повторять. Однако чаще участники признают, что повторять сложнее, когда ты сконцентрирован на том, что будешь говорить 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вод.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ы слишком занят своими мыслями, ты не всегда в состоянии повторить сказанное собеседник. И собеседник может эту ситуацию истолковать, как нежелание с ним общаться или обсуждать что-то важ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7EE3-65DC-43C7-8A14-3893D5163F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считаем, что самое главное для педагога – это его психологическое благополучие, высокий уровень самосознания и уверенного поведения в своей педагогической деятельности. Каждый из нас уникален как человек, как специалист. Развитие социального интеллекта является своеобразным ресурсом для профилактики конфликтов между участниками педагогического процесса, профилактики профессионального (эмоционального выгорания), а также повышения эффективности профессиональной деятельност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9EDA-CCDA-489C-9129-66E6CEC29D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лючение выступления хотелось бы прочитать знаменитые слова Ф.Перлза. Он очень мудро отметил о значимости личных границ и зоны ответственности за наше взаимодействие с людьми, о наших ожиданиях от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7819-402A-44BD-B883-CE9DF004D9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Общение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основа педагогической деятельности. </a:t>
            </a:r>
            <a:r>
              <a:rPr b="0" lang="ru-RU" sz="1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сновные коммуникативные задачи говорящего были определены еще Цицероном: </a:t>
            </a:r>
            <a:br>
              <a:rPr sz="1100"/>
            </a:b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что сказать, где сказать и как сказать»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 общительность  - качество человека, педагога, которое значительно облегчает процесс общения, так как общительный человек испытывает удовольствие от процесса общения, имеет потребность находиться в обществе, способен к эмпатии, сочувствию к другим людям и способен понять другого за счет процесса идентификации, «побывать в чужой шкуре»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Часто даже среди педагогов встречаются внешне общительные люди, но у которых притуплено чувство эмпатии или им очень тяжело перенести себя в мир другого человека. Это может быть связано, как с индивидуальными особенностями личности, так и являться симптомом профессионального (эмоционального) выгорания, что значительно затрудняет осуществление бесконфликтного общен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9900"/>
                </a:solidFill>
                <a:latin typeface="Calibri"/>
              </a:rPr>
              <a:t>Препятствия во взаимодействии педагога и родителя (законного представителя)/члена семьи воспитанник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еотипы (стереотипное мышление как относительно педагога, так и по отношению к родителям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игидность мышления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зкий круг используемых стратегий в поведении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сутствие заинтересованности сторон в общении (уставший педагог, уставший родитель и все хотят домой и никому не нужны разборки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моциональное неблагополучие (эмоциональное выгорание как педагога, так и родителя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сутствие возможности выразить негативные переживания «безопасным», приемлемым способом (негативные переживания, накопившиеся за день, которые не могут бесконечно сдерживаться, рано или поздно выражаются в вербальной агрессии явной или пассивной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4552-6593-4D14-A3F3-B255FDF52F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предлагаем Вашему вниманию короткий тест: «На сколько Вы общительный челов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: Вашему вниманию предлагается экспресс-тест самооценки уровня общительности. Прочитайте каждое утверждение и оцените, на сколько развито это качества у Вас по школе: низкий, средний, выше среднего и высокий. Старайтесь отвечать себе честно, эта информация остается только для Вас и мы ей не обмениваемся в ча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68A8-E9CB-4ED2-86CC-FFF79B35FE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ему вниманию представлена интерпретация теста. Найдите себя. Узнаете ли Вы в этом себя или тест был ошибочным? Хотелось бы Вам развить какие-то качества? Чего еще не хватает или в избытке для комфортного, эффективного, бесконфликтного общ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вития навыка рефлексии, если трудно оценить себя самостоятельно или проверить, на сколько Ваше самовоспри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ует внешним проявлениям, как Вас воспринимают окружающие, попросите своего коллегу, которому Вы доверяете оценить себя по данной шкале и сравните результа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1F0B-1CD4-4903-852F-DCE48D12E3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иен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 условиях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усматривает изучение особенностей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реды и учет собственного эмоционального состояния, а также состояния собеседника. Если вы увидели, что собеседник, скажем, возбужденный, сначала надо помочь ему успокоиться, иначе он вас не пойм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содержания своего общения, человек представляет себе, что именно скаж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умная аргументация при деловом общении является возможной и перспективной до тех пор, пока эмоции партнеров не превысили некоторой критической для данной деловой ситуации точки. А неверное подобранные слова в общении с родителем могут спровоцировать обострение зреющего конфли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е находить адекватные интонацию, слова, жесты поможет Вам более точно донести Вашу мысль. Ведь как мы знаем, одной фразой с разной интонаций можно как похвалить, так и поругать. Слова могут быть восприняты, как насмешка, издевка, сарказм и спровоцировать конфл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обратной связи способствует снижению эмоционального напряжения, повышению доверия между участниками общения, способствует достижению договорен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CB09-B2E6-4343-A27C-F5A2AEC44C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 в своей работе имеет дело с большими объемами информации, контактов и общения. Стиль педагогического общения педагога может быть у каждого свой, но стоит придерживаться основных правил уважительного делового общения, которые помогут сделать общение более эффекти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айте родителям информацию порционно, не стоит выкладывать им за одну встречу все, что у Вас накипело. Определите конкретную цель и тематику беседы, наиболее актуальную в данный момен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должна быть «качественной», что это значит?.. Отделяем факты от нашей интерпретации. Говорим только о том, что сами видели, слышали от ребенка. Если Ваши аргументы основаны только на Вашем негодовании, жалобах других детей, но сами Вы не видели саму ситуацию, то подобный разговор с родителем может зайти в туп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ечевого этикета, уважение к собеседнику – одно из главных правил. Возможно, что мы повторяем уже заученно, но несмотря, что кажется это само собой разумеющимся, все равно от разных педагогов в различных ситуациях я все равно слышу грубости и просторечные, неподобающие слова в общении педагогов с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2F8B-D004-4193-8F11-6D6DEBB4A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Вам предлагается потренировать паравербальные способы взаимодействия (тон, интонацию, тембр, громкость голоса, темп). Попробуйте сказать фразу: «Я очень рад Вас видеть», меня паравербальные характеристики Вашей речи 10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890C-9B5F-4CD4-876D-0833156C97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857B-5736-40F6-919D-34CD0AA3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F6BB-04D5-43C2-AFE1-2E2CFAD4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B8D0-9BAA-4FBD-A440-DF1DDF41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8BB-1C6A-4725-BE64-1282CFB3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7A5D-54B3-4EFB-BF1E-48C049D2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9CD7-CC7A-4A52-8BC7-5A759E32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1213-9833-4AD8-BD45-A20FB8F8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DB9E-EBBA-49BC-A96F-ED83062E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D659-5F4C-42E4-BFC0-D2D4C383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1F07-A185-49A9-B8D7-AD1D890B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D839-5334-4C2E-AC18-82B628AD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98C-35F2-4F63-9846-39180EE2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3877-3A7F-406E-A86A-D6CD80FD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EE83-E7BE-4677-B0F5-1CD6EBBC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F5F6-737F-4F35-8EEB-E67AA287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C684-1C1A-41AE-ADFB-7CAD70C8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0C68-E963-40A0-BFA3-96CF3B68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EE885-B150-4299-AB8F-5A3D4C5A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79EC6-4E97-4B3B-8D56-10658C94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F6832-B8A8-47AB-BB04-4B93777A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6C63E-DB13-4DD4-8D8B-AE53323D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6C818-AE07-4E9F-9AF2-E85F4399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749-8DB9-4AE0-9B13-4BD0B999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66B92-3A3B-4005-A319-2145808C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3D281-D090-4F9C-8E77-95156C41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C8607-6D97-4AE4-A13F-4C046C20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987AC-3A5D-48B1-88E6-36AF5551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349D2-776B-495B-8CC7-F12ADAF5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1A883-2488-40A6-AC58-88214AAB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56DD4-918E-4BA2-BAB6-C5784202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1AFF0-80BA-4131-86A8-89927311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6C79A-3719-4575-AEFB-C8F1D341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8DFB7-C5EC-4148-97A1-DA768EFC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BE41-D9E6-4EF9-B97F-39759B26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218F6-6B9F-45D6-B524-9D7E0210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ACF4F-AB37-4BC8-820C-2F2BBA9E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61F22-13EA-40D2-8265-0DC6D9C9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ACE79-AC3D-4124-88D4-C0E6A100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21F08-ACBE-446D-B60D-638B5A9B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05BC0-9AFC-42DB-8627-A92BF20E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0BC97-62ED-4EF1-B53B-C43E5892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C1E5B-76B3-4714-B490-B8A1B9DD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82422-F728-4B3D-A11E-7AECD5EE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CB67D-B650-446D-9085-362A2F0A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CAB2-9D9B-4AD9-9DDA-AAC8F7DF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A6B13-E2B5-4948-B2B0-638117D6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0648E-1780-42EC-B1E9-9154D218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372CD-D2B9-4F62-B245-762B26E6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17327-D629-44F1-8719-6924A944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8C26A-635C-4490-83E2-F2F2EDBB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07DDC-3EF2-4619-BC44-C01C5B63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73E43-3DF0-4D29-BF9D-27731036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84BF8-A03A-403F-BB3C-79A75C72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094C1-D749-4CDB-BE90-50589E6C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08609-2871-4687-AB24-C5814829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970-B658-4FC0-BC21-D458D7F4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03A6D-6CF6-4415-AA4B-C897801A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0E91D-93F4-44C0-A324-5D44225E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59343-E250-417D-A404-7DB63FF0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77CAC-BDAF-4009-B8DA-9CCC8767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778B8-F5A1-471E-9D1E-FCF1D9D6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C1F9F-2571-49CB-BACE-3676980A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91A6F-BE80-403C-AA0D-1C9E3E41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084E2-3541-42CF-ABF4-D3E9BD51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BF82C-5E74-4145-AE41-030FC619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D6784-FA61-4E40-B20D-C3578A12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B71-7937-4BED-9691-8BD63BE3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810F5-64D3-4BFD-A46F-A8E33F5C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B0246-3132-4CF1-A856-FD566779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0496A-446A-483A-8F3C-77F76319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B45EC-694A-42CB-90F8-355D2935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035A3-8557-43BF-BD8F-934E60ED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A7F4B-3A9F-460B-9103-73EEA0E3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1C31E-06DF-49F0-A8AE-5A2870A5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4D09B-6342-4001-B3BF-62374E32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6F542-B538-49AF-A09F-3B101D39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2A040-1EAD-4371-9757-8A3020EB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27B-B4DF-4ACA-BCC6-A837B52D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EF11B-5151-463C-BDF6-90981B54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F0649-9486-4BC1-A1E2-863DB888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26C0F-7E98-4881-BDDB-41509BCD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688BD-504E-4F11-A064-68357681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E0715-23BA-4DCD-A53C-72925613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C0D4-2602-475C-B31F-A6564722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5A6C-56CA-4354-A9E9-86B39E1AC01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E124-7C0F-4031-BFBE-2EEEA05BB4B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35F7-F484-4B47-953C-9212ADF149C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014D-8002-48D1-91D0-9E2CA2ADBB1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FF01-7C77-4910-8492-59972CFED67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A3E1-8873-4AD6-89CC-663D8AE3D76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2C99-4E16-4633-95A8-041C35ED37D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63280" y="620280"/>
            <a:ext cx="61722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Эффективная коммуникация в педагогической деятельности.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Бесконфликтный стиль общения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268360" y="3860640"/>
            <a:ext cx="6429600" cy="2517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АДОУ детский сад № 92 города Тюмен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       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едагог-психолог Фицай Э.Н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АДОУ Детский сад № 100 города Тюмен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                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едагог-психолог  Силиверстова Е.В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9707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572314"/>
                </a:solidFill>
                <a:uFillTx/>
                <a:latin typeface="Corbel"/>
              </a:rPr>
              <a:t>приемы установления хорошего контакта с собеседником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9040" y="1149120"/>
            <a:ext cx="83469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оброжелательный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внимательный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згляд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(контакт глаз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пользовать по ходу разговор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ткрытые жесты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не скрещивать перед собой руки, ног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ем своим видом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оддерживать состояние безопасности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 комфорта (спокойная поза, плавные движения, взгляд прямой, мягкая, спокойная интонация в голосе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пользовать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рием присоединения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т.е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. найти общее «Я»: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Я сам такой же,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у меня то же самое!».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к можно реже употреблять местоимение «Вы…» .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Чаще говорить; «Мы»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«Мы все заинтересованы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чтобы наши дети были здоровы, умели…, знали…!», «Нас всех беспокоит, что дети…», «Наши дети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…», «Нас объединяет общее дело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– это воспитание наших с вами детей!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4674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Техника «Я-сообщение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9" name="Объект 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499240" cy="5127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4674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572314"/>
                </a:solidFill>
                <a:uFillTx/>
                <a:latin typeface="Corbel"/>
              </a:rPr>
              <a:t>Решение педагогических ситуаций.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50920" y="1052640"/>
            <a:ext cx="842472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мама жалуется воспитателю, что ее ребенок приходит покусанный из детского сада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родители приводят явно недолеченного ребенка в детский сад без медицинской справки и требуют, чтобы вы приняли ребенка, т.к. им просто некуда деть ребенка. Вам необходимо вежливо, тактично объяснить родителям, что вы не можете принять такого ребенка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мама жалуется воспитателю, что ее ребенок приходит с прогулки в грязной одежде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- мама приходит к воспитателю за советом: у нас в семье появился второй ребенок. Как помочь старшему ребенку адаптироваться к появлению малыша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34920" y="290160"/>
            <a:ext cx="5195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572314"/>
                </a:solidFill>
                <a:uFillTx/>
                <a:latin typeface="Corbel"/>
              </a:rPr>
              <a:t>Упражнение «Детектив».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052280"/>
            <a:ext cx="814716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«Предлагаю всем сыграть в детектив. </a:t>
            </a: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Каждый из нас будет автором этого детектива.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Я придумываю первую фразу, например: «Рано утром мисс Марпл услышала телефонный звонок». И </a:t>
            </a: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передаю микрофон одному из участников.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Теперь он будет продолжать сочинять наш детектив. Но, прежде чем произнести следующую фразу, необходимо точно повторить то, что сказала я. </a:t>
            </a:r>
            <a:r>
              <a:rPr b="1" i="1" lang="ru-RU" sz="2700" spc="-1" strike="noStrike">
                <a:solidFill>
                  <a:srgbClr val="000000"/>
                </a:solidFill>
                <a:latin typeface="Corbel"/>
              </a:rPr>
              <a:t>Следующий человек должен будет сначала повторить то, что сказал предыдущий, а потом произнести свою фразу, и т. д.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так, прежде чем вносить свой вклад в совместное творчество, мы сначала повторяем то, что сказал предыдущий «автор». Есть ли какие-нибудь вопросы? Начинаем.»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18440" cy="2590920"/>
          </a:xfrm>
          <a:prstGeom prst="rect">
            <a:avLst/>
          </a:prstGeom>
          <a:gradFill rotWithShape="0">
            <a:gsLst>
              <a:gs pos="0">
                <a:srgbClr val="3891a7">
                  <a:alpha val="40000"/>
                </a:srgbClr>
              </a:gs>
              <a:gs pos="50000">
                <a:srgbClr val="ffffff"/>
              </a:gs>
              <a:gs pos="100000">
                <a:srgbClr val="3891a7">
                  <a:alpha val="40000"/>
                </a:srgbClr>
              </a:gs>
            </a:gsLst>
            <a:lin ang="2700000"/>
          </a:gradFill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72314"/>
                </a:solidFill>
                <a:latin typeface="Corbel"/>
              </a:rPr>
              <a:t>Уверенность и спокойствие</a:t>
            </a:r>
            <a:r>
              <a:rPr b="0" lang="ru-RU" sz="2600" spc="-1" strike="noStrike">
                <a:solidFill>
                  <a:srgbClr val="572314"/>
                </a:solidFill>
                <a:latin typeface="Corbel"/>
              </a:rPr>
              <a:t> в коммуникативном (речевом) поведении педагога в различных ситуациях профессионального общения – </a:t>
            </a:r>
            <a:r>
              <a:rPr b="1" lang="ru-RU" sz="2600" spc="-1" strike="noStrike">
                <a:solidFill>
                  <a:srgbClr val="572314"/>
                </a:solidFill>
                <a:latin typeface="Corbel"/>
              </a:rPr>
              <a:t>важное условие плодотворного сотрудничества и успешного взаимодействия.</a:t>
            </a:r>
            <a:r>
              <a:rPr b="0" lang="ru-RU" sz="26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4232160" y="313380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85560" y="5000400"/>
            <a:ext cx="63291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70c0"/>
                </a:solidFill>
                <a:uFillTx/>
                <a:latin typeface="Corbel"/>
              </a:rPr>
              <a:t>Спасибо за внимание!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57160" y="285480"/>
            <a:ext cx="74678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rbel"/>
              </a:rPr>
              <a:t>Я живу в этом мире не для того, чтобы соответствовать твоим ожидания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rbel"/>
              </a:rPr>
              <a:t>И ты живешь в этом мире не для того, чтобы соответствовать моим ожидания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rbel"/>
              </a:rPr>
              <a:t>Ты – это т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rbel"/>
              </a:rPr>
              <a:t>А я – это 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rbel"/>
              </a:rPr>
              <a:t>И если нам случилось встретить друг друга – это прекрасн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rbel"/>
              </a:rPr>
              <a:t>Если нет, то ничего не поделаеш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27130e"/>
                </a:solidFill>
                <a:latin typeface="Corbel"/>
              </a:rPr>
              <a:t>Уважаемые коллеги!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331640" y="1268280"/>
            <a:ext cx="7499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4853"/>
                </a:solidFill>
                <a:latin typeface="Corbel"/>
              </a:rPr>
              <a:t>Отключите звук вашего микрофон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4853"/>
                </a:solidFill>
                <a:latin typeface="Corbel"/>
              </a:rPr>
              <a:t>Пройдите регистрацию в чате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4853"/>
                </a:solidFill>
                <a:latin typeface="Corbel"/>
              </a:rPr>
              <a:t>ФИО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4853"/>
                </a:solidFill>
                <a:latin typeface="Corbel"/>
              </a:rPr>
              <a:t>образовательное учреждение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4853"/>
                </a:solidFill>
                <a:latin typeface="Corbel"/>
              </a:rPr>
              <a:t>должность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4853"/>
                </a:solidFill>
                <a:latin typeface="Corbel"/>
              </a:rPr>
              <a:t>адрес электронной почт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4853"/>
                </a:solidFill>
                <a:latin typeface="Corbel"/>
              </a:rPr>
              <a:t>Общение проходит через чат до дополнительных инструкций организатор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4853"/>
                </a:solidFill>
                <a:latin typeface="Corbel"/>
              </a:rPr>
              <a:t>В случае согласия знак «+», в случае отказа знак «-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0880" y="2133360"/>
            <a:ext cx="8075520" cy="1136520"/>
          </a:xfrm>
          <a:prstGeom prst="rect">
            <a:avLst/>
          </a:prstGeom>
          <a:solidFill>
            <a:srgbClr val="ffcc99">
              <a:alpha val="20000"/>
            </a:srgbClr>
          </a:solidFill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тельность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устойчивое стремление к контактам с людьми, умение быстро установить контакты.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57080" y="3573000"/>
            <a:ext cx="8002800" cy="309564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ключает в себя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оммуникабельност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способность испытывать удовольствие от процесса общения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оциальное родство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желание находиться в обществе, среди других людей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льтруистические тенденции –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эмпатию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как способность к сочувствию, сопереживанию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идентификацию,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как умение переносить себя в мир другого человек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Прямоугольник 2"/>
          <p:cNvSpPr/>
          <p:nvPr/>
        </p:nvSpPr>
        <p:spPr>
          <a:xfrm>
            <a:off x="395280" y="189000"/>
            <a:ext cx="8497800" cy="161784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жный, многогранный процесс установлен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контактов между людь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ждаемый потребностями совместной деятельн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реализации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357120" y="214200"/>
          <a:ext cx="8258400" cy="6278760"/>
        </p:xfrm>
        <a:graphic>
          <a:graphicData uri="http://schemas.openxmlformats.org/drawingml/2006/table">
            <a:tbl>
              <a:tblPr/>
              <a:tblGrid>
                <a:gridCol w="428760"/>
                <a:gridCol w="3570120"/>
                <a:gridCol w="936720"/>
                <a:gridCol w="1079640"/>
                <a:gridCol w="1152360"/>
                <a:gridCol w="109080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араме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из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1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ыше средне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3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4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пособность к эмпатии, сопережива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10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пособность к рефлек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тепень общи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ибкость личности в мышлении, повед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пособность к сотрудничеств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моциональная привлека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пособность к оказанию влияния на друг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пособность к организации какого-либо д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пособность к  передаче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746748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езультаты анкетирования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11280" y="764640"/>
            <a:ext cx="8286480" cy="585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4-16 баллов - Низкий уровень общи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т.е. эти педагоги неразговорчивы и замкнуты, предпочитают одиночеств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17-24 балла - Средний уровень общительности,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.е. достаточно общительны и в незнакомой обстановке чувствуют себя вполне уверенно, хотя с новыми людьми сходятся с оглядкой и в диспутах участвуют неохотн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25-32 балла - Общительность выше среднего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для этих педагогов характерна нормальная коммуникабельность: они любознательны, охотно слушают интересного собеседника, достаточно терпеливы в общении с другими, отстаивают свою точку зрения без вспыльчивости; без неприятных переживаний идут на встречу с новыми людь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33-40 баллов - Высокий уровень общи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т.е. они весьма общительны, любопытны, разговорчивы; любят высказываться по разным вопросам, охотно знакомятся с новыми людьми; любят быть в центре внимания, могут вспылить, но быстро успокаиваютс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7467480" cy="1143000"/>
          </a:xfrm>
          <a:prstGeom prst="rect">
            <a:avLst/>
          </a:prstGeom>
          <a:gradFill rotWithShape="0">
            <a:gsLst>
              <a:gs pos="0">
                <a:srgbClr val="3891a7"/>
              </a:gs>
              <a:gs pos="50000">
                <a:srgbClr val="ffffff"/>
              </a:gs>
              <a:gs pos="100000">
                <a:srgbClr val="3891a7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00"/>
                </a:solidFill>
                <a:latin typeface="Corbel"/>
              </a:rPr>
              <a:t>4 группы </a:t>
            </a:r>
            <a:br>
              <a:rPr sz="3200"/>
            </a:br>
            <a:r>
              <a:rPr b="1" lang="ru-RU" sz="3200" spc="-1" strike="noStrike">
                <a:solidFill>
                  <a:srgbClr val="669900"/>
                </a:solidFill>
                <a:latin typeface="Corbel"/>
              </a:rPr>
              <a:t>коммуникативных умений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26560" y="3212640"/>
            <a:ext cx="8075880" cy="331308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8dc765"/>
                </a:solidFill>
                <a:latin typeface="Corbel"/>
              </a:rPr>
              <a:t>-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 умения быстро и правильно ориентироваться в условиях внешней ситуации общени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- умения правильно планировать свою речь, т.е. содержание акта общени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- умения находить адекватные средства для передачи этого содержания (верный тон, нужные слова и т.д.)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-умения обеспечивать обратную связь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467480" cy="14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70c0"/>
                </a:solidFill>
                <a:latin typeface="Corbel"/>
              </a:rPr>
              <a:t>Профилактика конфликта </a:t>
            </a:r>
            <a:r>
              <a:rPr b="1" i="1" lang="ru-RU" sz="2900" spc="-1" strike="noStrike">
                <a:solidFill>
                  <a:srgbClr val="002060"/>
                </a:solidFill>
                <a:latin typeface="Corbel"/>
              </a:rPr>
              <a:t>– повышение социально-психологических компетенций педагога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gradFill rotWithShape="0">
            <a:gsLst>
              <a:gs pos="0">
                <a:srgbClr val="3891a7">
                  <a:alpha val="46274"/>
                </a:srgbClr>
              </a:gs>
              <a:gs pos="50000">
                <a:srgbClr val="ffffff"/>
              </a:gs>
              <a:gs pos="100000">
                <a:srgbClr val="3891a7">
                  <a:alpha val="46274"/>
                </a:srgbClr>
              </a:gs>
            </a:gsLst>
            <a:lin ang="2700000"/>
          </a:gradFill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2060"/>
                </a:solidFill>
                <a:latin typeface="Corbel"/>
              </a:rPr>
              <a:t>Основные правила уважительного делового общ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26560" y="1628640"/>
            <a:ext cx="8075880" cy="478152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Количество информации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(сообщается столько информации, сколько требуется для данной цели общения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Качество информации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(она должна быть правдивой, истинной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Существенность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(говорить о важном для данной ситуации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Вежливость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(соблюдать правила речевого этикета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5"/>
          <p:cNvSpPr/>
          <p:nvPr/>
        </p:nvSpPr>
        <p:spPr>
          <a:xfrm>
            <a:off x="1071720" y="357120"/>
            <a:ext cx="7200720" cy="1224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cc99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ого взаимо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5857920" y="1785960"/>
            <a:ext cx="2714760" cy="2232000"/>
          </a:xfrm>
          <a:prstGeom prst="upArrowCallout">
            <a:avLst>
              <a:gd name="adj1" fmla="val 44365"/>
              <a:gd name="adj2" fmla="val 44366"/>
              <a:gd name="adj3" fmla="val 16667"/>
              <a:gd name="adj4" fmla="val 109956"/>
            </a:avLst>
          </a:prstGeom>
          <a:gradFill rotWithShape="0">
            <a:gsLst>
              <a:gs pos="0">
                <a:srgbClr val="ffffff"/>
              </a:gs>
              <a:gs pos="100000">
                <a:srgbClr val="3891a7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вер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357120" y="1785960"/>
            <a:ext cx="2786040" cy="2232000"/>
          </a:xfrm>
          <a:prstGeom prst="upArrowCallout">
            <a:avLst>
              <a:gd name="adj1" fmla="val 44362"/>
              <a:gd name="adj2" fmla="val 44364"/>
              <a:gd name="adj3" fmla="val 16667"/>
              <a:gd name="adj4" fmla="val 109956"/>
            </a:avLst>
          </a:prstGeom>
          <a:gradFill rotWithShape="0">
            <a:gsLst>
              <a:gs pos="0">
                <a:srgbClr val="ffffff"/>
              </a:gs>
              <a:gs pos="100000">
                <a:srgbClr val="3891a7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р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6"/>
          <p:cNvSpPr/>
          <p:nvPr/>
        </p:nvSpPr>
        <p:spPr>
          <a:xfrm>
            <a:off x="2500200" y="3143160"/>
            <a:ext cx="3961080" cy="2232000"/>
          </a:xfrm>
          <a:prstGeom prst="upArrowCallout">
            <a:avLst>
              <a:gd name="adj1" fmla="val 44371"/>
              <a:gd name="adj2" fmla="val 44367"/>
              <a:gd name="adj3" fmla="val 16667"/>
              <a:gd name="adj4" fmla="val 109956"/>
            </a:avLst>
          </a:prstGeom>
          <a:gradFill rotWithShape="0">
            <a:gsLst>
              <a:gs pos="0">
                <a:srgbClr val="ffffff"/>
              </a:gs>
              <a:gs pos="100000">
                <a:srgbClr val="3891a7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аравер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Правила построения эффективного общения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11280" y="134100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Основа отношения к нам человека закладывается в первые 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15 секунд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!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Необходима искренняя, доброжелательная 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улыбка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! Демонстрация готовности общаться с собеседником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Имя человека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 – это самый сладостный и самый важный для него звук на любом языке. Важно использовать имя и отчество при приветствии.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В 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общении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 наиболее применим косвенный 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комплимент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: мы 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хвалим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 не самого человека, а то, что ему дорого, - 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его ребенка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Соблюдение 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умеренной дистанции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и удобное расположение (от 50 см до 1,5 м). Убрать барьеры, «увеличивающие» 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расстояние в нашем восприятии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 в общении (стол, книга, лист бумаги в руках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18:44:54Z</dcterms:created>
  <dc:creator>Admin</dc:creator>
  <dc:description/>
  <dc:language>en-US</dc:language>
  <cp:lastModifiedBy>User</cp:lastModifiedBy>
  <dcterms:modified xsi:type="dcterms:W3CDTF">2021-04-08T05:15:02Z</dcterms:modified>
  <cp:revision>154</cp:revision>
  <dc:subject/>
  <dc:title>Культура педагога – условие успешной профессиональной деятельности</dc:title>
</cp:coreProperties>
</file>