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28A-2616-4A54-BE01-06CF78D2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77F-A655-453F-9ED9-E4ED451A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7F566-1400-44D9-A194-BD966C77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2D96B-1B1E-4164-87DA-4631DDB6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58E09-F080-4760-9F5C-A13CC67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04926-4D0C-4B48-9F10-7183F40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860EA-9197-4C8E-ACD4-6C0E438A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C62E1-043D-47F2-8545-C5AAF9F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29E47-AF28-4C7C-9C44-5E062498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9721F-65FD-4A4B-9E64-FA6192E7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2F326-3B5B-4468-BC8C-33955A31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F01-3648-40FF-85E8-9A8CCA14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4C9-7C11-463E-9153-775926BE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84F-DAB1-43AC-AC57-FFB1656F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C2C8-4081-42B2-A88F-59DB15E5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E59-85CD-452F-9AFC-254AC8E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1511-6A05-4536-99B5-2E84E2C3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1196-8229-4B06-8A77-1452A1A5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5B82-0050-46B9-9D7E-BDCACB0E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B229-72F0-48A6-BFDA-6FA22E6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0F0-5D25-412D-BCBA-4B454A51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861D-2247-4359-B192-6BFB6EC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B1FA-DE75-4670-8CE4-B85E3CC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8BE8-D812-434A-9570-AE13767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182E-290E-4311-8955-C38586D1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22F1-D3CD-41F4-82F5-60ABDC78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E6FB-76F8-4D56-9B02-0179334E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E0DF-CA7D-41B9-8A0A-8EA13887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2BD7-D529-42CA-BE5F-572A86E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F2E5-BA63-4C6F-AA8E-2E540142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1FEF-F3EA-40B7-A525-48BFF375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1ED-AD8E-4C90-AB50-1FBD96CB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233B-C3BA-46A5-BE22-9BB0DA6F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C7E9-9428-4FA8-BD3E-4CA83BB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902F-2B3B-474D-B6BD-0B628CF7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E312-D0F4-4FEC-B601-4B616B3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BAB2-14F7-4052-8F5B-84456F26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C555-FA6F-401A-A641-B20C7CA3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8E92-0AA4-4BE9-B4EA-0CC9FDE2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DC7E-9067-45BC-A80B-4203F182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3DB78-9133-447E-9696-1B3D1A5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198D-8FCC-4CF5-B9EB-2B79790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CEB-06EC-47B3-B074-D4C1556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368B-9158-44DC-B01A-FE3BBEE6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99A0-642E-4B55-95E6-04943AB7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82A8-6B51-4320-9490-22F11749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09E5D-3504-4A56-BD36-4D6D53F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DC13-9D67-4DE6-BAB7-D7A9ED2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382C-2F9B-46F9-8DCC-506B3D7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BC46-2B27-4809-988D-BFB5A037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4981-1EF0-41AB-A307-B6CB1F4D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1870A-4A27-45DC-A91C-8895A255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86F2-2D58-4E06-9136-94EDAC99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A6B-4C21-47E3-9079-F4CFEF87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18779-B1A1-4F7C-9CD8-CDF6A84D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9928-9BB2-4794-92C9-18938E5A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2651A-CB4A-4108-9A4F-C555F28A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C617-F7B0-4677-ACE2-E01C4623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6CC6-2266-4DDA-AFFE-7ABFAFEA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89C3-2931-4C73-AFEC-8C6BB9C5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2F88F-458F-476A-9A81-C1A5E37E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82E1-0FD0-426E-8A02-FFEF18B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FAA15-46C6-4B49-A9C6-8C940822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4DBAA-F033-4A9C-821A-B5CBCB37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D99-4AED-4FB9-B4AC-09909D7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1CF1-C749-4C64-B4F0-F9F1923B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BE6C4-C485-4A76-BE3D-48DC970F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33C7F-9C22-4C17-AB09-E93C6FB1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9E340-E4B5-4AEB-B2C2-EF2C2843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6EC28-9C22-4B5E-8904-D35FB7A3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C5866-0AFA-4C79-AD30-76536C4B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1FC1-FE53-493B-9FEC-2BE2A0CD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BF4A6-A60A-4505-9328-CA43CA13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F1EA-54EB-4A5F-8919-0BBFD4B4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9D7F-7BBC-4AD6-AC6D-4EFFE22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16F-C8FC-4B8F-B854-3D461E0A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9DB94-9192-4169-A70F-E2EABA39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443B-3935-4A73-8625-1C58E3EF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447A0-9266-4285-B3E9-36ABDC6A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44520-5C03-4274-A4FC-0F6205FA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715C2-8C77-44B6-ACF4-D0A4F0EE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B4F5E-F876-4FFA-845B-92EEAA7F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9D317-3BCD-4156-A295-D54A4D1A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9F9E9-4DBC-4794-A4B2-4FE82D53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1F77-20FC-426B-BC64-6465C559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AF097-0554-45C6-A5FA-13B3031C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7A3-0107-43DA-B455-CC707D4F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771DC-45F9-4E1E-896C-B2A082E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E18E6-9AAF-4348-8752-29BB5AB6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3719-63BC-4911-B8D8-64011B8D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EDA91-51E0-404E-B33C-F2E8AD8E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335F1-D204-407C-888A-B70886BA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6A51-437F-48E3-A6AE-AAC4DA01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B1D26-773F-44EA-91CB-621E4705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2006D-3B98-44C1-9CDA-D0810C1A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F9E2-AD8B-4D27-8F52-0658E83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665FA-247E-420B-BE28-ACD639B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7AE-8749-49BC-B5F4-40AD209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E3A19-166C-4D40-BC81-E33E0FD6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6DCC6-5A05-44A7-A165-430DAD03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417B5-D7CB-49F2-9E45-61B744E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61309-0F8A-42FD-96E6-2104108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BC84-9294-4E30-A363-AED29ECF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7EB68-22DE-4882-87E0-CF80E34F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7F259-1708-495B-ADF2-2ADF883E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5E7C4-D561-493D-8752-AC5A8F74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76BDC-3D90-4E12-803D-E5BC7C95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D276C-7A8A-42C2-A06E-661A893F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B87A-FD7F-46DC-9EB2-E50F6DFB6369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77FF-06FA-451E-9ED1-92942163E3F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4BE-560E-43C8-8A74-6BAE73CC7BD3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3AD1-7BD8-421B-876A-D6B1D2E2BEC9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DD35-584B-4FB8-AF29-5AFCEA8B6D7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6D98-8E95-4ADD-967F-06BDE9EAD3B5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A4C7-996E-445A-B755-6A4BE6C65E64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307D-F1D5-49AC-A6DD-B5FE0872B214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79EF-5165-441D-8355-D24E129AE5D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Users\Снежинка\Desktop\день победы\house_soviet_women.afriawh9v0o44go00kcgwwggo.ejcuplo1l0oo0sk8c40s8osc4.th.jpeg"/>
          <p:cNvPicPr/>
          <p:nvPr/>
        </p:nvPicPr>
        <p:blipFill>
          <a:blip r:embed="rId1"/>
          <a:stretch/>
        </p:blipFill>
        <p:spPr>
          <a:xfrm>
            <a:off x="571680" y="571680"/>
            <a:ext cx="8143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C:\Users\user\Desktop\1.jpg"/>
          <p:cNvPicPr/>
          <p:nvPr/>
        </p:nvPicPr>
        <p:blipFill>
          <a:blip r:embed="rId1"/>
          <a:stretch/>
        </p:blipFill>
        <p:spPr>
          <a:xfrm>
            <a:off x="64296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C:\Users\user\Desktop\занятие 9 мая\37242.p (1).jpg"/>
          <p:cNvPicPr/>
          <p:nvPr/>
        </p:nvPicPr>
        <p:blipFill>
          <a:blip r:embed="rId1"/>
          <a:stretch/>
        </p:blipFill>
        <p:spPr>
          <a:xfrm>
            <a:off x="785880" y="857160"/>
            <a:ext cx="7572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http://www.stihi.ru/pics/2008/04/25/1322.jpg"/>
          <p:cNvPicPr/>
          <p:nvPr/>
        </p:nvPicPr>
        <p:blipFill>
          <a:blip r:embed="rId1"/>
          <a:stretch/>
        </p:blipFill>
        <p:spPr>
          <a:xfrm>
            <a:off x="428760" y="428760"/>
            <a:ext cx="84294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C:\Users\Снежинка\Desktop\день победы\011.jpg"/>
          <p:cNvPicPr/>
          <p:nvPr/>
        </p:nvPicPr>
        <p:blipFill>
          <a:blip r:embed="rId1"/>
          <a:stretch/>
        </p:blipFill>
        <p:spPr>
          <a:xfrm>
            <a:off x="4572000" y="428760"/>
            <a:ext cx="4381560" cy="4143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47990424"/>
          <p:cNvPicPr/>
          <p:nvPr/>
        </p:nvPicPr>
        <p:blipFill>
          <a:blip r:embed="rId2"/>
          <a:stretch/>
        </p:blipFill>
        <p:spPr>
          <a:xfrm>
            <a:off x="214200" y="228600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-6480" y="281160"/>
            <a:ext cx="8858520" cy="1054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vechnyi_ogon234_234"/>
          <p:cNvPicPr/>
          <p:nvPr/>
        </p:nvPicPr>
        <p:blipFill>
          <a:blip r:embed="rId2"/>
          <a:stretch/>
        </p:blipFill>
        <p:spPr>
          <a:xfrm>
            <a:off x="714240" y="1071720"/>
            <a:ext cx="77155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4357800" cy="4143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:\Users\user\Desktop\9_maya_krasnoyartsy_uvidyat_teatralizovannyy_parad_i_salyut_thumb_fed_photo.jpg"/>
          <p:cNvPicPr/>
          <p:nvPr/>
        </p:nvPicPr>
        <p:blipFill>
          <a:blip r:embed="rId2"/>
          <a:stretch/>
        </p:blipFill>
        <p:spPr>
          <a:xfrm>
            <a:off x="4643280" y="2000160"/>
            <a:ext cx="43578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Users\user\Desktop\file63luwn94udt1fp25d9e6_800_480.jpg"/>
          <p:cNvPicPr/>
          <p:nvPr/>
        </p:nvPicPr>
        <p:blipFill>
          <a:blip r:embed="rId1"/>
          <a:stretch/>
        </p:blipFill>
        <p:spPr>
          <a:xfrm>
            <a:off x="357120" y="642960"/>
            <a:ext cx="84297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C:\Users\user\Desktop\1346530897_2-18.jpg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Users\user\Desktop\32.jpg"/>
          <p:cNvPicPr/>
          <p:nvPr/>
        </p:nvPicPr>
        <p:blipFill>
          <a:blip r:embed="rId1"/>
          <a:stretch/>
        </p:blipFill>
        <p:spPr>
          <a:xfrm>
            <a:off x="357120" y="642960"/>
            <a:ext cx="8501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C:\Users\Снежинка\Desktop\день победы\19.jpg"/>
          <p:cNvPicPr/>
          <p:nvPr/>
        </p:nvPicPr>
        <p:blipFill>
          <a:blip r:embed="rId1"/>
          <a:stretch/>
        </p:blipFill>
        <p:spPr>
          <a:xfrm>
            <a:off x="642960" y="785880"/>
            <a:ext cx="7929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C:\Users\user\Desktop\занятие 9 мая\20091130080539!Ussr0437.jpg"/>
          <p:cNvPicPr/>
          <p:nvPr/>
        </p:nvPicPr>
        <p:blipFill>
          <a:blip r:embed="rId1"/>
          <a:stretch/>
        </p:blipFill>
        <p:spPr>
          <a:xfrm>
            <a:off x="2000160" y="357120"/>
            <a:ext cx="5072040" cy="628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user\Desktop\занятие 9 мая\390659058.jpg"/>
          <p:cNvPicPr/>
          <p:nvPr/>
        </p:nvPicPr>
        <p:blipFill>
          <a:blip r:embed="rId1"/>
          <a:stretch/>
        </p:blipFill>
        <p:spPr>
          <a:xfrm>
            <a:off x="571680" y="500040"/>
            <a:ext cx="8072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C:\Users\user\Desktop\154.84udsq3eoaccssg0gsw8occc8.ejcuplo1l0oo0sk8c40s8osc4.th.jpeg"/>
          <p:cNvPicPr/>
          <p:nvPr/>
        </p:nvPicPr>
        <p:blipFill>
          <a:blip r:embed="rId1"/>
          <a:stretch/>
        </p:blipFill>
        <p:spPr>
          <a:xfrm>
            <a:off x="571680" y="785880"/>
            <a:ext cx="7929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C:\Users\Снежинка\Desktop\день победы\8e04844u.e577rxhae3ccw84w0gk8swgkc.ejcuplo1l0oo0sk8c40s8osc4.th.jpeg"/>
          <p:cNvPicPr/>
          <p:nvPr/>
        </p:nvPicPr>
        <p:blipFill>
          <a:blip r:embed="rId1"/>
          <a:stretch/>
        </p:blipFill>
        <p:spPr>
          <a:xfrm>
            <a:off x="642960" y="714240"/>
            <a:ext cx="800100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C:\Users\user\Desktop\4.jpg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21:09Z</dcterms:created>
  <dc:creator>Зульфия</dc:creator>
  <dc:description/>
  <dc:language>en-US</dc:language>
  <cp:lastModifiedBy>1</cp:lastModifiedBy>
  <dcterms:modified xsi:type="dcterms:W3CDTF">2015-01-24T16:19:24Z</dcterms:modified>
  <cp:revision>46</cp:revision>
  <dc:subject/>
  <dc:title>Слайд 1</dc:title>
</cp:coreProperties>
</file>