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22.jpeg" ContentType="image/jpeg"/>
  <Override PartName="/ppt/media/image1.jpeg" ContentType="image/jpeg"/>
  <Override PartName="/ppt/media/image17.jpeg" ContentType="image/jpe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B500-07E2-470B-A1AF-E4BD62FB9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FEF1-55EA-44A4-B19B-37ECF26D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8B6720-6129-494F-A54D-B394A522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EEA9DC-1961-4F55-803C-19F2543D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C3B856-36E5-4873-B583-514CB33D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4217C7-B017-4846-9152-887DA27E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704E2-C525-48DF-908D-262847C8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EA4851-E0AB-4E77-90F8-4473C225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02A08D-61B3-4347-9116-5BDE761E1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B0295B-DAA6-4A83-930F-D9DC902A9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7EA74-8690-4039-9424-2CE1987D2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4906-F1CB-4927-8CC5-739BDD936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6E43-348F-46B6-9815-B85B751B9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4152-C67C-4B29-B7C2-223A2691B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8382-E6A7-4FB6-96D1-FE99AB04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4EC0B-AAF9-4583-B3D1-8354B7E5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2F46-7D0C-48FC-AAA3-98B8DE88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76CD4-1684-46B5-A26B-9725A72C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01C5-68F5-40BC-9CDF-D90A383D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6235-E49A-46C8-B6D5-93BE12D7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2507-6692-48A9-A099-426658E9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D629-8892-4F74-ABAC-FBAE4435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12BE0-363F-4126-880E-C3E17470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7E1AB-A093-4480-92D7-8058BF0A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0BD32-0151-43AD-98B0-DA4BD9CC1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9DA6-0F63-4C94-8405-C0417FFE5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CCFE5-69AC-45F5-85D2-B08D34665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9499A-4ED1-4826-96AA-19B213B1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196D5-C95D-496D-B367-AC4364DD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80191-B352-470B-B430-E4F6F605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20BD0-E354-44FC-87E7-6BB60578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1835-3ED4-4DF9-BFC2-CF5A762E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D0962-956D-4CC0-B537-CF8B0DD5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E0291-D3E8-4334-AAE2-6FC3B528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2B356-8473-4001-9338-EE0EB446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8DA29-89CF-47B5-AD36-97B82AD4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F0118-6659-4335-B02D-407C0707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D541A-6091-4439-9780-C7DFEB3E6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2A403-DEFC-40BF-9C52-A8C2C81CB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F34CA-9D9D-4D86-87DB-1083BFE74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44B81-1BA8-4E72-9865-B7A71C20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C92DF-E8D9-4406-9408-E670499D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8510-EA80-45D5-B545-F54C0B8B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240AF-A410-4797-BF19-E1269BB2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D066B-A117-46CF-B284-6F86C528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6D2FC-9A95-4C41-8585-B5AD27DC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8645F-34CF-4B7D-AE6A-C17777DD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0425C-C860-4DE8-BD85-CAE060A2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493C6-795D-426A-95E8-54DBE09C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DF8A1-6F2E-4E2D-9A96-1E8C667E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8BCB2-4582-4EE9-8A74-37E87A697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77596-1508-4C63-8F87-387C6790E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288BA-706A-4C11-B2A9-295F21366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0737-E923-467A-94A5-A15E5210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2C59E-8D8E-4B5A-9E75-5796DD350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2B64E-210B-4BE3-951E-49389666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1FE88-AE42-4B3C-B1EB-3021049C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E4028-813B-4A0E-8312-52CBF109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86C5D-D2DB-45B6-9ED9-E74BD997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EC655-60D6-491A-A9FE-8EFD01BC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C66FF-BFEA-4641-9F68-694BBEC3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0E121-1170-4AB0-84B7-ED4F0D6C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ED101-C36C-419E-AD5D-FFDBCB52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76A86-0AA0-487F-983B-7E7B55807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CECB-10B1-4DE3-82DA-AF7F7C94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ABD6C-1E02-4D8C-BA06-288652FAE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B8AC6-64AB-426A-A156-93743433E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E2166-A5FC-49A0-AD4F-653072FC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E4537-6F2B-4570-A5FF-6A05F48A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C9C0F-4AA0-49A4-81D5-959FE419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2A2F6-94EC-4A24-9D8F-2BCB6F13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C747B-2445-4C4F-961F-7F7F53EC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428DC-297A-4D14-B8E1-6352BF09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A2F2A-2A76-4103-843F-9EC5B3D4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53403-26CA-4476-B79D-3A9385C6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F27E-B0B0-4073-97B8-B841C2F5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9A6F7-DC21-4D0B-867E-D1AF3B42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514DB-5893-4EF8-946A-447B675ED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7A47D-8D85-4893-8583-1FF478308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7896A-A3B0-4A34-9521-2FDDCBE1C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2C783-CC40-4C22-A535-8C1B0AF2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1364F-43BF-4820-BFCA-0DA6AF29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E4646-C58A-4E76-99CD-5D69091E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E1D4E-DF6F-4ECA-B42B-AE14C960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8BC84-06C2-47AE-82B1-18D0B783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B691B-DBB2-4672-A429-169D3BF5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29CE-19D1-4EBF-B39D-A6DDCD71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D8E9A-71B8-4D7A-B315-77B8CA1E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DD1D2-C52B-4FE7-B39B-66059502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F07D6-BE22-478B-ACAC-A2DCCB0D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D6F69-D202-4E7F-808B-7970AD46E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99BDB-4296-4215-93F1-C3764119C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BC88F-9DC2-487A-B3AA-CF858A1CA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60507-CD4C-49A7-BD35-35F076EA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FCBD5-3151-4DD9-82E0-B13E9032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FD71C-77AA-45AB-9FC1-5DB7F29A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D7E59-D4A2-4718-93A6-288053A6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FE21-028D-4541-959A-D2AF24A3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9CB25-9AF7-4DA5-B490-FAB454A9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2F147-FE0E-4051-84F3-CF0CC754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65132-7904-48A4-826D-F91867D2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C0C82-D1A6-4D3A-B64D-4C9C60FC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3D0C5-CD11-4714-B6E3-1F613C07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B3B3F-8882-4C89-B1A5-425328E92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5BF22-9D45-42B3-8E5B-049A5130C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113BC5-F73D-4319-8B8C-FA17E9B47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572CFD-E6E6-4BD5-9F7E-C7A5CED3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A96831-1A70-4FFE-A192-BF6F036D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06B1-D084-4D16-90BE-5A19F90E37CE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2501-6372-4A6F-9B1B-DFB12AD76CE1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A3B6-D2E7-455A-99F2-4C4D94CA3A0B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f5f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bf5f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F2D1-E488-4A30-B5A7-80A34EBE2203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2BAA-2A87-4751-B675-EFE52E452B38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B8E0-2E8A-4F16-AB4F-F9E795320218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C0F9-5678-4671-8F5B-08EEA588F416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8167-A193-47E1-A1FE-FA1945CC6A0D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FF3E-C849-4130-BC2B-D1E2F354FB2D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5" descr="C:\Users\Снежинка\Desktop\день победы\house_soviet_women.afriawh9v0o44go00kcgwwggo.ejcuplo1l0oo0sk8c40s8osc4.th.jpeg"/>
          <p:cNvPicPr/>
          <p:nvPr/>
        </p:nvPicPr>
        <p:blipFill>
          <a:blip r:embed="rId1"/>
          <a:stretch/>
        </p:blipFill>
        <p:spPr>
          <a:xfrm>
            <a:off x="571680" y="571680"/>
            <a:ext cx="81435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5" descr="C:\Users\user\Desktop\1.jpg"/>
          <p:cNvPicPr/>
          <p:nvPr/>
        </p:nvPicPr>
        <p:blipFill>
          <a:blip r:embed="rId1"/>
          <a:stretch/>
        </p:blipFill>
        <p:spPr>
          <a:xfrm>
            <a:off x="642960" y="57168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1" descr="C:\Users\user\Desktop\занятие 9 мая\37242.p (1).jpg"/>
          <p:cNvPicPr/>
          <p:nvPr/>
        </p:nvPicPr>
        <p:blipFill>
          <a:blip r:embed="rId1"/>
          <a:stretch/>
        </p:blipFill>
        <p:spPr>
          <a:xfrm>
            <a:off x="785880" y="857160"/>
            <a:ext cx="75722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4" descr="http://www.stihi.ru/pics/2008/04/25/1322.jpg"/>
          <p:cNvPicPr/>
          <p:nvPr/>
        </p:nvPicPr>
        <p:blipFill>
          <a:blip r:embed="rId1"/>
          <a:stretch/>
        </p:blipFill>
        <p:spPr>
          <a:xfrm>
            <a:off x="428760" y="428760"/>
            <a:ext cx="842940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3" descr="C:\Users\Снежинка\Desktop\день победы\011.jpg"/>
          <p:cNvPicPr/>
          <p:nvPr/>
        </p:nvPicPr>
        <p:blipFill>
          <a:blip r:embed="rId1"/>
          <a:stretch/>
        </p:blipFill>
        <p:spPr>
          <a:xfrm>
            <a:off x="4572000" y="428760"/>
            <a:ext cx="4381560" cy="41432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7" descr="47990424"/>
          <p:cNvPicPr/>
          <p:nvPr/>
        </p:nvPicPr>
        <p:blipFill>
          <a:blip r:embed="rId2"/>
          <a:stretch/>
        </p:blipFill>
        <p:spPr>
          <a:xfrm>
            <a:off x="214200" y="2286000"/>
            <a:ext cx="42148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-6480" y="281160"/>
            <a:ext cx="8858520" cy="10540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vechnyi_ogon234_234"/>
          <p:cNvPicPr/>
          <p:nvPr/>
        </p:nvPicPr>
        <p:blipFill>
          <a:blip r:embed="rId2"/>
          <a:stretch/>
        </p:blipFill>
        <p:spPr>
          <a:xfrm>
            <a:off x="714240" y="1071720"/>
            <a:ext cx="77155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214200" y="500040"/>
            <a:ext cx="4357800" cy="41432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5" descr="C:\Users\user\Desktop\9_maya_krasnoyartsy_uvidyat_teatralizovannyy_parad_i_salyut_thumb_fed_photo.jpg"/>
          <p:cNvPicPr/>
          <p:nvPr/>
        </p:nvPicPr>
        <p:blipFill>
          <a:blip r:embed="rId2"/>
          <a:stretch/>
        </p:blipFill>
        <p:spPr>
          <a:xfrm>
            <a:off x="4643280" y="2000160"/>
            <a:ext cx="435780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4" descr="C:\Users\user\Desktop\file63luwn94udt1fp25d9e6_800_480.jpg"/>
          <p:cNvPicPr/>
          <p:nvPr/>
        </p:nvPicPr>
        <p:blipFill>
          <a:blip r:embed="rId1"/>
          <a:stretch/>
        </p:blipFill>
        <p:spPr>
          <a:xfrm>
            <a:off x="357120" y="642960"/>
            <a:ext cx="842976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3" descr="C:\Users\user\Desktop\1346530897_2-18.jpg"/>
          <p:cNvPicPr/>
          <p:nvPr/>
        </p:nvPicPr>
        <p:blipFill>
          <a:blip r:embed="rId1"/>
          <a:stretch/>
        </p:blipFill>
        <p:spPr>
          <a:xfrm>
            <a:off x="428760" y="500040"/>
            <a:ext cx="828648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3" descr="C:\Users\user\Desktop\32.jpg"/>
          <p:cNvPicPr/>
          <p:nvPr/>
        </p:nvPicPr>
        <p:blipFill>
          <a:blip r:embed="rId1"/>
          <a:stretch/>
        </p:blipFill>
        <p:spPr>
          <a:xfrm>
            <a:off x="357120" y="642960"/>
            <a:ext cx="850104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5" descr="C:\Users\Снежинка\Desktop\день победы\19.jpg"/>
          <p:cNvPicPr/>
          <p:nvPr/>
        </p:nvPicPr>
        <p:blipFill>
          <a:blip r:embed="rId1"/>
          <a:stretch/>
        </p:blipFill>
        <p:spPr>
          <a:xfrm>
            <a:off x="642960" y="785880"/>
            <a:ext cx="79297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3" descr="C:\Users\user\Desktop\занятие 9 мая\20091130080539!Ussr0437.jpg"/>
          <p:cNvPicPr/>
          <p:nvPr/>
        </p:nvPicPr>
        <p:blipFill>
          <a:blip r:embed="rId1"/>
          <a:stretch/>
        </p:blipFill>
        <p:spPr>
          <a:xfrm>
            <a:off x="2000160" y="357120"/>
            <a:ext cx="5072040" cy="6286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C:\Users\user\Desktop\занятие 9 мая\390659058.jpg"/>
          <p:cNvPicPr/>
          <p:nvPr/>
        </p:nvPicPr>
        <p:blipFill>
          <a:blip r:embed="rId1"/>
          <a:stretch/>
        </p:blipFill>
        <p:spPr>
          <a:xfrm>
            <a:off x="571680" y="500040"/>
            <a:ext cx="80722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5" descr="C:\Users\user\Desktop\154.84udsq3eoaccssg0gsw8occc8.ejcuplo1l0oo0sk8c40s8osc4.th.jpeg"/>
          <p:cNvPicPr/>
          <p:nvPr/>
        </p:nvPicPr>
        <p:blipFill>
          <a:blip r:embed="rId1"/>
          <a:stretch/>
        </p:blipFill>
        <p:spPr>
          <a:xfrm>
            <a:off x="571680" y="785880"/>
            <a:ext cx="79293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6" descr="C:\Users\Снежинка\Desktop\день победы\8e04844u.e577rxhae3ccw84w0gk8swgkc.ejcuplo1l0oo0sk8c40s8osc4.th.jpeg"/>
          <p:cNvPicPr/>
          <p:nvPr/>
        </p:nvPicPr>
        <p:blipFill>
          <a:blip r:embed="rId1"/>
          <a:stretch/>
        </p:blipFill>
        <p:spPr>
          <a:xfrm>
            <a:off x="642960" y="714240"/>
            <a:ext cx="8001000" cy="557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1" descr="C:\Users\user\Desktop\4.jpg"/>
          <p:cNvPicPr/>
          <p:nvPr/>
        </p:nvPicPr>
        <p:blipFill>
          <a:blip r:embed="rId1"/>
          <a:stretch/>
        </p:blipFill>
        <p:spPr>
          <a:xfrm>
            <a:off x="571680" y="57168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12:21:09Z</dcterms:created>
  <dc:creator>Зульфия</dc:creator>
  <dc:description/>
  <dc:language>en-US</dc:language>
  <cp:lastModifiedBy>1</cp:lastModifiedBy>
  <dcterms:modified xsi:type="dcterms:W3CDTF">2015-01-24T16:19:24Z</dcterms:modified>
  <cp:revision>46</cp:revision>
  <dc:subject/>
  <dc:title>Слайд 1</dc:title>
</cp:coreProperties>
</file>