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33.jpeg" ContentType="image/jpeg"/>
  <Override PartName="/ppt/media/image24.jpeg" ContentType="image/jpeg"/>
  <Override PartName="/ppt/media/image21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30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533520" y="763200"/>
            <a:ext cx="67024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45E35-08F6-4C6E-9B79-56BAB441B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23F8D4-42FA-4DC6-829F-4887110D7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7860C8-7C1F-4D81-A45A-FE378DCE4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153C56-AAC5-4C5E-88B9-84C01AFD0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D1360D-593C-46E3-B32D-A04A54414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FCC8E-52F6-4338-B3D5-C77818A25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CA9535-378D-42E2-8719-5CF162FEC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B3776C-2B6B-470D-9B6C-9BFD495A1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2900E-622E-4661-B424-D5FCA9D12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9F1128-8136-47A7-BF4C-50D8B8D4E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944BC5-5DB0-466E-9F7E-3DC1F1C35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9C7BFB-91FE-44A2-812C-5B9C3C4BC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ACBC3-36B2-4307-ABFF-FBBB099DE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68EE4F-1FB5-442C-875A-4D1672B27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96C877-A21E-4B48-8686-774100382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27D4E-7B20-446D-9A7B-2BFED591E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3089C8-5681-4680-8880-9997EBEE6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07C71D-89F7-472C-9536-5DBBEAF1B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196B78-2596-4D76-891E-180798863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831EEC-4E4C-4B7A-B10B-85751EBE3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3030D7-4555-4F82-B67A-A77F4B616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8AAFA-C76C-40BC-83EA-2E2D9837F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853B59-DE71-4351-B8AB-E91454AE9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CAD976-C65A-4CEE-AF0E-57ADBFD36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CE435-B130-4499-8544-025AD2621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E85346-84C9-42C7-B6BD-DFBE8D45C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8133DD-8397-4FD6-9B84-AE09BB143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E48261-D520-45CF-ACF3-DAA390505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A4B670-F707-447D-9E08-95EC72B3B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5EE393-FD4A-42D5-ADD4-20D388D7A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8B8E5-2F84-4957-AEA5-D381001D7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1332000" y="1958760"/>
            <a:ext cx="655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щитники земли русск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лександр Нев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611280" y="552240"/>
            <a:ext cx="79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тодическая разработка внутриклассного внеурочного мероприят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0" y="3661920"/>
            <a:ext cx="71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втор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Елена Анатольевна Ванае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ель немец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тьяна Юрьевна Тихо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ель мате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ихонов Алексей Василь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ель физ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2771640" y="0"/>
            <a:ext cx="3888000" cy="45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971640" y="0"/>
            <a:ext cx="7200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539640" y="620640"/>
            <a:ext cx="7777440" cy="536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rcRect l="0" t="0" r="47075" b="0"/>
          <a:stretch/>
        </p:blipFill>
        <p:spPr>
          <a:xfrm>
            <a:off x="324000" y="0"/>
            <a:ext cx="8569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539640" y="266760"/>
            <a:ext cx="8064720" cy="6337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3"/>
          <a:stretch/>
        </p:blipFill>
        <p:spPr>
          <a:xfrm>
            <a:off x="7991640" y="5992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8592840" cy="535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220680" y="404640"/>
            <a:ext cx="8599320" cy="583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"/>
          <p:cNvSpPr/>
          <p:nvPr/>
        </p:nvSpPr>
        <p:spPr>
          <a:xfrm>
            <a:off x="2066400" y="1773360"/>
            <a:ext cx="470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 июля 12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071440" y="3573360"/>
            <a:ext cx="488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 апреля 124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6300720" y="2852640"/>
            <a:ext cx="1224000" cy="43200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1223962" h="431800">
                <a:moveTo>
                  <a:pt x="0" y="300"/>
                </a:moveTo>
                <a:lnTo>
                  <a:pt x="2801" y="300"/>
                </a:lnTo>
                <a:lnTo>
                  <a:pt x="2801" y="0"/>
                </a:lnTo>
                <a:lnTo>
                  <a:pt x="3401" y="600"/>
                </a:lnTo>
                <a:lnTo>
                  <a:pt x="2801" y="1201"/>
                </a:lnTo>
                <a:lnTo>
                  <a:pt x="2801" y="900"/>
                </a:lnTo>
                <a:lnTo>
                  <a:pt x="0" y="900"/>
                </a:lnTo>
                <a:lnTo>
                  <a:pt x="0" y="300"/>
                </a:lnTo>
              </a:path>
            </a:pathLst>
          </a:custGeom>
          <a:solidFill>
            <a:srgbClr val="ffc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6300720" y="4797360"/>
            <a:ext cx="1295640" cy="4320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1295400" h="431800">
                <a:moveTo>
                  <a:pt x="0" y="300"/>
                </a:moveTo>
                <a:lnTo>
                  <a:pt x="3000" y="300"/>
                </a:lnTo>
                <a:lnTo>
                  <a:pt x="3000" y="0"/>
                </a:lnTo>
                <a:lnTo>
                  <a:pt x="3600" y="600"/>
                </a:lnTo>
                <a:lnTo>
                  <a:pt x="3000" y="1201"/>
                </a:lnTo>
                <a:lnTo>
                  <a:pt x="3000" y="900"/>
                </a:lnTo>
                <a:lnTo>
                  <a:pt x="0" y="900"/>
                </a:lnTo>
                <a:lnTo>
                  <a:pt x="0" y="300"/>
                </a:lnTo>
              </a:path>
            </a:pathLst>
          </a:custGeom>
          <a:solidFill>
            <a:srgbClr val="00b05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3492360" y="6093000"/>
            <a:ext cx="2087640" cy="360360"/>
          </a:xfrm>
          <a:custGeom>
            <a:avLst/>
            <a:gdLst>
              <a:gd name="textAreaLeft" fmla="*/ 0 w 2087640"/>
              <a:gd name="textAreaRight" fmla="*/ 2088000 w 20876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087563" h="360363">
                <a:moveTo>
                  <a:pt x="0" y="250"/>
                </a:moveTo>
                <a:lnTo>
                  <a:pt x="5299" y="250"/>
                </a:lnTo>
                <a:lnTo>
                  <a:pt x="5299" y="0"/>
                </a:lnTo>
                <a:lnTo>
                  <a:pt x="5800" y="501"/>
                </a:lnTo>
                <a:lnTo>
                  <a:pt x="5299" y="1002"/>
                </a:lnTo>
                <a:lnTo>
                  <a:pt x="5299" y="751"/>
                </a:lnTo>
                <a:lnTo>
                  <a:pt x="0" y="751"/>
                </a:lnTo>
                <a:lnTo>
                  <a:pt x="0" y="250"/>
                </a:lnTo>
              </a:path>
            </a:pathLst>
          </a:custGeom>
          <a:solidFill>
            <a:srgbClr val="ff0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7"/>
          <p:cNvSpPr/>
          <p:nvPr/>
        </p:nvSpPr>
        <p:spPr>
          <a:xfrm>
            <a:off x="6396120" y="5764320"/>
            <a:ext cx="1224000" cy="43164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1223962" h="431800">
                <a:moveTo>
                  <a:pt x="0" y="300"/>
                </a:moveTo>
                <a:lnTo>
                  <a:pt x="2801" y="300"/>
                </a:lnTo>
                <a:lnTo>
                  <a:pt x="2801" y="0"/>
                </a:lnTo>
                <a:lnTo>
                  <a:pt x="3401" y="600"/>
                </a:lnTo>
                <a:lnTo>
                  <a:pt x="2801" y="1200"/>
                </a:lnTo>
                <a:lnTo>
                  <a:pt x="2801" y="900"/>
                </a:lnTo>
                <a:lnTo>
                  <a:pt x="0" y="900"/>
                </a:lnTo>
                <a:lnTo>
                  <a:pt x="0" y="300"/>
                </a:lnTo>
              </a:path>
            </a:pathLst>
          </a:custGeom>
          <a:solidFill>
            <a:srgbClr val="00b05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971640" y="549360"/>
            <a:ext cx="727704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8317080" y="5965920"/>
            <a:ext cx="576000" cy="57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2"/>
          <p:cNvSpPr/>
          <p:nvPr/>
        </p:nvSpPr>
        <p:spPr>
          <a:xfrm rot="10800000">
            <a:off x="7235640" y="6338520"/>
            <a:ext cx="1152360" cy="360360"/>
          </a:xfrm>
          <a:custGeom>
            <a:avLst/>
            <a:gdLst>
              <a:gd name="textAreaLeft" fmla="*/ 0 w 1152360"/>
              <a:gd name="textAreaRight" fmla="*/ 1152720 w 1152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152525" h="360362">
                <a:moveTo>
                  <a:pt x="0" y="250"/>
                </a:moveTo>
                <a:lnTo>
                  <a:pt x="2701" y="250"/>
                </a:lnTo>
                <a:lnTo>
                  <a:pt x="2701" y="0"/>
                </a:lnTo>
                <a:lnTo>
                  <a:pt x="3201" y="501"/>
                </a:lnTo>
                <a:lnTo>
                  <a:pt x="2701" y="1002"/>
                </a:lnTo>
                <a:lnTo>
                  <a:pt x="2701" y="751"/>
                </a:lnTo>
                <a:lnTo>
                  <a:pt x="0" y="751"/>
                </a:lnTo>
                <a:lnTo>
                  <a:pt x="0" y="250"/>
                </a:lnTo>
              </a:path>
            </a:pathLst>
          </a:custGeom>
          <a:solidFill>
            <a:srgbClr val="00b05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1619280" y="189000"/>
            <a:ext cx="6192720" cy="64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6667560" cy="47624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2648880" y="333360"/>
            <a:ext cx="425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ская бит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7524720" y="6237360"/>
            <a:ext cx="1150920" cy="36036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150938" h="360362">
                <a:moveTo>
                  <a:pt x="3198" y="250"/>
                </a:moveTo>
                <a:lnTo>
                  <a:pt x="500" y="250"/>
                </a:lnTo>
                <a:lnTo>
                  <a:pt x="500" y="0"/>
                </a:lnTo>
                <a:lnTo>
                  <a:pt x="0" y="501"/>
                </a:lnTo>
                <a:lnTo>
                  <a:pt x="500" y="1002"/>
                </a:lnTo>
                <a:lnTo>
                  <a:pt x="500" y="751"/>
                </a:lnTo>
                <a:lnTo>
                  <a:pt x="3198" y="751"/>
                </a:lnTo>
                <a:lnTo>
                  <a:pt x="3198" y="250"/>
                </a:lnTo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1187280" y="1700280"/>
            <a:ext cx="6769440" cy="45370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"/>
          <p:cNvSpPr/>
          <p:nvPr/>
        </p:nvSpPr>
        <p:spPr>
          <a:xfrm>
            <a:off x="2412000" y="620640"/>
            <a:ext cx="458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едовое побоищ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7524720" y="6308640"/>
            <a:ext cx="1150920" cy="28908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150938" h="288925">
                <a:moveTo>
                  <a:pt x="3198" y="200"/>
                </a:moveTo>
                <a:lnTo>
                  <a:pt x="401" y="200"/>
                </a:lnTo>
                <a:lnTo>
                  <a:pt x="401" y="0"/>
                </a:lnTo>
                <a:lnTo>
                  <a:pt x="0" y="401"/>
                </a:lnTo>
                <a:lnTo>
                  <a:pt x="401" y="803"/>
                </a:lnTo>
                <a:lnTo>
                  <a:pt x="401" y="603"/>
                </a:lnTo>
                <a:lnTo>
                  <a:pt x="3198" y="603"/>
                </a:lnTo>
                <a:lnTo>
                  <a:pt x="3198" y="200"/>
                </a:lnTo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"/>
          <p:cNvSpPr/>
          <p:nvPr/>
        </p:nvSpPr>
        <p:spPr>
          <a:xfrm>
            <a:off x="2340000" y="39337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«Чтобы спасти Россию, нужно сжечь Москв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403280" y="907920"/>
            <a:ext cx="655344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«Тяжело в учении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легко вбою»</a:t>
            </a:r>
            <a:br>
              <a:rPr sz="3200"/>
            </a:br>
            <a:br>
              <a:rPr sz="32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2268360" y="206064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Кто с мечом к нам придет, тот от меча и погибне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"/>
          <p:cNvSpPr/>
          <p:nvPr/>
        </p:nvSpPr>
        <p:spPr>
          <a:xfrm>
            <a:off x="6588000" y="5229360"/>
            <a:ext cx="1152720" cy="431640"/>
          </a:xfrm>
          <a:custGeom>
            <a:avLst/>
            <a:gdLst>
              <a:gd name="textAreaLeft" fmla="*/ 0 w 1152720"/>
              <a:gd name="textAreaRight" fmla="*/ 1153080 w 115272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1152525" h="431800">
                <a:moveTo>
                  <a:pt x="0" y="300"/>
                </a:moveTo>
                <a:lnTo>
                  <a:pt x="2603" y="300"/>
                </a:lnTo>
                <a:lnTo>
                  <a:pt x="2603" y="0"/>
                </a:lnTo>
                <a:lnTo>
                  <a:pt x="3203" y="600"/>
                </a:lnTo>
                <a:lnTo>
                  <a:pt x="2603" y="1200"/>
                </a:lnTo>
                <a:lnTo>
                  <a:pt x="2603" y="900"/>
                </a:lnTo>
                <a:lnTo>
                  <a:pt x="0" y="900"/>
                </a:lnTo>
                <a:lnTo>
                  <a:pt x="0" y="300"/>
                </a:lnTo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"/>
          <p:cNvSpPr/>
          <p:nvPr/>
        </p:nvSpPr>
        <p:spPr>
          <a:xfrm>
            <a:off x="1258920" y="1844640"/>
            <a:ext cx="655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то с мечом к нам придёт, тот от меча и погибнет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23T18:48:37Z</dcterms:created>
  <dc:creator>Dima</dc:creator>
  <dc:description/>
  <dc:language>en-US</dc:language>
  <cp:lastModifiedBy>Нем.яз</cp:lastModifiedBy>
  <dcterms:modified xsi:type="dcterms:W3CDTF">2021-04-15T09:14:21Z</dcterms:modified>
  <cp:revision>5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