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4.jpeg" ContentType="image/jpeg"/>
  <Override PartName="/ppt/media/image21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30C9F-29AE-4010-8653-5D6A8F515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B2C76-2B07-4B0B-9241-6CEB0C7EF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EB9DE-F5DD-4606-9485-7563DBCF1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09609-5E0F-4E8F-9856-EBBD984B3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96A3F-FF6A-478A-B49C-22ED64F69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EBCD4-DAF5-425D-9085-A86974690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B3F9E-F1A6-4614-9974-1CBE664C3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D2528-C0E5-4033-97A5-27A3C5870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C056A-3025-4C8F-B4A2-F75A24328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DA5A5-4498-447A-A0ED-6341A7947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9268C-3A5A-4635-8285-E09CC2B3C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CF8B8-C0E5-4E24-9A7A-48F6EA3C0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F08FD-4F81-4DDA-A9A4-04F0426E0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E67BB-50F1-4289-9255-4605DCA3D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3D087-F8DE-444A-83B5-793207EB6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DC94F-7968-4DE7-B3B6-D7DCE9DA8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F9D45-2916-4D16-9A20-EF1321DE0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3B89B-9306-4A20-89D3-FE639B0F7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AA730-1373-40B8-BD3E-0EFEECFCF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94404-E58D-4974-89ED-9BFA43D08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F04FD-9902-4674-8289-5CA874538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CD395-775E-4172-A9C9-7E5325891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715B2-F7A4-4497-93A9-414C115FA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5B05F-D09F-43CC-B33D-1223A461A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17364-D723-433B-9468-B243D1A14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12475-6BE8-4787-9CF1-3B7635FF2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DA7FB-A7BF-441C-A3C1-537DA9AB4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706FE-F629-435C-A5BF-D6CF0F671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910CF-B28C-4D60-BECD-B3236FD5D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9712C-11BC-42E8-97C1-34A3E5CFB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AA3F7-B559-4B44-9C1D-3CC6E7E2F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1332000" y="195876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щитники земли русс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лександр Н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11280" y="552240"/>
            <a:ext cx="79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тодическая разработка внутриклассного внеурочного мероприят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6192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р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лена Анатольевна Вана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емец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тьяна Юрьевна Тихо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хонов Алексей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5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771640" y="0"/>
            <a:ext cx="3888000" cy="45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777744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rcRect l="0" t="0" r="47075" b="0"/>
          <a:stretch/>
        </p:blipFill>
        <p:spPr>
          <a:xfrm>
            <a:off x="324000" y="0"/>
            <a:ext cx="856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539640" y="266760"/>
            <a:ext cx="8064720" cy="633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7991640" y="5992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8592840" cy="53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20680" y="404640"/>
            <a:ext cx="859932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2066400" y="1773360"/>
            <a:ext cx="47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июля 12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071440" y="3573360"/>
            <a:ext cx="488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апреля 12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6300720" y="2852640"/>
            <a:ext cx="1224000" cy="432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223962" h="431800">
                <a:moveTo>
                  <a:pt x="0" y="300"/>
                </a:moveTo>
                <a:lnTo>
                  <a:pt x="2801" y="300"/>
                </a:lnTo>
                <a:lnTo>
                  <a:pt x="2801" y="0"/>
                </a:lnTo>
                <a:lnTo>
                  <a:pt x="3401" y="600"/>
                </a:lnTo>
                <a:lnTo>
                  <a:pt x="2801" y="1201"/>
                </a:lnTo>
                <a:lnTo>
                  <a:pt x="2801" y="900"/>
                </a:lnTo>
                <a:lnTo>
                  <a:pt x="0" y="900"/>
                </a:lnTo>
                <a:lnTo>
                  <a:pt x="0" y="300"/>
                </a:lnTo>
              </a:path>
            </a:pathLst>
          </a:custGeom>
          <a:solidFill>
            <a:srgbClr val="ffc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300720" y="4797360"/>
            <a:ext cx="1295640" cy="4320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295400" h="431800">
                <a:moveTo>
                  <a:pt x="0" y="300"/>
                </a:moveTo>
                <a:lnTo>
                  <a:pt x="3000" y="300"/>
                </a:lnTo>
                <a:lnTo>
                  <a:pt x="3000" y="0"/>
                </a:lnTo>
                <a:lnTo>
                  <a:pt x="3600" y="600"/>
                </a:lnTo>
                <a:lnTo>
                  <a:pt x="3000" y="1201"/>
                </a:lnTo>
                <a:lnTo>
                  <a:pt x="3000" y="900"/>
                </a:lnTo>
                <a:lnTo>
                  <a:pt x="0" y="900"/>
                </a:lnTo>
                <a:lnTo>
                  <a:pt x="0" y="300"/>
                </a:lnTo>
              </a:path>
            </a:pathLst>
          </a:cu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3492360" y="6093000"/>
            <a:ext cx="2087640" cy="36036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087563" h="360363">
                <a:moveTo>
                  <a:pt x="0" y="250"/>
                </a:moveTo>
                <a:lnTo>
                  <a:pt x="5299" y="250"/>
                </a:lnTo>
                <a:lnTo>
                  <a:pt x="5299" y="0"/>
                </a:lnTo>
                <a:lnTo>
                  <a:pt x="5800" y="501"/>
                </a:lnTo>
                <a:lnTo>
                  <a:pt x="5299" y="1002"/>
                </a:lnTo>
                <a:lnTo>
                  <a:pt x="5299" y="751"/>
                </a:lnTo>
                <a:lnTo>
                  <a:pt x="0" y="751"/>
                </a:lnTo>
                <a:lnTo>
                  <a:pt x="0" y="250"/>
                </a:lnTo>
              </a:path>
            </a:pathLst>
          </a:cu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6396120" y="5764320"/>
            <a:ext cx="1224000" cy="431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223962" h="431800">
                <a:moveTo>
                  <a:pt x="0" y="300"/>
                </a:moveTo>
                <a:lnTo>
                  <a:pt x="2801" y="300"/>
                </a:lnTo>
                <a:lnTo>
                  <a:pt x="2801" y="0"/>
                </a:lnTo>
                <a:lnTo>
                  <a:pt x="3401" y="600"/>
                </a:lnTo>
                <a:lnTo>
                  <a:pt x="2801" y="1200"/>
                </a:lnTo>
                <a:lnTo>
                  <a:pt x="2801" y="900"/>
                </a:lnTo>
                <a:lnTo>
                  <a:pt x="0" y="900"/>
                </a:lnTo>
                <a:lnTo>
                  <a:pt x="0" y="300"/>
                </a:lnTo>
              </a:path>
            </a:pathLst>
          </a:cu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72770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317080" y="5965920"/>
            <a:ext cx="57600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2"/>
          <p:cNvSpPr/>
          <p:nvPr/>
        </p:nvSpPr>
        <p:spPr>
          <a:xfrm rot="10800000">
            <a:off x="7235640" y="6338520"/>
            <a:ext cx="1152360" cy="3603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52525" h="360362">
                <a:moveTo>
                  <a:pt x="0" y="250"/>
                </a:moveTo>
                <a:lnTo>
                  <a:pt x="2701" y="250"/>
                </a:lnTo>
                <a:lnTo>
                  <a:pt x="2701" y="0"/>
                </a:lnTo>
                <a:lnTo>
                  <a:pt x="3201" y="501"/>
                </a:lnTo>
                <a:lnTo>
                  <a:pt x="2701" y="1002"/>
                </a:lnTo>
                <a:lnTo>
                  <a:pt x="2701" y="751"/>
                </a:lnTo>
                <a:lnTo>
                  <a:pt x="0" y="751"/>
                </a:lnTo>
                <a:lnTo>
                  <a:pt x="0" y="250"/>
                </a:lnTo>
              </a:path>
            </a:pathLst>
          </a:cu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619280" y="189000"/>
            <a:ext cx="6192720" cy="64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667560" cy="47624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648880" y="333360"/>
            <a:ext cx="425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ская би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524720" y="6237360"/>
            <a:ext cx="1150920" cy="36036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50938" h="360362">
                <a:moveTo>
                  <a:pt x="3198" y="250"/>
                </a:moveTo>
                <a:lnTo>
                  <a:pt x="500" y="250"/>
                </a:lnTo>
                <a:lnTo>
                  <a:pt x="500" y="0"/>
                </a:lnTo>
                <a:lnTo>
                  <a:pt x="0" y="501"/>
                </a:lnTo>
                <a:lnTo>
                  <a:pt x="500" y="1002"/>
                </a:lnTo>
                <a:lnTo>
                  <a:pt x="500" y="751"/>
                </a:lnTo>
                <a:lnTo>
                  <a:pt x="3198" y="751"/>
                </a:lnTo>
                <a:lnTo>
                  <a:pt x="3198" y="250"/>
                </a:ln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769440" cy="4537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2412000" y="620640"/>
            <a:ext cx="458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довое побо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7524720" y="6308640"/>
            <a:ext cx="1150920" cy="28908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150938" h="288925">
                <a:moveTo>
                  <a:pt x="3198" y="200"/>
                </a:moveTo>
                <a:lnTo>
                  <a:pt x="401" y="200"/>
                </a:lnTo>
                <a:lnTo>
                  <a:pt x="401" y="0"/>
                </a:lnTo>
                <a:lnTo>
                  <a:pt x="0" y="401"/>
                </a:lnTo>
                <a:lnTo>
                  <a:pt x="401" y="803"/>
                </a:lnTo>
                <a:lnTo>
                  <a:pt x="401" y="603"/>
                </a:lnTo>
                <a:lnTo>
                  <a:pt x="3198" y="603"/>
                </a:lnTo>
                <a:lnTo>
                  <a:pt x="3198" y="200"/>
                </a:ln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2340000" y="39337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«Чтобы спасти Россию, нужно сжечь Моск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403280" y="907920"/>
            <a:ext cx="65534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«Тяжело в учени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легко вбою»</a:t>
            </a:r>
            <a:br>
              <a:rPr sz="3200"/>
            </a:br>
            <a:br>
              <a:rPr sz="32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268360" y="2060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то с мечом к нам придет, тот от меча и погибн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6588000" y="5229360"/>
            <a:ext cx="1152720" cy="43164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152525" h="431800">
                <a:moveTo>
                  <a:pt x="0" y="300"/>
                </a:moveTo>
                <a:lnTo>
                  <a:pt x="2603" y="300"/>
                </a:lnTo>
                <a:lnTo>
                  <a:pt x="2603" y="0"/>
                </a:lnTo>
                <a:lnTo>
                  <a:pt x="3203" y="600"/>
                </a:lnTo>
                <a:lnTo>
                  <a:pt x="2603" y="1200"/>
                </a:lnTo>
                <a:lnTo>
                  <a:pt x="2603" y="900"/>
                </a:lnTo>
                <a:lnTo>
                  <a:pt x="0" y="900"/>
                </a:lnTo>
                <a:lnTo>
                  <a:pt x="0" y="300"/>
                </a:ln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258920" y="1844640"/>
            <a:ext cx="65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 мечом к нам придёт, тот от меча и погибнет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3T18:48:37Z</dcterms:created>
  <dc:creator>Dima</dc:creator>
  <dc:description/>
  <dc:language>en-US</dc:language>
  <cp:lastModifiedBy>Нем.яз</cp:lastModifiedBy>
  <dcterms:modified xsi:type="dcterms:W3CDTF">2021-04-15T09:14:21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