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9330FA-F049-40F2-B1ED-389585D44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B8AFE1-6334-45BE-8F82-9D0E01FC9CD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C490E5-128B-478D-8457-22187FE8C90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2FC-D3C2-4C03-AF0D-919EA467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774504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99120" y="4273560"/>
            <a:ext cx="774504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D14-A81D-4D7E-9FD1-5D52AC47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912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76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972-2763-48B3-86BF-CAE21258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7760" y="224820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36760" y="224820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99120" y="427356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7760" y="427356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36760" y="427356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10B-81C8-463E-8D24-34722B88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209-DC47-46A4-8366-F1A8720C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7F9-173A-400B-A657-51AEAA79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739-2CD8-42BC-B4D0-3AF0C090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8B1-7CF6-4B07-B3F3-755B2045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8320" y="570240"/>
            <a:ext cx="7755840" cy="48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E08-A0AD-4C8C-A8E9-5A6EC7F5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9912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6B2-79C8-4E51-8595-E5CEE45A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76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7ED-84FD-43A0-8BFB-CE22356F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9120" y="4273560"/>
            <a:ext cx="774504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D05-0717-4536-B354-FCDA1EB4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262626"/>
                </a:solidFill>
                <a:latin typeface="Book Antiqua"/>
              </a:rPr>
              <a:t>Второй уровень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Третий уровень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Четвертый уровень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Пятый уровень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5d1d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5d1d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5d1d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66C68B-7F1C-49FC-A7DC-B8F1ED851672}" type="slidenum">
              <a:rPr b="0" lang="en-US" sz="1200" spc="-1" strike="noStrike">
                <a:solidFill>
                  <a:srgbClr val="895d1d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6" name="Group 11"/>
          <p:cNvGrpSpPr/>
          <p:nvPr/>
        </p:nvGrpSpPr>
        <p:grpSpPr>
          <a:xfrm>
            <a:off x="1172520" y="1392120"/>
            <a:ext cx="6779160" cy="912600"/>
            <a:chOff x="1172520" y="1392120"/>
            <a:chExt cx="6779160" cy="912600"/>
          </a:xfrm>
        </p:grpSpPr>
        <p:sp>
          <p:nvSpPr>
            <p:cNvPr id="7" name="TextBox 12"/>
            <p:cNvSpPr/>
            <p:nvPr/>
          </p:nvSpPr>
          <p:spPr>
            <a:xfrm>
              <a:off x="4289400" y="139212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" name="Straight Connector 13"/>
            <p:cNvCxnSpPr/>
            <p:nvPr/>
          </p:nvCxnSpPr>
          <p:spPr>
            <a:xfrm flipH="1" flipV="1">
              <a:off x="1172520" y="193608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9" name="Straight Connector 14"/>
            <p:cNvCxnSpPr/>
            <p:nvPr/>
          </p:nvCxnSpPr>
          <p:spPr>
            <a:xfrm flipH="1" flipV="1">
              <a:off x="4831920" y="1933200"/>
              <a:ext cx="3120120" cy="180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esktop\depositphotos_14373519-stock-photo-paper-bird-craft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2680" y="2205000"/>
            <a:ext cx="71182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chemeClr val="accent5"/>
                </a:solidFill>
                <a:latin typeface="Monotype Corsiva"/>
              </a:rPr>
              <a:t>Искусство оригами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123640" y="4005000"/>
            <a:ext cx="5472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</a:rPr>
              <a:t>Педагог дополнительн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</a:rPr>
              <a:t>ГБОУ СОШ №539 Кировского района СП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Book Antiqua"/>
              </a:rPr>
              <a:t>МАРКИТАН ЕКАТЕРИНА ДМИТРИ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depositphotos_14373519-stock-photo-paper-bird-craft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75640" y="2709000"/>
            <a:ext cx="6516000" cy="25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Оригами</a:t>
            </a:r>
            <a:r>
              <a:rPr b="0" lang="ru-RU" sz="2400" spc="-1" strike="noStrike">
                <a:solidFill>
                  <a:srgbClr val="262626"/>
                </a:solidFill>
                <a:latin typeface="Monotype Corsiva"/>
              </a:rPr>
              <a:t> - это искусство бумажной пластики, родившееся в Японии. Несмотря на то, что сама бумага появилась в Китае, именно в Японии догадались складывать из нее удивительные по своей красоте фигурки. Может быть, свою роль здесь сыграло и то, что по-японски слова "бумага" и "бог" очень похожи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362600" y="1700640"/>
            <a:ext cx="64188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800" spc="-1" strike="noStrike">
                <a:solidFill>
                  <a:srgbClr val="c00000"/>
                </a:solidFill>
                <a:latin typeface="Monotype Corsiva"/>
              </a:rPr>
              <a:t>История оригами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User\Desktop\depositphotos_14373519-stock-photo-paper-bird-craft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8"/>
          <p:cNvSpPr/>
          <p:nvPr/>
        </p:nvSpPr>
        <p:spPr>
          <a:xfrm>
            <a:off x="3132000" y="1917000"/>
            <a:ext cx="42480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чиная с конца XVI века оригами из церемониального искусства превращается в любимое развлечение япон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явление большого числа авторских работ связано с именем знаменитого японского мастера Акиры Йошизавы. Именно он придумал "нотную азбуку" оригами, которая позволила записывать и передавать процесс складывания фиг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rcRect l="0" t="0" r="0" b="5930"/>
          <a:stretch/>
        </p:blipFill>
        <p:spPr>
          <a:xfrm>
            <a:off x="1331640" y="1917000"/>
            <a:ext cx="1982880" cy="3127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depositphotos_14373519-stock-photo-paper-bird-craft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99640" y="1845000"/>
            <a:ext cx="75560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а заре оригами использовалось в храмовых обрядах.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Через некоторое время умение складывать фигурки из бумаги стало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бязательной частью культуры японской аристократии.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Это умение передавалось из поколения в поколение.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екоторые знатные семьи даже использовали оригами как герб и печать.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63" name="Picture 2" descr="C:\Users\User\Desktop\img3.jpg"/>
          <p:cNvPicPr/>
          <p:nvPr/>
        </p:nvPicPr>
        <p:blipFill>
          <a:blip r:embed="rId2"/>
          <a:srcRect l="14774" t="21588" r="15309" b="12655"/>
          <a:stretch/>
        </p:blipFill>
        <p:spPr>
          <a:xfrm>
            <a:off x="3354120" y="3501000"/>
            <a:ext cx="29455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User\Desktop\depositphotos_14373519-stock-photo-paper-bird-craft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9720" y="1588680"/>
            <a:ext cx="77558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c00000"/>
                </a:solidFill>
                <a:latin typeface="Book Antiqua"/>
              </a:rPr>
              <a:t>Виды оригами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683640" y="2474280"/>
            <a:ext cx="748836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РОСТОЕ ОРИ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тиль оригами, придуманный британским оригамис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жоном Смитом, и который огранич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спользованием только складок горой и доли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Целью оригами является облегчение за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опытным оригамистам, а также людям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граниченными двигательными навы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User\Desktop\depositphotos_14373519-stock-photo-paper-bird-craft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63640" y="1607400"/>
            <a:ext cx="74163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МОДУЛЬНОЕ ОРИГАМИ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Одной из популярных разновидностей оригами является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модульное оригами, в котором целая фигура собирается из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многих одинаковых частей (модулей).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Каждый модуль складывается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по правилам классического оригами из одного листа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бумаги, а затем модули соединяются путем вкладывания их друг в друга, появляющаяся при этом сила трения не даёт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конструкции распасться.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Одним из наиболее часто встречающихся объектов модульного оригами является кусудама, объёмное тело шарообразной формы.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User\Desktop\3970_1_pet88r7tq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9"/>
          <p:cNvSpPr txBox="1"/>
          <p:nvPr/>
        </p:nvSpPr>
        <p:spPr>
          <a:xfrm>
            <a:off x="827640" y="745200"/>
            <a:ext cx="8820000" cy="1053720"/>
          </a:xfrm>
          <a:prstGeom prst="rect">
            <a:avLst/>
          </a:prstGeom>
        </p:spPr>
        <p:txBody>
          <a:bodyPr wrap="none" anchor="b">
            <a:prstTxWarp prst="textArchUp">
              <a:avLst>
                <a:gd name="adj" fmla="val 6353963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ln w="0">
                  <a:noFill/>
                </a:ln>
                <a:solidFill>
                  <a:srgbClr val="ff0000"/>
                </a:solidFill>
                <a:latin typeface="Book Antiqua"/>
              </a:rPr>
              <a:t>Спасибо за внимание!</a:t>
            </a:r>
            <a:endParaRPr b="1" i="1" lang="en-US" sz="60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Default Theme">
  <a:themeElements>
    <a:clrScheme name="Hardcover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efault Theme</Template>
  <TotalTime>98</TotalTime>
  <Application>LibreOffice/7.4.7.2$Linux_X86_64 LibreOffice_project/40$Build-2</Application>
  <AppVersion>15.0000</AppVersion>
  <Words>283</Words>
  <Paragraphs>3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23:35:22Z</dcterms:created>
  <dc:creator>Admin</dc:creator>
  <dc:description/>
  <dc:language>en-US</dc:language>
  <cp:lastModifiedBy>Teacher</cp:lastModifiedBy>
  <dcterms:modified xsi:type="dcterms:W3CDTF">2021-04-14T13:54:56Z</dcterms:modified>
  <cp:revision>16</cp:revision>
  <dc:subject/>
  <dc:title>История ориг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7</vt:r8>
  </property>
</Properties>
</file>