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84CEC13-A7EC-4578-99F8-5022031449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289746F-609A-4076-934C-5E3FA8A4A234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25B4B64-BC11-4F1C-9B5E-0BE8840995BF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8BF1-A0BE-42D6-8CF1-4156A9C92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8320" y="570240"/>
            <a:ext cx="77558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99120" y="2248200"/>
            <a:ext cx="7745040" cy="18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99120" y="4273560"/>
            <a:ext cx="7745040" cy="18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0B97-1AC7-4624-94D3-E0FFE40C9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8320" y="570240"/>
            <a:ext cx="77558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9120" y="2248200"/>
            <a:ext cx="3779280" cy="18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7760" y="2248200"/>
            <a:ext cx="3779280" cy="18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9120" y="4273560"/>
            <a:ext cx="3779280" cy="18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7760" y="4273560"/>
            <a:ext cx="3779280" cy="18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C394-8D32-4EE4-BEA8-294B427B5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8320" y="570240"/>
            <a:ext cx="77558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99120" y="2248200"/>
            <a:ext cx="2493720" cy="18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7760" y="2248200"/>
            <a:ext cx="2493720" cy="18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36760" y="2248200"/>
            <a:ext cx="2493720" cy="18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99120" y="4273560"/>
            <a:ext cx="2493720" cy="18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7760" y="4273560"/>
            <a:ext cx="2493720" cy="18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36760" y="4273560"/>
            <a:ext cx="2493720" cy="18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D264-1B13-497A-9B04-AD5623A10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8320" y="570240"/>
            <a:ext cx="77558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99120" y="2248200"/>
            <a:ext cx="7745040" cy="387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55CE-448C-4EC0-902F-EAF988B4C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8320" y="570240"/>
            <a:ext cx="77558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9120" y="2248200"/>
            <a:ext cx="7745040" cy="387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78DD-6743-4731-B413-51473CADD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8320" y="570240"/>
            <a:ext cx="77558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99120" y="2248200"/>
            <a:ext cx="3779280" cy="387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2248200"/>
            <a:ext cx="3779280" cy="387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388E-40F0-439A-AF1B-78D825CD3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8320" y="570240"/>
            <a:ext cx="77558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838C-21CA-428E-ABAC-E00D83D66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8320" y="570240"/>
            <a:ext cx="7755840" cy="48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1217-C27A-4935-8761-590ADC805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8320" y="570240"/>
            <a:ext cx="77558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99120" y="2248200"/>
            <a:ext cx="3779280" cy="18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760" y="2248200"/>
            <a:ext cx="3779280" cy="387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99120" y="4273560"/>
            <a:ext cx="3779280" cy="18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2BE4-C195-4D05-9471-F774E87F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8320" y="570240"/>
            <a:ext cx="77558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9120" y="2248200"/>
            <a:ext cx="3779280" cy="387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7760" y="2248200"/>
            <a:ext cx="3779280" cy="18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7760" y="4273560"/>
            <a:ext cx="3779280" cy="18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DF6A-D98F-47F7-9575-3CE9B709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8320" y="570240"/>
            <a:ext cx="77558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9120" y="2248200"/>
            <a:ext cx="3779280" cy="18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7760" y="2248200"/>
            <a:ext cx="3779280" cy="18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9120" y="4273560"/>
            <a:ext cx="7745040" cy="18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EAE5-5B63-466A-A75E-516A48F1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gradFill rotWithShape="0">
            <a:gsLst>
              <a:gs pos="0">
                <a:srgbClr val="ffffff">
                  <a:alpha val="11372"/>
                </a:srgbClr>
              </a:gs>
              <a:gs pos="100000">
                <a:srgbClr val="d1ca75">
                  <a:alpha val="23137"/>
                </a:srgbClr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99120" y="2248200"/>
            <a:ext cx="7745040" cy="387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760" indent="-365760">
              <a:lnSpc>
                <a:spcPct val="100000"/>
              </a:lnSpc>
              <a:spcBef>
                <a:spcPts val="479"/>
              </a:spcBef>
              <a:buClr>
                <a:srgbClr val="873624"/>
              </a:buClr>
              <a:buFont typeface="Wingdings" charset="2"/>
              <a:buChar char=""/>
            </a:pPr>
            <a:r>
              <a:rPr b="0" lang="ru-RU" sz="2400" spc="-1" strike="noStrike">
                <a:solidFill>
                  <a:srgbClr val="262626"/>
                </a:solidFill>
                <a:latin typeface="Book Antiqua"/>
              </a:rPr>
              <a:t>Образец текста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7240" indent="-365760">
              <a:lnSpc>
                <a:spcPct val="100000"/>
              </a:lnSpc>
              <a:spcBef>
                <a:spcPts val="439"/>
              </a:spcBef>
              <a:buClr>
                <a:srgbClr val="873624"/>
              </a:buClr>
              <a:buFont typeface="Wingdings" charset="2"/>
              <a:buChar char=""/>
            </a:pPr>
            <a:r>
              <a:rPr b="0" lang="ru-RU" sz="2200" spc="-1" strike="noStrike">
                <a:solidFill>
                  <a:srgbClr val="262626"/>
                </a:solidFill>
                <a:latin typeface="Book Antiqua"/>
              </a:rPr>
              <a:t>Второй уровень</a:t>
            </a: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760">
              <a:lnSpc>
                <a:spcPct val="100000"/>
              </a:lnSpc>
              <a:spcBef>
                <a:spcPts val="400"/>
              </a:spcBef>
              <a:buClr>
                <a:srgbClr val="873624"/>
              </a:buClr>
              <a:buFont typeface="Wingdings" charset="2"/>
              <a:buChar char=""/>
            </a:pPr>
            <a:r>
              <a:rPr b="0" lang="ru-RU" sz="2000" spc="-1" strike="noStrike">
                <a:solidFill>
                  <a:srgbClr val="262626"/>
                </a:solidFill>
                <a:latin typeface="Book Antiqua"/>
              </a:rPr>
              <a:t>Третий уровень</a:t>
            </a:r>
            <a:endParaRPr b="0" lang="en-US" sz="2000" spc="-1" strike="noStrike">
              <a:solidFill>
                <a:srgbClr val="262626"/>
              </a:solidFill>
              <a:latin typeface="Book Antiqua"/>
            </a:endParaRPr>
          </a:p>
          <a:p>
            <a:pPr lvl="3" marL="1508760" indent="-320040">
              <a:lnSpc>
                <a:spcPct val="100000"/>
              </a:lnSpc>
              <a:spcBef>
                <a:spcPts val="360"/>
              </a:spcBef>
              <a:buClr>
                <a:srgbClr val="873624"/>
              </a:buClr>
              <a:buFont typeface="Wingdings" charset="2"/>
              <a:buChar char=""/>
            </a:pPr>
            <a:r>
              <a:rPr b="0" lang="ru-RU" sz="1800" spc="-1" strike="noStrike">
                <a:solidFill>
                  <a:srgbClr val="262626"/>
                </a:solidFill>
                <a:latin typeface="Book Antiqua"/>
              </a:rPr>
              <a:t>Четвертый уровень</a:t>
            </a:r>
            <a:endParaRPr b="0" lang="en-US" sz="18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20040">
              <a:lnSpc>
                <a:spcPct val="100000"/>
              </a:lnSpc>
              <a:spcBef>
                <a:spcPts val="320"/>
              </a:spcBef>
              <a:buClr>
                <a:srgbClr val="873624"/>
              </a:buClr>
              <a:buFont typeface="Wingdings" charset="2"/>
              <a:buChar char=""/>
            </a:pPr>
            <a:r>
              <a:rPr b="0" lang="ru-RU" sz="1600" spc="-1" strike="noStrike">
                <a:solidFill>
                  <a:srgbClr val="262626"/>
                </a:solidFill>
                <a:latin typeface="Book Antiqua"/>
              </a:rPr>
              <a:t>Пятый уровень</a:t>
            </a:r>
            <a:endParaRPr b="0" lang="en-US" sz="16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360360" y="616140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95d1d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95d1d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161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639120" y="616140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5d1d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58ED68C-5984-4AE2-9D4E-5757BF62556C}" type="slidenum">
              <a:rPr b="0" lang="en-US" sz="1200" spc="-1" strike="noStrike">
                <a:solidFill>
                  <a:srgbClr val="895d1d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688320" y="570240"/>
            <a:ext cx="7755840" cy="105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895d1d"/>
                </a:solidFill>
                <a:latin typeface="Book Antiqua"/>
              </a:rPr>
              <a:t>Образец заголовка</a:t>
            </a:r>
            <a:endParaRPr b="0" lang="en-US" sz="54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6" name="Group 11"/>
          <p:cNvGrpSpPr/>
          <p:nvPr/>
        </p:nvGrpSpPr>
        <p:grpSpPr>
          <a:xfrm>
            <a:off x="1172520" y="1392120"/>
            <a:ext cx="6779160" cy="912600"/>
            <a:chOff x="1172520" y="1392120"/>
            <a:chExt cx="6779160" cy="912600"/>
          </a:xfrm>
        </p:grpSpPr>
        <p:sp>
          <p:nvSpPr>
            <p:cNvPr id="7" name="TextBox 12"/>
            <p:cNvSpPr/>
            <p:nvPr/>
          </p:nvSpPr>
          <p:spPr>
            <a:xfrm>
              <a:off x="4289400" y="1392120"/>
              <a:ext cx="59256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" name="Straight Connector 13"/>
            <p:cNvCxnSpPr/>
            <p:nvPr/>
          </p:nvCxnSpPr>
          <p:spPr>
            <a:xfrm flipH="1" flipV="1">
              <a:off x="1172520" y="1936080"/>
              <a:ext cx="3120120" cy="2160"/>
            </a:xfrm>
            <a:prstGeom prst="straightConnector1">
              <a:avLst/>
            </a:prstGeom>
            <a:ln>
              <a:solidFill>
                <a:srgbClr val="895d1d">
                  <a:lumMod val="60000"/>
                  <a:lumOff val="40000"/>
                </a:srgbClr>
              </a:solidFill>
              <a:round/>
            </a:ln>
          </p:spPr>
        </p:cxnSp>
        <p:cxnSp>
          <p:nvCxnSpPr>
            <p:cNvPr id="9" name="Straight Connector 14"/>
            <p:cNvCxnSpPr/>
            <p:nvPr/>
          </p:nvCxnSpPr>
          <p:spPr>
            <a:xfrm flipH="1" flipV="1">
              <a:off x="4831920" y="1933200"/>
              <a:ext cx="3120120" cy="1800"/>
            </a:xfrm>
            <a:prstGeom prst="straightConnector1">
              <a:avLst/>
            </a:prstGeom>
            <a:ln>
              <a:solidFill>
                <a:srgbClr val="895d1d">
                  <a:lumMod val="60000"/>
                  <a:lumOff val="40000"/>
                </a:srgbClr>
              </a:solidFill>
              <a:round/>
            </a:ln>
          </p:spPr>
        </p:cxn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User\Desktop\depositphotos_14373519-stock-photo-paper-bird-craft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12680" y="2205000"/>
            <a:ext cx="711828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6000" spc="-1" strike="noStrike">
                <a:solidFill>
                  <a:schemeClr val="accent5"/>
                </a:solidFill>
                <a:latin typeface="Monotype Corsiva"/>
              </a:rPr>
              <a:t>Искусство оригами</a:t>
            </a:r>
            <a:endParaRPr b="0" lang="en-US" sz="6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2123640" y="4005000"/>
            <a:ext cx="547236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ru-RU" sz="2000" spc="-1" strike="noStrike">
                <a:solidFill>
                  <a:srgbClr val="002060"/>
                </a:solidFill>
                <a:latin typeface="Book Antiqua"/>
              </a:rPr>
              <a:t>Педагог дополнительного образов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2000" spc="-1" strike="noStrike">
                <a:solidFill>
                  <a:srgbClr val="002060"/>
                </a:solidFill>
                <a:latin typeface="Book Antiqua"/>
              </a:rPr>
              <a:t>ГБОУ СОШ №539 Кировского района СП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ru-RU" sz="2000" spc="-1" strike="noStrike">
                <a:solidFill>
                  <a:srgbClr val="c00000"/>
                </a:solidFill>
                <a:latin typeface="Book Antiqua"/>
              </a:rPr>
              <a:t>МАРКИТАН ЕКАТЕРИНА ДМИТРИ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Users\User\Desktop\depositphotos_14373519-stock-photo-paper-bird-craft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475640" y="2709000"/>
            <a:ext cx="6516000" cy="25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Monotype Corsiva"/>
              </a:rPr>
              <a:t>Оригами</a:t>
            </a:r>
            <a:r>
              <a:rPr b="0" lang="ru-RU" sz="2400" spc="-1" strike="noStrike">
                <a:solidFill>
                  <a:srgbClr val="262626"/>
                </a:solidFill>
                <a:latin typeface="Monotype Corsiva"/>
              </a:rPr>
              <a:t> - это искусство бумажной пластики, родившееся в Японии. Несмотря на то, что сама бумага появилась в Китае, именно в Японии догадались складывать из нее удивительные по своей красоте фигурки. Может быть, свою роль здесь сыграло и то, что по-японски слова "бумага" и "бог" очень похожи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1362600" y="1700640"/>
            <a:ext cx="6418800" cy="86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4800" spc="-1" strike="noStrike">
                <a:solidFill>
                  <a:srgbClr val="c00000"/>
                </a:solidFill>
                <a:latin typeface="Monotype Corsiva"/>
              </a:rPr>
              <a:t>История оригами</a:t>
            </a:r>
            <a:endParaRPr b="0" lang="en-US" sz="4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Users\User\Desktop\depositphotos_14373519-stock-photo-paper-bird-craft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8"/>
          <p:cNvSpPr/>
          <p:nvPr/>
        </p:nvSpPr>
        <p:spPr>
          <a:xfrm>
            <a:off x="3132000" y="1917000"/>
            <a:ext cx="4248000" cy="40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Начиная с конца XVI века оригами из церемониального искусства превращается в любимое развлечение японце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Появление большого числа авторских работ связано с именем знаменитого японского мастера Акиры Йошизавы. Именно он придумал "нотную азбуку" оригами, которая позволила записывать и передавать процесс складывания фигур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2"/>
          <a:srcRect l="0" t="0" r="0" b="5930"/>
          <a:stretch/>
        </p:blipFill>
        <p:spPr>
          <a:xfrm>
            <a:off x="1331640" y="1917000"/>
            <a:ext cx="1982880" cy="31276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Users\User\Desktop\depositphotos_14373519-stock-photo-paper-bird-craft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899640" y="1845000"/>
            <a:ext cx="755604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На заре оригами использовалось в храмовых обрядах. </a:t>
            </a:r>
            <a:endParaRPr b="0" lang="en-US" sz="1800" spc="-1" strike="noStrike">
              <a:solidFill>
                <a:srgbClr val="262626"/>
              </a:solidFill>
              <a:latin typeface="Book Antiqua"/>
            </a:endParaRPr>
          </a:p>
          <a:p>
            <a:pPr indent="0" algn="ct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Через некоторое время умение складывать фигурки из бумаги стало </a:t>
            </a:r>
            <a:endParaRPr b="0" lang="en-US" sz="1800" spc="-1" strike="noStrike">
              <a:solidFill>
                <a:srgbClr val="262626"/>
              </a:solidFill>
              <a:latin typeface="Book Antiqua"/>
            </a:endParaRPr>
          </a:p>
          <a:p>
            <a:pPr indent="0" algn="ct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обязательной частью культуры японской аристократии. </a:t>
            </a:r>
            <a:endParaRPr b="0" lang="en-US" sz="1800" spc="-1" strike="noStrike">
              <a:solidFill>
                <a:srgbClr val="262626"/>
              </a:solidFill>
              <a:latin typeface="Book Antiqua"/>
            </a:endParaRPr>
          </a:p>
          <a:p>
            <a:pPr indent="0" algn="ct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Это умение передавалось из поколения в поколение. </a:t>
            </a:r>
            <a:endParaRPr b="0" lang="en-US" sz="1800" spc="-1" strike="noStrike">
              <a:solidFill>
                <a:srgbClr val="262626"/>
              </a:solidFill>
              <a:latin typeface="Book Antiqua"/>
            </a:endParaRPr>
          </a:p>
          <a:p>
            <a:pPr indent="0" algn="ct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Некоторые знатные семьи даже использовали оригами как герб и печать.</a:t>
            </a:r>
            <a:endParaRPr b="0" lang="en-US" sz="1800" spc="-1" strike="noStrike">
              <a:solidFill>
                <a:srgbClr val="262626"/>
              </a:solidFill>
              <a:latin typeface="Book Antiqua"/>
            </a:endParaRPr>
          </a:p>
        </p:txBody>
      </p:sp>
      <p:pic>
        <p:nvPicPr>
          <p:cNvPr id="63" name="Picture 2" descr="C:\Users\User\Desktop\img3.jpg"/>
          <p:cNvPicPr/>
          <p:nvPr/>
        </p:nvPicPr>
        <p:blipFill>
          <a:blip r:embed="rId2"/>
          <a:srcRect l="14774" t="21588" r="15309" b="12655"/>
          <a:stretch/>
        </p:blipFill>
        <p:spPr>
          <a:xfrm>
            <a:off x="3354120" y="3501000"/>
            <a:ext cx="2945520" cy="20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Users\User\Desktop\depositphotos_14373519-stock-photo-paper-bird-craft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49720" y="1588680"/>
            <a:ext cx="7755840" cy="83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800" spc="-1" strike="noStrike">
                <a:solidFill>
                  <a:srgbClr val="c00000"/>
                </a:solidFill>
                <a:latin typeface="Book Antiqua"/>
              </a:rPr>
              <a:t>Виды оригами</a:t>
            </a:r>
            <a:endParaRPr b="0" lang="en-US" sz="4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6" name="Прямоугольник 7"/>
          <p:cNvSpPr/>
          <p:nvPr/>
        </p:nvSpPr>
        <p:spPr>
          <a:xfrm>
            <a:off x="683640" y="2474280"/>
            <a:ext cx="7488360" cy="30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ПРОСТОЕ ОРИГ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— 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стиль оригами, придуманный британским оригамист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Джоном Смитом, и который ограниче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использованием только складок горой и долин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Целью оригами является облегчение занят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неопытным оригамистам, а также людям 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ограниченными двигательными навык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Users\User\Desktop\depositphotos_14373519-stock-photo-paper-bird-craft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863640" y="1607400"/>
            <a:ext cx="7416360" cy="436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Monotype Corsiva"/>
              </a:rPr>
              <a:t>МОДУЛЬНОЕ ОРИГАМИ </a:t>
            </a:r>
            <a:endParaRPr b="0" lang="en-US" sz="2000" spc="-1" strike="noStrike">
              <a:solidFill>
                <a:srgbClr val="262626"/>
              </a:solidFill>
              <a:latin typeface="Book Antiqu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d0d0d"/>
                </a:solidFill>
                <a:latin typeface="Monotype Corsiva"/>
              </a:rPr>
              <a:t>Одной из популярных разновидностей оригами является </a:t>
            </a:r>
            <a:endParaRPr b="0" lang="en-US" sz="2000" spc="-1" strike="noStrike">
              <a:solidFill>
                <a:srgbClr val="262626"/>
              </a:solidFill>
              <a:latin typeface="Book Antiqu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d0d0d"/>
                </a:solidFill>
                <a:latin typeface="Monotype Corsiva"/>
              </a:rPr>
              <a:t>модульное оригами, в котором целая фигура собирается из </a:t>
            </a:r>
            <a:endParaRPr b="0" lang="en-US" sz="2000" spc="-1" strike="noStrike">
              <a:solidFill>
                <a:srgbClr val="262626"/>
              </a:solidFill>
              <a:latin typeface="Book Antiqu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d0d0d"/>
                </a:solidFill>
                <a:latin typeface="Monotype Corsiva"/>
              </a:rPr>
              <a:t>многих одинаковых частей (модулей). </a:t>
            </a:r>
            <a:endParaRPr b="0" lang="en-US" sz="2000" spc="-1" strike="noStrike">
              <a:solidFill>
                <a:srgbClr val="262626"/>
              </a:solidFill>
              <a:latin typeface="Book Antiqu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d0d0d"/>
                </a:solidFill>
                <a:latin typeface="Monotype Corsiva"/>
              </a:rPr>
              <a:t>Каждый модуль складывается </a:t>
            </a:r>
            <a:endParaRPr b="0" lang="en-US" sz="2000" spc="-1" strike="noStrike">
              <a:solidFill>
                <a:srgbClr val="262626"/>
              </a:solidFill>
              <a:latin typeface="Book Antiqu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d0d0d"/>
                </a:solidFill>
                <a:latin typeface="Monotype Corsiva"/>
              </a:rPr>
              <a:t>по правилам классического оригами из одного листа </a:t>
            </a:r>
            <a:endParaRPr b="0" lang="en-US" sz="2000" spc="-1" strike="noStrike">
              <a:solidFill>
                <a:srgbClr val="262626"/>
              </a:solidFill>
              <a:latin typeface="Book Antiqu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d0d0d"/>
                </a:solidFill>
                <a:latin typeface="Monotype Corsiva"/>
              </a:rPr>
              <a:t>бумаги, а затем модули соединяются путем вкладывания их друг в друга, появляющаяся при этом сила трения не даёт </a:t>
            </a:r>
            <a:endParaRPr b="0" lang="en-US" sz="2000" spc="-1" strike="noStrike">
              <a:solidFill>
                <a:srgbClr val="262626"/>
              </a:solidFill>
              <a:latin typeface="Book Antiqu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d0d0d"/>
                </a:solidFill>
                <a:latin typeface="Monotype Corsiva"/>
              </a:rPr>
              <a:t>конструкции распасться. </a:t>
            </a:r>
            <a:endParaRPr b="0" lang="en-US" sz="2000" spc="-1" strike="noStrike">
              <a:solidFill>
                <a:srgbClr val="262626"/>
              </a:solidFill>
              <a:latin typeface="Book Antiqu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d0d0d"/>
                </a:solidFill>
                <a:latin typeface="Monotype Corsiva"/>
              </a:rPr>
              <a:t>Одним из наиболее часто встречающихся объектов модульного оригами является кусудама, объёмное тело шарообразной формы. </a:t>
            </a:r>
            <a:endParaRPr b="0" lang="en-US" sz="2000" spc="-1" strike="noStrike">
              <a:solidFill>
                <a:srgbClr val="262626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:\Users\User\Desktop\3970_1_pet88r7tq5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70" name="Заголовок 9"/>
          <p:cNvSpPr txBox="1"/>
          <p:nvPr/>
        </p:nvSpPr>
        <p:spPr>
          <a:xfrm>
            <a:off x="827640" y="745200"/>
            <a:ext cx="8820000" cy="1053720"/>
          </a:xfrm>
          <a:prstGeom prst="rect">
            <a:avLst/>
          </a:prstGeom>
        </p:spPr>
        <p:txBody>
          <a:bodyPr wrap="none" anchor="b">
            <a:prstTxWarp prst="textArchUp">
              <a:avLst>
                <a:gd name="adj" fmla="val 6353963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i="1" lang="ru-RU" sz="6000" spc="-1" strike="noStrike">
                <a:ln w="0">
                  <a:noFill/>
                </a:ln>
                <a:solidFill>
                  <a:srgbClr val="ff0000"/>
                </a:solidFill>
                <a:latin typeface="Book Antiqua"/>
              </a:rPr>
              <a:t>Спасибо за внимание!</a:t>
            </a:r>
            <a:endParaRPr b="1" i="1" lang="en-US" sz="6000" spc="-1" strike="noStrike">
              <a:ln w="0">
                <a:noFill/>
              </a:ln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Default Theme">
  <a:themeElements>
    <a:clrScheme name="Hardcover">
      <a:dk1>
        <a:srgbClr val="000000"/>
      </a:dk1>
      <a:lt1>
        <a:srgbClr val="ffffff"/>
      </a:lt1>
      <a:dk2>
        <a:srgbClr val="895d1d"/>
      </a:dk2>
      <a:lt2>
        <a:srgbClr val="ece9c6"/>
      </a:lt2>
      <a:accent1>
        <a:srgbClr val="873624"/>
      </a:accent1>
      <a:accent2>
        <a:srgbClr val="d6862d"/>
      </a:accent2>
      <a:accent3>
        <a:srgbClr val="d0be40"/>
      </a:accent3>
      <a:accent4>
        <a:srgbClr val="877f6c"/>
      </a:accent4>
      <a:accent5>
        <a:srgbClr val="972109"/>
      </a:accent5>
      <a:accent6>
        <a:srgbClr val="aeb795"/>
      </a:accent6>
      <a:hlink>
        <a:srgbClr val="cc9900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895d1d"/>
      </a:dk2>
      <a:lt2>
        <a:srgbClr val="ece9c6"/>
      </a:lt2>
      <a:accent1>
        <a:srgbClr val="873624"/>
      </a:accent1>
      <a:accent2>
        <a:srgbClr val="d6862d"/>
      </a:accent2>
      <a:accent3>
        <a:srgbClr val="d0be40"/>
      </a:accent3>
      <a:accent4>
        <a:srgbClr val="877f6c"/>
      </a:accent4>
      <a:accent5>
        <a:srgbClr val="972109"/>
      </a:accent5>
      <a:accent6>
        <a:srgbClr val="aeb795"/>
      </a:accent6>
      <a:hlink>
        <a:srgbClr val="cc9900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Default Theme</Template>
  <TotalTime>98</TotalTime>
  <Application>LibreOffice/7.4.7.2$Linux_X86_64 LibreOffice_project/40$Build-2</Application>
  <AppVersion>15.0000</AppVersion>
  <Words>283</Words>
  <Paragraphs>33</Paragraphs>
  <Company>SPecialiST RePack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8T23:35:22Z</dcterms:created>
  <dc:creator>Admin</dc:creator>
  <dc:description/>
  <dc:language>en-US</dc:language>
  <cp:lastModifiedBy>Teacher</cp:lastModifiedBy>
  <dcterms:modified xsi:type="dcterms:W3CDTF">2021-04-14T13:54:56Z</dcterms:modified>
  <cp:revision>16</cp:revision>
  <dc:subject/>
  <dc:title>История оригам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Экран (4:3)</vt:lpwstr>
  </property>
  <property fmtid="{D5CDD505-2E9C-101B-9397-08002B2CF9AE}" pid="4" name="Slides">
    <vt:r8>7</vt:r8>
  </property>
</Properties>
</file>