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5AAE-202E-4EFB-AC07-2208F3319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AF41-988D-41F8-8B9B-71F6F7F1F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840A-2F58-4B73-AB69-DA5EDE443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127008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038200"/>
            <a:ext cx="3369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FD8A-829B-4FA4-98A9-41C22EA6C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7AED-B951-49A2-AEE8-FE27F85EFC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ECAD-DB51-483F-B140-95D5F3663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4EA0-CFD3-490E-A563-7F9A7160C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5A50-7E3B-48AA-8336-F7300A1E5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1B5B-85C3-4064-9D93-E18ABAEB5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82A6-8AEE-4ABC-911D-688DBA9EA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03820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E1FE-E8A2-4DDC-ACFE-B5DBE9C96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1270080"/>
            <a:ext cx="510660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038200"/>
            <a:ext cx="10464840" cy="344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1972-98F7-44FB-B983-84D55F774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552240" indent="-552240">
              <a:spcBef>
                <a:spcPts val="4201"/>
              </a:spcBef>
              <a:buSzPct val="100000"/>
              <a:buBlip>
                <a:blip r:embed="rId3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1" marL="1104840" indent="-552240">
              <a:spcBef>
                <a:spcPts val="4201"/>
              </a:spcBef>
              <a:buSzPct val="100000"/>
              <a:buBlip>
                <a:blip r:embed="rId4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2" marL="1657440" indent="-552240">
              <a:spcBef>
                <a:spcPts val="4201"/>
              </a:spcBef>
              <a:buSzPct val="100000"/>
              <a:buBlip>
                <a:blip r:embed="rId5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3" marL="2209680" indent="-552240">
              <a:spcBef>
                <a:spcPts val="4201"/>
              </a:spcBef>
              <a:buSzPct val="100000"/>
              <a:buBlip>
                <a:blip r:embed="rId6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4" marL="2761920" indent="-551880">
              <a:spcBef>
                <a:spcPts val="4201"/>
              </a:spcBef>
              <a:buSzPct val="100000"/>
              <a:buBlip>
                <a:blip r:embed="rId7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5" marL="2761920" indent="-551880">
              <a:spcBef>
                <a:spcPts val="4201"/>
              </a:spcBef>
              <a:buSzPct val="100000"/>
              <a:buBlip>
                <a:blip r:embed="rId8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  <a:p>
            <a:pPr lvl="6" marL="2761920" indent="-551880">
              <a:spcBef>
                <a:spcPts val="4201"/>
              </a:spcBef>
              <a:buSzPct val="100000"/>
              <a:buBlip>
                <a:blip r:embed="rId9"/>
              </a:buBlip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600" spc="-1" strike="noStrike">
                <a:solidFill>
                  <a:srgbClr val="858585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45a7de"/>
                </a:solidFill>
                <a:latin typeface="Marker Felt"/>
              </a:rPr>
              <a:t>Click to edit the title text format</a:t>
            </a:r>
            <a:endParaRPr b="0" lang="en-US" sz="80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11520" y="9271080"/>
            <a:ext cx="374760" cy="35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ru-RU" sz="1800" spc="-1" strike="noStrike">
                <a:solidFill>
                  <a:srgbClr val="868686"/>
                </a:solidFill>
                <a:latin typeface="Marker Felt"/>
              </a:defRPr>
            </a:lvl1pPr>
          </a:lstStyle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079FC6-3AB0-4DD4-89A0-2BEC7734EAF2}" type="slidenum">
              <a:rPr b="0" lang="ru-RU" sz="1800" spc="-1" strike="noStrike">
                <a:solidFill>
                  <a:srgbClr val="868686"/>
                </a:solidFill>
                <a:latin typeface="Marker Felt"/>
              </a:rPr>
              <a:t>&lt;number&gt;</a:t>
            </a:fld>
            <a:endParaRPr b="0" lang="en-US" sz="18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iq-body.ru/articles/trening/razminka-pered-trenirovkoj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iq-body.ru/programs/home-trainin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917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ru-RU" sz="9500" spc="-1" strike="noStrike">
                <a:solidFill>
                  <a:srgbClr val="45a7de"/>
                </a:solidFill>
                <a:latin typeface="Marker Felt"/>
              </a:rPr>
              <a:t>Отжимаемся правильно</a:t>
            </a:r>
            <a:endParaRPr b="0" lang="en-US" sz="9500" spc="-1" strike="noStrike">
              <a:solidFill>
                <a:srgbClr val="45a7de"/>
              </a:solidFill>
              <a:latin typeface="Marker Fel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16600"/>
            <a:ext cx="10464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858585"/>
                </a:solidFill>
                <a:latin typeface="Marker Felt"/>
              </a:rPr>
              <a:t>Проект</a:t>
            </a:r>
            <a:endParaRPr b="0" lang="en-US" sz="2800" spc="-1" strike="noStrike">
              <a:solidFill>
                <a:srgbClr val="858585"/>
              </a:solidFill>
              <a:latin typeface="Marker Felt"/>
            </a:endParaRPr>
          </a:p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858585"/>
                </a:solidFill>
                <a:latin typeface="Marker Felt"/>
              </a:rPr>
              <a:t>Ученика 6В класса</a:t>
            </a:r>
            <a:endParaRPr b="0" lang="en-US" sz="2800" spc="-1" strike="noStrike">
              <a:solidFill>
                <a:srgbClr val="858585"/>
              </a:solidFill>
              <a:latin typeface="Marker Felt"/>
            </a:endParaRPr>
          </a:p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858585"/>
                </a:solidFill>
                <a:latin typeface="Marker Felt"/>
              </a:rPr>
              <a:t>Кобзаря Григория</a:t>
            </a:r>
            <a:endParaRPr b="0" lang="en-US" sz="28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3627360" y="379440"/>
            <a:ext cx="5344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5. На одной руке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6" name="Picture 2" descr="Без названия 8.jpeg"/>
          <p:cNvPicPr/>
          <p:nvPr/>
        </p:nvPicPr>
        <p:blipFill>
          <a:blip r:embed="rId1"/>
          <a:stretch/>
        </p:blipFill>
        <p:spPr>
          <a:xfrm>
            <a:off x="2368440" y="1639800"/>
            <a:ext cx="8266320" cy="74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425840" y="582480"/>
            <a:ext cx="415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6. С хлопком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8" name="Picture 2" descr="06.jpeg"/>
          <p:cNvPicPr/>
          <p:nvPr/>
        </p:nvPicPr>
        <p:blipFill>
          <a:blip r:embed="rId1"/>
          <a:stretch/>
        </p:blipFill>
        <p:spPr>
          <a:xfrm>
            <a:off x="620640" y="2089080"/>
            <a:ext cx="11761920" cy="557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125240" y="447840"/>
            <a:ext cx="442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7. На пальцах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60" name="Picture 2" descr="07.jpeg"/>
          <p:cNvPicPr/>
          <p:nvPr/>
        </p:nvPicPr>
        <p:blipFill>
          <a:blip r:embed="rId1"/>
          <a:stretch/>
        </p:blipFill>
        <p:spPr>
          <a:xfrm>
            <a:off x="1770120" y="1735200"/>
            <a:ext cx="9779040" cy="73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3673800" y="480960"/>
            <a:ext cx="5655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8. С отягощением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62" name="Picture 2" descr="08.jpeg"/>
          <p:cNvPicPr/>
          <p:nvPr/>
        </p:nvPicPr>
        <p:blipFill>
          <a:blip r:embed="rId1"/>
          <a:stretch/>
        </p:blipFill>
        <p:spPr>
          <a:xfrm>
            <a:off x="790560" y="1805040"/>
            <a:ext cx="11422080" cy="68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2980800" y="465120"/>
            <a:ext cx="7455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9. Глубокие отжимания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64" name="Picture 2" descr="09.jpeg"/>
          <p:cNvPicPr/>
          <p:nvPr/>
        </p:nvPicPr>
        <p:blipFill>
          <a:blip r:embed="rId1"/>
          <a:stretch/>
        </p:blipFill>
        <p:spPr>
          <a:xfrm>
            <a:off x="685800" y="2328840"/>
            <a:ext cx="11631600" cy="61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140720" y="396720"/>
            <a:ext cx="4721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Рекомендации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04960" y="1538640"/>
            <a:ext cx="11393280" cy="75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380880" indent="-26496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Советы медиков, которых следует придерживаться в процессе выполнения отжиманий: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При расположении рук на ровной поверхности должен отсутствовать какой-либо дискомфорт в локтевых и кистевых суставах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Непосредственно перед отжиманиями важно достаточно тщательно </a:t>
            </a:r>
            <a:r>
              <a:rPr b="0" lang="ru-RU" sz="2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размяться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о избежание травм и растяжек полезно надевать на запястья бинты или специальные напульсники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ь отжимания прямо пропорциональна положению ног. Чем выше их расположение, тем сложнее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80880" indent="-2649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Для полноценного формирования мышц требуется употребление достаточного количества мяса и овощных продуктов.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17280" y="277920"/>
            <a:ext cx="3968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Заключение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832040" y="1861920"/>
            <a:ext cx="964404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Отжимания - достаточно эффективный и в то же время наименее затратный по времени и финансам тренинг, который позволяет поддерживать в форме фигуру.</a:t>
            </a:r>
            <a:endParaRPr b="0" lang="en-US" sz="35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360440" y="4816080"/>
            <a:ext cx="1058724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О пользе таких упражнений свидетельствует их древняя история. </a:t>
            </a:r>
            <a:endParaRPr b="0" lang="en-US" sz="3500" spc="-1" strike="noStrike">
              <a:solidFill>
                <a:srgbClr val="858585"/>
              </a:solidFill>
              <a:latin typeface="Marker Fel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Первые упоминания об отжиманиях приходятся на несколько тысяч лет назад. </a:t>
            </a:r>
            <a:endParaRPr b="0" lang="en-US" sz="3500" spc="-1" strike="noStrike">
              <a:solidFill>
                <a:srgbClr val="858585"/>
              </a:solidFill>
              <a:latin typeface="Marker Fel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500" spc="-1" strike="noStrike">
                <a:solidFill>
                  <a:srgbClr val="34495e"/>
                </a:solidFill>
                <a:latin typeface="Arial"/>
                <a:ea typeface="Arial"/>
              </a:rPr>
              <a:t>Как видно, они остаются весьма актуальными на сегодняшний день, поскольку отжимания включают в нормативы по ГТО. </a:t>
            </a:r>
            <a:endParaRPr b="0" lang="en-US" sz="35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Без названия 2.jpeg"/>
          <p:cNvPicPr/>
          <p:nvPr/>
        </p:nvPicPr>
        <p:blipFill>
          <a:blip r:embed="rId1"/>
          <a:stretch/>
        </p:blipFill>
        <p:spPr>
          <a:xfrm>
            <a:off x="2325600" y="838080"/>
            <a:ext cx="8580600" cy="4324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847800" y="5330520"/>
            <a:ext cx="11536200" cy="36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304920" indent="-2127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Регулярные отжимания способствуют укреплению силы и повышению выносливости. 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я регулярным </a:t>
            </a:r>
            <a:r>
              <a:rPr b="0" lang="ru-RU" sz="29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тренировкам даже в домашних условиях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, значительно повышается тонус мускулатуры и увеличивается мышечная масса. 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lvl="2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Несомненным плюсом отжиманий является: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04920" indent="-212760" algn="just">
              <a:lnSpc>
                <a:spcPct val="10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их выполнения в детском возрасте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  <a:p>
            <a:pPr marL="304920" indent="-212760" algn="just">
              <a:lnSpc>
                <a:spcPct val="10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  <a:ea typeface="Arial"/>
              </a:rPr>
              <a:t>не требуется специальных приспособлений</a:t>
            </a:r>
            <a:endParaRPr b="0" lang="en-US" sz="29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Без названия 3.jpeg"/>
          <p:cNvPicPr/>
          <p:nvPr/>
        </p:nvPicPr>
        <p:blipFill>
          <a:blip r:embed="rId1"/>
          <a:stretch/>
        </p:blipFill>
        <p:spPr>
          <a:xfrm>
            <a:off x="522360" y="1374840"/>
            <a:ext cx="11958480" cy="70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1008000" y="952920"/>
            <a:ext cx="11317320" cy="78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marL="228600" indent="-15876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Общие рекомендации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Чтобы результат от отжиманий был максимально эффективным, необходимо придерживаться следующих рекомендаций: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количество повторов на первом занятии не больше 10. Наращивать темпы важно в постепенном режиме. По окончании тренировки должна ощущаться приятная усталость, без чувства перенапряжения;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перед отжиманиями необходимо выполнить небольшую разминку длительностью около 10 минут;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marL="228600" indent="-158760" algn="just">
              <a:lnSpc>
                <a:spcPct val="120000"/>
              </a:lnSpc>
              <a:buClr>
                <a:srgbClr val="34495e"/>
              </a:buClr>
              <a:buSzPct val="75000"/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занятия должны быть регулярными. Не допускайте долгих перерывов, поскольку весь полученный результат пойдет насмарку.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1195560" y="3358080"/>
            <a:ext cx="1061244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lvl="1"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Отжиматься можно по-разному, для смещения акцентов на какую-то целевую мышцу необходимо изменить точку опоры. 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  </a:t>
            </a:r>
            <a:r>
              <a:rPr b="0" lang="ru-RU" sz="3100" spc="-1" strike="noStrike">
                <a:solidFill>
                  <a:srgbClr val="34495e"/>
                </a:solidFill>
                <a:latin typeface="Arial"/>
                <a:ea typeface="Arial"/>
              </a:rPr>
              <a:t>Утверждают, что всего существует около 50 вариантов выполнения отжиманий!</a:t>
            </a:r>
            <a:endParaRPr b="0" lang="en-US" sz="3100" spc="-1" strike="noStrike">
              <a:solidFill>
                <a:srgbClr val="858585"/>
              </a:solidFill>
              <a:latin typeface="Marker Felt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3534120" y="1829520"/>
            <a:ext cx="59346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300" spc="-1" strike="noStrike">
                <a:solidFill>
                  <a:srgbClr val="34495e"/>
                </a:solidFill>
                <a:latin typeface="Arial"/>
                <a:ea typeface="Arial"/>
              </a:rPr>
              <a:t>Виды отжиманий</a:t>
            </a:r>
            <a:endParaRPr b="0" lang="en-US" sz="5300" spc="-1" strike="noStrike">
              <a:solidFill>
                <a:srgbClr val="858585"/>
              </a:solidFill>
              <a:latin typeface="Marker Fel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3906000" y="414360"/>
            <a:ext cx="5190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1. Классические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48" name="Picture 2" descr="Без названия 4.jpeg"/>
          <p:cNvPicPr/>
          <p:nvPr/>
        </p:nvPicPr>
        <p:blipFill>
          <a:blip r:embed="rId1"/>
          <a:stretch/>
        </p:blipFill>
        <p:spPr>
          <a:xfrm>
            <a:off x="1833480" y="1668600"/>
            <a:ext cx="9650520" cy="69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854600" y="363600"/>
            <a:ext cx="329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2. С колен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0" name="Picture 2" descr="Без названия 5.jpeg"/>
          <p:cNvPicPr/>
          <p:nvPr/>
        </p:nvPicPr>
        <p:blipFill>
          <a:blip r:embed="rId1"/>
          <a:stretch/>
        </p:blipFill>
        <p:spPr>
          <a:xfrm>
            <a:off x="433440" y="2946240"/>
            <a:ext cx="1213632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3993120" y="465120"/>
            <a:ext cx="529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3. Широкий хват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2" name="Picture 2" descr="Без названия 6.jpeg"/>
          <p:cNvPicPr/>
          <p:nvPr/>
        </p:nvPicPr>
        <p:blipFill>
          <a:blip r:embed="rId1"/>
          <a:stretch/>
        </p:blipFill>
        <p:spPr>
          <a:xfrm>
            <a:off x="461880" y="2452680"/>
            <a:ext cx="1207944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399920" y="668160"/>
            <a:ext cx="4203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000" spc="-1" strike="noStrike">
                <a:solidFill>
                  <a:srgbClr val="34495e"/>
                </a:solidFill>
                <a:latin typeface="Arial"/>
                <a:ea typeface="Arial"/>
              </a:rPr>
              <a:t>4. Узкий хват</a:t>
            </a:r>
            <a:endParaRPr b="0" lang="en-US" sz="5000" spc="-1" strike="noStrike">
              <a:solidFill>
                <a:srgbClr val="858585"/>
              </a:solidFill>
              <a:latin typeface="Marker Felt"/>
            </a:endParaRPr>
          </a:p>
        </p:txBody>
      </p:sp>
      <p:pic>
        <p:nvPicPr>
          <p:cNvPr id="54" name="Picture 2" descr="Без названия 7.jpeg"/>
          <p:cNvPicPr/>
          <p:nvPr/>
        </p:nvPicPr>
        <p:blipFill>
          <a:blip r:embed="rId1"/>
          <a:stretch/>
        </p:blipFill>
        <p:spPr>
          <a:xfrm>
            <a:off x="717480" y="2009880"/>
            <a:ext cx="11568240" cy="673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1-04-15T16:11:24Z</dcterms:modified>
  <cp:revision>1</cp:revision>
  <dc:subject/>
  <dc:title>Отжимаемся правильно</dc:title>
</cp:coreProperties>
</file>