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83F-88E6-4B50-9E02-37BD426B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633-1970-408A-B9FA-34B1E75D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DC4-C872-4AEB-8B6F-E3B4EB66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56B-3DE3-4E78-AFAD-A53DA1C0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D283-C5EB-4B95-AA72-FB5EF8D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186-FBB3-4871-A110-671BE664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4F6-AA29-48AE-BFC0-681679A9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321-6124-43D4-9BD2-05CDE2B5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E33-8863-4B2D-936B-C2E5803B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2C9-E17E-44F3-8D97-BF55E6DA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244-A4BB-4117-B69E-5991F74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4EE-EF5D-49E6-975C-5D2038D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6BA570-637F-4ED7-BF4F-E625A96208B3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116000" y="333360"/>
            <a:ext cx="734328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ГБДОУ  детский сад № 42 компенсирующего вида  Колпинского района Санкт –Петербур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447120" y="1340640"/>
            <a:ext cx="8096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1"/>
                </a:solidFill>
                <a:latin typeface="Book Antiqua"/>
              </a:rPr>
              <a:t>«РИСУЮТ МАЛЬЧИК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1"/>
                </a:solidFill>
                <a:latin typeface="Book Antiqua"/>
              </a:rPr>
              <a:t>РИСУЮТ ДЕВОЧКИ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76720" y="3284640"/>
            <a:ext cx="482400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ГЕНДЕРНЫЙ ПОДХОД В ОБУЧЕНИИ ДОШКОЛЬНИКОВ РИС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t0.gstatic.com/images?q=tbn:ANd9GcSV8PaKeje0pqksGycX_p8aF45L_gowOO8HqDOODsWdd6cjFiSu"/>
          <p:cNvPicPr/>
          <p:nvPr/>
        </p:nvPicPr>
        <p:blipFill>
          <a:blip r:embed="rId1"/>
          <a:stretch/>
        </p:blipFill>
        <p:spPr>
          <a:xfrm>
            <a:off x="179640" y="3861000"/>
            <a:ext cx="2812680" cy="275076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45" name="TextBox 5"/>
          <p:cNvSpPr/>
          <p:nvPr/>
        </p:nvSpPr>
        <p:spPr>
          <a:xfrm>
            <a:off x="4284720" y="4653000"/>
            <a:ext cx="453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Book Antiqua"/>
              </a:rPr>
              <a:t>КОНСУЛЬТАЦИЯ ДЛЯ ВОСПИТ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284720" y="5300640"/>
            <a:ext cx="410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МАТЕРИАЛ 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ВОСПИТАТЕЛЬ- МИХАЙЛОВА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514240" y="110880"/>
            <a:ext cx="4571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4754b0"/>
                </a:solidFill>
                <a:latin typeface="Book Antiqua"/>
              </a:rPr>
              <a:t>СИСТЕМА РАБОТЫ</a:t>
            </a:r>
            <a:r>
              <a:rPr b="1" lang="ru-RU" sz="4000" spc="-1" strike="noStrike">
                <a:solidFill>
                  <a:srgbClr val="4754b0"/>
                </a:solidFill>
                <a:latin typeface="Book Antiqu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857160" y="857160"/>
            <a:ext cx="77418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ЦЕЛЬ: Способствовать развит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              </a:t>
            </a: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гендерного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              </a:t>
            </a:r>
            <a:r>
              <a:rPr b="1" lang="ru-RU" sz="2800" spc="-1" strike="noStrike">
                <a:solidFill>
                  <a:srgbClr val="ff0434"/>
                </a:solidFill>
                <a:latin typeface="Book Antiqua"/>
              </a:rPr>
              <a:t>детей посредством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6160" y="3435120"/>
            <a:ext cx="1805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Book Antiqu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t3.gstatic.com/images?q=tbn:ANd9GcSvX345HjCNKlK0vQIsX5trUOs4Qs9YsHczqNJP-IeXEsds7fc0"/>
          <p:cNvPicPr/>
          <p:nvPr/>
        </p:nvPicPr>
        <p:blipFill>
          <a:blip r:embed="rId1"/>
          <a:stretch/>
        </p:blipFill>
        <p:spPr>
          <a:xfrm>
            <a:off x="0" y="5186520"/>
            <a:ext cx="1618920" cy="1671120"/>
          </a:xfrm>
          <a:prstGeom prst="rect">
            <a:avLst/>
          </a:prstGeom>
          <a:ln w="9525">
            <a:noFill/>
          </a:ln>
        </p:spPr>
      </p:pic>
      <p:sp>
        <p:nvSpPr>
          <p:cNvPr id="51" name="TextBox 6"/>
          <p:cNvSpPr/>
          <p:nvPr/>
        </p:nvSpPr>
        <p:spPr>
          <a:xfrm>
            <a:off x="1692360" y="2286000"/>
            <a:ext cx="7237080" cy="444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развивать творческие способности мальчиков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девочек в процессе рис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формировать адекватн</a:t>
            </a:r>
            <a:r>
              <a:rPr b="0" lang="ru-RU" sz="2200" spc="-1" strike="noStrike">
                <a:solidFill>
                  <a:srgbClr val="4e005f"/>
                </a:solidFill>
                <a:latin typeface="Arial"/>
              </a:rPr>
              <a:t>ую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полу модель поведения у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воспитывать культуру взаимоотношений межд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мальчиками и девоч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учить детей работать индивидуально и в коллектив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  </a:t>
            </a: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соотносить свои желания и интересы с желаниями и  интересами других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4e005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4e005f"/>
                </a:solidFill>
                <a:latin typeface="Times New Roman"/>
              </a:rPr>
              <a:t>Учить детей использовать в рисовании разнообразные материалы и техники, разные способы создания  изображения, соединения в одном рисунке разных материалов с целью получения выразительного обр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Лента лицом вниз 1"/>
          <p:cNvSpPr/>
          <p:nvPr/>
        </p:nvSpPr>
        <p:spPr>
          <a:xfrm>
            <a:off x="755640" y="189000"/>
            <a:ext cx="7740360" cy="576000"/>
          </a:xfrm>
          <a:prstGeom prst="ribbon">
            <a:avLst>
              <a:gd name="adj1" fmla="val 15204"/>
              <a:gd name="adj2" fmla="val 72378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547640" y="189000"/>
            <a:ext cx="6695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</a:rPr>
              <a:t>РИСУЮТ МАЛЬЧ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6520" y="908640"/>
            <a:ext cx="2724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 cap="all">
                <a:solidFill>
                  <a:schemeClr val="accent2"/>
                </a:solidFill>
                <a:latin typeface="Book Antiqua"/>
              </a:rPr>
              <a:t>ПРОБЛ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images (7).jpg"/>
          <p:cNvPicPr/>
          <p:nvPr/>
        </p:nvPicPr>
        <p:blipFill>
          <a:blip r:embed="rId1"/>
          <a:stretch/>
        </p:blipFill>
        <p:spPr>
          <a:xfrm>
            <a:off x="179280" y="1557360"/>
            <a:ext cx="2160360" cy="2174400"/>
          </a:xfrm>
          <a:prstGeom prst="rect">
            <a:avLst/>
          </a:prstGeom>
          <a:ln w="9525">
            <a:noFill/>
          </a:ln>
        </p:spPr>
      </p:pic>
      <p:sp>
        <p:nvSpPr>
          <p:cNvPr id="56" name="TextBox 5"/>
          <p:cNvSpPr/>
          <p:nvPr/>
        </p:nvSpPr>
        <p:spPr>
          <a:xfrm>
            <a:off x="2700360" y="907920"/>
            <a:ext cx="6443280" cy="3776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Процесс рисования происходит на уровне смысловых образова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Осваивают художественный мир в цел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Часто испытывают затруднения в изображении объекта в  движ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Часто не могут рисовать тонкой кистью и нажимают на всю плоскость ки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Ограничиваются  малым количеством краски, используют темные отт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002776"/>
                </a:solidFill>
                <a:latin typeface="Times New Roman"/>
              </a:rPr>
              <a:t>Делают рисунок малопредметным,  недостаточно детализируют и обогащаю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-190080" y="4941000"/>
            <a:ext cx="3092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4754b0"/>
                </a:solidFill>
                <a:latin typeface="Book Antiqua"/>
              </a:rPr>
              <a:t>Особ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771640" y="4797360"/>
            <a:ext cx="6372000" cy="179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9c0042"/>
                </a:solidFill>
                <a:latin typeface="Times New Roman"/>
              </a:rPr>
              <a:t>Плохо воспринимают объяснение вслух, для них лучше использовать визуальные средства, построенные на зрительном восприят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200" spc="-1" strike="noStrike">
                <a:solidFill>
                  <a:srgbClr val="9c0042"/>
                </a:solidFill>
                <a:latin typeface="Times New Roman"/>
              </a:rPr>
              <a:t>Наиболее значимым является указание на то, что он добился результата в чем –</a:t>
            </a:r>
            <a:r>
              <a:rPr b="0" lang="ru-RU" sz="2400" spc="-1" strike="noStrike">
                <a:solidFill>
                  <a:srgbClr val="9c0042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9c0042"/>
                </a:solidFill>
                <a:latin typeface="Times New Roman"/>
              </a:rPr>
              <a:t>либо.</a:t>
            </a:r>
            <a:r>
              <a:rPr b="0" lang="ru-RU" sz="2400" spc="-1" strike="noStrike">
                <a:solidFill>
                  <a:srgbClr val="9c004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http://t0.gstatic.com/images?q=tbn:ANd9GcTeHM9-wTXyI4SQtjTracLC_z0P-VLB73SqZNZkCJL5slrF47Frhw"/>
          <p:cNvPicPr/>
          <p:nvPr/>
        </p:nvPicPr>
        <p:blipFill>
          <a:blip r:embed="rId1"/>
          <a:stretch/>
        </p:blipFill>
        <p:spPr>
          <a:xfrm>
            <a:off x="684360" y="1484280"/>
            <a:ext cx="1580760" cy="2376000"/>
          </a:xfrm>
          <a:prstGeom prst="rect">
            <a:avLst/>
          </a:prstGeom>
          <a:ln w="9525">
            <a:noFill/>
          </a:ln>
        </p:spPr>
      </p:pic>
      <p:sp>
        <p:nvSpPr>
          <p:cNvPr id="60" name="Пятно 1 1"/>
          <p:cNvSpPr/>
          <p:nvPr/>
        </p:nvSpPr>
        <p:spPr>
          <a:xfrm>
            <a:off x="1403280" y="0"/>
            <a:ext cx="6697440" cy="953640"/>
          </a:xfrm>
          <a:prstGeom prst="irregularSeal1">
            <a:avLst/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2556000" y="189000"/>
            <a:ext cx="4608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ИСУЮТ ДЕВОЧ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65880" y="980640"/>
            <a:ext cx="3038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Book Antiqua"/>
              </a:rPr>
              <a:t>ПРОБЛЕ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059280" y="1052640"/>
            <a:ext cx="6084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Очень широко разворачивают тему, придумывают большой сюжет, долго делают набросок.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Интересует конкретика, де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Book Antiqua"/>
              </a:rPr>
              <a:t>Включается уровень восприятия, позволяющий детально видеть красоту окружающ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771640" y="3811680"/>
            <a:ext cx="665928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Book Antiqua"/>
              </a:rPr>
              <a:t>Лучше развита зрительно – моторная координ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Book Antiqua"/>
              </a:rPr>
              <a:t>Больше нуждаются в стимулах, построенных на основе слухового вос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Book Antiqua"/>
              </a:rPr>
              <a:t>Крайне чувствительны к интонациям, форме оценки, ее пуб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Book Antiqua"/>
              </a:rPr>
              <a:t>Важно, чтобы девочками восхищались в присутствии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-198000" y="3645000"/>
            <a:ext cx="3375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400" spc="-1" strike="noStrike">
                <a:solidFill>
                  <a:srgbClr val="ff0000"/>
                </a:solidFill>
                <a:latin typeface="Book Antiqua"/>
              </a:rPr>
              <a:t>Особенности 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258200" y="188640"/>
            <a:ext cx="6290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РИСУЮТ МАЛЬЧИ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c000"/>
                </a:solidFill>
                <a:latin typeface="Book Antiqua"/>
              </a:rPr>
              <a:t>РИСУЮТ ДЕВ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Рисунок 4"/>
          <p:cNvSpPr/>
          <p:nvPr/>
        </p:nvSpPr>
        <p:spPr>
          <a:xfrm>
            <a:off x="4929120" y="4214880"/>
            <a:ext cx="3142440" cy="2356920"/>
          </a:xfrm>
          <a:prstGeom prst="roundRect">
            <a:avLst>
              <a:gd name="adj" fmla="val 4167"/>
            </a:avLst>
          </a:prstGeom>
          <a:blipFill rotWithShape="0">
            <a:blip r:embed="rId1"/>
            <a:srcRect/>
            <a:stretch/>
          </a:blipFill>
          <a:ln cap="sq" w="76200">
            <a:solidFill>
              <a:srgbClr val="292929"/>
            </a:solidFill>
            <a:miter/>
          </a:ln>
          <a:effectLst>
            <a:reflection algn="bl" blurRad="12700" dir="5400000" dist="5000" endPos="28000" rotWithShape="0" stA="28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исунок 5"/>
          <p:cNvSpPr/>
          <p:nvPr/>
        </p:nvSpPr>
        <p:spPr>
          <a:xfrm>
            <a:off x="1300320" y="4143240"/>
            <a:ext cx="3134520" cy="241740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исунок 7"/>
          <p:cNvSpPr/>
          <p:nvPr/>
        </p:nvSpPr>
        <p:spPr>
          <a:xfrm>
            <a:off x="571320" y="1714320"/>
            <a:ext cx="3138480" cy="23540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исунок 9"/>
          <p:cNvSpPr/>
          <p:nvPr/>
        </p:nvSpPr>
        <p:spPr>
          <a:xfrm>
            <a:off x="5357880" y="1643040"/>
            <a:ext cx="3207240" cy="2405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icture 2"/>
          <p:cNvSpPr/>
          <p:nvPr/>
        </p:nvSpPr>
        <p:spPr>
          <a:xfrm>
            <a:off x="214200" y="1571760"/>
            <a:ext cx="3142080" cy="4195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icture 6"/>
          <p:cNvSpPr/>
          <p:nvPr/>
        </p:nvSpPr>
        <p:spPr>
          <a:xfrm>
            <a:off x="6143760" y="3714840"/>
            <a:ext cx="2755440" cy="3142800"/>
          </a:xfrm>
          <a:prstGeom prst="roundRect">
            <a:avLst>
              <a:gd name="adj" fmla="val 4167"/>
            </a:avLst>
          </a:prstGeom>
          <a:blipFill rotWithShape="0">
            <a:blip r:embed="rId2"/>
            <a:srcRect/>
            <a:stretch/>
          </a:blipFill>
          <a:ln cap="sq" w="76200">
            <a:solidFill>
              <a:srgbClr val="eaeaea"/>
            </a:solidFill>
            <a:miter/>
          </a:ln>
          <a:effectLst>
            <a:reflection algn="bl" blurRad="12700" dir="5400000" dist="5000" endPos="28000" rotWithShape="0" stA="33000" sy="-100000"/>
          </a:effectLst>
          <a:scene3d>
            <a:camera prst="orthographicFront"/>
            <a:lightRig dir="t" rig="threePt">
              <a:rot lat="0" lon="0" rev="2700000"/>
            </a:lightRig>
          </a:scene3d>
          <a:sp3d contourW="6350">
            <a:bevelT h="38100"/>
            <a:contourClr>
              <a:srgbClr val="c0c0c0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icture 8"/>
          <p:cNvSpPr/>
          <p:nvPr/>
        </p:nvSpPr>
        <p:spPr>
          <a:xfrm>
            <a:off x="3564000" y="3643200"/>
            <a:ext cx="2407680" cy="32144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http://t0.gstatic.com/images?q=tbn:ANd9GcTaaJQemEBq7qKKqGx6AXN3BaLSwHqv6drofFNmZpiKYw53mgHstg"/>
          <p:cNvPicPr/>
          <p:nvPr/>
        </p:nvPicPr>
        <p:blipFill>
          <a:blip r:embed="rId4"/>
          <a:stretch/>
        </p:blipFill>
        <p:spPr>
          <a:xfrm>
            <a:off x="4572000" y="1428840"/>
            <a:ext cx="3708000" cy="20840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75" name="Прямоугольник 1"/>
          <p:cNvSpPr/>
          <p:nvPr/>
        </p:nvSpPr>
        <p:spPr>
          <a:xfrm>
            <a:off x="2880" y="-14040"/>
            <a:ext cx="9681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accent2"/>
                </a:solidFill>
                <a:latin typeface="Book Antiqua"/>
              </a:rPr>
              <a:t>ПРЕДМЕТНО-РАЗВИВАЮЩ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chemeClr val="accent2"/>
                </a:solidFill>
                <a:latin typeface="Book Antiqua"/>
              </a:rPr>
              <a:t>СРЕ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Лента лицом вверх 2"/>
          <p:cNvSpPr/>
          <p:nvPr/>
        </p:nvSpPr>
        <p:spPr>
          <a:xfrm>
            <a:off x="500040" y="189000"/>
            <a:ext cx="8319600" cy="1168200"/>
          </a:xfrm>
          <a:prstGeom prst="ribbon2">
            <a:avLst>
              <a:gd name="adj1" fmla="val 16667"/>
              <a:gd name="adj2" fmla="val 66034"/>
            </a:avLst>
          </a:prstGeom>
          <a:solidFill>
            <a:srgbClr val="ff388c"/>
          </a:solidFill>
          <a:ln>
            <a:solidFill>
              <a:srgbClr val="bc296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1718640" y="249840"/>
            <a:ext cx="5873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ff00"/>
                </a:solidFill>
                <a:latin typeface="Book Antiqua"/>
              </a:rPr>
              <a:t>НАШИ РАБОТЫ</a:t>
            </a:r>
            <a:r>
              <a:rPr b="1" lang="ru-RU" sz="5400" spc="-1" strike="noStrike">
                <a:solidFill>
                  <a:srgbClr val="ffff00"/>
                </a:solidFill>
                <a:latin typeface="Book Antiqua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356.JPG"/>
          <p:cNvPicPr/>
          <p:nvPr/>
        </p:nvPicPr>
        <p:blipFill>
          <a:blip r:embed="rId1"/>
          <a:stretch/>
        </p:blipFill>
        <p:spPr>
          <a:xfrm>
            <a:off x="5364000" y="4221000"/>
            <a:ext cx="3198600" cy="239832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79" name="Рисунок 9" descr="351.JPG"/>
          <p:cNvPicPr/>
          <p:nvPr/>
        </p:nvPicPr>
        <p:blipFill>
          <a:blip r:embed="rId2"/>
          <a:stretch/>
        </p:blipFill>
        <p:spPr>
          <a:xfrm rot="375600">
            <a:off x="323640" y="1628640"/>
            <a:ext cx="3025440" cy="2269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355.JPG"/>
          <p:cNvPicPr/>
          <p:nvPr/>
        </p:nvPicPr>
        <p:blipFill>
          <a:blip r:embed="rId3"/>
          <a:stretch/>
        </p:blipFill>
        <p:spPr>
          <a:xfrm>
            <a:off x="678600" y="4231800"/>
            <a:ext cx="3178440" cy="2492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81" name="Рисунок 6" descr="357.JPG"/>
          <p:cNvPicPr/>
          <p:nvPr/>
        </p:nvPicPr>
        <p:blipFill>
          <a:blip r:embed="rId4"/>
          <a:stretch/>
        </p:blipFill>
        <p:spPr>
          <a:xfrm rot="20875200">
            <a:off x="5364000" y="1484280"/>
            <a:ext cx="3352320" cy="2725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t3.gstatic.com/images?q=tbn:ANd9GcT55DOTbvMLOIy0buVLS1V3EqMedGqOUwa47KUKj60m9uWzeG1VLA"/>
          <p:cNvPicPr/>
          <p:nvPr/>
        </p:nvPicPr>
        <p:blipFill>
          <a:blip r:embed="rId1"/>
          <a:stretch/>
        </p:blipFill>
        <p:spPr>
          <a:xfrm>
            <a:off x="3348000" y="3716280"/>
            <a:ext cx="5327280" cy="2808000"/>
          </a:xfrm>
          <a:prstGeom prst="rect">
            <a:avLst/>
          </a:prstGeom>
          <a:ln w="9525">
            <a:noFill/>
          </a:ln>
        </p:spPr>
      </p:pic>
      <p:pic>
        <p:nvPicPr>
          <p:cNvPr id="83" name="Picture 4" descr="http://t3.gstatic.com/images?q=tbn:ANd9GcQc_DJmj8ag7Xqt2VA4d_E7gPOQOBhbxqxTU9tCEq4FQYWBRekJ"/>
          <p:cNvPicPr/>
          <p:nvPr/>
        </p:nvPicPr>
        <p:blipFill>
          <a:blip r:embed="rId2"/>
          <a:stretch/>
        </p:blipFill>
        <p:spPr>
          <a:xfrm>
            <a:off x="1258920" y="3716280"/>
            <a:ext cx="2160360" cy="2808000"/>
          </a:xfrm>
          <a:prstGeom prst="rect">
            <a:avLst/>
          </a:prstGeom>
          <a:ln w="9525">
            <a:noFill/>
          </a:ln>
        </p:spPr>
      </p:pic>
      <p:pic>
        <p:nvPicPr>
          <p:cNvPr id="84" name="Рисунок 4" descr="А.gif"/>
          <p:cNvPicPr/>
          <p:nvPr/>
        </p:nvPicPr>
        <p:blipFill>
          <a:blip r:embed="rId3"/>
          <a:stretch/>
        </p:blipFill>
        <p:spPr>
          <a:xfrm>
            <a:off x="4908600" y="620640"/>
            <a:ext cx="3828600" cy="3095280"/>
          </a:xfrm>
          <a:prstGeom prst="rect">
            <a:avLst/>
          </a:prstGeom>
          <a:ln w="9525">
            <a:noFill/>
          </a:ln>
        </p:spPr>
      </p:pic>
      <p:sp>
        <p:nvSpPr>
          <p:cNvPr id="85" name="Прямоугольник 5"/>
          <p:cNvSpPr/>
          <p:nvPr/>
        </p:nvSpPr>
        <p:spPr>
          <a:xfrm>
            <a:off x="354960" y="214200"/>
            <a:ext cx="6008760" cy="1735560"/>
          </a:xfrm>
          <a:prstGeom prst="rect">
            <a:avLst/>
          </a:prstGeom>
          <a:noFill/>
          <a:ln w="0">
            <a:solidFill>
              <a:srgbClr val="c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434"/>
                </a:solidFill>
                <a:latin typeface="Book Antiqua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434"/>
                </a:solidFill>
                <a:latin typeface="Book Antiqua"/>
              </a:rPr>
              <a:t>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Апекс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  <Words>314</Words>
  <Paragraphs>4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5:17:21Z</dcterms:created>
  <dc:creator>Леночка</dc:creator>
  <dc:description/>
  <dc:language>en-US</dc:language>
  <cp:lastModifiedBy>я</cp:lastModifiedBy>
  <dcterms:modified xsi:type="dcterms:W3CDTF">2012-04-12T17:53:36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