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6C5A-7CEA-44DA-9716-0B3EAA37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C4AC-AF0F-4CE6-A604-F3735250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1ED9-5F0F-4D35-9EE7-F5CFD7B9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4A05-6415-4485-9318-6DC32902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BFDB-033D-4BCB-9515-2817F9E8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1FCF-16A8-41FC-8D56-B7F94D91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000E-ACF4-4DF4-8A53-2D5D6F81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3CC5-CAFC-472C-B34D-BFEE2944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A866-F129-40AB-82F7-58291021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28F5-8F9C-4B57-8259-72626049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F44C-5516-4F7A-A0BF-A26F5876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7715-8D2E-407B-8090-D6C9CDAF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7C79-34A1-4308-958D-BA214C0B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AFFA-3243-4716-9661-D2CA07BD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CB31-608C-4E76-834C-EE7182E6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8642-33A0-41A0-BF16-25E823B4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A94C-B644-4EC2-99AD-17397555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2A14-EB3D-4994-9DFD-AD3F918D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4ACD-6F37-4A36-A639-F63CF610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13FF-2531-4278-8620-A7C29C3A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A3BA-9840-4B2C-8208-80E64620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8B1B-63CB-48B6-A46D-0D927D09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A21B-FB58-4D24-9695-4EC7E645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E9B3-D28B-4D26-9816-E6A54169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84CF-5D87-43B5-B887-D99B540C2D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1661-AD5B-49ED-BB91-61457D6E3C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Урок 2. Материалы для рисования. Техника рисования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П.12. Рисование и леп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Графитный карандаш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Графитный карандаш является универсальным средством для рисования. Графитные карандаши выпускают различных степеней твердости с обозначением буквы Т (от 1Т до 7Т). Мягкие карандаши обозначают буквой М (от 1М до 5М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Графитный карандаш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332000" y="1773360"/>
            <a:ext cx="678348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я рисования лучше использовать карандаши марок ТМ, М, 2М – 5М. Они могут оставлять след разной толщины и способны реализовать большой диапазон тоновых градаций. Наброски лучше делать более мягкими карандашами, а длительный рисунок начинают легкими линиями карандашом Т - ТМ, продолжают более мягким карандашом, а завершают вновь твердым карандашом, оттачивая детали и обобщая рисунок. Если необходимо выполнить быструю светотеневую тушевку, можно использовать боковую поверхность стержня мягкого карандаш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Цветные карандаш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Цветные карандаши применяют для цветной графики при выполнении цветных изображений. Размывая водой акварельные цветные карандаши, можно получить и живописные эффект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Акварельные цветные карандаш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83272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Художественный угол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Художественный уголь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широко применяется в рисовании, т.к. он отличается большими выразительными возможностями. Он дает глубокий, бархатистый черный цвет и различные тональные переходы. Им можно выполнять как быстрые наброски, так и длительные рисунки. Рисунки углем следует закреплять специальным фиксатором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Художественный угол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08000" y="1746360"/>
            <a:ext cx="5112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еро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Перо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Рисунки пером хорошо развивают руку и глаз. Перья используют для рисования жидкими красящими веществами: тушью, чернилами, морилкой, акварелью.  Как инструмент художника перо известно давно. В старину использовали гусиные, лебединые, вороньи, павлиньи, тростниковые и соломенные перья. Именно таким пером делал рисунки на полях своих бессметных произведений великий А.С. Пушкин. В настоящее время похожего эффекта в рисунке можно добиться черными и цветными гелиевыми ручка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еро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4386240" cy="4386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716360" y="1773360"/>
            <a:ext cx="41688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астел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астель – толстые стерженьки разного цвета в бумажной обертке, напоминающие цветные мелки. Пастелью работают на шероховатой бумаге, нанося цветные штрихи, которые можно растушевать. Пастель дает матовый, слегка блеклый, красочный слой. Пастелью можно делать зарисовки и более длительные рисунки. Как и уголь, пастель необходимо закреплять, т.к. она осыпается с бумаг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Рисунок - важнейшая область художественного творчеств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Рисуно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древнейший вид художественного творчества, но самостоятельное значение как вид искусства он стал приобретать в эпоху Возрождения – один из самых значительных периодов развития изобразительного искусства (XV - XVI вв). В этот период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ворили такие великие мастера как Леонардо да Винчи, Рафаэль Санти, Микеланджел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уонарроти, Сандро Боттичелл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астел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124000" y="177336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Акварел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Акварель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– самая распространенная краска, разводимая водой. Акварель и пастель используют и для рисунка и для живописи. Чистота, яркость и прозрачность акварели сделали акварельную технику особенно любимой для многих художников. Она широко используется так же и в учебных рисунках. Высококачественные акварельные краски производят в Санкт-Петербурге и в Москв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Акварел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Гуаш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уашь в отличие от акварельных красок непрозрачна. Она содержит белила, которые делают ее плотной, непроницаемой (кроющей). Гуашь разводится водой, наносится тонким слоем и при высыхании светлеет. В силу кроющей способности гуашь позволяет вносить в рисунок исправления, но до известных пределов. Многослойное покрытие гуашью приводит к потере чистого цвета и осыпан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уашь очень хорошо использовать при выполнении декоративных работ. В частности – при рисовании эскизов орнаментов для украшения тортов и пирожны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Гуаш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842472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Резин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Резинка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Для рисования применяют резинки только мягкие, остроугольные: они не разрушают поверхность бумаги, незаметно удаляют остроугольной частью ошибочные линии и небольшие пятна тон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Резин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195640" y="1628640"/>
            <a:ext cx="4897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ляч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Ластик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клячк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 (кляча, уст. сни́мка) — канцелярская принадлежность для коррекции и осветления угольных и пастельных рисунков, для удаления загрязнений с плёнки и кальки. Представляет собой специальную легко мнущуюся очищающую резину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ляч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629136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Кист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исть – инструмент с волосяным пучком для работы красками. По форме волоса кисти делятся на щетинные, колонковые, беличьи и другие, по размеру –на тонкие, средние и толстые. Форма кистей бывает плоской, овальной и круглой. Для работы акварелью больше подходит мягкая круглая колонковая или беличья кисть средних размеров. Такой кистью можно окрашивать большие фигуры, работая всей массой волоса, и изобразить маленькие детали острым концом кист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исунок является видом график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График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от греч. grapho - пишу, рисую) – вид изобразительного искусства, включающий рисунок, а также разнообразные печатные художественные произведения. Графические изображения встречаются повсюду в повседневной жизни. Это иллюстрации в книгах, рисунки в журналах и газетах, оформление упаковок различных товаров, почтовые и денежные знаки, эмблемы, рекламная продукция и многое друго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Кист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491184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алитр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Палитра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– это пластина или дощечка, на которой художник смешивает краски для получения нужного оттенка. В акварельной живописи применяют палитры фаянсовые, фарфоровые, пластмассовые и жестяные, покрытые белой краской, на которой хорошо видны оттенки цвета. На палитре краски располагают в небольших углублениях, а смешивают их на большей ее части, ровной и гладкой. По краям – небольшой бортик, препятствующий стеканию красок. После работы палитра отмывается от красок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алитр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762012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амостоятельное значение имеет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станковый рисуно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выполненное на мольберте(станке художника), на отдельном листе, тщательно проработанное художественное произведение различных жанров (портрет, пейзаж, натюрморт, бытовой рисунок и др.). Темы для рисунков может подсказать сама жизнь, история или фантаз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Академический рисуно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это длительный рисунок, выполняемый с подробной передачей конструкции и светотени объектов. Такой рисунок осваивается в высших учебных заведениях специального профил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Учебный рисунок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это разнообразные задания по рисованию, выполняемые с целью обучения, освоения приемов изображения и изучения различных форм и признаков объектов рисова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Творческий рисунок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это произведение изобразительного искусства, образно выражающее мысли, чувства и миропонимание художник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Наброском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называют краткосрочный рисунок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дробное изучение предмета изображения или его части осуществляется через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этю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В нем прослеживаются важнейшие внешние и внутренние свойства и признаки объекта. Изученный в этюдах и набросках живой материал действительности используется для создания творческого рисунка или картины, сочинение которых начинается с предварительного рисунка –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эскиз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Материалы и принадлежности для рисун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ля рисования используются очень разнообразные инструменты и материалы. К ним относятся бумага, карандаши, резинка, уголь, мел, пастель, акварель, гуашь, кисти,перья, палитра и другие материалы, инструменты и принадлежности, с помощью которых осуществляется изобразительная деятельность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Бумага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В процессе обучения используется разнообразная бумага. Для рисования углем и пастелью лучше работать на газетной или обойной бумаге, т.к. она имеет рыхлую, ворсистую поверхность, способную хорошо удерживать сыпучее красящее вещество. Для рисунков карандашом и красками подходит плотная белая бумага со слегка шероховатой поверхностью, для работы пером – плотная, гладкая белая бумага. Рисовальная и чертежная бумага считается лучшей для учебных целей. Учебные упражнения можно выполнять в обычных альбомах для рисования. На каждом листе бумаги можно рисовать только на одной сторон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2T06:45:26Z</dcterms:created>
  <dc:creator>User Windows</dc:creator>
  <dc:description/>
  <dc:language>en-US</dc:language>
  <cp:lastModifiedBy>User Windows</cp:lastModifiedBy>
  <dcterms:modified xsi:type="dcterms:W3CDTF">2020-09-22T08:26:11Z</dcterms:modified>
  <cp:revision>36</cp:revision>
  <dc:subject/>
  <dc:title>Урок 2. Материалы для рисования. Техника рисования </dc:title>
</cp:coreProperties>
</file>