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74CC-11D0-4062-9B4F-6A7E262F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5FB-482D-494C-BD8B-6655F34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627-6183-4838-843D-891454DD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F6E-A325-40FB-8163-640EAB7B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9BF8-015D-47C1-8961-A16C4A88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D03C-898B-413A-A8C2-CA61E07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174A-C647-4C34-8FBF-8C971EEE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AF05-7DD9-44EE-8E03-94945462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B24C-CCD7-42E5-9D5D-E592348A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34AA-C582-436B-A3B1-27AF450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9B93-194E-439E-921B-D8224444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2C1-BCBC-4335-AD34-09505606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70D0-2785-46AD-AAE5-D511CE80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1C9B-178E-4863-AA1C-9DBC697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2B1C-D064-425B-AEA7-0C8CE52A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A46A-4153-4E23-85D6-AC57552F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7F5C-4FDD-4679-BC49-423E1FAF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0C9-05A6-4997-8538-10FE9423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0F1-D735-4C83-B92C-76C2834B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FAF-6F74-4158-A508-2915805D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620-030D-4567-9BEA-A092352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0C0-4E13-456A-A704-EED50469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8FE-D010-492E-B821-6AD944B0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678-54B2-4C57-89E1-6CD2C51C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0F03-0997-42F6-BBC3-C501D6D8C5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0FDC-DC70-4004-943C-6B4E53BB25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Урок 2. Материалы для рисования. Техника рисовани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П.12. Рисование и леп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Графитный карандаш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Графитный карандаш является универсальным средством для рисования. Графитные карандаши выпускают различных степеней твердости с обозначением буквы Т (от 1Т до 7Т). Мягкие карандаши обозначают буквой М (от 1М до 5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Графитный карандаш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67834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рисования лучше использовать карандаши марок ТМ, М, 2М – 5М. Они могут оставлять след разной толщины и способны реализовать большой диапазон тоновых градаций. Наброски лучше делать более мягкими карандашами, а длительный рисунок начинают легкими линиями карандашом Т - ТМ, продолжают более мягким карандашом, а завершают вновь твердым карандашом, оттачивая детали и обобщая рисунок. Если необходимо выполнить быструю светотеневую тушевку, можно использовать боковую поверхность стержня мягкого карандаш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Цветные карандаш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Цветные карандаши применяют для цветной графики при выполнении цветных изображений. Размывая водой акварельные цветные карандаши, можно получить и живописные эффек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кварельные цветные карандаш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8327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Художественный уго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Художественный уголь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широко применяется в рисовании, т.к. он отличается большими выразительными возможностями. Он дает глубокий, бархатистый черный цвет и различные тональные переходы. Им можно выполнять как быстрые наброски, так и длительные рисунки. Рисунки углем следует закреплять специальным фиксаторо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Художественный уго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8000" y="1746360"/>
            <a:ext cx="5112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еро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еро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Рисунки пером хорошо развивают руку и глаз. Перья используют для рисования жидкими красящими веществами: тушью, чернилами, морилкой, акварелью.  Как инструмент художника перо известно давно. В старину использовали гусиные, лебединые, вороньи, павлиньи, тростниковые и соломенные перья. Именно таким пером делал рисунки на полях своих бессметных произведений великий А.С. Пушкин. В настоящее время похожего эффекта в рисунке можно добиться черными и цветными гелиевыми ручк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еро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386240" cy="4386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41688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асте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астель – толстые стерженьки разного цвета в бумажной обертке, напоминающие цветные мелки. Пастелью работают на шероховатой бумаге, нанося цветные штрихи, которые можно растушевать. Пастель дает матовый, слегка блеклый, красочный слой. Пастелью можно делать зарисовки и более длительные рисунки. Как и уголь, пастель необходимо закреплять, т.к. она осыпается с бумаг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Рисунок - важнейшая область художественного творчеств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исуно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древнейший вид художественного творчества, но самостоятельное значение как вид искусства он стал приобретать в эпоху Возрождения – один из самых значительных периодов развития изобразительного искусства (XV - XVI вв). В этот перио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ворили такие великие мастера как Леонардо да Винчи, Рафаэль Санти, Микеланджел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онарроти, Сандро Боттичел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асте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124000" y="177336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кваре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Акварель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самая распространенная краска, разводимая водой. Акварель и пастель используют и для рисунка и для живописи. Чистота, яркость и прозрачность акварели сделали акварельную технику особенно любимой для многих художников. Она широко используется так же и в учебных рисунках. Высококачественные акварельные краски производят в Санкт-Петербурге и в Москв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кварел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487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Гуаш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уашь в отличие от акварельных красок непрозрачна. Она содержит белила, которые делают ее плотной, непроницаемой (кроющей). Гуашь разводится водой, наносится тонким слоем и при высыхании светлеет. В силу кроющей способности гуашь позволяет вносить в рисунок исправления, но до известных пределов. Многослойное покрытие гуашью приводит к потере чистого цвета и осып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уашь очень хорошо использовать при выполнении декоративных работ. В частности – при рисовании эскизов орнаментов для украшения тортов и пирожн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Гуаш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42472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езин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Резинка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Для рисования применяют резинки только мягкие, остроугольные: они не разрушают поверхность бумаги, незаметно удаляют остроугольной частью ошибочные линии и небольшие пятна т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Резин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ляч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Ласти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ляч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(кляча, уст. сни́мка) — канцелярская принадлежность для коррекции и осветления угольных и пастельных рисунков, для удаления загрязнений с плёнки и кальки. Представляет собой специальную легко мнущуюся очищающую резину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ляч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2913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и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исть – инструмент с волосяным пучком для работы красками. По форме волоса кисти делятся на щетинные, колонковые, беличьи и другие, по размеру –на тонкие, средние и толстые. Форма кистей бывает плоской, овальной и круглой. Для работы акварелью больше подходит мягкая круглая колонковая или беличья кисть средних размеров. Такой кистью можно окрашивать большие фигуры, работая всей массой волоса, и изобразить маленькие детали острым концом кист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исунок является видом график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от греч. grapho - пишу, рисую) – вид изобразительного искусства, включающий рисунок, а также разнообразные печатные художественные произведения. Графические изображения встречаются повсюду в повседневной жизни. Это иллюстрации в книгах, рисунки в журналах и газетах, оформление упаковок различных товаров, почтовые и денежные знаки, эмблемы, рекламная продукция и многое друго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Ки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91184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алит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Палитра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это пластина или дощечка, на которой художник смешивает краски для получения нужного оттенка. В акварельной живописи применяют палитры фаянсовые, фарфоровые, пластмассовые и жестяные, покрытые белой краской, на которой хорошо видны оттенки цвета. На палитре краски располагают в небольших углублениях, а смешивают их на большей ее части, ровной и гладкой. По краям – небольшой бортик, препятствующий стеканию красок. После работы палитра отмывается от крас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алит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62012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амостоятельное значение имеет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станковый рисуно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выполненное на мольберте(станке художника), на отдельном листе, тщательно проработанное художественное произведение различных жанров (портрет, пейзаж, натюрморт, бытовой рисунок и др.). Темы для рисунков может подсказать сама жизнь, история или фантаз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Академический рисуно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длительный рисунок, выполняемый с подробной передачей конструкции и светотени объектов. Такой рисунок осваивается в высших учебных заведениях специального профил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Учебный рисунок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это разнообразные задания по рисованию, выполняемые с целью обучения, освоения приемов изображения и изучения различных форм и признаков объектов рисова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Творческий рисунок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это произведение изобразительного искусства, образно выражающее мысли, чувства и миропонимание художни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Наброском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называют краткосрочный рисун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дробное изучение предмета изображения или его части осуществляется через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этю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В нем прослеживаются важнейшие внешние и внутренние свойства и признаки объекта. Изученный в этюдах и набросках живой материал действительности используется для создания творческого рисунка или картины, сочинение которых начинается с предварительного рисунка –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эскиз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Материалы и принадлежности для рисун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ля рисования используются очень разнообразные инструменты и материалы. К ним относятся бумага, карандаши, резинка, уголь, мел, пастель, акварель, гуашь, кисти,перья, палитра и другие материалы, инструменты и принадлежности, с помощью которых осуществляется изобразительная деятельность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Бумага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В процессе обучения используется разнообразная бумага. Для рисования углем и пастелью лучше работать на газетной или обойной бумаге, т.к. она имеет рыхлую, ворсистую поверхность, способную хорошо удерживать сыпучее красящее вещество. Для рисунков карандашом и красками подходит плотная белая бумага со слегка шероховатой поверхностью, для работы пером – плотная, гладкая белая бумага. Рисовальная и чертежная бумага считается лучшей для учебных целей. Учебные упражнения можно выполнять в обычных альбомах для рисования. На каждом листе бумаги можно рисовать только на одной сторон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2T06:45:26Z</dcterms:created>
  <dc:creator>User Windows</dc:creator>
  <dc:description/>
  <dc:language>en-US</dc:language>
  <cp:lastModifiedBy>User Windows</cp:lastModifiedBy>
  <dcterms:modified xsi:type="dcterms:W3CDTF">2020-09-22T08:26:11Z</dcterms:modified>
  <cp:revision>36</cp:revision>
  <dc:subject/>
  <dc:title>Урок 2. Материалы для рисования. Техника рисования </dc:title>
</cp:coreProperties>
</file>