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29.png" ContentType="image/png"/>
  <Override PartName="/ppt/media/image6.png" ContentType="image/png"/>
  <Override PartName="/ppt/media/image31.png" ContentType="image/png"/>
  <Override PartName="/ppt/media/image25.png" ContentType="image/png"/>
  <Override PartName="/ppt/media/image32.gif" ContentType="image/gif"/>
  <Override PartName="/ppt/media/image7.png" ContentType="image/png"/>
  <Override PartName="/ppt/media/image9.gif" ContentType="image/gif"/>
  <Override PartName="/ppt/media/image11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2D3-1199-4E84-B438-84139486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5E8-DB43-43D3-959C-836C805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FD5BA-E433-43D9-B287-23B42E1D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23DD6-3DC8-4AE5-9F67-6C6E1254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D5081-3000-4F76-9F5A-2B0C5E6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F1F39-9ED3-4444-890B-7919C47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C8993-D913-4191-A909-55FE064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75E2C-2EB9-4533-B240-3286438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FCA4E-B414-4249-B866-DAB542E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273F0-CC94-47C1-A843-F6F5DDB0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B144D-9FEE-4F10-868A-3667D187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2E9-01AC-45A7-B05A-E5EE21CB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03F-E8AC-4471-92B0-8B4747DF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B800-4F7B-47BA-B397-AD9F19C0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BF0D-B3B3-4E1E-885C-BA8EE69E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F8CF-A63A-4E3D-8456-F12299B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1169-CBF1-4EE2-A875-C9A83FBA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1D4B-CCC2-45BC-BDE5-87980057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2BF5-F303-44E5-BADE-3BD586ED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F25B-E581-4924-B12B-CB40D90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949-B7D0-4A6E-A9FF-20C7412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5081-F835-4EC9-9EB8-C6BF776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982-445D-4D74-93F6-9BC62DB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FA21-2883-429D-B669-651C5E9D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378D-9971-4A91-9366-C73E9185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B7CB-16E4-41DE-9559-B8EF4774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B4E4-6204-408F-8D75-0A41B67C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50C3-FBC0-47B6-9E67-C07BCB8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385F-468C-4CA9-A4E5-12325B5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50C7-4F56-4B3F-9C84-124D4B3F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934A-A1E7-47D7-985F-69562BC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809-AD07-44BB-8AEE-D1F2C08F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5184-6F67-4E87-86D6-598A0AD8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BC09-7E15-4E0A-86B8-F29874E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5046-A58C-477C-A627-724582D5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5010-C62F-48A2-99AC-E616052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FF5C-80B8-4DDD-A513-34DD7CA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2321-BECC-4B07-8F72-BF8079D0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8135-C5A1-42B8-9BAE-59E2BAEE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F551-D6AE-4C57-B1D5-E2BC873F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7D29-38F4-4FC6-948C-2C353CF7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CB1F-033A-4567-83E1-8E88C7DE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356-BDED-4C50-A697-1BFF5315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75E4-36D5-41D8-BFB4-C429782F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BDD8B-9C40-46C7-B697-2D8A22D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6E41-1249-455A-B9F0-9798861A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0A2E-9CC7-41DE-89F0-1B65C97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05AC-34C1-4EBA-BF2D-3D16764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0DB5-2E9F-4C3A-8D88-AE4D2B55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E807-30A9-446F-A526-D2DC89E2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5998-D9C1-43B4-A87F-7133711B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9B25-1BE5-4426-BA5D-53366326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8C13-7BB1-4C2A-814D-714224A8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AC4-0AAE-4CFB-8478-476BEB4A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6AC9-3FCF-4B76-B0E0-223FB53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47F5-1E29-44A1-BC2B-2FEC7C32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ED90-5E57-4C4E-850C-77A71F00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5434-4D86-4166-BEB0-3D754A0B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C56D-BA57-48FD-9FA8-6DF227B5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4277-DC15-4358-BC4B-4125BC3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DC38-E73D-4E67-BF59-755B1D4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7EF3-2505-49ED-A242-6B5AC24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B8CD-48EF-4FE0-98F3-5AAD73BC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82FA-8115-4381-92B5-E3E431FA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717-6789-44C4-87BF-2659354B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8874-A768-4D3F-AF17-3BC43CEA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8C00-98CF-490B-BF37-A11B8F3D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66226-669A-4143-BC6A-0AD1CA0E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53A5B-A009-4E37-AA75-9F1D6F0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0C60D-6CA1-4EC3-8E2B-676BE731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9A67E-0863-425C-A7FF-C57E6FB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C9BF-F303-4F7F-B880-99F4C4D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370B6-885B-4AAB-BF52-8DE2FA8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DF04-6C02-4F8D-ABEE-FCB1ECA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0F78-4674-44B5-8DD3-4906449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766-5E37-4BB9-8880-90187DE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3AA45-3F24-4524-A747-C72ED6CE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B353-1917-468F-AAB4-FC4F97B5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CF41-432E-4281-B883-B6626AEA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E1217-B3C3-44D8-BCDC-8027C9B9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B4311-1B46-47A1-903E-A32651FA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D682A-C28B-48A2-9513-1EEEADC0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E836-FE9D-4B70-9AD5-E4686886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E9371-D5F9-4ACD-99B4-CE5EE13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1DC2B-0222-4837-9FCB-F862832E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CB7A-3319-4D7F-BD82-5E9703AE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AE3-97D6-4830-8E07-050FE3C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3B34C-5EB9-4DF1-BC94-9B819052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1069-2AC2-4613-A3B3-99AF9DE3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D059-90A4-4B3B-86A1-197440E8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127F1-CF17-48B3-8376-D10EE313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65B4E-EA88-4A5F-A54B-3D37AE2E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84F6D-9570-447C-B220-A1073A60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589E-0112-4E4D-BF16-282A8AF2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40B3B-957E-4CF9-BA5A-342598A8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A822B-91E2-4CF9-B612-9A0E11AF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6CFF0-EC33-4855-BACC-158D8AD2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3E4-A22B-4AE0-B2D6-54B4BD8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FF27-1BCE-4D6C-A52D-BD0E50D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EE9A3-6F79-424A-A893-BA0CF29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4C4E-624A-4784-8433-CF4072C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1837-12E9-49F5-A5E5-AF61872B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E81CF-5D10-4E96-AD84-046B829A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1C643-549A-461D-BC2D-A6E1AB6B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A887C-A083-4F19-BAC0-33AF2406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F1053-78CD-4D32-8950-67DBA2F4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389B0-3186-41D1-8B6C-8D4BA0E8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C2F03-EB12-4C1D-AA73-E3171B4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1022-5521-4A62-8969-8314C5AAD9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BB66-D5FC-48A6-93D3-003DD3C13D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FF2A-A75B-4F39-8321-DA095E1BE9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2FC-D748-4C53-B780-CAB962D603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FA49-8785-408B-9D42-DEF25DA64F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D2EB-1EF3-41C8-82FD-143BFBB2AC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7906-BAA4-4E52-B08E-D1103E7037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355C-F61C-4F0B-AE8F-4773D04D97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2E57-39DD-4F3D-BCAF-64B06D816F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gif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Прямоугольник 3" descr=""/>
          <p:cNvPicPr/>
          <p:nvPr/>
        </p:nvPicPr>
        <p:blipFill>
          <a:blip r:embed="rId1"/>
          <a:stretch/>
        </p:blipFill>
        <p:spPr>
          <a:xfrm>
            <a:off x="841320" y="2517840"/>
            <a:ext cx="7540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3" descr="r2.gif"/>
          <p:cNvPicPr/>
          <p:nvPr/>
        </p:nvPicPr>
        <p:blipFill>
          <a:blip r:embed="rId1"/>
          <a:stretch/>
        </p:blipFill>
        <p:spPr>
          <a:xfrm>
            <a:off x="6981840" y="4419720"/>
            <a:ext cx="2162160" cy="2162160"/>
          </a:xfrm>
          <a:prstGeom prst="rect">
            <a:avLst/>
          </a:prstGeom>
          <a:ln w="0">
            <a:noFill/>
          </a:ln>
        </p:spPr>
      </p:pic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1809720" y="1163520"/>
            <a:ext cx="6297480" cy="242100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4" descr="chrysanthemum09.gif"/>
          <p:cNvPicPr/>
          <p:nvPr/>
        </p:nvPicPr>
        <p:blipFill>
          <a:blip r:embed="rId3"/>
          <a:stretch/>
        </p:blipFill>
        <p:spPr>
          <a:xfrm>
            <a:off x="228600" y="4267080"/>
            <a:ext cx="2530440" cy="23623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5" descr="camellia02.gif"/>
          <p:cNvPicPr/>
          <p:nvPr/>
        </p:nvPicPr>
        <p:blipFill>
          <a:blip r:embed="rId4"/>
          <a:stretch/>
        </p:blipFill>
        <p:spPr>
          <a:xfrm>
            <a:off x="0" y="2514600"/>
            <a:ext cx="2851200" cy="20336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8" descr="amaryllis03.gif"/>
          <p:cNvPicPr/>
          <p:nvPr/>
        </p:nvPicPr>
        <p:blipFill>
          <a:blip r:embed="rId5"/>
          <a:stretch/>
        </p:blipFill>
        <p:spPr>
          <a:xfrm>
            <a:off x="152280" y="0"/>
            <a:ext cx="1905120" cy="135252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aster02.gif"/>
          <p:cNvPicPr/>
          <p:nvPr/>
        </p:nvPicPr>
        <p:blipFill>
          <a:blip r:embed="rId6"/>
          <a:stretch/>
        </p:blipFill>
        <p:spPr>
          <a:xfrm>
            <a:off x="1676520" y="3505320"/>
            <a:ext cx="2373120" cy="19810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anemone03.gif"/>
          <p:cNvPicPr/>
          <p:nvPr/>
        </p:nvPicPr>
        <p:blipFill>
          <a:blip r:embed="rId7"/>
          <a:stretch/>
        </p:blipFill>
        <p:spPr>
          <a:xfrm>
            <a:off x="2666880" y="533412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9" descr="anemone05.gif"/>
          <p:cNvPicPr/>
          <p:nvPr/>
        </p:nvPicPr>
        <p:blipFill>
          <a:blip r:embed="rId8"/>
          <a:stretch/>
        </p:blipFill>
        <p:spPr>
          <a:xfrm>
            <a:off x="3429000" y="4114800"/>
            <a:ext cx="1905120" cy="17431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10" descr="clivia03.gif"/>
          <p:cNvPicPr/>
          <p:nvPr/>
        </p:nvPicPr>
        <p:blipFill>
          <a:blip r:embed="rId9"/>
          <a:stretch/>
        </p:blipFill>
        <p:spPr>
          <a:xfrm>
            <a:off x="3657600" y="3429000"/>
            <a:ext cx="1676520" cy="15080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1" descr="convolvulus02.gif"/>
          <p:cNvPicPr/>
          <p:nvPr/>
        </p:nvPicPr>
        <p:blipFill>
          <a:blip r:embed="rId10"/>
          <a:stretch/>
        </p:blipFill>
        <p:spPr>
          <a:xfrm>
            <a:off x="1371600" y="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12" descr="daisy02.gif"/>
          <p:cNvPicPr/>
          <p:nvPr/>
        </p:nvPicPr>
        <p:blipFill>
          <a:blip r:embed="rId11"/>
          <a:stretch/>
        </p:blipFill>
        <p:spPr>
          <a:xfrm>
            <a:off x="4267080" y="4952880"/>
            <a:ext cx="1762200" cy="190512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3" descr="coreopsis02.gif"/>
          <p:cNvPicPr/>
          <p:nvPr/>
        </p:nvPicPr>
        <p:blipFill>
          <a:blip r:embed="rId12"/>
          <a:stretch/>
        </p:blipFill>
        <p:spPr>
          <a:xfrm>
            <a:off x="0" y="12952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4" descr="freesia03.gif"/>
          <p:cNvPicPr/>
          <p:nvPr/>
        </p:nvPicPr>
        <p:blipFill>
          <a:blip r:embed="rId13"/>
          <a:stretch/>
        </p:blipFill>
        <p:spPr>
          <a:xfrm>
            <a:off x="5791320" y="5029200"/>
            <a:ext cx="1747800" cy="182880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5" descr="rose13.gif"/>
          <p:cNvPicPr/>
          <p:nvPr/>
        </p:nvPicPr>
        <p:blipFill>
          <a:blip r:embed="rId14"/>
          <a:stretch/>
        </p:blipFill>
        <p:spPr>
          <a:xfrm>
            <a:off x="5029200" y="3352680"/>
            <a:ext cx="1655640" cy="2286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6" descr="rose18.gif"/>
          <p:cNvPicPr/>
          <p:nvPr/>
        </p:nvPicPr>
        <p:blipFill>
          <a:blip r:embed="rId15"/>
          <a:stretch/>
        </p:blipFill>
        <p:spPr>
          <a:xfrm>
            <a:off x="5943600" y="2438280"/>
            <a:ext cx="273528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7" descr="B_Fly32.gif"/>
          <p:cNvPicPr/>
          <p:nvPr/>
        </p:nvPicPr>
        <p:blipFill>
          <a:blip r:embed="rId16"/>
          <a:stretch/>
        </p:blipFill>
        <p:spPr>
          <a:xfrm rot="2862600">
            <a:off x="7259400" y="360360"/>
            <a:ext cx="1612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384120" y="194472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2514600" y="2643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доб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4.wav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9" descr="74tfg.gif"/>
          <p:cNvPicPr/>
          <p:nvPr/>
        </p:nvPicPr>
        <p:blipFill>
          <a:blip r:embed="rId3"/>
          <a:stretch/>
        </p:blipFill>
        <p:spPr>
          <a:xfrm>
            <a:off x="1219320" y="4495680"/>
            <a:ext cx="6686280" cy="14796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9" descr="B_Fly18.gif"/>
          <p:cNvPicPr/>
          <p:nvPr/>
        </p:nvPicPr>
        <p:blipFill>
          <a:blip r:embed="rId4"/>
          <a:stretch/>
        </p:blipFill>
        <p:spPr>
          <a:xfrm rot="19985400">
            <a:off x="533520" y="304560"/>
            <a:ext cx="2381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41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4073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ОБРО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НЕЧТО ПОЛОЖИТЕЛЬНОЕ, ХОРОШЕЕ, ПОЛЕЗНОЕ, ПРОТИВОПОЛОЖНОЕ ЗЛУ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8164800" cy="35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Доброта –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то отзывчивость, душевное расположение к людям, стремление делать добро другим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042920" y="407880"/>
            <a:ext cx="7704360" cy="3378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18960" y="3819600"/>
            <a:ext cx="7407000" cy="30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Злоба –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5008"/>
                </a:solidFill>
                <a:latin typeface="Franklin Gothic Book"/>
              </a:rPr>
              <a:t>это чувство злости, недоброжелательства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5008"/>
                </a:solidFill>
                <a:latin typeface="Franklin Gothic Book"/>
              </a:rPr>
              <a:t>к кому-нибуд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32080" y="274680"/>
            <a:ext cx="7503840" cy="1272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со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страдан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со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ереживан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забот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со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чувств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сове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лас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мение слушать и слыша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душев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вежлив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скром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чест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трудолюбие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воспитан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доброт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мение дружи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тактич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C:\Documents and Settings\Женя\Рабочий стол\Кл.час Спешите делать добро\Осеева\i_008.jpg"/>
          <p:cNvPicPr/>
          <p:nvPr/>
        </p:nvPicPr>
        <p:blipFill>
          <a:blip r:embed="rId1"/>
          <a:stretch/>
        </p:blipFill>
        <p:spPr>
          <a:xfrm>
            <a:off x="1305000" y="133200"/>
            <a:ext cx="755316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432080" y="274680"/>
            <a:ext cx="7503840" cy="1292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18"/>
          <p:cNvPicPr/>
          <p:nvPr/>
        </p:nvPicPr>
        <p:blipFill>
          <a:blip r:embed="rId2"/>
          <a:stretch/>
        </p:blipFill>
        <p:spPr>
          <a:xfrm>
            <a:off x="3357720" y="1643040"/>
            <a:ext cx="3171600" cy="4543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5" descr="10"/>
          <p:cNvPicPr/>
          <p:nvPr/>
        </p:nvPicPr>
        <p:blipFill>
          <a:blip r:embed="rId3"/>
          <a:stretch/>
        </p:blipFill>
        <p:spPr>
          <a:xfrm>
            <a:off x="6523200" y="4214880"/>
            <a:ext cx="2454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54_23_dorogoiu_dob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1212840" y="176040"/>
            <a:ext cx="7723080" cy="1244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761760" y="1071360"/>
            <a:ext cx="81723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1. Спроси у жизни строгой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Какой идти дорогой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Куда по свету белому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Отправиться с утра?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Иди за солнцем следом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Хоть этот путь неведо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Иди, мой друг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Всегда иди дорогою     добр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2. Забудь свои заботы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Падения и взлёт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Не хныч, когда судьб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Ведёт не как сестр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49772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О ЕСЛИ С ДРУГОМ ХУДО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Е УПОВАЙ НА ЧУДО,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СПЕШИ К НЕМУ,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ВСЕГДА ИДИ ДОРОГОЮ ДОБР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3. АХ, СКОЛЬКО БУДЕТ РАЗНЫХ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СОМНЕНИЙ И СОБЛАЗНОВ.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Е ЗАБЫВАЙ, ЧТО ЭТА ЖИЗНЬ 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Е ДЕТСКАЯ ИГРА.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ТЫ ПРОЧЬ ГОНИ СОБЛАЗНЫ, 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УСВОЙ ЗАКОН НЕГЛАСНЫЙ: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ИДИ, МОЙ ДРУГ, 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ВСЕГДА ИДИ ДОРОГОЮ ДОБРА.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21-04-16T18:57:02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270000000000010243100207f6000400038000</vt:lpwstr>
  </property>
  <property fmtid="{D5CDD505-2E9C-101B-9397-08002B2CF9AE}" pid="3" name="Version">
    <vt:r8>1</vt:r8>
  </property>
</Properties>
</file>