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4.jpeg" ContentType="image/jpeg"/>
  <Override PartName="/ppt/media/image2.png" ContentType="image/png"/>
  <Override PartName="/ppt/media/image8.gif" ContentType="image/gif"/>
  <Override PartName="/ppt/media/image29.png" ContentType="image/png"/>
  <Override PartName="/ppt/media/image6.png" ContentType="image/png"/>
  <Override PartName="/ppt/media/image31.png" ContentType="image/png"/>
  <Override PartName="/ppt/media/image25.png" ContentType="image/png"/>
  <Override PartName="/ppt/media/image32.gif" ContentType="image/gif"/>
  <Override PartName="/ppt/media/image7.png" ContentType="image/png"/>
  <Override PartName="/ppt/media/image9.gif" ContentType="image/gif"/>
  <Override PartName="/ppt/media/image11.png" ContentType="image/png"/>
  <Override PartName="/ppt/media/image12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9.png" ContentType="image/pn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EA6-C012-4941-9610-7EA1872C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43F-A6D6-48BB-9576-C5A51F8A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B2D39-31C6-42A1-9CA9-2F11EDD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B2F0B-059D-4E58-857B-4BFCD88D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0C3D9-7444-4AB2-B3D0-C303C38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60EC3-283A-4AD1-8146-2CAD8E5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9017-84C3-44E5-BE1B-1DD4FD8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CB2E9-0831-4A24-9052-A021DFD0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F4253-A377-491E-ADD2-2BA7EF41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1D557-B7B0-43BB-BA8F-74FB93D5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FE0F-3FA8-4180-A6AA-78B0C988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84D-02F5-4D21-BE37-B04537E9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8B9-4ABA-46B3-89AF-34BA9E86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FC9D-4D5A-42A0-8B59-DD51F712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708-A5AB-4549-B9ED-BEB5232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A87-B5DA-4E28-B5BF-88A81A0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13C-06C4-454B-8A7C-DD72E89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DDA7-825C-4370-856D-4934EF30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37DC-5189-4F47-8DFD-65A643FB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6268-AF43-4ECF-8F46-10BFD4BE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F48-ED60-4C27-B97A-F4B0F2EE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94EB-D60F-4F9E-A990-C8E236D8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38AB-0077-4543-971B-16E1C2E5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72D6-8F2F-421D-90A0-521981FA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55D0-82BD-4F8E-A6A2-C6E8DD99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EC8A-2973-48C7-90C5-56D5B893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808F5-D50B-47B2-BCDF-DC8B67A8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1463-F1FB-4AD9-855A-1C805FF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1B8E-6809-4CE0-97A3-CBD84089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763F-AF5A-452B-BEC2-4E35882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AAF11-8C86-47C1-AD45-D3769F38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B3E-230E-4753-BF47-939772A9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B6FC-1C89-4823-8DE3-C6754D4D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01367-B9FA-4EDD-AA45-46539AF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26BA-578F-4E1C-92CB-DEABD939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32E0B-B32F-470A-A6B8-651EC13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BDB2-97DE-4C47-85B4-B91BB75A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A993-6FA5-4BEA-8E8D-30167629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327D-5064-4A80-AADF-4FDA3529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7EF67-BBB4-4A67-B045-EF9C2722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98782-C949-4DE1-B1BD-95179907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A7F3-081B-44B1-ABD2-5D68614D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A599-1345-4EC4-9F74-2F944123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E90B-A977-47DB-89DE-225AA0AE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6B56-410E-4F45-B2B7-035DC60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D3A5-2686-4DD9-9CAE-5AFCB340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A5BF-3916-4542-BE8C-D0BAF7C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793E-B681-46BF-85BE-5BD6783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D541-363B-424F-9049-31ACDC3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5A38-8391-44BC-AB5C-41756CF0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ACB51-F44A-4483-927A-969125F5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E2DBE-4796-4787-9DDD-B4596551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57AA1-73E9-4150-AE24-ACD5A707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99F-D047-4401-BBE5-00063160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514A4-C38C-4EB9-A91C-5D8FCE04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E044-577D-4DB6-AB04-A172B29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081AC-C1D5-46E7-A555-3B83039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3558-738B-4DEE-AAF3-FA8A86A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F6F7-9820-41BD-BFA3-268587A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7611-29A4-40F8-B0A6-1D046B6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FBEC-CF7C-4166-BE34-C30E737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EE7B-471A-468D-A40D-600526A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28B98-2370-4A7D-A6DA-95BF0D73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5E002-5D55-402E-AA15-C28867BA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1EA-0689-48E5-A5D1-84FEBBDA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93BD-5375-44C8-9DFC-770AF313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48F7C-B8FD-4A9F-8901-E0C9B1D5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6B8F-0AFA-4FAD-B5D5-D0FF62A8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DDEC-4498-47C8-8245-88C6736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F7A48-659C-4641-8468-7B9CD1F2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73A62-92FC-4A5B-B5CC-39745F2C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CA5DE-C067-4896-A2FE-EC7C4C2D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7BBB0-E7A6-40C3-AB0A-65375F67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98EB-EEEB-413C-8907-95F74AD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D5D58-8C46-4ED0-9354-7C2D0498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9DC-2F87-47C4-A478-1EB3DDB4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D612-6968-4AE0-990A-E045030B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4EB6-8874-4D52-8CFA-AF3A1C6F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8F8C3-3094-46A3-A4C9-97501C16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92281-BFA2-41AF-AE27-D67BC8C0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95D2-248D-46F5-A5E3-27A3ABA1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0AEF-A777-492B-81FF-B14D242B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32092-54C9-482B-82CF-96609795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6FD9-90FD-4CAF-AD33-8AD4B4D2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726AE-2131-4F8F-A815-2A4B914E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276B8-7095-40B7-B872-92E3573A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087-C0D7-4F9A-8D41-0BF7421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EC0E6-E17F-493B-A95B-B617583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7A7C-1B39-4869-A34F-31A66C26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EE80-159D-4A19-BD5C-2C418DFD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90310-CBF9-4E17-956B-C88EB507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D940-A551-4050-8C85-C99DB785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B0E78-B1FC-4284-8FBA-2711E3E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18774-91A6-4D07-B131-45D1F25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7F4EE-2145-482F-A091-FF35C3A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0349-AED2-4244-A30B-F35E46CA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0C860-93D3-4D29-AEA0-C6F4FC9B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6EA-A99D-4E1C-85E5-C9397CF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2F1E8-10E5-46C2-975D-812DE93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9D6BB-8ED3-4638-B1D9-3DC80BA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24743-5AAD-4179-9B6D-B763F3F2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15BF-65ED-41D3-8F08-B5CAEDF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7465-ED10-40DF-8A5C-A3CA3740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19944-D5F8-474F-933B-6B4DED2C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6B07-3D55-42E6-AF07-33E6B1EB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15CD1-6407-4F55-9922-ED1D44E8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9626F-0018-4E0A-9573-0340EB0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3A538-FBBF-40FF-BE8C-0794E877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3EC8-E78F-49F3-A659-553EDB69FE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68B-9ABB-4E76-B5EE-44FF124274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93D9-A1D4-401E-936D-859B81FD7C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29B8-884B-4A24-81B4-A16DA8C45E1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6A79-788D-4BFD-A12A-C4A6E2364B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033B-8AF2-4658-A672-BA5A672CBC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82D7-BEBC-466D-ADB6-1F80E23AC5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119B-0CE8-4DAF-BF2D-4EC4272BF8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A8D0-7487-4258-9CEB-B54F2283FB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gif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Прямоугольник 3" descr=""/>
          <p:cNvPicPr/>
          <p:nvPr/>
        </p:nvPicPr>
        <p:blipFill>
          <a:blip r:embed="rId1"/>
          <a:stretch/>
        </p:blipFill>
        <p:spPr>
          <a:xfrm>
            <a:off x="841320" y="2517840"/>
            <a:ext cx="754056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3" descr="r2.gif"/>
          <p:cNvPicPr/>
          <p:nvPr/>
        </p:nvPicPr>
        <p:blipFill>
          <a:blip r:embed="rId1"/>
          <a:stretch/>
        </p:blipFill>
        <p:spPr>
          <a:xfrm>
            <a:off x="6981840" y="4419720"/>
            <a:ext cx="2162160" cy="2162160"/>
          </a:xfrm>
          <a:prstGeom prst="rect">
            <a:avLst/>
          </a:prstGeom>
          <a:ln w="0">
            <a:noFill/>
          </a:ln>
        </p:spPr>
      </p:pic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1809720" y="1163520"/>
            <a:ext cx="6297480" cy="242100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4" descr="chrysanthemum09.gif"/>
          <p:cNvPicPr/>
          <p:nvPr/>
        </p:nvPicPr>
        <p:blipFill>
          <a:blip r:embed="rId3"/>
          <a:stretch/>
        </p:blipFill>
        <p:spPr>
          <a:xfrm>
            <a:off x="228600" y="4267080"/>
            <a:ext cx="2530440" cy="236232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camellia02.gif"/>
          <p:cNvPicPr/>
          <p:nvPr/>
        </p:nvPicPr>
        <p:blipFill>
          <a:blip r:embed="rId4"/>
          <a:stretch/>
        </p:blipFill>
        <p:spPr>
          <a:xfrm>
            <a:off x="0" y="2514600"/>
            <a:ext cx="2851200" cy="20336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8" descr="amaryllis03.gif"/>
          <p:cNvPicPr/>
          <p:nvPr/>
        </p:nvPicPr>
        <p:blipFill>
          <a:blip r:embed="rId5"/>
          <a:stretch/>
        </p:blipFill>
        <p:spPr>
          <a:xfrm>
            <a:off x="152280" y="0"/>
            <a:ext cx="1905120" cy="135252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6" descr="aster02.gif"/>
          <p:cNvPicPr/>
          <p:nvPr/>
        </p:nvPicPr>
        <p:blipFill>
          <a:blip r:embed="rId6"/>
          <a:stretch/>
        </p:blipFill>
        <p:spPr>
          <a:xfrm>
            <a:off x="1676520" y="3505320"/>
            <a:ext cx="2373120" cy="19810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7" descr="anemone03.gif"/>
          <p:cNvPicPr/>
          <p:nvPr/>
        </p:nvPicPr>
        <p:blipFill>
          <a:blip r:embed="rId7"/>
          <a:stretch/>
        </p:blipFill>
        <p:spPr>
          <a:xfrm>
            <a:off x="2666880" y="5334120"/>
            <a:ext cx="1905120" cy="11048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9" descr="anemone05.gif"/>
          <p:cNvPicPr/>
          <p:nvPr/>
        </p:nvPicPr>
        <p:blipFill>
          <a:blip r:embed="rId8"/>
          <a:stretch/>
        </p:blipFill>
        <p:spPr>
          <a:xfrm>
            <a:off x="3429000" y="4114800"/>
            <a:ext cx="1905120" cy="1743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10" descr="clivia03.gif"/>
          <p:cNvPicPr/>
          <p:nvPr/>
        </p:nvPicPr>
        <p:blipFill>
          <a:blip r:embed="rId9"/>
          <a:stretch/>
        </p:blipFill>
        <p:spPr>
          <a:xfrm>
            <a:off x="3657600" y="3429000"/>
            <a:ext cx="1676520" cy="150804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11" descr="convolvulus02.gif"/>
          <p:cNvPicPr/>
          <p:nvPr/>
        </p:nvPicPr>
        <p:blipFill>
          <a:blip r:embed="rId10"/>
          <a:stretch/>
        </p:blipFill>
        <p:spPr>
          <a:xfrm>
            <a:off x="1371600" y="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2" descr="daisy02.gif"/>
          <p:cNvPicPr/>
          <p:nvPr/>
        </p:nvPicPr>
        <p:blipFill>
          <a:blip r:embed="rId11"/>
          <a:stretch/>
        </p:blipFill>
        <p:spPr>
          <a:xfrm>
            <a:off x="4267080" y="4952880"/>
            <a:ext cx="1762200" cy="190512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13" descr="coreopsis02.gif"/>
          <p:cNvPicPr/>
          <p:nvPr/>
        </p:nvPicPr>
        <p:blipFill>
          <a:blip r:embed="rId12"/>
          <a:stretch/>
        </p:blipFill>
        <p:spPr>
          <a:xfrm>
            <a:off x="0" y="12952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14" descr="freesia03.gif"/>
          <p:cNvPicPr/>
          <p:nvPr/>
        </p:nvPicPr>
        <p:blipFill>
          <a:blip r:embed="rId13"/>
          <a:stretch/>
        </p:blipFill>
        <p:spPr>
          <a:xfrm>
            <a:off x="5791320" y="5029200"/>
            <a:ext cx="1747800" cy="182880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5" descr="rose13.gif"/>
          <p:cNvPicPr/>
          <p:nvPr/>
        </p:nvPicPr>
        <p:blipFill>
          <a:blip r:embed="rId14"/>
          <a:stretch/>
        </p:blipFill>
        <p:spPr>
          <a:xfrm>
            <a:off x="5029200" y="3352680"/>
            <a:ext cx="1655640" cy="22860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6" descr="rose18.gif"/>
          <p:cNvPicPr/>
          <p:nvPr/>
        </p:nvPicPr>
        <p:blipFill>
          <a:blip r:embed="rId15"/>
          <a:stretch/>
        </p:blipFill>
        <p:spPr>
          <a:xfrm>
            <a:off x="5943600" y="2438280"/>
            <a:ext cx="273528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7" descr="B_Fly32.gif"/>
          <p:cNvPicPr/>
          <p:nvPr/>
        </p:nvPicPr>
        <p:blipFill>
          <a:blip r:embed="rId16"/>
          <a:stretch/>
        </p:blipFill>
        <p:spPr>
          <a:xfrm rot="2862600">
            <a:off x="7259400" y="360360"/>
            <a:ext cx="1612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84120" y="194472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2514600" y="26431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доб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4.wav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9" descr="74tfg.gif"/>
          <p:cNvPicPr/>
          <p:nvPr/>
        </p:nvPicPr>
        <p:blipFill>
          <a:blip r:embed="rId3"/>
          <a:stretch/>
        </p:blipFill>
        <p:spPr>
          <a:xfrm>
            <a:off x="1219320" y="4495680"/>
            <a:ext cx="6686280" cy="14796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9" descr="B_Fly18.gif"/>
          <p:cNvPicPr/>
          <p:nvPr/>
        </p:nvPicPr>
        <p:blipFill>
          <a:blip r:embed="rId4"/>
          <a:stretch/>
        </p:blipFill>
        <p:spPr>
          <a:xfrm rot="19985400">
            <a:off x="533520" y="304560"/>
            <a:ext cx="2381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741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4073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ОБРО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О НЕЧТО ПОЛОЖИТЕЛЬНОЕ, ХОРОШЕЕ, ПОЛЕЗНОЕ, ПРОТИВОПОЛОЖНОЕ ЗЛУ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8164800" cy="35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Доброта –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то отзывчивость, душевное расположение к людям, стремление делать добро другим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042920" y="407880"/>
            <a:ext cx="7704360" cy="33782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18960" y="3819600"/>
            <a:ext cx="7407000" cy="30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Franklin Gothic Book"/>
              </a:rPr>
              <a:t>Злоба –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5008"/>
                </a:solidFill>
                <a:latin typeface="Franklin Gothic Book"/>
              </a:rPr>
              <a:t>это чувство злости, недоброжелательства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5008"/>
                </a:solidFill>
                <a:latin typeface="Franklin Gothic Book"/>
              </a:rPr>
              <a:t>к кому-нибудь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32080" y="274680"/>
            <a:ext cx="7503840" cy="1272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со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страдан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со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переживан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забо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со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чувств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сове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ласк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мение слушать и слыша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душев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вежлив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скром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чест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трудолюбие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воспитан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доброта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умение дружи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тактичность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C:\Documents and Settings\Женя\Рабочий стол\Кл.час Спешите делать добро\Осеева\i_008.jpg"/>
          <p:cNvPicPr/>
          <p:nvPr/>
        </p:nvPicPr>
        <p:blipFill>
          <a:blip r:embed="rId1"/>
          <a:stretch/>
        </p:blipFill>
        <p:spPr>
          <a:xfrm>
            <a:off x="1305000" y="133200"/>
            <a:ext cx="755316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432080" y="274680"/>
            <a:ext cx="7503840" cy="1292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0" descr="18"/>
          <p:cNvPicPr/>
          <p:nvPr/>
        </p:nvPicPr>
        <p:blipFill>
          <a:blip r:embed="rId2"/>
          <a:stretch/>
        </p:blipFill>
        <p:spPr>
          <a:xfrm>
            <a:off x="3357720" y="1643040"/>
            <a:ext cx="3171600" cy="4543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5" descr="10"/>
          <p:cNvPicPr/>
          <p:nvPr/>
        </p:nvPicPr>
        <p:blipFill>
          <a:blip r:embed="rId3"/>
          <a:stretch/>
        </p:blipFill>
        <p:spPr>
          <a:xfrm>
            <a:off x="6523200" y="4214880"/>
            <a:ext cx="2454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54_23_dorogoiu_dob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212840" y="176040"/>
            <a:ext cx="7723080" cy="12448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761760" y="1071360"/>
            <a:ext cx="81723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1. Спроси у жизни строгой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Какой идти дорогой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Куда по свету белому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Отправиться с утра?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Иди за солнцем следом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Хоть этот путь неведом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Иди, мой друг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Всегда иди дорогою     добр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2. Забудь свои заботы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Падения и взлёты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Не хныч, когда судьба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23227"/>
                </a:solidFill>
                <a:latin typeface="Arial"/>
                <a:ea typeface="Arial"/>
              </a:rPr>
              <a:t>Ведёт не как сестра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65040" indent="-28260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9772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О ЕСЛИ С ДРУГОМ ХУДО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Е УПОВАЙ НА ЧУДО,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СПЕШИ К НЕМУ,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ВСЕГДА ИДИ ДОРОГОЮ ДОБР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3. АХ, СКОЛЬКО БУДЕТ РАЗНЫХ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СОМНЕНИЙ И СОБЛАЗНОВ.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Е ЗАБЫВАЙ, ЧТО ЭТА ЖИЗНЬ 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НЕ ДЕТСКАЯ ИГРА.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ТЫ ПРОЧЬ ГОНИ СОБЛАЗНЫ, 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УСВОЙ ЗАКОН НЕГЛАСНЫЙ: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ИДИ, МОЙ ДРУГ, </a:t>
            </a:r>
            <a:br>
              <a:rPr sz="3200"/>
            </a:b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Arial"/>
              </a:rPr>
              <a:t>ВСЕГДА ИДИ ДОРОГОЮ ДОБРА.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21-04-16T18:57:02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270000000000010243100207f6000400038000</vt:lpwstr>
  </property>
  <property fmtid="{D5CDD505-2E9C-101B-9397-08002B2CF9AE}" pid="3" name="Version">
    <vt:r8>1</vt:r8>
  </property>
</Properties>
</file>