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Great.wav" ContentType="audio/x-wav"/>
  <Override PartName="/ppt/media/image5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4.png" ContentType="image/png"/>
  <Override PartName="/ppt/media/desa.wav" ContentType="audio/x-wav"/>
  <Override PartName="/ppt/media/image10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403-F888-49D1-9C09-F3134769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332-1A43-41D2-80C3-D37D220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B63-8CAC-4FC7-A002-538D017D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37C-CD93-499C-9D94-1E8B8A87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974F-E8F7-440C-8E7B-995BDCCD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8F48-7B83-42EE-89D7-B22280D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B3AB-AE28-4392-972F-4FE058AE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A1AA-1370-4CEC-B060-EFF141BA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E5E2-BBCF-4849-9B9F-F11A310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F05B-F62D-4AD5-9743-DC7A972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1AC2-35A2-472C-AE24-2DEC932E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170-9028-470A-A863-9CA1F0DB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3A47-4EAD-4B6F-B3C1-27E1D57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9F2-77A2-469E-84C0-A79F59C9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831D-3E91-46DE-B2B3-AB3FDF4F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DF77-1C1A-4CE1-8E4B-5C0992BB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3539-ACCF-4F0F-8219-A1BF595B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9E08-9081-4028-A193-6C38C836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7661-8DC7-4DCA-A81D-665FDCD5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532A-8585-4652-871A-BC0C1EA5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7B29-8640-4191-A7A5-45B2FF93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D3F7-012D-42BD-ADDE-41122D67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A81-70DF-4758-9581-EEE56ED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0DA8-6602-4362-9CB7-010B2A97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3D09-5EAC-4E90-98D3-E9F5DEF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F7AD-38DB-4460-8938-3E4B8FB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657B-7A6E-468F-AED4-64A6100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9E68-63EB-4F5A-B956-BC4F657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95D9-EEE8-4DE9-8424-810E0C5B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7F19-354B-4E6D-A2D8-B99BCAC4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E70-7701-4E8F-95ED-5A366B68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52A-5BD9-4DD4-9E91-13425974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A5B-C8F6-49BD-848B-EA437A5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5C1-BA24-4EA6-8C6E-A8986A7D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A1F-153D-423E-BF6B-BB2467A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3A2-948A-42BA-B274-C7BE0A3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201600"/>
            <a:ext cx="8619840" cy="6553080"/>
            <a:chOff x="262080" y="201600"/>
            <a:chExt cx="8619840" cy="655308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201600"/>
              <a:ext cx="861984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BE13-AC71-4427-BCE4-EFF112950A54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63680"/>
            <a:ext cx="7925040" cy="6022800"/>
            <a:chOff x="609480" y="463680"/>
            <a:chExt cx="7925040" cy="602280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63680"/>
              <a:ext cx="7925040" cy="60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95C7-8826-43FF-AEA6-5976685F8E0D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FC4-5CE5-491A-BE38-AA814A19DA25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audio" Target="../media/chimes.wav"/><Relationship Id="rId10" Type="http://schemas.openxmlformats.org/officeDocument/2006/relationships/audio" Target="../media/Great.wav"/><Relationship Id="rId11" Type="http://schemas.openxmlformats.org/officeDocument/2006/relationships/audio" Target="../media/desa.wav"/><Relationship Id="rId12" Type="http://schemas.openxmlformats.org/officeDocument/2006/relationships/audio" Target="../media/desa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6" descr=""/>
          <p:cNvPicPr/>
          <p:nvPr/>
        </p:nvPicPr>
        <p:blipFill>
          <a:blip r:embed="rId1"/>
          <a:stretch/>
        </p:blipFill>
        <p:spPr>
          <a:xfrm>
            <a:off x="1139760" y="1407960"/>
            <a:ext cx="6620040" cy="1238400"/>
          </a:xfrm>
          <a:prstGeom prst="rect">
            <a:avLst/>
          </a:prstGeom>
          <a:ln w="0">
            <a:noFill/>
          </a:ln>
        </p:spPr>
      </p:pic>
      <p:pic>
        <p:nvPicPr>
          <p:cNvPr id="132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140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143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ectângulo 92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Rectangle 26" descr=""/>
          <p:cNvPicPr/>
          <p:nvPr/>
        </p:nvPicPr>
        <p:blipFill>
          <a:blip r:embed="rId1"/>
          <a:stretch/>
        </p:blipFill>
        <p:spPr>
          <a:xfrm>
            <a:off x="927000" y="1407960"/>
            <a:ext cx="7643880" cy="1238400"/>
          </a:xfrm>
          <a:prstGeom prst="rect">
            <a:avLst/>
          </a:prstGeom>
          <a:ln w="0">
            <a:noFill/>
          </a:ln>
        </p:spPr>
      </p:pic>
      <p:pic>
        <p:nvPicPr>
          <p:cNvPr id="574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582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585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6" dur="1" fill="hold">
                                    <p:stCondLst>
                                      <p:cond evt="end">
                                        <p:tn val="1274"/>
                                      </p:cond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0" dur="1" fill="hold">
                                    <p:stCondLst>
                                      <p:cond evt="end">
                                        <p:tn val="1278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4" dur="1" fill="hold">
                                    <p:stCondLst>
                                      <p:cond evt="end">
                                        <p:tn val="1282"/>
                                      </p:cond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8" dur="1" fill="hold">
                                    <p:stCondLst>
                                      <p:cond evt="end">
                                        <p:tn val="1286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2" dur="1" fill="hold">
                                    <p:stCondLst>
                                      <p:cond evt="end">
                                        <p:tn val="1290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6" dur="1" fill="hold">
                                    <p:stCondLst>
                                      <p:cond evt="end">
                                        <p:tn val="1294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0" dur="1" fill="hold">
                                    <p:stCondLst>
                                      <p:cond evt="end">
                                        <p:tn val="1298"/>
                                      </p:cond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4" dur="1" fill="hold">
                                    <p:stCondLst>
                                      <p:cond evt="end">
                                        <p:tn val="1302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8" dur="1" fill="hold">
                                    <p:stCondLst>
                                      <p:cond evt="end">
                                        <p:tn val="1306"/>
                                      </p:cond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2" dur="1" fill="hold">
                                    <p:stCondLst>
                                      <p:cond evt="end">
                                        <p:tn val="1310"/>
                                      </p:cond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" dur="1" fill="hold">
                                    <p:stCondLst>
                                      <p:cond evt="end">
                                        <p:tn val="1314"/>
                                      </p:cond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" dur="1" fill="hold">
                                    <p:stCondLst>
                                      <p:cond evt="end">
                                        <p:tn val="1318"/>
                                      </p:cond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" dur="1" fill="hold">
                                    <p:stCondLst>
                                      <p:cond evt="end">
                                        <p:tn val="1322"/>
                                      </p:cond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" dur="1" fill="hold">
                                    <p:stCondLst>
                                      <p:cond evt="end">
                                        <p:tn val="1326"/>
                                      </p:cond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" dur="1" fill="hold">
                                    <p:stCondLst>
                                      <p:cond evt="end">
                                        <p:tn val="1330"/>
                                      </p:cond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evt="end">
                                        <p:tn val="1334"/>
                                      </p:cond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" dur="1" fill="hold">
                                    <p:stCondLst>
                                      <p:cond evt="end">
                                        <p:tn val="1338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" dur="1" fill="hold">
                                    <p:stCondLst>
                                      <p:cond evt="end">
                                        <p:tn val="1342"/>
                                      </p:cond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evt="end">
                                        <p:tn val="1346"/>
                                      </p:cond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" dur="1" fill="hold">
                                    <p:stCondLst>
                                      <p:cond evt="end">
                                        <p:tn val="1350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" dur="1" fill="hold">
                                    <p:stCondLst>
                                      <p:cond evt="end">
                                        <p:tn val="1354"/>
                                      </p:cond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0" dur="1" fill="hold">
                                    <p:stCondLst>
                                      <p:cond evt="end">
                                        <p:tn val="1358"/>
                                      </p:cond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4" dur="1" fill="hold">
                                    <p:stCondLst>
                                      <p:cond evt="end">
                                        <p:tn val="1362"/>
                                      </p:cond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8" dur="1" fill="hold">
                                    <p:stCondLst>
                                      <p:cond evt="end">
                                        <p:tn val="1366"/>
                                      </p:cond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evt="end">
                                        <p:tn val="1370"/>
                                      </p:cond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6" dur="1" fill="hold">
                                    <p:stCondLst>
                                      <p:cond evt="end">
                                        <p:tn val="1374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0" dur="1" fill="hold">
                                    <p:stCondLst>
                                      <p:cond evt="end">
                                        <p:tn val="1378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4" dur="1" fill="hold">
                                    <p:stCondLst>
                                      <p:cond evt="end">
                                        <p:tn val="1382"/>
                                      </p:cond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8" dur="1" fill="hold">
                                    <p:stCondLst>
                                      <p:cond evt="end">
                                        <p:tn val="1386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2" dur="1" fill="hold">
                                    <p:stCondLst>
                                      <p:cond evt="end">
                                        <p:tn val="1390"/>
                                      </p:cond>
                                    </p:stCondLst>
                                  </p:cTn>
                                  <p:tgtEl>
                                    <p:spTgt spid="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394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9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00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06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181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189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192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215120" y="500076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vanda\Os meus documentos\As minhas imagens\verbs\children\P07890.WMF"/>
          <p:cNvPicPr/>
          <p:nvPr/>
        </p:nvPicPr>
        <p:blipFill>
          <a:blip r:embed="rId8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4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ctangle 26" descr=""/>
          <p:cNvPicPr/>
          <p:nvPr/>
        </p:nvPicPr>
        <p:blipFill>
          <a:blip r:embed="rId1"/>
          <a:stretch/>
        </p:blipFill>
        <p:spPr>
          <a:xfrm>
            <a:off x="1000080" y="1195560"/>
            <a:ext cx="7424640" cy="1755720"/>
          </a:xfrm>
          <a:prstGeom prst="rect">
            <a:avLst/>
          </a:prstGeom>
          <a:ln w="0">
            <a:noFill/>
          </a:ln>
        </p:spPr>
      </p:pic>
      <p:pic>
        <p:nvPicPr>
          <p:cNvPr id="231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2"/>
          <p:cNvSpPr/>
          <p:nvPr/>
        </p:nvSpPr>
        <p:spPr>
          <a:xfrm>
            <a:off x="214308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207180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5"/>
          <p:cNvSpPr/>
          <p:nvPr/>
        </p:nvSpPr>
        <p:spPr>
          <a:xfrm>
            <a:off x="171468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are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239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242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ângulo 44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1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evt="end">
                                        <p:tn val="295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evt="end">
                                        <p:tn val="315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evt="end">
                                        <p:tn val="31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31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evt="end">
                                        <p:tn val="347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9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7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evt="end">
                                        <p:tn val="399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3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280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0"/>
          <p:cNvSpPr/>
          <p:nvPr/>
        </p:nvSpPr>
        <p:spPr>
          <a:xfrm>
            <a:off x="214308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2000160" y="564372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she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1785960" y="564372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you are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288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291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evt="end">
                                        <p:tn val="448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evt="end">
                                        <p:tn val="460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8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4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6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evt="end">
                                        <p:tn val="544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329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he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337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340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9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73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evt="end">
                                        <p:tn val="577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evt="end">
                                        <p:tn val="581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evt="end">
                                        <p:tn val="585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evt="end">
                                        <p:tn val="589"/>
                                      </p:cond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evt="end">
                                        <p:tn val="593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7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evt="end">
                                        <p:tn val="609"/>
                                      </p:cond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evt="end">
                                        <p:tn val="613"/>
                                      </p:cond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21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evt="end">
                                        <p:tn val="629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3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evt="end">
                                        <p:tn val="645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" dur="1" fill="hold">
                                    <p:stCondLst>
                                      <p:cond evt="end">
                                        <p:tn val="65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evt="end">
                                        <p:tn val="657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evt="end">
                                        <p:tn val="661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evt="end">
                                        <p:tn val="665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evt="end">
                                        <p:tn val="66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evt="end">
                                        <p:tn val="673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evt="end">
                                        <p:tn val="677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378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2214720" y="41432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207180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1785960" y="41432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386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389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evt="end">
                                        <p:tn val="710"/>
                                      </p:cond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6" dur="1" fill="hold">
                                    <p:stCondLst>
                                      <p:cond evt="end">
                                        <p:tn val="714"/>
                                      </p:cond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0" dur="1" fill="hold">
                                    <p:stCondLst>
                                      <p:cond evt="end">
                                        <p:tn val="718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evt="end">
                                        <p:tn val="72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evt="end">
                                        <p:tn val="726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" dur="1" fill="hold">
                                    <p:stCondLst>
                                      <p:cond evt="end">
                                        <p:tn val="730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4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8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evt="end">
                                        <p:tn val="746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50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evt="end">
                                        <p:tn val="758"/>
                                      </p:cond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2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" dur="1" fill="hold">
                                    <p:stCondLst>
                                      <p:cond evt="end">
                                        <p:tn val="770"/>
                                      </p:cond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evt="end">
                                        <p:tn val="774"/>
                                      </p:cond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82"/>
                                      </p:cond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evt="end">
                                        <p:tn val="786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evt="end">
                                        <p:tn val="794"/>
                                      </p:cond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evt="end">
                                        <p:tn val="798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10"/>
                                      </p:cond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4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evt="end">
                                        <p:tn val="818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evt="end">
                                        <p:tn val="822"/>
                                      </p:cond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evt="end">
                                        <p:tn val="826"/>
                                      </p:cond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30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427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435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438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evt="end">
                                        <p:tn val="851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7" dur="1" fill="hold">
                                    <p:stCondLst>
                                      <p:cond evt="end">
                                        <p:tn val="855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" dur="1" fill="hold">
                                    <p:stCondLst>
                                      <p:cond evt="end">
                                        <p:tn val="859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evt="end">
                                        <p:tn val="863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" dur="1" fill="hold">
                                    <p:stCondLst>
                                      <p:cond evt="end">
                                        <p:tn val="867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" dur="1" fill="hold">
                                    <p:stCondLst>
                                      <p:cond evt="end">
                                        <p:tn val="871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evt="end">
                                        <p:tn val="875"/>
                                      </p:cond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" dur="1" fill="hold">
                                    <p:stCondLst>
                                      <p:cond evt="end">
                                        <p:tn val="879"/>
                                      </p:cond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" dur="1" fill="hold">
                                    <p:stCondLst>
                                      <p:cond evt="end">
                                        <p:tn val="883"/>
                                      </p:cond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evt="end">
                                        <p:tn val="887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evt="end">
                                        <p:tn val="891"/>
                                      </p:cond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evt="end">
                                        <p:tn val="895"/>
                                      </p:cond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" dur="1" fill="hold">
                                    <p:stCondLst>
                                      <p:cond evt="end">
                                        <p:tn val="899"/>
                                      </p:cond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" dur="1" fill="hold">
                                    <p:stCondLst>
                                      <p:cond evt="end">
                                        <p:tn val="903"/>
                                      </p:cond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" dur="1" fill="hold">
                                    <p:stCondLst>
                                      <p:cond evt="end">
                                        <p:tn val="911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" dur="1" fill="hold">
                                    <p:stCondLst>
                                      <p:cond evt="end">
                                        <p:tn val="915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" dur="1" fill="hold">
                                    <p:stCondLst>
                                      <p:cond evt="end">
                                        <p:tn val="919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5" dur="1" fill="hold">
                                    <p:stCondLst>
                                      <p:cond evt="end">
                                        <p:tn val="923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9" dur="1" fill="hold">
                                    <p:stCondLst>
                                      <p:cond evt="end">
                                        <p:tn val="927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evt="end">
                                        <p:tn val="931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7" dur="1" fill="hold">
                                    <p:stCondLst>
                                      <p:cond evt="end">
                                        <p:tn val="935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1" dur="1" fill="hold">
                                    <p:stCondLst>
                                      <p:cond evt="end">
                                        <p:tn val="939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5" dur="1" fill="hold">
                                    <p:stCondLst>
                                      <p:cond evt="end">
                                        <p:tn val="943"/>
                                      </p:cond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9" dur="1" fill="hold">
                                    <p:stCondLst>
                                      <p:cond evt="end">
                                        <p:tn val="947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3" dur="1" fill="hold">
                                    <p:stCondLst>
                                      <p:cond evt="end">
                                        <p:tn val="951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7" dur="1" fill="hold">
                                    <p:stCondLst>
                                      <p:cond evt="end">
                                        <p:tn val="955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9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evt="end">
                                        <p:tn val="959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5" dur="1" fill="hold">
                                    <p:stCondLst>
                                      <p:cond evt="end">
                                        <p:tn val="963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9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9" dur="1" fill="hold">
                                    <p:stCondLst>
                                      <p:cond evt="end">
                                        <p:tn val="967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Rectangle 26" descr=""/>
          <p:cNvPicPr/>
          <p:nvPr/>
        </p:nvPicPr>
        <p:blipFill>
          <a:blip r:embed="rId1"/>
          <a:stretch/>
        </p:blipFill>
        <p:spPr>
          <a:xfrm>
            <a:off x="901800" y="1407960"/>
            <a:ext cx="7102440" cy="1238400"/>
          </a:xfrm>
          <a:prstGeom prst="rect">
            <a:avLst/>
          </a:prstGeom>
          <a:ln w="0">
            <a:noFill/>
          </a:ln>
        </p:spPr>
      </p:pic>
      <p:pic>
        <p:nvPicPr>
          <p:cNvPr id="476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484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487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evt="end">
                                        <p:tn val="992"/>
                                      </p:cond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8" dur="1" fill="hold">
                                    <p:stCondLst>
                                      <p:cond evt="end">
                                        <p:tn val="996"/>
                                      </p:cond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2" dur="1" fill="hold">
                                    <p:stCondLst>
                                      <p:cond evt="end">
                                        <p:tn val="1000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6" dur="1" fill="hold">
                                    <p:stCondLst>
                                      <p:cond evt="end">
                                        <p:tn val="1004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0" dur="1" fill="hold">
                                    <p:stCondLst>
                                      <p:cond evt="end">
                                        <p:tn val="1008"/>
                                      </p:cond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4" dur="1" fill="hold">
                                    <p:stCondLst>
                                      <p:cond evt="end">
                                        <p:tn val="1012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" dur="1" fill="hold">
                                    <p:stCondLst>
                                      <p:cond evt="end">
                                        <p:tn val="1016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" dur="1" fill="hold">
                                    <p:stCondLst>
                                      <p:cond evt="end">
                                        <p:tn val="1020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" dur="1" fill="hold">
                                    <p:stCondLst>
                                      <p:cond evt="end">
                                        <p:tn val="1024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" dur="1" fill="hold">
                                    <p:stCondLst>
                                      <p:cond evt="end">
                                        <p:tn val="1028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" dur="1" fill="hold">
                                    <p:stCondLst>
                                      <p:cond evt="end">
                                        <p:tn val="1032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" dur="1" fill="hold">
                                    <p:stCondLst>
                                      <p:cond evt="end">
                                        <p:tn val="1036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" dur="1" fill="hold">
                                    <p:stCondLst>
                                      <p:cond evt="end">
                                        <p:tn val="1040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" dur="1" fill="hold">
                                    <p:stCondLst>
                                      <p:cond evt="end">
                                        <p:tn val="1044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" dur="1" fill="hold">
                                    <p:stCondLst>
                                      <p:cond evt="end">
                                        <p:tn val="1048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" dur="1" fill="hold">
                                    <p:stCondLst>
                                      <p:cond evt="end">
                                        <p:tn val="1052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evt="end">
                                        <p:tn val="1056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" dur="1" fill="hold">
                                    <p:stCondLst>
                                      <p:cond evt="end">
                                        <p:tn val="1060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" dur="1" fill="hold">
                                    <p:stCondLst>
                                      <p:cond evt="end">
                                        <p:tn val="1064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8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" dur="1" fill="hold">
                                    <p:stCondLst>
                                      <p:cond evt="end">
                                        <p:tn val="1072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8" dur="1" fill="hold">
                                    <p:stCondLst>
                                      <p:cond evt="end">
                                        <p:tn val="1076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2" dur="1" fill="hold">
                                    <p:stCondLst>
                                      <p:cond evt="end">
                                        <p:tn val="1080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6" dur="1" fill="hold">
                                    <p:stCondLst>
                                      <p:cond evt="end">
                                        <p:tn val="1084"/>
                                      </p:cond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0" dur="1" fill="hold">
                                    <p:stCondLst>
                                      <p:cond evt="end">
                                        <p:tn val="1088"/>
                                      </p:cond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evt="end">
                                        <p:tn val="1092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8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2" dur="1" fill="hold">
                                    <p:stCondLst>
                                      <p:cond evt="end">
                                        <p:tn val="1100"/>
                                      </p:cond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evt="end">
                                        <p:tn val="1104"/>
                                      </p:cond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" dur="1" fill="hold">
                                    <p:stCondLst>
                                      <p:cond evt="end">
                                        <p:tn val="1108"/>
                                      </p:cond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525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0"/>
          <p:cNvSpPr/>
          <p:nvPr/>
        </p:nvSpPr>
        <p:spPr>
          <a:xfrm>
            <a:off x="2071800" y="41432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3"/>
          <p:cNvSpPr/>
          <p:nvPr/>
        </p:nvSpPr>
        <p:spPr>
          <a:xfrm>
            <a:off x="207180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6"/>
          <p:cNvSpPr/>
          <p:nvPr/>
        </p:nvSpPr>
        <p:spPr>
          <a:xfrm>
            <a:off x="1714680" y="41432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533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536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0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" dur="1" fill="hold">
                                    <p:stCondLst>
                                      <p:cond evt="end">
                                        <p:tn val="1137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41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" dur="1" fill="hold">
                                    <p:stCondLst>
                                      <p:cond evt="end">
                                        <p:tn val="1149"/>
                                      </p:cond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3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evt="end">
                                        <p:tn val="1157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" dur="1" fill="hold">
                                    <p:stCondLst>
                                      <p:cond evt="end">
                                        <p:tn val="116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evt="end">
                                        <p:tn val="116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evt="end">
                                        <p:tn val="1169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evt="end">
                                        <p:tn val="1173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7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" dur="1" fill="hold">
                                    <p:stCondLst>
                                      <p:cond evt="end">
                                        <p:tn val="1181"/>
                                      </p:cond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evt="end">
                                        <p:tn val="1185"/>
                                      </p:cond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evt="end">
                                        <p:tn val="1189"/>
                                      </p:cond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" dur="1" fill="hold">
                                    <p:stCondLst>
                                      <p:cond evt="end">
                                        <p:tn val="1193"/>
                                      </p:cond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evt="end">
                                        <p:tn val="1197"/>
                                      </p:cond>
                                    </p:stCondLst>
                                  </p:cTn>
                                  <p:tgtEl>
                                    <p:spTgt spid="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evt="end">
                                        <p:tn val="1201"/>
                                      </p:cond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evt="end">
                                        <p:tn val="1205"/>
                                      </p:cond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evt="end">
                                        <p:tn val="1209"/>
                                      </p:cond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5" dur="1" fill="hold">
                                    <p:stCondLst>
                                      <p:cond evt="end">
                                        <p:tn val="1213"/>
                                      </p:cond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9" dur="1" fill="hold">
                                    <p:stCondLst>
                                      <p:cond evt="end">
                                        <p:tn val="1217"/>
                                      </p:cond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3" dur="1" fill="hold">
                                    <p:stCondLst>
                                      <p:cond evt="end">
                                        <p:tn val="1221"/>
                                      </p:cond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7" dur="1" fill="hold">
                                    <p:stCondLst>
                                      <p:cond evt="end">
                                        <p:tn val="1225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1" dur="1" fill="hold">
                                    <p:stCondLst>
                                      <p:cond evt="end">
                                        <p:tn val="1229"/>
                                      </p:cond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evt="end">
                                        <p:tn val="1233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9" dur="1" fill="hold">
                                    <p:stCondLst>
                                      <p:cond evt="end">
                                        <p:tn val="12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3" dur="1" fill="hold">
                                    <p:stCondLst>
                                      <p:cond evt="end">
                                        <p:tn val="1241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evt="end">
                                        <p:tn val="1245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1" dur="1" fill="hold">
                                    <p:stCondLst>
                                      <p:cond evt="end">
                                        <p:tn val="1249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53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65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1:15:54Z</dcterms:created>
  <dc:creator>makhonina</dc:creator>
  <dc:description/>
  <dc:language>en-US</dc:language>
  <cp:lastModifiedBy>DNS</cp:lastModifiedBy>
  <dcterms:modified xsi:type="dcterms:W3CDTF">2021-04-16T15:02:47Z</dcterms:modified>
  <cp:revision>34</cp:revision>
  <dc:subject/>
  <dc:title>Diapositivo 1</dc:title>
</cp:coreProperties>
</file>