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Great.wav" ContentType="audio/x-wav"/>
  <Override PartName="/ppt/media/image5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4.png" ContentType="image/png"/>
  <Override PartName="/ppt/media/desa.wav" ContentType="audio/x-wav"/>
  <Override PartName="/ppt/media/image10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1DA-338C-45F0-9DE6-7536A13A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88D-7785-4C33-8150-FBAE4AD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99A-E468-49E7-AED5-DD53B33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C7B-5342-461C-8691-B6D78B52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15F-C3A3-4CCA-91D6-569F6795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5E75-F991-42B0-98C5-C1BE2CC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A255-30E3-4873-B07B-9925F3F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8C33-9A98-47D3-9744-B0E4A3C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AF2-F8A8-4986-A8D4-04A2D2D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518E-8C34-4983-868C-BBE62C7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600E-393C-4ACC-8BFD-50FD73B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560-2162-4F6B-8F4F-B35B2EC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7767-2651-4D65-BF52-8D80A99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643-5D22-4AC1-AD11-80BE86E3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DBF-56E4-4D15-A645-156C9C78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72F-D17D-47D8-91AA-2B0053E7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FDC5-B0B5-4A8C-8700-4607601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49E3-A8C8-4AF1-B7F0-6FBF6D79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6CDD-3869-48D6-A779-7C5293C0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1C20-6BE0-432D-9918-ECA60569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5400-77DB-47A3-B9E9-E7815384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4489-27B7-4234-8819-AC7A2F38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D85-E8A1-4744-8A92-E2F7DB2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CCD8-9B53-4BB2-93FE-54BCFC6A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1664-D757-4F92-8041-699D712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0871-39D1-4D60-97C5-5AC415C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0D62-DD98-48DA-9EDC-E48D39F8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6D3D-EFA3-401C-9FDA-C171B550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1780-EA50-404A-BE0C-7EA7A831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C199-1ADD-437C-8DAA-23550B68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C90-7C20-4F3F-888D-E5A202F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FD1-E584-4060-BB34-E9516D0F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284-E686-404C-9978-7D46061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A99-0373-48A9-A56C-DC5AAE5B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F5C-4EFC-4445-B44E-9F5F155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1BA-A7A4-4193-AABC-526FEC8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201600"/>
            <a:ext cx="8619840" cy="6553080"/>
            <a:chOff x="262080" y="201600"/>
            <a:chExt cx="8619840" cy="655308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201600"/>
              <a:ext cx="86198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956-B12D-4E8F-84E8-F3A1A1BE6FAE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63680"/>
            <a:ext cx="7925040" cy="6022800"/>
            <a:chOff x="609480" y="463680"/>
            <a:chExt cx="7925040" cy="602280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63680"/>
              <a:ext cx="79250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835-8502-40BA-8558-6928C9DFA54C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40A-77C7-4BF1-828A-C12CEF2FF077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audio" Target="../media/chimes.wav"/><Relationship Id="rId10" Type="http://schemas.openxmlformats.org/officeDocument/2006/relationships/audio" Target="../media/Great.wav"/><Relationship Id="rId11" Type="http://schemas.openxmlformats.org/officeDocument/2006/relationships/audio" Target="../media/desa.wav"/><Relationship Id="rId12" Type="http://schemas.openxmlformats.org/officeDocument/2006/relationships/audio" Target="../media/desa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6" descr=""/>
          <p:cNvPicPr/>
          <p:nvPr/>
        </p:nvPicPr>
        <p:blipFill>
          <a:blip r:embed="rId1"/>
          <a:stretch/>
        </p:blipFill>
        <p:spPr>
          <a:xfrm>
            <a:off x="1139760" y="1407960"/>
            <a:ext cx="662004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40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43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ângulo 92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Rectangle 26" descr=""/>
          <p:cNvPicPr/>
          <p:nvPr/>
        </p:nvPicPr>
        <p:blipFill>
          <a:blip r:embed="rId1"/>
          <a:stretch/>
        </p:blipFill>
        <p:spPr>
          <a:xfrm>
            <a:off x="927000" y="1407960"/>
            <a:ext cx="7643880" cy="1238400"/>
          </a:xfrm>
          <a:prstGeom prst="rect">
            <a:avLst/>
          </a:prstGeom>
          <a:ln w="0">
            <a:noFill/>
          </a:ln>
        </p:spPr>
      </p:pic>
      <p:pic>
        <p:nvPicPr>
          <p:cNvPr id="574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82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85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" dur="1" fill="hold">
                                    <p:stCondLst>
                                      <p:cond evt="end">
                                        <p:tn val="1274"/>
                                      </p:cond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" dur="1" fill="hold">
                                    <p:stCondLst>
                                      <p:cond evt="end">
                                        <p:tn val="1278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" dur="1" fill="hold">
                                    <p:stCondLst>
                                      <p:cond evt="end">
                                        <p:tn val="1282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8" dur="1" fill="hold">
                                    <p:stCondLst>
                                      <p:cond evt="end">
                                        <p:tn val="1286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" dur="1" fill="hold">
                                    <p:stCondLst>
                                      <p:cond evt="end">
                                        <p:tn val="1290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" dur="1" fill="hold">
                                    <p:stCondLst>
                                      <p:cond evt="end">
                                        <p:tn val="1294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evt="end">
                                        <p:tn val="1298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evt="end">
                                        <p:tn val="1302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evt="end">
                                        <p:tn val="1306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evt="end">
                                        <p:tn val="1310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evt="end">
                                        <p:tn val="1314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" dur="1" fill="hold">
                                    <p:stCondLst>
                                      <p:cond evt="end">
                                        <p:tn val="1318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evt="end">
                                        <p:tn val="1322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" dur="1" fill="hold">
                                    <p:stCondLst>
                                      <p:cond evt="end">
                                        <p:tn val="1326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" dur="1" fill="hold">
                                    <p:stCondLst>
                                      <p:cond evt="end">
                                        <p:tn val="1330"/>
                                      </p:cond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evt="end">
                                        <p:tn val="1334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evt="end">
                                        <p:tn val="1338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" dur="1" fill="hold">
                                    <p:stCondLst>
                                      <p:cond evt="end">
                                        <p:tn val="1342"/>
                                      </p:cond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evt="end">
                                        <p:tn val="1346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evt="end">
                                        <p:tn val="1350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" dur="1" fill="hold">
                                    <p:stCondLst>
                                      <p:cond evt="end">
                                        <p:tn val="1354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evt="end">
                                        <p:tn val="1358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" dur="1" fill="hold">
                                    <p:stCondLst>
                                      <p:cond evt="end">
                                        <p:tn val="1362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" dur="1" fill="hold">
                                    <p:stCondLst>
                                      <p:cond evt="end">
                                        <p:tn val="1366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evt="end">
                                        <p:tn val="1370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evt="end">
                                        <p:tn val="1374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" dur="1" fill="hold">
                                    <p:stCondLst>
                                      <p:cond evt="end">
                                        <p:tn val="1378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evt="end">
                                        <p:tn val="1382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" dur="1" fill="hold">
                                    <p:stCondLst>
                                      <p:cond evt="end">
                                        <p:tn val="1386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" dur="1" fill="hold">
                                    <p:stCondLst>
                                      <p:cond evt="end">
                                        <p:tn val="1390"/>
                                      </p:cond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00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06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18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8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9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215120" y="500076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vanda\Os meus documentos\As minhas imagens\verbs\children\P07890.WMF"/>
          <p:cNvPicPr/>
          <p:nvPr/>
        </p:nvPicPr>
        <p:blipFill>
          <a:blip r:embed="rId8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tangle 26" descr=""/>
          <p:cNvPicPr/>
          <p:nvPr/>
        </p:nvPicPr>
        <p:blipFill>
          <a:blip r:embed="rId1"/>
          <a:stretch/>
        </p:blipFill>
        <p:spPr>
          <a:xfrm>
            <a:off x="1000080" y="1195560"/>
            <a:ext cx="7424640" cy="175572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5"/>
          <p:cNvSpPr/>
          <p:nvPr/>
        </p:nvSpPr>
        <p:spPr>
          <a:xfrm>
            <a:off x="171468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3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4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ângulo 44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5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5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evt="end">
                                        <p:tn val="347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7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evt="end">
                                        <p:tn val="399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280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0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2000160" y="564372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s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1785960" y="564372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you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88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91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6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37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40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3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1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5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evt="end">
                                        <p:tn val="593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7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evt="end">
                                        <p:tn val="609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evt="end">
                                        <p:tn val="629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evt="end">
                                        <p:tn val="65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7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evt="end">
                                        <p:tn val="661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evt="end">
                                        <p:tn val="665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evt="end">
                                        <p:tn val="66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evt="end">
                                        <p:tn val="677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78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221472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178596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86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89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evt="end">
                                        <p:tn val="710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" dur="1" fill="hold">
                                    <p:stCondLst>
                                      <p:cond evt="end">
                                        <p:tn val="714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" dur="1" fill="hold">
                                    <p:stCondLst>
                                      <p:cond evt="end">
                                        <p:tn val="718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evt="end">
                                        <p:tn val="72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evt="end">
                                        <p:tn val="726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evt="end">
                                        <p:tn val="730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4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evt="end">
                                        <p:tn val="746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2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30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35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38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evt="end">
                                        <p:tn val="851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" dur="1" fill="hold">
                                    <p:stCondLst>
                                      <p:cond evt="end">
                                        <p:tn val="855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evt="end">
                                        <p:tn val="859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evt="end">
                                        <p:tn val="863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evt="end">
                                        <p:tn val="867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" dur="1" fill="hold">
                                    <p:stCondLst>
                                      <p:cond evt="end">
                                        <p:tn val="871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evt="end">
                                        <p:tn val="875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evt="end">
                                        <p:tn val="879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" dur="1" fill="hold">
                                    <p:stCondLst>
                                      <p:cond evt="end">
                                        <p:tn val="883"/>
                                      </p:cond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evt="end">
                                        <p:tn val="887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evt="end">
                                        <p:tn val="891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evt="end">
                                        <p:tn val="895"/>
                                      </p:cond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" dur="1" fill="hold">
                                    <p:stCondLst>
                                      <p:cond evt="end">
                                        <p:tn val="899"/>
                                      </p:cond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" dur="1" fill="hold">
                                    <p:stCondLst>
                                      <p:cond evt="end">
                                        <p:tn val="911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5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" dur="1" fill="hold">
                                    <p:stCondLst>
                                      <p:cond evt="end">
                                        <p:tn val="923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7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evt="end">
                                        <p:tn val="935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evt="end">
                                        <p:tn val="939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3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" dur="1" fill="hold">
                                    <p:stCondLst>
                                      <p:cond evt="end">
                                        <p:tn val="947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" dur="1" fill="hold">
                                    <p:stCondLst>
                                      <p:cond evt="end">
                                        <p:tn val="95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" dur="1" fill="hold">
                                    <p:stCondLst>
                                      <p:cond evt="end">
                                        <p:tn val="955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evt="end">
                                        <p:tn val="95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" dur="1" fill="hold">
                                    <p:stCondLst>
                                      <p:cond evt="end">
                                        <p:tn val="963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9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evt="end">
                                        <p:tn val="967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Rectangle 26" descr=""/>
          <p:cNvPicPr/>
          <p:nvPr/>
        </p:nvPicPr>
        <p:blipFill>
          <a:blip r:embed="rId1"/>
          <a:stretch/>
        </p:blipFill>
        <p:spPr>
          <a:xfrm>
            <a:off x="901800" y="1407960"/>
            <a:ext cx="7102440" cy="1238400"/>
          </a:xfrm>
          <a:prstGeom prst="rect">
            <a:avLst/>
          </a:prstGeom>
          <a:ln w="0">
            <a:noFill/>
          </a:ln>
        </p:spPr>
      </p:pic>
      <p:pic>
        <p:nvPicPr>
          <p:cNvPr id="476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84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87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evt="end">
                                        <p:tn val="992"/>
                                      </p:cond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" dur="1" fill="hold">
                                    <p:stCondLst>
                                      <p:cond evt="end">
                                        <p:tn val="996"/>
                                      </p:cond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" dur="1" fill="hold">
                                    <p:stCondLst>
                                      <p:cond evt="end">
                                        <p:tn val="1000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" dur="1" fill="hold">
                                    <p:stCondLst>
                                      <p:cond evt="end">
                                        <p:tn val="1004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" dur="1" fill="hold">
                                    <p:stCondLst>
                                      <p:cond evt="end">
                                        <p:tn val="1008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" dur="1" fill="hold">
                                    <p:stCondLst>
                                      <p:cond evt="end">
                                        <p:tn val="1012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" dur="1" fill="hold">
                                    <p:stCondLst>
                                      <p:cond evt="end">
                                        <p:tn val="1016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" dur="1" fill="hold">
                                    <p:stCondLst>
                                      <p:cond evt="end">
                                        <p:tn val="1020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" dur="1" fill="hold">
                                    <p:stCondLst>
                                      <p:cond evt="end">
                                        <p:tn val="1024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" dur="1" fill="hold">
                                    <p:stCondLst>
                                      <p:cond evt="end">
                                        <p:tn val="1028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" dur="1" fill="hold">
                                    <p:stCondLst>
                                      <p:cond evt="end">
                                        <p:tn val="1032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" dur="1" fill="hold">
                                    <p:stCondLst>
                                      <p:cond evt="end">
                                        <p:tn val="1036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" dur="1" fill="hold">
                                    <p:stCondLst>
                                      <p:cond evt="end">
                                        <p:tn val="1040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" dur="1" fill="hold">
                                    <p:stCondLst>
                                      <p:cond evt="end">
                                        <p:tn val="1044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evt="end">
                                        <p:tn val="1048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" dur="1" fill="hold">
                                    <p:stCondLst>
                                      <p:cond evt="end">
                                        <p:tn val="1052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evt="end">
                                        <p:tn val="1056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evt="end">
                                        <p:tn val="1060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evt="end">
                                        <p:tn val="1064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8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" dur="1" fill="hold">
                                    <p:stCondLst>
                                      <p:cond evt="end">
                                        <p:tn val="1076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80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" dur="1" fill="hold">
                                    <p:stCondLst>
                                      <p:cond evt="end">
                                        <p:tn val="1088"/>
                                      </p:cond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2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evt="end">
                                        <p:tn val="1100"/>
                                      </p:cond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evt="end">
                                        <p:tn val="1104"/>
                                      </p:cond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" dur="1" fill="hold">
                                    <p:stCondLst>
                                      <p:cond evt="end">
                                        <p:tn val="1108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525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0"/>
          <p:cNvSpPr/>
          <p:nvPr/>
        </p:nvSpPr>
        <p:spPr>
          <a:xfrm>
            <a:off x="207180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207180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6"/>
          <p:cNvSpPr/>
          <p:nvPr/>
        </p:nvSpPr>
        <p:spPr>
          <a:xfrm>
            <a:off x="171468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33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36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" dur="1" fill="hold">
                                    <p:stCondLst>
                                      <p:cond evt="end">
                                        <p:tn val="1137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9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evt="end">
                                        <p:tn val="1173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7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evt="end">
                                        <p:tn val="1185"/>
                                      </p:cond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3"/>
                                      </p:cond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evt="end">
                                        <p:tn val="1201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5"/>
                                      </p:cond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evt="end">
                                        <p:tn val="1209"/>
                                      </p:cond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evt="end">
                                        <p:tn val="1213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" dur="1" fill="hold">
                                    <p:stCondLst>
                                      <p:cond evt="end">
                                        <p:tn val="1217"/>
                                      </p:cond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evt="end">
                                        <p:tn val="1221"/>
                                      </p:cond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" dur="1" fill="hold">
                                    <p:stCondLst>
                                      <p:cond evt="end">
                                        <p:tn val="1229"/>
                                      </p:cond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evt="end">
                                        <p:tn val="1233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9" dur="1" fill="hold">
                                    <p:stCondLst>
                                      <p:cond evt="end">
                                        <p:tn val="12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1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evt="end">
                                        <p:tn val="1245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" dur="1" fill="hold">
                                    <p:stCondLst>
                                      <p:cond evt="end">
                                        <p:tn val="1249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53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5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1:15:54Z</dcterms:created>
  <dc:creator>makhonina</dc:creator>
  <dc:description/>
  <dc:language>en-US</dc:language>
  <cp:lastModifiedBy>DNS</cp:lastModifiedBy>
  <dcterms:modified xsi:type="dcterms:W3CDTF">2021-04-16T15:02:47Z</dcterms:modified>
  <cp:revision>34</cp:revision>
  <dc:subject/>
  <dc:title>Diapositivo 1</dc:title>
</cp:coreProperties>
</file>