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TextToSpeech3.wav" ContentType="audio/x-wav"/>
  <Override PartName="/ppt/media/TextToSpeech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0EE8-67E4-4654-B8A0-0E667A5F069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4AE5-331F-44A4-8395-C351EF39E16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F50-2CD6-4AC8-A95E-D2D86E46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F04-84D7-4B31-A291-28AE97B7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C5E-623B-4171-90CA-9FEAC3E7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F9B-F0F0-443A-8CFD-66297067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70C-D3F7-41E3-849D-6A326040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B0D-4EBA-42C6-B4C4-B88C35EF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CF7-D5A3-4BAD-8DAD-744CED3F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12E-12DE-44CD-83D9-4DFA1902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FD5-781A-4C3B-9A7D-FE88FF9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E1B-DA7E-4CA3-B0C3-D8B9CFA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979-9D8C-424B-8352-6FD48B8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AAE-76E4-4A5E-9EF9-AC48BB6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435B-8B1A-4FA3-8349-9AB8389DD24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audio" Target="../media/TextToSpeech1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52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53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928880" y="2071800"/>
            <a:ext cx="328608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you li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ice-crea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56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TKB1F-24pDnxBmWDAhEfYC0ASzC7VgbFrcyzb1ihZhDXKOMFQ&amp;t=1&amp;usg=___wrJOUgxL0eYrDE3m7MnXqdDUSM="/>
          <p:cNvPicPr/>
          <p:nvPr/>
        </p:nvPicPr>
        <p:blipFill>
          <a:blip r:embed="rId5"/>
          <a:stretch/>
        </p:blipFill>
        <p:spPr>
          <a:xfrm>
            <a:off x="142920" y="2071800"/>
            <a:ext cx="14428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61145 0.21805 E">
                                      <p:cBhvr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1928880" y="857160"/>
            <a:ext cx="314316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Thanks 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for 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playing!.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62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63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64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65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underst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66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50121 0.15486 E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71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72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73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74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M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love hi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75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3.33333E-006 4.81481E-006 L -0.51372 -0.00579 E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79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80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81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82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928880" y="192888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 do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home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ester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84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48923 -0.18241 E">
                                      <p:cBhvr>
                                        <p:cTn id="6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88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89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0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91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2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Mary do h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home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regular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93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3.33333E-006 4.81481E-006 L -0.37205 -0.02663 E">
                                      <p:cBhvr>
                                        <p:cTn id="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97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98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9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00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01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We nee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a new ca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02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50902 0.14444 E">
                                      <p:cBhvr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07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08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09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0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She find 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book last nigh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11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50503 -0.19282 E">
                                      <p:cBhvr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16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7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18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9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Where 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 liv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20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3.33333E-006 -3.7037E-007 L -0.38576 0.18912 E">
                                      <p:cBhvr>
                                        <p:cTn id="12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25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26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27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28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r father coo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nner last week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29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48923 -0.20347 E"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4:57:08Z</dcterms:created>
  <dc:creator>vanda</dc:creator>
  <dc:description/>
  <dc:language>en-US</dc:language>
  <cp:lastModifiedBy>DNS</cp:lastModifiedBy>
  <dcterms:modified xsi:type="dcterms:W3CDTF">2021-04-16T16:34:09Z</dcterms:modified>
  <cp:revision>13</cp:revision>
  <dc:subject/>
  <dc:title>Diapositivo 1</dc:title>
</cp:coreProperties>
</file>