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0FA-3395-4BFE-9A8E-FBBA519D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9CA-1A81-4B09-BFE3-019B0C0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D50-AC16-4B88-9A3E-D1CB7620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316-198D-4B42-A198-83C627CB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D02F-5633-4CA8-A19B-B82AB6CE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BD7F-BE2D-4FD9-9C08-9210182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76F3-AAD7-473E-A2D6-8154DE7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5126-E964-4B6F-953F-5FF09D8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DBDE-A2AA-4B01-B032-F798A99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74F-5D94-4D51-A064-97C5DB58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1FC4-465D-4B21-B3F6-74FDD2D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FE1-28A0-482E-BB53-7E22A59F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9F1-BFF0-4AD7-98CC-D27E105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517-D907-4B08-A4FB-1C2FF81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F574-E258-4459-BA6E-491DE3BC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C8AD-C870-445C-BBEE-C6CBA0A4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CF0-1B52-4DCD-8660-7706156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8944-2D42-44BA-95CC-1F0BC7CE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4681-3009-413D-8C50-3DF613C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8420-0A1C-4971-A01B-B3EDF75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5A47-D61E-480D-8BA6-7C9F102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D0CF-83E0-483C-80EE-D86ACBD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728-69DE-4DD9-85BF-AEDDC3E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B47E-3424-4E8C-81D9-D0AF3136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A82B-14A9-4B87-98E6-A05623D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A1AA-6A2B-4D49-ABA9-5984623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804A-0B78-403D-822C-4FDE6DC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E795-DA07-4950-8D56-C27CBC0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34EA-1244-4A71-A39C-5CB33BD3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EE2E-DBCB-46A8-B0F4-FE2CEB33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96FD-8CA4-4E38-9834-6618BCC9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659B-3A87-4C66-975A-89834FD7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3B9A-3A87-4632-B057-85347A7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910-D9D2-4661-94F6-AC3C2E26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F4DD-C10C-40B0-841D-A71A8BA9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C6CB-C701-40E7-A289-773F0F7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7392-57DC-46C5-880D-2C79FD0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D831-E545-43FF-9FEC-0B2CA6A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F3F2-C69D-4999-9EF9-01D0C9B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86F0-B91D-4B2D-A9E3-DA9D1B2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E7D9-5855-41B0-95EE-1F2B362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6E92-9EA9-4F41-90F6-7E76AB8A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D020-BB3A-407F-9C27-C924A05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CEA-2824-444C-8A45-3A7B8BF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860-49F2-4D62-8617-EF4B536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70F-8AC8-434B-909B-6856D20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E8B-FE29-4C36-BFAB-2D1FB79C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0B0-F6C1-4E2B-AC04-AA2B5B2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6808680"/>
            <a:ext cx="6858000" cy="2335320"/>
            <a:chOff x="0" y="6808680"/>
            <a:chExt cx="6858000" cy="23353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6809760"/>
              <a:ext cx="6858000" cy="23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808680"/>
              <a:ext cx="6858000" cy="23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6858000" cy="6808680"/>
            <a:chOff x="0" y="0"/>
            <a:chExt cx="6858000" cy="68086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55A-AE16-4C1F-9EDD-2009F94AD68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933-36F3-4224-9775-E272B02E24F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6808680"/>
            <a:ext cx="6858000" cy="2335320"/>
            <a:chOff x="0" y="6808680"/>
            <a:chExt cx="6858000" cy="23353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6809760"/>
              <a:ext cx="6858000" cy="23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6808680"/>
              <a:ext cx="6858000" cy="23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6858000" cy="6808680"/>
            <a:chOff x="0" y="0"/>
            <a:chExt cx="6858000" cy="68086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C17D-49D6-4856-BDB4-E7560FEA814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A49-59E9-4762-A493-5D75D38934B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91920" y="250920"/>
            <a:ext cx="5545080" cy="84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уктурное подразделени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ОУ «СОШ № 36» «Детский сад»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пка – передвижка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Я учусь пересказывать с воспитателем»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ила воспитатель первой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валификационной категории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уппы дошкольного возраста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ОГРИЕВА М.С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рель, 2021 г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56800" y="974880"/>
            <a:ext cx="48006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rcRect l="0" t="7299" r="0" b="0"/>
          <a:stretch/>
        </p:blipFill>
        <p:spPr>
          <a:xfrm>
            <a:off x="404640" y="395280"/>
            <a:ext cx="604872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2" descr="C:\Users\Admin\Desktop\FPLLk0VJsKs.jpg"/>
          <p:cNvPicPr/>
          <p:nvPr/>
        </p:nvPicPr>
        <p:blipFill>
          <a:blip r:embed="rId1"/>
          <a:srcRect l="1474" t="6697" r="1433" b="2407"/>
          <a:stretch/>
        </p:blipFill>
        <p:spPr>
          <a:xfrm>
            <a:off x="620640" y="539640"/>
            <a:ext cx="576108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Admin\Desktop\LCAP7mRhdgA.jpg"/>
          <p:cNvPicPr/>
          <p:nvPr/>
        </p:nvPicPr>
        <p:blipFill>
          <a:blip r:embed="rId1"/>
          <a:srcRect l="-310" t="6751" r="-238" b="3039"/>
          <a:stretch/>
        </p:blipFill>
        <p:spPr>
          <a:xfrm>
            <a:off x="620640" y="611280"/>
            <a:ext cx="561672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Admin\Desktop\NeH6a8Yx7xA.jpg"/>
          <p:cNvPicPr/>
          <p:nvPr/>
        </p:nvPicPr>
        <p:blipFill>
          <a:blip r:embed="rId1"/>
          <a:srcRect l="1080" t="7559" r="1153" b="3847"/>
          <a:stretch/>
        </p:blipFill>
        <p:spPr>
          <a:xfrm>
            <a:off x="692280" y="684360"/>
            <a:ext cx="547344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Admin\Desktop\xEEke-NEoTw.jpg"/>
          <p:cNvPicPr/>
          <p:nvPr/>
        </p:nvPicPr>
        <p:blipFill>
          <a:blip r:embed="rId1"/>
          <a:srcRect l="0" t="6749" r="809" b="3045"/>
          <a:stretch/>
        </p:blipFill>
        <p:spPr>
          <a:xfrm>
            <a:off x="476280" y="468360"/>
            <a:ext cx="59770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Admin\Desktop\_0ABhZu49z0.jpg"/>
          <p:cNvPicPr/>
          <p:nvPr/>
        </p:nvPicPr>
        <p:blipFill>
          <a:blip r:embed="rId1"/>
          <a:srcRect l="0" t="6755" r="-41" b="3847"/>
          <a:stretch/>
        </p:blipFill>
        <p:spPr>
          <a:xfrm>
            <a:off x="549360" y="468360"/>
            <a:ext cx="583236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10:11:44Z</dcterms:created>
  <dc:creator>Admin</dc:creator>
  <dc:description/>
  <dc:language>en-US</dc:language>
  <cp:lastModifiedBy>Admin</cp:lastModifiedBy>
  <dcterms:modified xsi:type="dcterms:W3CDTF">2021-04-06T10:32:49Z</dcterms:modified>
  <cp:revision>3</cp:revision>
  <dc:subject/>
  <dc:title>Презентация PowerPoint</dc:title>
</cp:coreProperties>
</file>