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625-26F2-46E7-B5DD-36C097A0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875-F250-4E3C-A333-00C0181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5B9-8093-44AF-AEB4-54166990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D62-0403-4F5F-B0C8-98C648E5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AB1-135D-4C9B-BD2A-EE1EBF9D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7A5A-F8CD-4EDA-9423-3871EC46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CD13-DAF9-4BAD-9140-1BD9263C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DC5-66C1-40DF-8187-DB595BB0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0D71-3F78-4B58-BA5D-6CA93119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A2FF-5FDE-4497-8334-633FBECF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BCF-04B5-41FC-8BB7-00736EE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E5B-CC54-43B5-8132-2689A9D6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55DF-F8CC-4AF9-BE9B-A96CFC4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7FAF-4EF7-4653-98AB-6AC15240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9B1-F63E-4B15-84A7-1C991B3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B792-35FF-4302-BEE7-FB84B0B6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3C1E-8817-4B2B-B351-E35D8676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9724-1CCB-48E2-AFCC-E3F55C93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0D7B-D3FE-4CBC-A5FD-5364D4AD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8B12-4E97-4240-ADB4-CB05452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F967-D8FB-4F10-B7E5-CC764681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D2875-A0A4-40F3-861B-9BF505CE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516-4F66-4F18-90A7-47519939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CBF1-C63F-4C6E-8E72-E7B2DD4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54C62-FB96-4C41-A9FF-AE04E72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7FC1-A708-41A4-B3E5-B1B2DAF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3EA0-E249-46D0-8606-AD42078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DA73-469D-4649-AD42-C85FC74B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A0347-E5A4-482B-8623-8520999F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B9C8-75BC-4B31-96E7-B33AD0F1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0618-3128-4783-A9FF-E04C798C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6D19A-DEC8-4817-B3BD-41E8E732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3433-39FE-4C21-A59E-8EAFD8AF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FDE-0F27-40DA-8249-4D03EA47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D7B9-CF51-4311-96E2-1AEC84FD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C0C0A-A193-4F13-8723-B66C6782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AEB8-2E69-476E-A13E-6C48648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2E8C-D5F7-49C7-BD05-B70BA47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3BE5-BFE7-4153-A271-9CE76EE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D533-30AA-4019-B97B-974E07A5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96DB-B582-431D-BFFE-6B39AE95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4211-22EF-4700-8455-1570C760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04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102920" y="97632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5680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248004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4102920" y="3396240"/>
            <a:ext cx="1545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75783-7900-40D3-8E98-FECFADFC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670-5F87-4621-917C-6A7B615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44240" y="5829120"/>
            <a:ext cx="48848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996-9011-41A3-BC5A-8D666A4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37F-8ACA-491E-A8CC-7E9E2C46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16680" y="339624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758-355A-4902-92AC-1DEA8DD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976320"/>
            <a:ext cx="2342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800" y="339624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ADE-7C44-4311-8657-19C73901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6808680"/>
            <a:ext cx="6858000" cy="2335320"/>
            <a:chOff x="0" y="6808680"/>
            <a:chExt cx="6858000" cy="23353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6809760"/>
              <a:ext cx="6858000" cy="23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808680"/>
              <a:ext cx="6858000" cy="23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6858000" cy="6808680"/>
            <a:chOff x="0" y="0"/>
            <a:chExt cx="6858000" cy="68086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4879-0B70-4A2C-8B57-AE0F04683DB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5157720"/>
            <a:ext cx="6858000" cy="3986280"/>
            <a:chOff x="0" y="5157720"/>
            <a:chExt cx="6858000" cy="3986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5158800"/>
              <a:ext cx="6858000" cy="39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57720"/>
              <a:ext cx="6858000" cy="39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6858000" cy="5157720"/>
            <a:chOff x="0" y="0"/>
            <a:chExt cx="6858000" cy="515772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418-341D-4562-91CB-2DCC17FFEBE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6808680"/>
            <a:ext cx="6858000" cy="2335320"/>
            <a:chOff x="0" y="6808680"/>
            <a:chExt cx="6858000" cy="23353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6809760"/>
              <a:ext cx="6858000" cy="23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6808680"/>
              <a:ext cx="6858000" cy="23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6858000" cy="6808680"/>
            <a:chOff x="0" y="0"/>
            <a:chExt cx="6858000" cy="68086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6858000" cy="68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5024520"/>
            <a:ext cx="6858000" cy="30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5157720"/>
            <a:ext cx="6858000" cy="3986280"/>
            <a:chOff x="0" y="5157720"/>
            <a:chExt cx="6858000" cy="3986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5158800"/>
              <a:ext cx="6858000" cy="39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57720"/>
              <a:ext cx="6858000" cy="39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6858000" cy="5157720"/>
            <a:chOff x="0" y="0"/>
            <a:chExt cx="6858000" cy="515772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685800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3CB-56B5-4A48-8BD0-B2D0E4116E0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5157720"/>
            <a:ext cx="6858000" cy="3986280"/>
            <a:chOff x="0" y="5157720"/>
            <a:chExt cx="6858000" cy="3986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5158800"/>
              <a:ext cx="6858000" cy="398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5157720"/>
              <a:ext cx="6858000" cy="39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6858000" cy="5157720"/>
            <a:chOff x="0" y="0"/>
            <a:chExt cx="6858000" cy="515772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85800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6858000" cy="51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3537000"/>
            <a:ext cx="6858000" cy="30481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2133720"/>
            <a:ext cx="6858000" cy="6808680"/>
            <a:chOff x="0" y="2133720"/>
            <a:chExt cx="6858000" cy="68086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2133720"/>
              <a:ext cx="6858000" cy="68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004760" y="3130560"/>
              <a:ext cx="4848480" cy="48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56800" y="976320"/>
            <a:ext cx="4800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628880" y="8229600"/>
            <a:ext cx="1886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42720" y="822960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2857680" y="8229600"/>
            <a:ext cx="1371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DD5C-1707-4BEE-9D26-6F4208E9DC0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91920" y="250920"/>
            <a:ext cx="5545080" cy="84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уктурное подразделение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АОУ «СОШ № 36» «Детский сад»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пка – передвижка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Я учусь пересказывать с воспитателем»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8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ила воспитатель первой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валификационной категории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руппы дошкольного возраста: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ОГРИЕВА М.С</a:t>
            </a:r>
            <a:r>
              <a:rPr b="1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прель, 2021 г.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56800" y="974880"/>
            <a:ext cx="48006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rcRect l="0" t="7299" r="0" b="0"/>
          <a:stretch/>
        </p:blipFill>
        <p:spPr>
          <a:xfrm>
            <a:off x="404640" y="395280"/>
            <a:ext cx="604872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44240" y="5829120"/>
            <a:ext cx="4884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2" descr="C:\Users\Admin\Desktop\FPLLk0VJsKs.jpg"/>
          <p:cNvPicPr/>
          <p:nvPr/>
        </p:nvPicPr>
        <p:blipFill>
          <a:blip r:embed="rId1"/>
          <a:srcRect l="1474" t="6697" r="1433" b="2407"/>
          <a:stretch/>
        </p:blipFill>
        <p:spPr>
          <a:xfrm>
            <a:off x="620640" y="539640"/>
            <a:ext cx="576108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Admin\Desktop\LCAP7mRhdgA.jpg"/>
          <p:cNvPicPr/>
          <p:nvPr/>
        </p:nvPicPr>
        <p:blipFill>
          <a:blip r:embed="rId1"/>
          <a:srcRect l="-310" t="6751" r="-238" b="3039"/>
          <a:stretch/>
        </p:blipFill>
        <p:spPr>
          <a:xfrm>
            <a:off x="620640" y="611280"/>
            <a:ext cx="561672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Admin\Desktop\NeH6a8Yx7xA.jpg"/>
          <p:cNvPicPr/>
          <p:nvPr/>
        </p:nvPicPr>
        <p:blipFill>
          <a:blip r:embed="rId1"/>
          <a:srcRect l="1080" t="7559" r="1153" b="3847"/>
          <a:stretch/>
        </p:blipFill>
        <p:spPr>
          <a:xfrm>
            <a:off x="692280" y="684360"/>
            <a:ext cx="547344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Users\Admin\Desktop\xEEke-NEoTw.jpg"/>
          <p:cNvPicPr/>
          <p:nvPr/>
        </p:nvPicPr>
        <p:blipFill>
          <a:blip r:embed="rId1"/>
          <a:srcRect l="0" t="6749" r="809" b="3045"/>
          <a:stretch/>
        </p:blipFill>
        <p:spPr>
          <a:xfrm>
            <a:off x="476280" y="468360"/>
            <a:ext cx="597708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Admin\Desktop\_0ABhZu49z0.jpg"/>
          <p:cNvPicPr/>
          <p:nvPr/>
        </p:nvPicPr>
        <p:blipFill>
          <a:blip r:embed="rId1"/>
          <a:srcRect l="0" t="6755" r="-41" b="3847"/>
          <a:stretch/>
        </p:blipFill>
        <p:spPr>
          <a:xfrm>
            <a:off x="549360" y="468360"/>
            <a:ext cx="5832360" cy="82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6T10:11:44Z</dcterms:created>
  <dc:creator>Admin</dc:creator>
  <dc:description/>
  <dc:language>en-US</dc:language>
  <cp:lastModifiedBy>Admin</cp:lastModifiedBy>
  <dcterms:modified xsi:type="dcterms:W3CDTF">2021-04-06T10:32:49Z</dcterms:modified>
  <cp:revision>3</cp:revision>
  <dc:subject/>
  <dc:title>Презентация PowerPoint</dc:title>
</cp:coreProperties>
</file>