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EFAE-58B9-451C-A99D-46AF7C5980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9972-0C12-4C70-9797-80FC9A26AF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8F7-6CE2-45DA-A93B-3A11140F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2C0-F935-457B-B2B1-F0A588A0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15D0-6089-4EA0-91D1-C408C69D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819-ED1B-4D92-B404-8E327E73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5212-040C-4344-9973-37F9B0CE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AB6B-ECCF-41E0-B7AA-4EC69A8B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9168-8932-4E03-8126-BC240237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6BBF-3F62-449F-9B9B-F9DF9A83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2283-9614-4A52-99BA-5AAB0A97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1B07-4AA9-4E52-BBD6-911752EE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0CD9-2F5B-4FE9-BB8C-9383059E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81B-DC96-4E8D-BC22-8275133F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049D-474F-437E-A8D0-EBF6E49D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7A96-1AD4-4B83-ABC5-6AD90723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580C-31AE-4DD0-BFB1-17B67613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046B-2F84-47B4-BA05-6749CFB9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B68E-4B76-45FC-8859-0D37A1DB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EE742-6941-4D40-94D4-4D54A470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C302-4BD7-4894-9B5C-4AC55819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36388-C2C1-43C7-A80C-525D1E99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DEA9-D6AF-4E4F-9873-DA285458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A7F5-597E-4871-ABED-D9C0141C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750-3D44-44C7-A939-8D1F85A7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2A37-F472-4528-A43F-4BF554F0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C940F-9EC9-48D0-A5A4-745B7492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FDA4D-DDE8-410A-8450-236067EF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0365F-8BCC-428D-8FEE-F0BF10EE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6A7A7-3554-48F6-9A4F-1FE3F547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6E5EC-5FE8-40BF-A215-F5018302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9936D-6A27-4E97-BC5B-31792AFC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E82-558A-4654-9343-B201E2B2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46B-DEAC-4C0E-B47D-1C74754E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2F1-F931-4239-A85C-C509D832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49A9-CEB8-44FE-8816-3E95A07E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0D6-88F7-402C-A0BC-C0507720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C85-6C65-4D6C-9F85-111CA8BE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E4F6-090C-4428-B443-15E7C0C06D7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Рисунок 6" descr="пр42.png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1B5D-85D9-484F-9F10-3502CB61B4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8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4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Рисунок 6" descr="пр42.png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1E67-A013-482F-9036-AD33AA6F4E4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Прямоугольник 1" descr=""/>
          <p:cNvPicPr/>
          <p:nvPr/>
        </p:nvPicPr>
        <p:blipFill>
          <a:blip r:embed="rId1"/>
          <a:stretch/>
        </p:blipFill>
        <p:spPr>
          <a:xfrm>
            <a:off x="609480" y="774720"/>
            <a:ext cx="7778880" cy="5046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357120" y="145188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ваясь на эти принципы, создана система работы, которая включила в себя следующие компонент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дметно-развивающей сред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детьм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педагогам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родителям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083120" y="1330920"/>
            <a:ext cx="2067120" cy="1134000"/>
          </a:xfrm>
          <a:prstGeom prst="rect">
            <a:avLst/>
          </a:prstGeom>
          <a:solidFill>
            <a:srgbClr val="c2ebff"/>
          </a:solidFill>
          <a:ln w="28440">
            <a:solidFill>
              <a:srgbClr val="5c5c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одуктивные виды деятельности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Рисо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Леп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Конструиро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3786120" y="3357720"/>
            <a:ext cx="1871640" cy="1008000"/>
          </a:xfrm>
          <a:prstGeom prst="roundRect">
            <a:avLst>
              <a:gd name="adj" fmla="val 16667"/>
            </a:avLst>
          </a:prstGeom>
          <a:solidFill>
            <a:srgbClr val="e0f5ff"/>
          </a:solidFill>
          <a:ln w="28440">
            <a:solidFill>
              <a:srgbClr val="004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6643800" y="2214720"/>
            <a:ext cx="2160360" cy="1008000"/>
          </a:xfrm>
          <a:prstGeom prst="wedgeRoundRectCallout">
            <a:avLst>
              <a:gd name="adj1" fmla="val -71162"/>
              <a:gd name="adj2" fmla="val 71888"/>
              <a:gd name="adj3" fmla="val 16667"/>
            </a:avLst>
          </a:prstGeom>
          <a:solidFill>
            <a:srgbClr val="c2ebff"/>
          </a:solidFill>
          <a:ln w="28440">
            <a:solidFill>
              <a:srgbClr val="5c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ектная деятель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х и дет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 rot="21089400">
            <a:off x="874440" y="1374480"/>
            <a:ext cx="2489040" cy="1795320"/>
          </a:xfrm>
          <a:prstGeom prst="wedgeRoundRectCallout">
            <a:avLst>
              <a:gd name="adj1" fmla="val 48574"/>
              <a:gd name="adj2" fmla="val 67564"/>
              <a:gd name="adj3" fmla="val 16667"/>
            </a:avLst>
          </a:prstGeom>
          <a:solidFill>
            <a:srgbClr val="c2ebff"/>
          </a:solidFill>
          <a:ln w="28440">
            <a:solidFill>
              <a:srgbClr val="5c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Иг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Настольно-печат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Сюжетно-ролев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Дидакт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Строитель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Театрализован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Подвиж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324000" y="4508640"/>
            <a:ext cx="1654200" cy="1277640"/>
          </a:xfrm>
          <a:prstGeom prst="wedgeRoundRectCallout">
            <a:avLst>
              <a:gd name="adj1" fmla="val 141652"/>
              <a:gd name="adj2" fmla="val -91273"/>
              <a:gd name="adj3" fmla="val 16667"/>
            </a:avLst>
          </a:prstGeom>
          <a:solidFill>
            <a:srgbClr val="c2ebff"/>
          </a:solidFill>
          <a:ln w="28440">
            <a:solidFill>
              <a:srgbClr val="5c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кукольные спектак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147636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1857240" y="5786280"/>
            <a:ext cx="1944720" cy="785880"/>
          </a:xfrm>
          <a:prstGeom prst="wedgeRoundRectCallout">
            <a:avLst>
              <a:gd name="adj1" fmla="val 67222"/>
              <a:gd name="adj2" fmla="val -178662"/>
              <a:gd name="adj3" fmla="val 16667"/>
            </a:avLst>
          </a:prstGeom>
          <a:solidFill>
            <a:srgbClr val="c2ebff"/>
          </a:solidFill>
          <a:ln w="28440">
            <a:solidFill>
              <a:srgbClr val="5c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ул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6"/>
          <p:cNvSpPr/>
          <p:nvPr/>
        </p:nvSpPr>
        <p:spPr>
          <a:xfrm>
            <a:off x="4929120" y="5572080"/>
            <a:ext cx="1928880" cy="1079640"/>
          </a:xfrm>
          <a:prstGeom prst="wedgeRoundRectCallout">
            <a:avLst>
              <a:gd name="adj1" fmla="val -22745"/>
              <a:gd name="adj2" fmla="val -140736"/>
              <a:gd name="adj3" fmla="val 16667"/>
            </a:avLst>
          </a:prstGeom>
          <a:solidFill>
            <a:srgbClr val="c2ebff"/>
          </a:solidFill>
          <a:ln w="28440">
            <a:solidFill>
              <a:srgbClr val="5c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художественной литератур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7000920" y="4572000"/>
            <a:ext cx="1511280" cy="623880"/>
          </a:xfrm>
          <a:prstGeom prst="wedgeRoundRectCallout">
            <a:avLst>
              <a:gd name="adj1" fmla="val -96745"/>
              <a:gd name="adj2" fmla="val -149236"/>
              <a:gd name="adj3" fmla="val 16667"/>
            </a:avLst>
          </a:prstGeom>
          <a:solidFill>
            <a:srgbClr val="c2ebff"/>
          </a:solidFill>
          <a:ln w="28440">
            <a:solidFill>
              <a:srgbClr val="5c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1187280" y="3500280"/>
            <a:ext cx="1317960" cy="696960"/>
          </a:xfrm>
          <a:prstGeom prst="wedgeRoundRectCallout">
            <a:avLst>
              <a:gd name="adj1" fmla="val 120481"/>
              <a:gd name="adj2" fmla="val -5578"/>
              <a:gd name="adj3" fmla="val 16667"/>
            </a:avLst>
          </a:prstGeom>
          <a:solidFill>
            <a:srgbClr val="c2ebff"/>
          </a:solidFill>
          <a:ln w="28440">
            <a:solidFill>
              <a:srgbClr val="5c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н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О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2" descr=""/>
          <p:cNvPicPr/>
          <p:nvPr/>
        </p:nvPicPr>
        <p:blipFill>
          <a:blip r:embed="rId1"/>
          <a:stretch/>
        </p:blipFill>
        <p:spPr>
          <a:xfrm>
            <a:off x="5580000" y="1274760"/>
            <a:ext cx="3381480" cy="4098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87" name="Рисунок 1" descr=""/>
          <p:cNvPicPr/>
          <p:nvPr/>
        </p:nvPicPr>
        <p:blipFill>
          <a:blip r:embed="rId2"/>
          <a:stretch/>
        </p:blipFill>
        <p:spPr>
          <a:xfrm>
            <a:off x="250920" y="1287360"/>
            <a:ext cx="3384360" cy="4040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"/>
          <p:cNvPicPr/>
          <p:nvPr/>
        </p:nvPicPr>
        <p:blipFill>
          <a:blip r:embed="rId1"/>
          <a:stretch/>
        </p:blipFill>
        <p:spPr>
          <a:xfrm>
            <a:off x="108000" y="1123920"/>
            <a:ext cx="4319640" cy="28814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" descr=""/>
          <p:cNvPicPr/>
          <p:nvPr/>
        </p:nvPicPr>
        <p:blipFill>
          <a:blip r:embed="rId2"/>
          <a:stretch/>
        </p:blipFill>
        <p:spPr>
          <a:xfrm>
            <a:off x="4500720" y="1076400"/>
            <a:ext cx="4464000" cy="2976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3" descr=""/>
          <p:cNvPicPr/>
          <p:nvPr/>
        </p:nvPicPr>
        <p:blipFill>
          <a:blip r:embed="rId3"/>
          <a:stretch/>
        </p:blipFill>
        <p:spPr>
          <a:xfrm>
            <a:off x="185760" y="4052880"/>
            <a:ext cx="4164120" cy="27766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"/>
          <p:cNvPicPr/>
          <p:nvPr/>
        </p:nvPicPr>
        <p:blipFill>
          <a:blip r:embed="rId4"/>
          <a:stretch/>
        </p:blipFill>
        <p:spPr>
          <a:xfrm>
            <a:off x="4427640" y="3997440"/>
            <a:ext cx="4427280" cy="2950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214200" y="1524960"/>
            <a:ext cx="8786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ятель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 – исследовательская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C:\Users\Администратор\Desktop\лэпбук\5656012.jpeg"/>
          <p:cNvPicPr/>
          <p:nvPr/>
        </p:nvPicPr>
        <p:blipFill>
          <a:blip r:embed="rId1"/>
          <a:stretch/>
        </p:blipFill>
        <p:spPr>
          <a:xfrm>
            <a:off x="5214960" y="4572000"/>
            <a:ext cx="3143160" cy="22860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1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3725640" cy="49687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" descr=""/>
          <p:cNvPicPr/>
          <p:nvPr/>
        </p:nvPicPr>
        <p:blipFill>
          <a:blip r:embed="rId3"/>
          <a:stretch/>
        </p:blipFill>
        <p:spPr>
          <a:xfrm>
            <a:off x="4067280" y="1314360"/>
            <a:ext cx="4356000" cy="3267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571680" y="1221120"/>
            <a:ext cx="82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ми, интересными, поучительными стали встречи воспитанников детского сада с сотрудниками ГИБДД, на которых ребята повторяют правила, участвуют в играх на внимание, используя ситуативный метод, разбирают ошибки в поведении пешех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Рисунок 1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097440" cy="4090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214200" y="1278720"/>
            <a:ext cx="709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педагог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вышения педагогического мастерства воспитателей используются эффективные формы методической рабо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дагогические сове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ловые иг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мотры-конкур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395280" y="3832560"/>
            <a:ext cx="518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аботы с родител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собр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ле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5707080" y="2535120"/>
            <a:ext cx="2968560" cy="39578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F:\Новая папка\DSC_0801.JPG"/>
          <p:cNvPicPr/>
          <p:nvPr/>
        </p:nvPicPr>
        <p:blipFill>
          <a:blip r:embed="rId1"/>
          <a:stretch/>
        </p:blipFill>
        <p:spPr>
          <a:xfrm>
            <a:off x="179280" y="1314360"/>
            <a:ext cx="5678640" cy="31863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pic>
        <p:nvPicPr>
          <p:cNvPr id="202" name="Рисунок 1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3851280" cy="2568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03" name="Рисунок 2" descr=""/>
          <p:cNvPicPr/>
          <p:nvPr/>
        </p:nvPicPr>
        <p:blipFill>
          <a:blip r:embed="rId3"/>
          <a:stretch/>
        </p:blipFill>
        <p:spPr>
          <a:xfrm rot="669000">
            <a:off x="5589360" y="2467080"/>
            <a:ext cx="3097080" cy="41288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78920" y="112500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метно-развивающая среда по ПДД в Д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ольшое внимание в ДОУ уделяется созданию предметно-развивающей среды. В группах оформлены содержательные, красочные, мобильные уголки ПДД куда вош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дактические, развивающие, настольные игр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трибуты для ролевых игр «Шоферы», «АЗС», «Дорога» и т.д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онные карты «Дорожные знаки», «Транспорт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борки народного фольклор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борки художественной литератур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ьбом «Это интересно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ьбомы «Транспорт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борка иллюстраций по правилам дорожного движ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нижки-малышки «Интересные истории о 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ты дорожных зна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ет улицы с транспортными средства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борка проблемных ситуац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борка «Минуток безопасност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орудование носит развивающий характер, что позволило сформировать у детей в игровой форме представления о ПДД, овладеть различными мыслительными операция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6920" y="428760"/>
            <a:ext cx="6409080" cy="53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общение опыта работ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итбригады «Светлячок»» по БДД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Лахина М.А.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воспитатель МКДО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с № 15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Острогож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F:\Новая папка\DSC02532.JPG"/>
          <p:cNvPicPr/>
          <p:nvPr/>
        </p:nvPicPr>
        <p:blipFill>
          <a:blip r:embed="rId1"/>
          <a:stretch/>
        </p:blipFill>
        <p:spPr>
          <a:xfrm>
            <a:off x="0" y="1214280"/>
            <a:ext cx="2928960" cy="2786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F:\Новая папка\DSC02541.JPG"/>
          <p:cNvPicPr/>
          <p:nvPr/>
        </p:nvPicPr>
        <p:blipFill>
          <a:blip r:embed="rId2"/>
          <a:stretch/>
        </p:blipFill>
        <p:spPr>
          <a:xfrm>
            <a:off x="5929200" y="1214280"/>
            <a:ext cx="3214800" cy="2786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F:\Новая папка\DSC02552.JPG"/>
          <p:cNvPicPr/>
          <p:nvPr/>
        </p:nvPicPr>
        <p:blipFill>
          <a:blip r:embed="rId3"/>
          <a:stretch/>
        </p:blipFill>
        <p:spPr>
          <a:xfrm>
            <a:off x="5929200" y="4000680"/>
            <a:ext cx="3214800" cy="2857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F:\Новая папка\DSC02514.JPG"/>
          <p:cNvPicPr/>
          <p:nvPr/>
        </p:nvPicPr>
        <p:blipFill>
          <a:blip r:embed="rId4"/>
          <a:stretch/>
        </p:blipFill>
        <p:spPr>
          <a:xfrm>
            <a:off x="2928960" y="3929040"/>
            <a:ext cx="3000240" cy="292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" descr=""/>
          <p:cNvPicPr/>
          <p:nvPr/>
        </p:nvPicPr>
        <p:blipFill>
          <a:blip r:embed="rId5"/>
          <a:stretch/>
        </p:blipFill>
        <p:spPr>
          <a:xfrm>
            <a:off x="0" y="3997440"/>
            <a:ext cx="2928960" cy="28605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2" descr=""/>
          <p:cNvPicPr/>
          <p:nvPr/>
        </p:nvPicPr>
        <p:blipFill>
          <a:blip r:embed="rId6"/>
          <a:stretch/>
        </p:blipFill>
        <p:spPr>
          <a:xfrm>
            <a:off x="2928960" y="1182600"/>
            <a:ext cx="3000240" cy="274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1" descr=""/>
          <p:cNvPicPr/>
          <p:nvPr/>
        </p:nvPicPr>
        <p:blipFill>
          <a:blip r:embed="rId1"/>
          <a:stretch/>
        </p:blipFill>
        <p:spPr>
          <a:xfrm>
            <a:off x="571680" y="1341360"/>
            <a:ext cx="8049960" cy="53658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428760" y="1239120"/>
            <a:ext cx="8215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 и пути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новых социальных партнеров для дальнейшей реализации поставленных целей по ознакомлению детей с правилами дорожного движ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методического обеспеч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овременных технологий с целью повышения качества воспитательно-образовательного процесса по повышению культуры поведения дошкольников на дорог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0560" y="1267920"/>
            <a:ext cx="835956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ша мечта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бы дети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аже когда станут взрослыми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когда не попадали в дорожно-транспортные происшествия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10920" y="1483920"/>
            <a:ext cx="8281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Дорога… Это целая жизнь. Как удивительно похожи жизненные и дорожные ситуации! И готовить к ним себя и особенно детей нужно с дет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Рисунок 1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57120" y="1356840"/>
            <a:ext cx="8253360" cy="13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й работы является формирование у детей дошкольного возраста знаний правил дорожного движения и практических навыков поведения на дорог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50920" y="2863080"/>
            <a:ext cx="855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ый подход к организации дидактических занятий с дошкольниками по дорожной тематике состоит в одновременном решении следующи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инновационных форм и методов обучения детей правилам безопасного поведения на дорога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школьников дорожной лексике и включение их в самостоятельную творческую работу, позволяющую в процессе выполнения заданий изучать и осознавать опасность и безопасность конкретных действий на улицах и дорогах, контролировать выполнение этих действ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ов и устойчивых положительных привычек безопасного поведения на улиц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ГИБДД и другими организациями в работе по предупреждению детского дорожно-транспортного травмат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214200" y="121536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85840" y="1692000"/>
            <a:ext cx="8643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по обучению детей правила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ого движения и предупреждени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атизма мы руководствуемс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 РФ «Об образовании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ей Р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от 10.12.1995 го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-ФЗ «О безопасности дорожного движени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359640" y="13579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14200" y="1307520"/>
            <a:ext cx="8643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работы по обучению детей правилам дорожного движения (ПДД) обоснована федеральным государственным образовательным стандартом (ФГОС) к структуре основной образовательной программы дошкольного образования, которые определяют содержание психолого-педагогической работы по освоению образовательных обла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285840" y="1297800"/>
            <a:ext cx="8475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профилактике дорожно-транспортных происшествий начинается с младшего возраста, с последовательным усложнением задач, согласно требованиям основной реализуемой в ДОУ программы «От рождения до школы» под ред. Н.Е. Вераксы , Т.С.Комаровой, М.А.Васильевой и регламентируется «Правилами дорожного движения Российской Федерации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программы, методические пособия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вдеева Н.Н., Князева О.Л., Стёркина Р.Б., «Основы безопасного поведения».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яева Л.Б., Жевнеров В.Л., Загребаева Е.В. Азбука дорожного движения. Программа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2" descr="F:\Новая папка\DSC_0766.JPG"/>
          <p:cNvPicPr/>
          <p:nvPr/>
        </p:nvPicPr>
        <p:blipFill>
          <a:blip r:embed="rId1"/>
          <a:stretch/>
        </p:blipFill>
        <p:spPr>
          <a:xfrm>
            <a:off x="1714680" y="3714840"/>
            <a:ext cx="5572080" cy="29289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2754360" cy="3672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72" name="Рисунок 2" descr=""/>
          <p:cNvPicPr/>
          <p:nvPr/>
        </p:nvPicPr>
        <p:blipFill>
          <a:blip r:embed="rId2"/>
          <a:stretch/>
        </p:blipFill>
        <p:spPr>
          <a:xfrm>
            <a:off x="6012000" y="1341360"/>
            <a:ext cx="3003480" cy="400392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173" name="Рисунок 3" descr=""/>
          <p:cNvPicPr/>
          <p:nvPr/>
        </p:nvPicPr>
        <p:blipFill>
          <a:blip r:embed="rId3"/>
          <a:stretch/>
        </p:blipFill>
        <p:spPr>
          <a:xfrm>
            <a:off x="2898720" y="2690640"/>
            <a:ext cx="3148200" cy="41976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8760" y="1703520"/>
            <a:ext cx="842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й для построения системы работы ПДД являются принципы организации образовательного процесс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оследова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агляд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ея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интегр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ифференцированного подх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еемственности взаимодействия с ребёнком в условиях дошкольного учреждения и семь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User</cp:lastModifiedBy>
  <dcterms:modified xsi:type="dcterms:W3CDTF">2021-04-16T14:02:49Z</dcterms:modified>
  <cp:revision>72</cp:revision>
  <dc:subject/>
  <dc:title>Слайд 1</dc:title>
</cp:coreProperties>
</file>