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C3A-CFB7-4C7D-8A88-9BECFAA6E0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6C38-7D58-48D9-B54F-BA1608CB46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1CA-40D9-4332-9525-BEA0C123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167-9744-477C-B329-D4D813B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61E-7940-4B35-B85C-0B7D8DB5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530-6443-49CC-A0BF-04A0A1E4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A81E-6EB5-4402-A2EC-76AFAA63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7A2-830F-4424-8A29-BC856637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D75-8E40-4F51-879C-F8A3244B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CCB-7D23-4A2F-96C8-4A5FB523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11ED-323A-4368-B606-1DE6004D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EA5D-113D-4EBD-A152-A72D9CC4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6ED-B54C-4D01-82A9-5867F0B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C17-C9A8-4192-9E7B-D9016C0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F06F-6567-4E53-8598-17C1E044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E259-28D9-4905-ABC4-5D51703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1BD8-E017-414C-A5B9-BDE9FF20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C13D-754C-456D-A313-1C50769D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E7C-A819-4BA2-A588-49E77ACB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D3B88-0724-48DE-9B1A-E9BF2253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81E9-821E-482A-AC72-4ED86DBA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62B2-2401-4888-97C8-D3B3631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06C9-C415-47D2-A758-C6294760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F98A-E320-427E-A7C0-A9AE1CE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0CB-EAD9-4C08-B36D-0E262243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3253C-40AD-4EBC-B8C0-0C7736F2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BD00-5D65-408B-B2DA-056AC88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E3B59-DE9C-4935-BF96-4BDCC49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577C-BC20-459D-9576-7709E2CD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F4F5-DB30-465B-B866-2E24EBA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96C1-9207-417E-BC94-0078CF05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A651-84EF-49D3-B78E-6B80453E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BB4-8E79-40C5-A9C1-1A0740C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BBB-F077-4416-A87F-2BC00C09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EBF-228F-4BDA-A7F0-4D60B69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199-43B0-4595-9342-6F42726F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826-ACAD-40C5-B97C-5F72A77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5AA-73D8-43D0-A4A9-CD9BF991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0B5-6C27-4077-A440-F24B2400E8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Рисунок 6" descr="пр42.png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264C-FE78-423A-874B-70A1BB7FF6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Рисунок 6" descr="пр42.png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3EF-8551-4E7E-8D03-A9BF50122E1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774720"/>
            <a:ext cx="7778880" cy="5046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57120" y="14518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ваясь на эти принципы, создана система работы, которая включила в себя следующие компонен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дагога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083120" y="1330920"/>
            <a:ext cx="2067120" cy="1134000"/>
          </a:xfrm>
          <a:prstGeom prst="rect">
            <a:avLst/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одуктивные виды деятельност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Рис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Леп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Констру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3786120" y="335772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e0f5ff"/>
          </a:solidFill>
          <a:ln w="28440">
            <a:solidFill>
              <a:srgbClr val="0045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6643800" y="2214720"/>
            <a:ext cx="2160360" cy="1008000"/>
          </a:xfrm>
          <a:prstGeom prst="wedgeRoundRectCallout">
            <a:avLst>
              <a:gd name="adj1" fmla="val -71162"/>
              <a:gd name="adj2" fmla="val 71888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ная дея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х и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 rot="21089400">
            <a:off x="874440" y="1374480"/>
            <a:ext cx="2489040" cy="1795320"/>
          </a:xfrm>
          <a:prstGeom prst="wedgeRoundRectCallout">
            <a:avLst>
              <a:gd name="adj1" fmla="val 48574"/>
              <a:gd name="adj2" fmla="val 67564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Иг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Настольно-печат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южетно-ролев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Дидактическ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Строитель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Театрализован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Подвиж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324000" y="4508640"/>
            <a:ext cx="1654200" cy="1277640"/>
          </a:xfrm>
          <a:prstGeom prst="wedgeRoundRectCallout">
            <a:avLst>
              <a:gd name="adj1" fmla="val 141652"/>
              <a:gd name="adj2" fmla="val -91273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кукольные спектак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147636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1857240" y="5786280"/>
            <a:ext cx="1944720" cy="785880"/>
          </a:xfrm>
          <a:prstGeom prst="wedgeRoundRectCallout">
            <a:avLst>
              <a:gd name="adj1" fmla="val 67222"/>
              <a:gd name="adj2" fmla="val -178662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ул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4929120" y="5572080"/>
            <a:ext cx="1928880" cy="1079640"/>
          </a:xfrm>
          <a:prstGeom prst="wedgeRoundRectCallout">
            <a:avLst>
              <a:gd name="adj1" fmla="val -22745"/>
              <a:gd name="adj2" fmla="val -140736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художественной литератур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7000920" y="4572000"/>
            <a:ext cx="1511280" cy="623880"/>
          </a:xfrm>
          <a:prstGeom prst="wedgeRoundRectCallout">
            <a:avLst>
              <a:gd name="adj1" fmla="val -96745"/>
              <a:gd name="adj2" fmla="val -149236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187280" y="3500280"/>
            <a:ext cx="1317960" cy="696960"/>
          </a:xfrm>
          <a:prstGeom prst="wedgeRoundRectCallout">
            <a:avLst>
              <a:gd name="adj1" fmla="val 120481"/>
              <a:gd name="adj2" fmla="val -5578"/>
              <a:gd name="adj3" fmla="val 16667"/>
            </a:avLst>
          </a:prstGeom>
          <a:solidFill>
            <a:srgbClr val="c2ebff"/>
          </a:solidFill>
          <a:ln w="28440">
            <a:solidFill>
              <a:srgbClr val="5c5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а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5580000" y="1274760"/>
            <a:ext cx="3381480" cy="4098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87" name="Рисунок 1" descr=""/>
          <p:cNvPicPr/>
          <p:nvPr/>
        </p:nvPicPr>
        <p:blipFill>
          <a:blip r:embed="rId2"/>
          <a:stretch/>
        </p:blipFill>
        <p:spPr>
          <a:xfrm>
            <a:off x="250920" y="1287360"/>
            <a:ext cx="3384360" cy="40402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108000" y="1123920"/>
            <a:ext cx="4319640" cy="28814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" descr=""/>
          <p:cNvPicPr/>
          <p:nvPr/>
        </p:nvPicPr>
        <p:blipFill>
          <a:blip r:embed="rId2"/>
          <a:stretch/>
        </p:blipFill>
        <p:spPr>
          <a:xfrm>
            <a:off x="4500720" y="1076400"/>
            <a:ext cx="4464000" cy="2976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"/>
          <p:cNvPicPr/>
          <p:nvPr/>
        </p:nvPicPr>
        <p:blipFill>
          <a:blip r:embed="rId3"/>
          <a:stretch/>
        </p:blipFill>
        <p:spPr>
          <a:xfrm>
            <a:off x="185760" y="4052880"/>
            <a:ext cx="4164120" cy="2776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"/>
          <p:cNvPicPr/>
          <p:nvPr/>
        </p:nvPicPr>
        <p:blipFill>
          <a:blip r:embed="rId4"/>
          <a:stretch/>
        </p:blipFill>
        <p:spPr>
          <a:xfrm>
            <a:off x="4427640" y="3997440"/>
            <a:ext cx="442728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214200" y="1524960"/>
            <a:ext cx="8786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ятель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 – исследовательская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C:\Users\Администратор\Desktop\лэпбук\5656012.jpeg"/>
          <p:cNvPicPr/>
          <p:nvPr/>
        </p:nvPicPr>
        <p:blipFill>
          <a:blip r:embed="rId1"/>
          <a:stretch/>
        </p:blipFill>
        <p:spPr>
          <a:xfrm>
            <a:off x="5214960" y="457200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3725640" cy="4968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" descr=""/>
          <p:cNvPicPr/>
          <p:nvPr/>
        </p:nvPicPr>
        <p:blipFill>
          <a:blip r:embed="rId3"/>
          <a:stretch/>
        </p:blipFill>
        <p:spPr>
          <a:xfrm>
            <a:off x="4067280" y="131436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571680" y="1221120"/>
            <a:ext cx="82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и, интересными, поучительными стали встречи воспитанников детского сада с сотрудниками ГИБДД, на которых ребята повторяют правила, участвуют в играх на внимание, используя ситуативный метод, разбирают ошибки в поведении пеше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097440" cy="4090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214200" y="1278720"/>
            <a:ext cx="709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педаго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педагогического мастерства воспитателей используются эффективные формы методической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ические сове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ловые игр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отры-конкур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95280" y="3832560"/>
            <a:ext cx="518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с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ле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707080" y="2535120"/>
            <a:ext cx="2968560" cy="3957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:\Новая папка\DSC_0801.JPG"/>
          <p:cNvPicPr/>
          <p:nvPr/>
        </p:nvPicPr>
        <p:blipFill>
          <a:blip r:embed="rId1"/>
          <a:stretch/>
        </p:blipFill>
        <p:spPr>
          <a:xfrm>
            <a:off x="179280" y="1314360"/>
            <a:ext cx="5678640" cy="31863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3851280" cy="2568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03" name="Рисунок 2" descr=""/>
          <p:cNvPicPr/>
          <p:nvPr/>
        </p:nvPicPr>
        <p:blipFill>
          <a:blip r:embed="rId3"/>
          <a:stretch/>
        </p:blipFill>
        <p:spPr>
          <a:xfrm rot="669000">
            <a:off x="5589360" y="2467080"/>
            <a:ext cx="3097080" cy="412884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78920" y="1125000"/>
            <a:ext cx="8713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метно-развивающая среда по ПДД в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льшое внимание в ДОУ уделяется созданию предметно-развивающей среды. В группах оформлены содержательные, красочные, мобильные уголки ПДД куда вошл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, развивающие, настольные иг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трибуты для ролевых игр «Шоферы», «АЗС», «Дорога» и т.д.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онные карты «Дорожные знаки», «Транспорт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и народного фольклор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и художественной литера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ом «Это интересно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ьбомы «Транспорт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иллюстраций по правилам дорожного дви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ижки-малышки «Интересные истории о 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ты дорожных зна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ет улицы с транспортными средств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проблемных ситуац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борка «Минуток безопасност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рудование носит развивающий характер, что позволило сформировать у детей в игровой форме представления о ПДД, овладеть различными мыслительными операция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28760"/>
            <a:ext cx="640908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общение опыта работ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итбригады «Светлячок»» по БДД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Лахина М.А.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воспитатель МКДО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с № 1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строгож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F:\Новая папка\DSC02532.JPG"/>
          <p:cNvPicPr/>
          <p:nvPr/>
        </p:nvPicPr>
        <p:blipFill>
          <a:blip r:embed="rId1"/>
          <a:stretch/>
        </p:blipFill>
        <p:spPr>
          <a:xfrm>
            <a:off x="0" y="1214280"/>
            <a:ext cx="2928960" cy="2786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F:\Новая папка\DSC02541.JPG"/>
          <p:cNvPicPr/>
          <p:nvPr/>
        </p:nvPicPr>
        <p:blipFill>
          <a:blip r:embed="rId2"/>
          <a:stretch/>
        </p:blipFill>
        <p:spPr>
          <a:xfrm>
            <a:off x="5929200" y="1214280"/>
            <a:ext cx="3214800" cy="2786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F:\Новая папка\DSC02552.JPG"/>
          <p:cNvPicPr/>
          <p:nvPr/>
        </p:nvPicPr>
        <p:blipFill>
          <a:blip r:embed="rId3"/>
          <a:stretch/>
        </p:blipFill>
        <p:spPr>
          <a:xfrm>
            <a:off x="5929200" y="4000680"/>
            <a:ext cx="3214800" cy="2857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F:\Новая папка\DSC02514.JPG"/>
          <p:cNvPicPr/>
          <p:nvPr/>
        </p:nvPicPr>
        <p:blipFill>
          <a:blip r:embed="rId4"/>
          <a:stretch/>
        </p:blipFill>
        <p:spPr>
          <a:xfrm>
            <a:off x="2928960" y="3929040"/>
            <a:ext cx="300024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" descr=""/>
          <p:cNvPicPr/>
          <p:nvPr/>
        </p:nvPicPr>
        <p:blipFill>
          <a:blip r:embed="rId5"/>
          <a:stretch/>
        </p:blipFill>
        <p:spPr>
          <a:xfrm>
            <a:off x="0" y="3997440"/>
            <a:ext cx="292896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2" descr=""/>
          <p:cNvPicPr/>
          <p:nvPr/>
        </p:nvPicPr>
        <p:blipFill>
          <a:blip r:embed="rId6"/>
          <a:stretch/>
        </p:blipFill>
        <p:spPr>
          <a:xfrm>
            <a:off x="2928960" y="1182600"/>
            <a:ext cx="300024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571680" y="1341360"/>
            <a:ext cx="8049960" cy="5365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428760" y="123912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и пути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новых социальных партнеров для дальнейшей реализации поставленных целей по ознакомлению детей с правилами дорожного дви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тодического обеспеч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технологий с целью повышения качества воспитательно-образовательного процесса по повышению культуры поведения дошкольников на дорог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0560" y="1267920"/>
            <a:ext cx="835956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а мечта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ы дет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же когда станут взрослыми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когда не попадали в дорожно-транспортные происшествия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10920" y="148392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Дорога… Это целая жизнь. Как удивительно похожи жизненные и дорожные ситуации! И готовить к ним себя и особенно детей нужно с дет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7120" y="1356840"/>
            <a:ext cx="8253360" cy="13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работы является формирование у детей дошкольного возраста знаний правил дорожного движения и практических навыков поведения на доро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50920" y="2863080"/>
            <a:ext cx="85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й подход к организации дидактических занятий с дошкольниками по дорожной тематике состоит в одновременном решении следующи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форм и методов обучения детей правилам безопасного поведения на дорог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школьников дорожной лексике и включение их в самостоятельную творческую работу, позволяющую в процессе выполнения заданий изучать и осознавать опасность и безопасность конкретных действий на улицах и дорогах, контролировать выполнение этих действ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и устойчивых положительных привычек безопасного поведения на улиц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ГИБДД и другими организациями в работе по предупреждению детского дорожно-транспортного травматиз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214200" y="12153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85840" y="169200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по обучению детей правил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 и предупрежд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а мы руководствуемся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 РФ «Об образовани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ей РФ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от 10.12.1995 г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-ФЗ «О безопасности дорожного движ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59640" y="1357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14200" y="130752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 по обучению детей правилам дорожного движения (ПДД) обоснована федеральным государственным образовательным стандартом (ФГОС) к структуре основной образовательной программы дошкольного образования, которые определяют содержание психолого-педагогической работы по освоению образовательных обла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85840" y="1297800"/>
            <a:ext cx="8475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профилактике дорожно-транспортных происшествий начинается с младшего возраста, с последовательным усложнением задач, согласно требованиям основной реализуемой в ДОУ программы «От рождения до школы» под ред. Н.Е. Вераксы , Т.С.Комаровой, М.А.Васильевой и регламентируется «Правилами дорожного движения Российской Федераци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программы, методические пособия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деева Н.Н., Князева О.Л., Стёркина Р.Б., «Основы безопасного поведения»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яева Л.Б., Жевнеров В.Л., Загребаева Е.В. Азбука дорожного движения. Программа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F:\Новая папка\DSC_0766.JPG"/>
          <p:cNvPicPr/>
          <p:nvPr/>
        </p:nvPicPr>
        <p:blipFill>
          <a:blip r:embed="rId1"/>
          <a:stretch/>
        </p:blipFill>
        <p:spPr>
          <a:xfrm>
            <a:off x="1714680" y="3714840"/>
            <a:ext cx="5572080" cy="29289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754360" cy="3672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2" name="Рисунок 2" descr=""/>
          <p:cNvPicPr/>
          <p:nvPr/>
        </p:nvPicPr>
        <p:blipFill>
          <a:blip r:embed="rId2"/>
          <a:stretch/>
        </p:blipFill>
        <p:spPr>
          <a:xfrm>
            <a:off x="6012000" y="1341360"/>
            <a:ext cx="3003480" cy="40039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pic>
        <p:nvPicPr>
          <p:cNvPr id="173" name="Рисунок 3" descr=""/>
          <p:cNvPicPr/>
          <p:nvPr/>
        </p:nvPicPr>
        <p:blipFill>
          <a:blip r:embed="rId3"/>
          <a:stretch/>
        </p:blipFill>
        <p:spPr>
          <a:xfrm>
            <a:off x="2898720" y="2690640"/>
            <a:ext cx="3148200" cy="4197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8760" y="170352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й для построения системы работы ПДД являются принципы организации образовательного процесс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оследов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нагляд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нтегр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ифференцированного подх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еемственности взаимодействия с ребёнком в условиях дошкольного учреждения и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User</cp:lastModifiedBy>
  <dcterms:modified xsi:type="dcterms:W3CDTF">2021-04-16T14:02:49Z</dcterms:modified>
  <cp:revision>72</cp:revision>
  <dc:subject/>
  <dc:title>Слайд 1</dc:title>
</cp:coreProperties>
</file>