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8269-8E0C-4237-A1DA-F3381E45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09B-9A46-4561-B3E1-87972C28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C35-4EDD-4DFA-9DDA-7434ADB3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705C-D3F8-4D59-8785-FD62B773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43D-5EEE-41FA-A362-31938418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DFB-6E89-42AD-9318-4EFA1080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8C8-506E-463E-A699-BA8AC34B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0ED-ECF5-4D5D-9AC8-A74B7934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7FC-69F0-4D7A-BD9F-88971D63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066-B0B7-443D-BC53-2DA4B0EF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8D0-1990-4A36-A37C-25121BE9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920-9F33-4DD9-887A-446C0EF0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DCA5-636E-4EEA-B6B5-42163A21F0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08360" y="2130120"/>
            <a:ext cx="4749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UY" sz="4400" spc="-1" strike="noStrike">
                <a:solidFill>
                  <a:srgbClr val="000000"/>
                </a:solidFill>
                <a:latin typeface="Comic Sans MS"/>
              </a:rPr>
              <a:t>The Present Continuous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7280" y="3860280"/>
            <a:ext cx="399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omic Sans MS"/>
              </a:rPr>
              <a:t>Use an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you having fun this summ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really. I’m working as a waiter. I need some money for colle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konobar1_162243656.jpg"/>
          <p:cNvPicPr/>
          <p:nvPr/>
        </p:nvPicPr>
        <p:blipFill>
          <a:blip r:embed="rId1"/>
          <a:stretch/>
        </p:blipFill>
        <p:spPr>
          <a:xfrm>
            <a:off x="1403280" y="285264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examples show that the Present Continuous Tense is also used to denote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emporary ac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ppening today or these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wrong with our pla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ontent Placeholder 3" descr="science_global_warming.gif"/>
          <p:cNvPicPr/>
          <p:nvPr/>
        </p:nvPicPr>
        <p:blipFill>
          <a:blip r:embed="rId1"/>
          <a:stretch/>
        </p:blipFill>
        <p:spPr>
          <a:xfrm>
            <a:off x="179280" y="3289320"/>
            <a:ext cx="4897440" cy="3075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684360" y="162864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getting war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 wrong with the air we breath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becoming more and more poll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science_pollution.gif"/>
          <p:cNvPicPr/>
          <p:nvPr/>
        </p:nvPicPr>
        <p:blipFill>
          <a:blip r:embed="rId1"/>
          <a:stretch/>
        </p:blipFill>
        <p:spPr>
          <a:xfrm>
            <a:off x="179280" y="3429000"/>
            <a:ext cx="460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lso used to express the ongoing changes, especially with verbs such as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become, get, grow, chan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nd with expressions like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ore and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you going to the party on Fri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party.jpg"/>
          <p:cNvPicPr/>
          <p:nvPr/>
        </p:nvPicPr>
        <p:blipFill>
          <a:blip r:embed="rId1"/>
          <a:stretch/>
        </p:blipFill>
        <p:spPr>
          <a:xfrm>
            <a:off x="539640" y="2708280"/>
            <a:ext cx="4691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’re leaving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london.jpg"/>
          <p:cNvPicPr/>
          <p:nvPr/>
        </p:nvPicPr>
        <p:blipFill>
          <a:blip r:embed="rId1"/>
          <a:stretch/>
        </p:blipFill>
        <p:spPr>
          <a:xfrm>
            <a:off x="1116000" y="3036960"/>
            <a:ext cx="28796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use it for future arrangements with a time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 – </a:t>
            </a: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am, are, is + ing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ffirm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m sleep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/she/it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is sleeping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/we/they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re sleeping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eg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m not (I’m not) singing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/she/it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is not (isn’t) singing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/we/they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re not (aren’t) sing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Horizontal Scroll 6"/>
          <p:cNvSpPr/>
          <p:nvPr/>
        </p:nvSpPr>
        <p:spPr>
          <a:xfrm>
            <a:off x="2771640" y="333360"/>
            <a:ext cx="54007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2916360" y="476280"/>
            <a:ext cx="62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m, is, are + ing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 -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terrog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dream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/she/it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dream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/we/they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dream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hort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, I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he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we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, I’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he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is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we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re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omic Sans MS"/>
              </a:rPr>
              <a:t>What is sh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She is reading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reading.gif"/>
          <p:cNvPicPr/>
          <p:nvPr/>
        </p:nvPicPr>
        <p:blipFill>
          <a:blip r:embed="rId1"/>
          <a:stretch/>
        </p:blipFill>
        <p:spPr>
          <a:xfrm>
            <a:off x="1116000" y="3141720"/>
            <a:ext cx="4495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g form – spelling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verbs just take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–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no changes in spelling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atch-watching, clean-cleaning, listen-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 ending in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 –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it before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–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ve-living, write-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 with short vowels and one consonant double the conson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un-running, swim-swimm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g form – spelling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 ending in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–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double it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avel-travelling, cancel-canc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 ending in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–i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it to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–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e-lying, die-d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omic Sans MS"/>
              </a:rPr>
              <a:t>What is sh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She is cr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facs_feelings.gif"/>
          <p:cNvPicPr/>
          <p:nvPr/>
        </p:nvPicPr>
        <p:blipFill>
          <a:blip r:embed="rId2"/>
          <a:stretch/>
        </p:blipFill>
        <p:spPr>
          <a:xfrm>
            <a:off x="4716360" y="2852640"/>
            <a:ext cx="214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’s h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’s watching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ac_chilling .gif"/>
          <p:cNvPicPr/>
          <p:nvPr/>
        </p:nvPicPr>
        <p:blipFill>
          <a:blip r:embed="rId1"/>
          <a:stretch/>
        </p:blipFill>
        <p:spPr>
          <a:xfrm>
            <a:off x="324000" y="2421000"/>
            <a:ext cx="51782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omic Sans MS"/>
              </a:rPr>
              <a:t>Where’s he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He’s going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chool_back2school.gif"/>
          <p:cNvPicPr/>
          <p:nvPr/>
        </p:nvPicPr>
        <p:blipFill>
          <a:blip r:embed="rId1"/>
          <a:stretch/>
        </p:blipFill>
        <p:spPr>
          <a:xfrm>
            <a:off x="179280" y="3284640"/>
            <a:ext cx="612144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d what are you doing right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 are studying English gramm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la_verb_tenses.gif"/>
          <p:cNvPicPr/>
          <p:nvPr/>
        </p:nvPicPr>
        <p:blipFill>
          <a:blip r:embed="rId1"/>
          <a:stretch/>
        </p:blipFill>
        <p:spPr>
          <a:xfrm>
            <a:off x="755640" y="2637000"/>
            <a:ext cx="4815000" cy="33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evious examples show that we use this tense to denote an action happening at the time of speaking (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dverb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now, right now, at the mo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they wearing to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are wearing T-shirts and mini skirt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acs_friendship.gif"/>
          <p:cNvPicPr/>
          <p:nvPr/>
        </p:nvPicPr>
        <p:blipFill>
          <a:blip r:embed="rId1"/>
          <a:stretch/>
        </p:blipFill>
        <p:spPr>
          <a:xfrm>
            <a:off x="2411280" y="3141720"/>
            <a:ext cx="2286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’d love to see you. Are you bus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fortunately, I’m rather busy. I’m painting my flat this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professional in action.jpg"/>
          <p:cNvPicPr/>
          <p:nvPr/>
        </p:nvPicPr>
        <p:blipFill>
          <a:blip r:embed="rId1"/>
          <a:stretch/>
        </p:blipFill>
        <p:spPr>
          <a:xfrm>
            <a:off x="1476360" y="3268800"/>
            <a:ext cx="2448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khonina</dc:creator>
  <dc:description/>
  <dc:language>en-US</dc:language>
  <cp:lastModifiedBy>DNS</cp:lastModifiedBy>
  <dcterms:modified xsi:type="dcterms:W3CDTF">2021-04-16T15:23:02Z</dcterms:modified>
  <cp:revision>32</cp:revision>
  <dc:subject/>
  <dc:title>Title</dc:title>
</cp:coreProperties>
</file>