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1702-95C5-4ABA-9A82-AC4CC222F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04D-92AC-4140-B2F2-4468E44E1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DC6F-98BD-43B6-A1DF-9639368A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51CD8-C308-4228-99CD-3B08A71C4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F7D-1A1C-40DA-B48F-D4C4602B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A0B-6955-481F-9EFB-0A892978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B856-74D0-44F0-B550-C263940B3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1625-9E61-4A61-BCE1-75F0C91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9845-36F1-4562-88A5-2DC053B7D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BF9D-5AA3-40A2-8BB1-8DD2FD61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F65F-4BA5-412E-928C-19D3FC33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2C42-F47E-4970-B137-A8512CAD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CCAF-5FC6-4780-8544-7C78C8C7E6F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708360" y="2130120"/>
            <a:ext cx="47498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The Present Continuous Te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67280" y="3860280"/>
            <a:ext cx="3992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Comic Sans MS"/>
              </a:rPr>
              <a:t>Use and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e you having fun this summ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t really. I’m working as a waiter. I need some money for colle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konobar1_162243656.jpg"/>
          <p:cNvPicPr/>
          <p:nvPr/>
        </p:nvPicPr>
        <p:blipFill>
          <a:blip r:embed="rId1"/>
          <a:stretch/>
        </p:blipFill>
        <p:spPr>
          <a:xfrm>
            <a:off x="1403280" y="285264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se examples show that the Present Continuous Tense is also used to denote a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emporary action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ppening today or these d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s wrong with our plan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Content Placeholder 3" descr="science_global_warming.gif"/>
          <p:cNvPicPr/>
          <p:nvPr/>
        </p:nvPicPr>
        <p:blipFill>
          <a:blip r:embed="rId1"/>
          <a:stretch/>
        </p:blipFill>
        <p:spPr>
          <a:xfrm>
            <a:off x="179280" y="3289320"/>
            <a:ext cx="4897440" cy="307512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684360" y="1628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getting warm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’ wrong with the air we breath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’s becoming more and more poll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science_pollution.gif"/>
          <p:cNvPicPr/>
          <p:nvPr/>
        </p:nvPicPr>
        <p:blipFill>
          <a:blip r:embed="rId1"/>
          <a:stretch/>
        </p:blipFill>
        <p:spPr>
          <a:xfrm>
            <a:off x="179280" y="3429000"/>
            <a:ext cx="4608720" cy="31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t is also used to express the ongoing changes, especially with verbs such as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become, get, grow, chang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and with expressions lik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ore and 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re you going to the party on Fri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party.jpg"/>
          <p:cNvPicPr/>
          <p:nvPr/>
        </p:nvPicPr>
        <p:blipFill>
          <a:blip r:embed="rId1"/>
          <a:stretch/>
        </p:blipFill>
        <p:spPr>
          <a:xfrm>
            <a:off x="539640" y="2708280"/>
            <a:ext cx="46911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’re leaving tomorro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london.jpg"/>
          <p:cNvPicPr/>
          <p:nvPr/>
        </p:nvPicPr>
        <p:blipFill>
          <a:blip r:embed="rId1"/>
          <a:stretch/>
        </p:blipFill>
        <p:spPr>
          <a:xfrm>
            <a:off x="1116000" y="3036960"/>
            <a:ext cx="287964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use it for future arrangements with a time refer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 – </a:t>
            </a:r>
            <a:r>
              <a:rPr b="0" lang="en-US" sz="4400" spc="-1" strike="noStrike">
                <a:solidFill>
                  <a:srgbClr val="00b050"/>
                </a:solidFill>
                <a:latin typeface="Comic Sans MS"/>
              </a:rPr>
              <a:t>am, are, is + ing 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ffirm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 sleep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 sleep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/we/they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 sleep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 not (I’m not) sing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 not (isn’t) singing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/we/they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 not (aren’t) sing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Horizontal Scroll 6"/>
          <p:cNvSpPr/>
          <p:nvPr/>
        </p:nvSpPr>
        <p:spPr>
          <a:xfrm>
            <a:off x="2771640" y="333360"/>
            <a:ext cx="5400720" cy="115092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916360" y="476280"/>
            <a:ext cx="62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m, is, are + ing fo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 - continu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e/she/it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you/we/they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b050"/>
                </a:solidFill>
                <a:uFillTx/>
                <a:latin typeface="Comic Sans MS"/>
              </a:rPr>
              <a:t>drea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hort ans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es, I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h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w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r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, I’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m 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he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 is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/we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aren’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he is reading a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reading.gif"/>
          <p:cNvPicPr/>
          <p:nvPr/>
        </p:nvPicPr>
        <p:blipFill>
          <a:blip r:embed="rId1"/>
          <a:stretch/>
        </p:blipFill>
        <p:spPr>
          <a:xfrm>
            <a:off x="1116000" y="3141720"/>
            <a:ext cx="44956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g form – spell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st verbs just take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ng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no changes in spelling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watch-watching, clean-cleaning, listen-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 –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rop it before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ve-living, write-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with short vowels and one consonant double the conson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run-running, swim-swimm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g form – spelling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double it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avel-travelling, cancel-canc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 ending in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ie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ange it to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–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lie-lying, die-dy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at is s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She is cr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facs_feelings.gif"/>
          <p:cNvPicPr/>
          <p:nvPr/>
        </p:nvPicPr>
        <p:blipFill>
          <a:blip r:embed="rId2"/>
          <a:stretch/>
        </p:blipFill>
        <p:spPr>
          <a:xfrm>
            <a:off x="4716360" y="2852640"/>
            <a:ext cx="2143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at’s he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’s watching T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ac_chilling .gif"/>
          <p:cNvPicPr/>
          <p:nvPr/>
        </p:nvPicPr>
        <p:blipFill>
          <a:blip r:embed="rId1"/>
          <a:stretch/>
        </p:blipFill>
        <p:spPr>
          <a:xfrm>
            <a:off x="324000" y="2421000"/>
            <a:ext cx="51782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Comic Sans MS"/>
              </a:rPr>
              <a:t>Where’s he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He’s going to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school_back2school.gif"/>
          <p:cNvPicPr/>
          <p:nvPr/>
        </p:nvPicPr>
        <p:blipFill>
          <a:blip r:embed="rId1"/>
          <a:stretch/>
        </p:blipFill>
        <p:spPr>
          <a:xfrm>
            <a:off x="179280" y="3284640"/>
            <a:ext cx="6121440" cy="29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nd what are you doing right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 are studying English gramm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la_verb_tenses.gif"/>
          <p:cNvPicPr/>
          <p:nvPr/>
        </p:nvPicPr>
        <p:blipFill>
          <a:blip r:embed="rId1"/>
          <a:stretch/>
        </p:blipFill>
        <p:spPr>
          <a:xfrm>
            <a:off x="755640" y="2637000"/>
            <a:ext cx="4815000" cy="33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evious examples show that we use this tense to denote an action happening at the time of speaking 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dverb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3200" spc="-1" strike="noStrike">
                <a:solidFill>
                  <a:srgbClr val="0070c0"/>
                </a:solidFill>
                <a:latin typeface="Comic Sans MS"/>
              </a:rPr>
              <a:t>now, right now, at the mo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are they wearing toda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y are wearing T-shirts and mini skirts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facs_friendship.gif"/>
          <p:cNvPicPr/>
          <p:nvPr/>
        </p:nvPicPr>
        <p:blipFill>
          <a:blip r:embed="rId1"/>
          <a:stretch/>
        </p:blipFill>
        <p:spPr>
          <a:xfrm>
            <a:off x="2411280" y="3141720"/>
            <a:ext cx="22860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’d love to see you. Are you bus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nfortunately, I’m rather busy. I’m painting my flat this we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professional in action.jpg"/>
          <p:cNvPicPr/>
          <p:nvPr/>
        </p:nvPicPr>
        <p:blipFill>
          <a:blip r:embed="rId1"/>
          <a:stretch/>
        </p:blipFill>
        <p:spPr>
          <a:xfrm>
            <a:off x="1476360" y="3268800"/>
            <a:ext cx="244800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20:21:09Z</dcterms:created>
  <dc:creator>makhonina</dc:creator>
  <dc:description/>
  <dc:language>en-US</dc:language>
  <cp:lastModifiedBy>DNS</cp:lastModifiedBy>
  <dcterms:modified xsi:type="dcterms:W3CDTF">2021-04-16T15:23:02Z</dcterms:modified>
  <cp:revision>32</cp:revision>
  <dc:subject/>
  <dc:title>Title</dc:title>
</cp:coreProperties>
</file>