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E6A5-9E44-4522-958E-B75C77F85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1CD2-4F7C-4462-8306-1B80BF649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23F7-A53B-4AC3-BD53-7B2F6C879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E6FC-9A7A-4671-9BE6-F9E8E702C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690F-4451-43A6-A83D-A269A1969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E796-97D4-4711-9315-935014A54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20A8-CFF2-41E8-847E-957970E0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E98A-743F-4000-8C3E-096B36AA3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2B16-012C-4A09-A49D-397E69CDF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9075-8916-458A-9306-F833FB09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496D-78C5-4621-9921-28CD3281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3338-5E63-4BB7-929D-A732BF8B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72254-092B-4DC5-A696-DBA608E325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3760" y="753840"/>
            <a:ext cx="7456320" cy="1865160"/>
          </a:xfrm>
          <a:prstGeom prst="rect">
            <a:avLst/>
          </a:prstGeom>
          <a:solidFill>
            <a:srgbClr val="ffd966"/>
          </a:solidFill>
          <a:ln w="12600">
            <a:solidFill>
              <a:srgbClr val="ffffff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ный час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мейте радоваться победе друга как своей» (А.В.Тарасов)</a:t>
            </a:r>
            <a:br>
              <a:rPr sz="1800"/>
            </a:b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37320" y="3959640"/>
            <a:ext cx="4172040" cy="1181160"/>
          </a:xfrm>
          <a:prstGeom prst="rect">
            <a:avLst/>
          </a:prstGeom>
          <a:solidFill>
            <a:srgbClr val="ffffff">
              <a:alpha val="74000"/>
            </a:srgbClr>
          </a:solidFill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ла: учитель начальных классов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ыгина Тамара Иванов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Бетькинская СОШ»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2760" y="364680"/>
            <a:ext cx="8105760" cy="599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емлю обмотали тоненькие нити,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ити параллели и зеленых рек,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вершите чудо, руку протяните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до чтобы в дружбу верил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ждый человек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4" descr=""/>
          <p:cNvPicPr/>
          <p:nvPr/>
        </p:nvPicPr>
        <p:blipFill>
          <a:blip r:embed="rId1"/>
          <a:stretch/>
        </p:blipFill>
        <p:spPr>
          <a:xfrm>
            <a:off x="0" y="1074600"/>
            <a:ext cx="7723080" cy="57834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263000" cy="1325520"/>
          </a:xfrm>
          <a:prstGeom prst="rect">
            <a:avLst/>
          </a:prstGeom>
          <a:solidFill>
            <a:srgbClr val="ffd966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най литературное произведение.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Объект 2" descr=""/>
          <p:cNvPicPr/>
          <p:nvPr/>
        </p:nvPicPr>
        <p:blipFill>
          <a:blip r:embed="rId1">
            <a:alphaModFix amt="81000"/>
          </a:blip>
          <a:stretch/>
        </p:blipFill>
        <p:spPr>
          <a:xfrm>
            <a:off x="790560" y="1825560"/>
            <a:ext cx="633564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44400" y="461520"/>
            <a:ext cx="6267240" cy="611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исьмо Наташи</a:t>
            </a:r>
            <a:br>
              <a:rPr sz="2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завидую Никит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его в полоску свитер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завидую Егору –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его игрушек горы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завидую Сереже -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на Бетмена похожий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завидую Андрею –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сидит у батареи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завидую Наташе –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арелке больше каши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завидую Денису –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во сне увидел крысу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завидую Олегу –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ший в классе он по бегу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завидую Олес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ней так интересно вместе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стала… Помогите!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т зависти спасите!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3" descr=""/>
          <p:cNvPicPr/>
          <p:nvPr/>
        </p:nvPicPr>
        <p:blipFill>
          <a:blip r:embed="rId1"/>
          <a:stretch/>
        </p:blipFill>
        <p:spPr>
          <a:xfrm>
            <a:off x="550800" y="365040"/>
            <a:ext cx="2973600" cy="38260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200" y="4599000"/>
            <a:ext cx="7148520" cy="17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ВИСТЬ </a:t>
            </a:r>
            <a:r>
              <a:rPr b="1" lang="ru-RU" sz="3200" spc="-1" strike="noStrike">
                <a:solidFill>
                  <a:srgbClr val="555555"/>
                </a:solidFill>
                <a:latin typeface="Times New Roman"/>
                <a:ea typeface="Times New Roman"/>
              </a:rPr>
              <a:t>- чувство досады, вызванное благополучием, успехом другого.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317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тайте  предложения. С помощью баллов (0,3,5) выразите, насколько верны эти высказывания по отношению к вам.</a:t>
            </a:r>
            <a:br>
              <a:rPr sz="1800"/>
            </a:br>
            <a:br>
              <a:rPr sz="13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Если высказывание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неверн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» - поставь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0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аллов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немножко верно» -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алла;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чно про меня»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5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аллов.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399960" y="2982960"/>
            <a:ext cx="6755040" cy="33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не нравится, когда я встречаю девочку ( мальчика)  красивее мен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я раздражает, если мой одноклассник лучше рассказывает стихотворение, чем 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нравится, когда меня больше всех из класса хвалит учител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: … балл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086600" cy="206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YS Text Optional"/>
              </a:rPr>
              <a:t>«Умейте радоваться победе друга как своей»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YS Text Optional"/>
              </a:rPr>
              <a:t>А.В.Тарасов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1" name="Рисунок 3" descr=""/>
          <p:cNvPicPr/>
          <p:nvPr/>
        </p:nvPicPr>
        <p:blipFill>
          <a:blip r:embed="rId1"/>
          <a:stretch/>
        </p:blipFill>
        <p:spPr>
          <a:xfrm>
            <a:off x="871560" y="2670120"/>
            <a:ext cx="57150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Лучшее лекарство от зависти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4376880" y="2513160"/>
            <a:ext cx="33638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</a:t>
            </a: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учиться</a:t>
            </a: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доваться чужим успеха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4" descr=""/>
          <p:cNvPicPr/>
          <p:nvPr/>
        </p:nvPicPr>
        <p:blipFill>
          <a:blip r:embed="rId1"/>
          <a:stretch/>
        </p:blipFill>
        <p:spPr>
          <a:xfrm>
            <a:off x="204840" y="2370240"/>
            <a:ext cx="427824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58720" y="1730520"/>
            <a:ext cx="7005600" cy="36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исьмо Наташи</a:t>
            </a:r>
            <a:br>
              <a:rPr sz="28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так рада за Никиту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его в полоску свитер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так рада за Егора –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его игрушек горы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так рада за Сережу -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на Бетмена похожий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так рада за Андрея –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сидит у батареи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так рада за Наташу –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арелке больше каши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так рада за Дениса –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во сне увидел крысу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так рада за Олега –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ший в классе он по бегу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так рада за Олесю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ней так интересно вместе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8360" y="1509840"/>
            <a:ext cx="7332840" cy="433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+ТЫ+и МЫ=!</a:t>
            </a:r>
            <a:endParaRPr b="0" lang="en-US" sz="8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9T20:52:53Z</dcterms:created>
  <dc:creator>Инна</dc:creator>
  <dc:description/>
  <dc:language>en-US</dc:language>
  <cp:lastModifiedBy>Тамара Ивыгина</cp:lastModifiedBy>
  <dcterms:modified xsi:type="dcterms:W3CDTF">2021-04-16T19:56:25Z</dcterms:modified>
  <cp:revision>10</cp:revision>
  <dc:subject/>
  <dc:title>Название презентации</dc:title>
</cp:coreProperties>
</file>