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9F0-34FF-4359-A3C8-BD3450EB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942-4770-493C-96C6-F7F5C6C6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DAC-96FB-4E62-9813-44732D6F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70D-BFC5-4AE8-84C5-5AEA93DB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8AE2-AD7B-4176-A5AB-28485C0B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09FB-E40F-4E21-A9C2-BE199890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923-64CB-4BD5-B1D6-E3EB0F3A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D7C1-DA7E-4FEE-BAD7-8079B4AD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AD6-C66C-486A-95EB-4E63F7F0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996-7BF8-4833-B812-2E24D4E4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AD7-42A3-4DD2-B314-BEC4CF5A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690-041C-4FAD-9EA5-6CF10C84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32D4-0674-444D-AFF4-A553CCE063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3760" y="753840"/>
            <a:ext cx="7456320" cy="1865160"/>
          </a:xfrm>
          <a:prstGeom prst="rect">
            <a:avLst/>
          </a:prstGeom>
          <a:solidFill>
            <a:srgbClr val="ffd966"/>
          </a:solidFill>
          <a:ln w="1260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час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ейте радоваться победе друга как своей» (А.В.Тарасов)</a:t>
            </a:r>
            <a:br>
              <a:rPr sz="18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37320" y="3959640"/>
            <a:ext cx="4172040" cy="118116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а: учитель начальных класс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ыгина Тамара Иванов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Бетькинская СОШ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2760" y="364680"/>
            <a:ext cx="8105760" cy="599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емлю обмотали тоненькие нити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ти параллели и зеленых рек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ршите чудо, руку протяните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до чтобы в дружбу верил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ждый человек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0" y="1074600"/>
            <a:ext cx="7723080" cy="5783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263000" cy="1325520"/>
          </a:xfrm>
          <a:prstGeom prst="rect">
            <a:avLst/>
          </a:prstGeom>
          <a:solidFill>
            <a:srgbClr val="ffd966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най литературное произведение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2" descr=""/>
          <p:cNvPicPr/>
          <p:nvPr/>
        </p:nvPicPr>
        <p:blipFill>
          <a:blip r:embed="rId1">
            <a:alphaModFix amt="81000"/>
          </a:blip>
          <a:stretch/>
        </p:blipFill>
        <p:spPr>
          <a:xfrm>
            <a:off x="790560" y="1825560"/>
            <a:ext cx="63356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4400" y="461520"/>
            <a:ext cx="6267240" cy="611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таши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видую Никит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в полоску свитер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видую Егору –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игрушек гор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видую Сереже -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а Бетмена похожи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видую Андрею –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идит у батаре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видую Наташе –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арелке больше каш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видую Денису –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во сне увидел крысу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видую Олегу –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ий в классе он по бегу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видую Олес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ей так интересно вмест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стала… Помогите!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 зависти спасите!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550800" y="365040"/>
            <a:ext cx="2973600" cy="3826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200" y="4599000"/>
            <a:ext cx="7148520" cy="17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ИСТЬ </a:t>
            </a:r>
            <a:r>
              <a:rPr b="1" lang="ru-RU" sz="3200" spc="-1" strike="noStrike">
                <a:solidFill>
                  <a:srgbClr val="555555"/>
                </a:solidFill>
                <a:latin typeface="Times New Roman"/>
                <a:ea typeface="Times New Roman"/>
              </a:rPr>
              <a:t>- чувство досады, вызванное благополучием, успехом другого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317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 предложения. С помощью баллов (0,3,5) выразите, насколько верны эти высказывания по отношению к вам.</a:t>
            </a:r>
            <a:br>
              <a:rPr sz="1800"/>
            </a:br>
            <a:br>
              <a:rPr sz="13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Если высказывани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еверн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 - поставь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ллов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емножко верно» -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лла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чно про меня»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ллов.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399960" y="2982960"/>
            <a:ext cx="675504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не нравится, когда я встречаю девочку ( мальчика)  красивее ме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я раздражает, если мой одноклассник лучше рассказывает стихотворение, чем 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нравится, когда меня больше всех из класса хвалит учит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: … бал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086600" cy="206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YS Text Optional"/>
              </a:rPr>
              <a:t>«Умейте радоваться победе друга как своей»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YS Text Optional"/>
              </a:rPr>
              <a:t>А.В.Тарас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871560" y="2670120"/>
            <a:ext cx="5715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Лучшее лекарство от зависти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376880" y="2513160"/>
            <a:ext cx="3363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учиться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доваться чужим успеха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4" descr=""/>
          <p:cNvPicPr/>
          <p:nvPr/>
        </p:nvPicPr>
        <p:blipFill>
          <a:blip r:embed="rId1"/>
          <a:stretch/>
        </p:blipFill>
        <p:spPr>
          <a:xfrm>
            <a:off x="204840" y="2370240"/>
            <a:ext cx="427824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8720" y="1730520"/>
            <a:ext cx="7005600" cy="36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таши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 рада за Никиту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в полоску свитер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 рада за Егора –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игрушек горы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 рада за Сережу 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а Бетмена похожи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 рада за Андрея –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идит у батаре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 рада за Наташу –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арелке больше каш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 рада за Дениса –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во сне увидел крысу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 рада за Олега –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ий в классе он по бегу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ак рада за Олесю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ей так интересно вмест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8360" y="1509840"/>
            <a:ext cx="7332840" cy="43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+ТЫ+и МЫ=!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Тамара Ивыгина</cp:lastModifiedBy>
  <dcterms:modified xsi:type="dcterms:W3CDTF">2021-04-16T19:56:25Z</dcterms:modified>
  <cp:revision>10</cp:revision>
  <dc:subject/>
  <dc:title>Название презентации</dc:title>
</cp:coreProperties>
</file>