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A7A51-BB0A-45CA-9AAC-7FFD20DEAB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E09A2-1D9C-4EF7-9B4A-7B04B2CC72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94C5D-EA95-47CB-9BD3-27E65C1431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0C3E-828A-4075-9F6C-ED26EFFCF0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33881-14CD-47C4-AF56-B0C027DD9A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033A5-15C2-4FEF-B5BF-DBC2BE8ABE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08EDD-BD7A-4FD8-A4F9-B84F03D3C5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22F60-9DA9-4035-B3AE-7992E5E78C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3FC7-AF17-47AE-BEFB-E05B023DD9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EAA-A145-445F-8136-588AB991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1D4B-A97F-49BE-9723-89862B6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676-F08E-4736-B86A-DD62F46F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8F4-8C66-43F2-8EDB-77C2A688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B7F-0152-49D2-B98B-B5DEB4BD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ACD-26CB-4D44-BC2D-54399CA7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CEF-7B15-4565-B0BC-449DCC67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0A7-2691-4803-8269-E74CB8F2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D726-49FF-49E7-A349-B0EBC8D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CD7-8C41-49C4-A84D-958B85A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12E-4BA5-4F24-9B43-C7972C97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C51-D08E-4407-8546-F6A57A4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BACB5-8318-4D9D-B8A1-B0B517B7267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9360" y="0"/>
            <a:ext cx="10144440" cy="7667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539640" y="-237960"/>
            <a:ext cx="921708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9000"/>
          </a:bodyPr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езентация к урокам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 повести Н.В.Гоголя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Тарас Бульба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Волуканис Елена Анатольев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ОУ средняя общеобразовательная школа № 27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углублённым изучением литературы, ист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иностранных языко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. И.А.Буни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10080720" cy="766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235080"/>
            <a:ext cx="906768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колай Васильевич Гого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1809 - 185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506520" y="1689120"/>
            <a:ext cx="395604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3"/>
          <a:stretch/>
        </p:blipFill>
        <p:spPr>
          <a:xfrm>
            <a:off x="7327800" y="3274920"/>
            <a:ext cx="2543400" cy="3495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4"/>
          <a:stretch/>
        </p:blipFill>
        <p:spPr>
          <a:xfrm>
            <a:off x="4684680" y="1908000"/>
            <a:ext cx="2876760" cy="20163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5"/>
          <a:stretch/>
        </p:blipFill>
        <p:spPr>
          <a:xfrm>
            <a:off x="4070520" y="5310360"/>
            <a:ext cx="28764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сть «Тарас Бульб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63640" y="1618920"/>
            <a:ext cx="54370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цикл повестей Н.В.Гоголя, куда входит повесть «Тарас Бульб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историческая основа пов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происходят события пов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2"/>
          <a:stretch/>
        </p:blipFill>
        <p:spPr>
          <a:xfrm>
            <a:off x="1341360" y="1763640"/>
            <a:ext cx="2691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рожская С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008000" y="1332000"/>
            <a:ext cx="828036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360" y="539640"/>
            <a:ext cx="9067680" cy="24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кажит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положе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рожск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5059440" y="539640"/>
            <a:ext cx="43686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7800"/>
            <a:ext cx="90676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ко-культурный центр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о. Хор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87280" y="1692360"/>
            <a:ext cx="94330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896080" y="7034040"/>
            <a:ext cx="4003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s://yandex.ru/profile/818948697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719280" y="684360"/>
            <a:ext cx="4752720" cy="2663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4824360" y="1979640"/>
            <a:ext cx="4680000" cy="3097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"/>
          <p:cNvPicPr/>
          <p:nvPr/>
        </p:nvPicPr>
        <p:blipFill>
          <a:blip r:embed="rId3"/>
          <a:stretch/>
        </p:blipFill>
        <p:spPr>
          <a:xfrm>
            <a:off x="826920" y="4168800"/>
            <a:ext cx="453708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153800" cy="7667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е задание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 и нравы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ирательный портрет козака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п и Андрий в Запорожской С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8T14:13:44Z</dcterms:created>
  <dc:creator>User</dc:creator>
  <dc:description/>
  <dc:language>en-US</dc:language>
  <cp:lastModifiedBy>User</cp:lastModifiedBy>
  <dcterms:modified xsi:type="dcterms:W3CDTF">2021-04-16T13:26:04Z</dcterms:modified>
  <cp:revision>32</cp:revision>
  <dc:subject/>
  <dc:title>Презентация PowerPoint</dc:title>
</cp:coreProperties>
</file>