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6D52A-9597-42E2-B4D5-B676FA6466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0609-E85A-44CD-AA18-D99ABD09E6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1ADBC-2AE7-4E50-835B-7BA42EDDDC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3248-3EEC-4E1E-9E36-44CA0C23E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18C5F-A3F7-429E-8947-7F35677DE4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0C3EE-4DBA-4EF0-B88B-B091F26148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FA616-659B-4493-96E3-B77FEB6ED2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8E2FC-8126-4E4F-A8EE-F2D850F903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CD11-84CE-4F82-9938-B3DCF7A1C7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022-A0DA-4E75-8134-53F9E35A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081-9AAC-4E41-81D0-5AE745E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E8D-2C71-445B-8A07-1792D024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741-EA7C-47C9-AAC9-2744ADF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71F-FE95-4CE5-A051-240C3BF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BA8-3A98-4EF3-A288-9EDED070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D58-CD68-4F6C-88B4-4D56B574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C2E-B3B9-4C1D-A354-D3A5CEC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6CD-05ED-4D79-BD97-BF5E0340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2CA-2583-4114-B6C5-622216F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DAB-637C-496F-8BE8-517A0C5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272-BF3C-4EF4-B4A3-18E2420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7B126-F7BB-41F8-BABD-B37BC9BF132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10144440" cy="7667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539640" y="-237960"/>
            <a:ext cx="921708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езентация к урокам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повести Н.В.Гоголя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Тарас Бульба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Волуканис Елена Анатоль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средняя общеобразовательная школа № 27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углублённым изучением литературы, ист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иностранных язык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. И.А.Буни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66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235080"/>
            <a:ext cx="906768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809 - 185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506520" y="1689120"/>
            <a:ext cx="395604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3"/>
          <a:stretch/>
        </p:blipFill>
        <p:spPr>
          <a:xfrm>
            <a:off x="7327800" y="3274920"/>
            <a:ext cx="2543400" cy="3495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4"/>
          <a:stretch/>
        </p:blipFill>
        <p:spPr>
          <a:xfrm>
            <a:off x="4684680" y="1908000"/>
            <a:ext cx="2876760" cy="201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5"/>
          <a:stretch/>
        </p:blipFill>
        <p:spPr>
          <a:xfrm>
            <a:off x="4070520" y="5310360"/>
            <a:ext cx="28764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ь «Тарас Бульб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63640" y="1618920"/>
            <a:ext cx="54370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цикл повестей Н.В.Гоголя, куда входит повесть «Тарас Бульб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историческая основа пов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происходят события пов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1341360" y="1763640"/>
            <a:ext cx="2691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рожская С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008000" y="1332000"/>
            <a:ext cx="828036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539640"/>
            <a:ext cx="9067680" cy="24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кажит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положе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рожск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5059440" y="539640"/>
            <a:ext cx="43686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7800"/>
            <a:ext cx="90676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ко-культурный цент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о. Хор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87280" y="1692360"/>
            <a:ext cx="94330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896080" y="7034040"/>
            <a:ext cx="4003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s://yandex.ru/profile/818948697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719280" y="684360"/>
            <a:ext cx="4752720" cy="2663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4824360" y="1979640"/>
            <a:ext cx="4680000" cy="3097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3"/>
          <a:stretch/>
        </p:blipFill>
        <p:spPr>
          <a:xfrm>
            <a:off x="826920" y="4168800"/>
            <a:ext cx="45370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153800" cy="7667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е задание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 и нравы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ирательный портрет козака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п и Андрий в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8T14:13:44Z</dcterms:created>
  <dc:creator>User</dc:creator>
  <dc:description/>
  <dc:language>en-US</dc:language>
  <cp:lastModifiedBy>User</cp:lastModifiedBy>
  <dcterms:modified xsi:type="dcterms:W3CDTF">2021-04-16T13:26:04Z</dcterms:modified>
  <cp:revision>32</cp:revision>
  <dc:subject/>
  <dc:title>Презентация PowerPoint</dc:title>
</cp:coreProperties>
</file>