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21.jpeg" ContentType="image/jpeg"/>
  <Override PartName="/ppt/media/image16.jpeg" ContentType="image/jpeg"/>
  <Override PartName="/ppt/media/image20.png" ContentType="image/png"/>
  <Override PartName="/ppt/media/image19.jpeg" ContentType="image/jpeg"/>
  <Override PartName="/ppt/media/image5.png" ContentType="image/png"/>
  <Override PartName="/ppt/media/image18.jpeg" ContentType="image/jpeg"/>
  <Override PartName="/ppt/media/image15.jpeg" ContentType="image/jpeg"/>
  <Override PartName="/ppt/media/image3.png" ContentType="image/png"/>
  <Override PartName="/ppt/media/image17.jpeg" ContentType="image/jpeg"/>
  <Override PartName="/ppt/media/image2.png" ContentType="image/png"/>
  <Override PartName="/ppt/media/image4.jpeg" ContentType="image/jpeg"/>
  <Override PartName="/ppt/media/image10.png" ContentType="image/png"/>
  <Override PartName="/ppt/media/image6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B39BD-C7B4-4190-9567-33AE719FB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A0D7B-4C6B-4E7A-AFC3-239637694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D37ED-EAE0-4C73-B58E-9C2D07E94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E97E4-4EFD-4093-86C1-C92F35E04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BA98E-E10B-426D-95D2-AC907A6BC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B84D8-9246-4453-B2DC-11C764C41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98738-C7BF-445C-A182-9E0A7E827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CC5DF-5B68-4F0D-8944-935B08739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6A581-D1B5-4B8A-98CA-4295448E8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A0A52-0AF0-4C7F-A291-25AF03296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5C813-61B0-4CBB-9DFB-C25C850BA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5CE79-FA5B-49CC-86DB-392FEAF34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DA1BF-170F-47C8-8C1B-D5E935C65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E6F71-2DAE-4233-A690-F8E4234F0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ACE0F-5F10-4770-B1CA-02814587E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488EE-A0F1-41DD-B94C-C80594F52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417F9-DCC4-4648-8977-16BCA321C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354271-E4EA-4997-BC31-4F5D88A11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DF17B2-5A53-451B-A8F5-04353FD97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81401F-E275-4AD2-B030-D1BD3C43D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89217C-1583-4C3B-B245-9882F79A0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D5B388-3DC5-403C-B2D1-699AA55A9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A5609-C11A-4B0E-BA22-2ED8967C3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29980F-A65B-43F8-9F3B-4AB2720C2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8B6F84-D59B-489E-97FD-FC8167F1B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BFAA3F-5E35-4F82-A19C-BB76BBB24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4CE1D2-1F1A-48D2-BB30-EA5BDBA02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2B6FB3-6CAE-40EE-9A2F-835E7F1AC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1181D5-C079-4CB5-B646-42A214093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DF274C-D10A-4FC4-8669-239CB2F2A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2BD6C7-8764-4AAC-90FD-DCA51EAEB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7C40D0-3133-4229-BB0A-6BB84F136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D44029-271A-4BF4-AA04-6B0B06436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079EE-FFDD-40CF-84C1-CE75DF03D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63ABE2-9C49-4DBC-B499-6065EFFBE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31FA13-E889-4E78-96A9-095CBD97A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10FB25-5165-4F95-914B-B10B3210F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B75546-8BFF-41D6-A1C6-8AD3EC182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47D3C5-5E14-4D8B-A835-5F2BC720F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970F99-C808-413B-B2A2-A3A44FFF3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6241C1-BEBC-49D0-A631-3787ED4AF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C279C8-6DDD-4DE3-AC37-1B92DB69F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FA7EC2-C98D-4EAC-8B6D-3DA301DE5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B7F94-87B1-43B2-867A-6FCD6DEBC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B7995-1ED8-41C5-9628-1A1A75D9F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B6DB0-B512-4B10-9559-EDDDCE9FC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0B862-0FD8-4FFE-B754-689259FE1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6CFBF-A975-4E57-978C-7DB844033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8696B-92B1-4860-8FE0-097566D1439B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D80AF-5865-4C70-A2F7-0EF3232A00D1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C915E-54BD-4094-8D66-FC46634BB3C3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0D9E5-FF1F-4045-9493-723D459DC457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5" descr="http://www.lama.kz/pic/space/4444/kosmos-1600x1200.jpg"/>
          <p:cNvPicPr/>
          <p:nvPr/>
        </p:nvPicPr>
        <p:blipFill>
          <a:blip r:embed="rId1"/>
          <a:stretch/>
        </p:blipFill>
        <p:spPr>
          <a:xfrm>
            <a:off x="0" y="34920"/>
            <a:ext cx="9144000" cy="6823080"/>
          </a:xfrm>
          <a:prstGeom prst="rect">
            <a:avLst/>
          </a:prstGeom>
          <a:ln w="0">
            <a:noFill/>
          </a:ln>
        </p:spPr>
      </p:pic>
      <p:pic>
        <p:nvPicPr>
          <p:cNvPr id="196" name="Заголовок 1" descr=""/>
          <p:cNvPicPr/>
          <p:nvPr/>
        </p:nvPicPr>
        <p:blipFill>
          <a:blip r:embed="rId2"/>
          <a:stretch/>
        </p:blipFill>
        <p:spPr>
          <a:xfrm>
            <a:off x="822240" y="1206360"/>
            <a:ext cx="7785360" cy="505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4617b"/>
                </a:solidFill>
                <a:latin typeface="Calibri"/>
              </a:rPr>
              <a:t>Посмотри, синие пятна на нашей планете – это вода – моря и океаны. Зеленые пятнышки – это зеленые леса и луга. Коричневые пятна – это горы. Правда она очень красивая, наша планета? А этот небольшой шарик в уголке – это наша Луна!</a:t>
            </a:r>
            <a:endParaRPr b="0" lang="en-US" sz="18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4" name="Picture 5" descr="http://mywidescreenwallpapers.com/wallpapers/various_10/earth_and_the_moon_widescreen_wallpaper_44432.jpg"/>
          <p:cNvPicPr/>
          <p:nvPr/>
        </p:nvPicPr>
        <p:blipFill>
          <a:blip r:embed="rId1"/>
          <a:stretch/>
        </p:blipFill>
        <p:spPr>
          <a:xfrm>
            <a:off x="428760" y="1500120"/>
            <a:ext cx="857232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071720"/>
            <a:ext cx="4114800" cy="47145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4617b"/>
                </a:solidFill>
                <a:latin typeface="Calibri"/>
              </a:rPr>
              <a:t>И вот однажды они решили полететь в космос! К звездам! Прежде чем человек полетел в космос,</a:t>
            </a:r>
            <a:r>
              <a:rPr b="0" lang="en-US" sz="20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4617b"/>
                </a:solidFill>
                <a:latin typeface="Calibri"/>
              </a:rPr>
              <a:t>там</a:t>
            </a:r>
            <a:r>
              <a:rPr b="0" lang="en-US" sz="20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4617b"/>
                </a:solidFill>
                <a:latin typeface="Calibri"/>
              </a:rPr>
              <a:t>побывали животные.</a:t>
            </a:r>
            <a:br>
              <a:rPr sz="2000"/>
            </a:br>
            <a:r>
              <a:rPr b="0" lang="ru-RU" sz="2000" spc="-1" strike="noStrike">
                <a:solidFill>
                  <a:srgbClr val="04617b"/>
                </a:solidFill>
                <a:latin typeface="Calibri"/>
              </a:rPr>
              <a:t>   Первой в космос отправилась  собака Лайка. </a:t>
            </a:r>
            <a:br>
              <a:rPr sz="2000"/>
            </a:br>
            <a:r>
              <a:rPr b="0" lang="ru-RU" sz="2000" spc="-1" strike="noStrike">
                <a:solidFill>
                  <a:srgbClr val="04617b"/>
                </a:solidFill>
                <a:latin typeface="Calibri"/>
              </a:rPr>
              <a:t>    В то время люди ещё очень мало знали о космосе, а космические аппараты ещё не умели возвращать с орбиты. Поэтому Лайка навсегда осталась в космическом пространстве. </a:t>
            </a:r>
            <a:br>
              <a:rPr sz="2000"/>
            </a:b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98" name="Picture 2" descr=""/>
          <p:cNvPicPr/>
          <p:nvPr/>
        </p:nvPicPr>
        <p:blipFill>
          <a:blip r:embed="rId1"/>
          <a:stretch/>
        </p:blipFill>
        <p:spPr>
          <a:xfrm>
            <a:off x="4786200" y="142920"/>
            <a:ext cx="414360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500"/>
            </a:br>
            <a:r>
              <a:rPr b="0" lang="ru-RU" sz="2400" spc="-1" strike="noStrike">
                <a:solidFill>
                  <a:srgbClr val="04617b"/>
                </a:solidFill>
                <a:latin typeface="Calibri"/>
              </a:rPr>
              <a:t>Через 3 года после неудачного  полета собаки Лайки, в космос отправляются уже две собаки – Белка и Стрелка.</a:t>
            </a:r>
            <a:br>
              <a:rPr sz="2400"/>
            </a:br>
            <a:r>
              <a:rPr b="0" lang="ru-RU" sz="2400" spc="-1" strike="noStrike">
                <a:solidFill>
                  <a:srgbClr val="04617b"/>
                </a:solidFill>
                <a:latin typeface="Calibri"/>
              </a:rPr>
              <a:t>     В космосе они пробыли  всего один день и  удачно приземлились на Землю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0" name="Picture 5" descr=""/>
          <p:cNvPicPr/>
          <p:nvPr/>
        </p:nvPicPr>
        <p:blipFill>
          <a:blip r:embed="rId1"/>
          <a:stretch/>
        </p:blipFill>
        <p:spPr>
          <a:xfrm>
            <a:off x="714240" y="2786040"/>
            <a:ext cx="3143520" cy="342900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3" descr=""/>
          <p:cNvPicPr/>
          <p:nvPr/>
        </p:nvPicPr>
        <p:blipFill>
          <a:blip r:embed="rId2"/>
          <a:stretch/>
        </p:blipFill>
        <p:spPr>
          <a:xfrm>
            <a:off x="4286160" y="2786040"/>
            <a:ext cx="383868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4617b"/>
                </a:solidFill>
                <a:latin typeface="Calibri"/>
              </a:rPr>
              <a:t>После удачного полета в космос животных, стала открытой дорога человеку к звёздам. Через 8 месяцев на таком же космическом корабле, на котором летали собаки Белка и Стрелка , в космос отправился и человек.</a:t>
            </a:r>
            <a:endParaRPr b="0" lang="en-US" sz="18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3" name="Picture 4" descr="http://upload.wikimedia.org/wikipedia/commons/7/79/Semyorka_Rocket_R7_by_Sergei_Korolyov_in_VDNH_Ostankino_RAF0540.jpg"/>
          <p:cNvPicPr/>
          <p:nvPr/>
        </p:nvPicPr>
        <p:blipFill>
          <a:blip r:embed="rId1"/>
          <a:stretch/>
        </p:blipFill>
        <p:spPr>
          <a:xfrm>
            <a:off x="395280" y="1785960"/>
            <a:ext cx="3943440" cy="47386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6" descr="http://www.gameru.net/forum/uploads/1302632274/gallery_13942_499_51531.png"/>
          <p:cNvPicPr/>
          <p:nvPr/>
        </p:nvPicPr>
        <p:blipFill>
          <a:blip r:embed="rId2"/>
          <a:stretch/>
        </p:blipFill>
        <p:spPr>
          <a:xfrm>
            <a:off x="4427640" y="1857240"/>
            <a:ext cx="4130640" cy="42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-360" y="189000"/>
            <a:ext cx="8769240" cy="1287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4617b"/>
                </a:solidFill>
                <a:latin typeface="Calibri"/>
              </a:rPr>
              <a:t>Но дело в том, что в космосе очень и очень холодно. Если выйти в космос без специального костюма – можно моментально замерзнуть и превратиться в ледышку. Кроме того – в космосе очень мало воздуха и обычный человек в нем не сможет дышать. Именно поэтому на космонавта, который полетел в космос, одели вот такой скафандр. Скафандр очень теплый и защищает космонавта от холода даже в космосе. Кроме того – в скафандре человек может дышать – он снабжает человека воздухом.</a:t>
            </a:r>
            <a:endParaRPr b="0" lang="en-US" sz="16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6" name="Picture 4" descr="http://upload.wikimedia.org/wikipedia/commons/5/58/Russian_space_suit_3.jpg"/>
          <p:cNvPicPr/>
          <p:nvPr/>
        </p:nvPicPr>
        <p:blipFill>
          <a:blip r:embed="rId1"/>
          <a:stretch/>
        </p:blipFill>
        <p:spPr>
          <a:xfrm>
            <a:off x="324000" y="1751040"/>
            <a:ext cx="3747960" cy="474984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6" descr="http://www.yeniresim.com/data/media/353/www.yeniresim.com_-_Uzay_Resimleri_-_Astronot.jpg"/>
          <p:cNvPicPr/>
          <p:nvPr/>
        </p:nvPicPr>
        <p:blipFill>
          <a:blip r:embed="rId2"/>
          <a:stretch/>
        </p:blipFill>
        <p:spPr>
          <a:xfrm>
            <a:off x="4500720" y="2492280"/>
            <a:ext cx="446400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229600" cy="1071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4617b"/>
                </a:solidFill>
                <a:latin typeface="Calibri"/>
              </a:rPr>
              <a:t>Самым первым космонавтом, который полетел в космос, был Юрий Гагарин</a:t>
            </a:r>
            <a:r>
              <a:rPr b="0" lang="ru-RU" sz="1600" spc="-1" strike="noStrike">
                <a:solidFill>
                  <a:srgbClr val="04617b"/>
                </a:solidFill>
                <a:latin typeface="Calibri"/>
              </a:rPr>
              <a:t>.</a:t>
            </a:r>
            <a:endParaRPr b="0" lang="en-US" sz="1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0" name="Picture 2" descr="http://laertsky.com/talks/arch_for/for/1207736230.jpg"/>
          <p:cNvPicPr/>
          <p:nvPr/>
        </p:nvPicPr>
        <p:blipFill>
          <a:blip r:embed="rId1"/>
          <a:stretch/>
        </p:blipFill>
        <p:spPr>
          <a:xfrm>
            <a:off x="0" y="1928880"/>
            <a:ext cx="5238720" cy="442908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4" descr="http://img15.nnm.ru/d/1/3/d/7/8ea0d6170de703f736c4aabff39_prev.jpg"/>
          <p:cNvPicPr/>
          <p:nvPr/>
        </p:nvPicPr>
        <p:blipFill>
          <a:blip r:embed="rId2"/>
          <a:stretch/>
        </p:blipFill>
        <p:spPr>
          <a:xfrm>
            <a:off x="5219640" y="1643040"/>
            <a:ext cx="3567240" cy="47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4617b"/>
                </a:solidFill>
                <a:latin typeface="Calibri"/>
              </a:rPr>
              <a:t>Когда космонавт сел в ракету, пошел обратный отсчет: «Пять, четыре, три, два, один, ПУСК!». Ракета оторвалась от земли, из ее хвоста вырвался огонь – так сильно работал ее двигатель. И ракета полетела высоко в небо.</a:t>
            </a:r>
            <a:endParaRPr b="0" lang="en-US" sz="1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4" name="Picture 5" descr="http://upload.wikimedia.org/wikipedia/commons/1/14/Proton_Zvezda_crop.jpg"/>
          <p:cNvPicPr/>
          <p:nvPr/>
        </p:nvPicPr>
        <p:blipFill>
          <a:blip r:embed="rId1"/>
          <a:stretch/>
        </p:blipFill>
        <p:spPr>
          <a:xfrm>
            <a:off x="468360" y="1857240"/>
            <a:ext cx="3674880" cy="471492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7" descr="http://img-fotki.yandex.ru/get/6/vibpxhgglzd.5dd/0_1678e_fc028aef_XL"/>
          <p:cNvPicPr/>
          <p:nvPr/>
        </p:nvPicPr>
        <p:blipFill>
          <a:blip r:embed="rId2"/>
          <a:stretch/>
        </p:blipFill>
        <p:spPr>
          <a:xfrm>
            <a:off x="4140360" y="1928880"/>
            <a:ext cx="4574880" cy="47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85840"/>
            <a:ext cx="8229600" cy="12859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4617b"/>
                </a:solidFill>
                <a:latin typeface="Calibri"/>
              </a:rPr>
              <a:t>И вот ракета оказалась в открытом космосе! Вот что космонавты увидели в космосе!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8" name="Picture 5" descr="http://shiryaevpavel.ru/wp-content/uploads/2012/03/qrgax.jpg"/>
          <p:cNvPicPr/>
          <p:nvPr/>
        </p:nvPicPr>
        <p:blipFill>
          <a:blip r:embed="rId1"/>
          <a:stretch/>
        </p:blipFill>
        <p:spPr>
          <a:xfrm>
            <a:off x="324000" y="1714680"/>
            <a:ext cx="8526240" cy="488304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5" descr="http://www.clker.com/cliparts/b/8/5/5/1194989601543022112rocket.svg.hi.png"/>
          <p:cNvPicPr/>
          <p:nvPr/>
        </p:nvPicPr>
        <p:blipFill>
          <a:blip r:embed="rId2"/>
          <a:stretch/>
        </p:blipFill>
        <p:spPr>
          <a:xfrm rot="4447200">
            <a:off x="2558880" y="2643120"/>
            <a:ext cx="655560" cy="65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4617b"/>
                </a:solidFill>
                <a:latin typeface="Calibri"/>
              </a:rPr>
              <a:t>Это – наша планета Земля – мы на ней живем. Как видишь – она круглая – похожа на большой мяч. Наша планета – очень и очень большая. Поэтому мы не замечаем, что она похожа на шар. Но если подняться над землей высоко-высоко – то из космоса мы ее увидим такой, как на этой картинке.</a:t>
            </a:r>
            <a:endParaRPr b="0" lang="en-US" sz="1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2" name="Picture 6" descr="http://www.oboiruneta.ru/images/stories/dg_originals/4317AE587EE3-17.jpg"/>
          <p:cNvPicPr/>
          <p:nvPr/>
        </p:nvPicPr>
        <p:blipFill>
          <a:blip r:embed="rId1"/>
          <a:stretch/>
        </p:blipFill>
        <p:spPr>
          <a:xfrm>
            <a:off x="395280" y="1857240"/>
            <a:ext cx="8462880" cy="47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7T17:36:35Z</dcterms:created>
  <dc:creator>Administratore</dc:creator>
  <dc:description/>
  <dc:language>en-US</dc:language>
  <cp:lastModifiedBy>Intel</cp:lastModifiedBy>
  <dcterms:modified xsi:type="dcterms:W3CDTF">2021-04-16T10:30:19Z</dcterms:modified>
  <cp:revision>21</cp:revision>
  <dc:subject/>
  <dc:title>Слайд 1</dc:title>
</cp:coreProperties>
</file>