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AD0-A8EF-402E-B3BB-2703959F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C66-3C22-400A-9718-27C8783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1E2-23DF-4DF8-98C6-5648BBF5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60C-4E2C-4D43-8671-A04CE68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666-9F34-4644-B102-DF368E50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C901-C53D-438F-8A3E-CF46190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F03D-493F-4B17-8CBD-A885DD7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6BB8-EDA0-4A6F-85EC-0404F6B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7081-902C-48FA-AC81-309642E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10D-EAB6-42FD-87F9-9FEA1BE7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7B9-5253-4CAF-A175-8600F3E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2D8-2900-40CD-9FA2-34BAFBE0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952-2E10-4B22-B097-91166A8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1A89-A926-41C7-BEC2-DC7833D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3892-110F-4F57-B5AD-651E6E5A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D0C7-CF5F-44A0-A5E5-74381EDA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A237-E14B-4D49-9319-3585B830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3933-46BF-41EB-AAE3-920E4A51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BA26-03B5-457B-957C-4CAAF1F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7672-A6AD-44EE-8FE0-AF771E1E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DAEE-6924-4FE3-9F25-B8E32B7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6BF1-531E-44B8-A31A-1C7235C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06B-1714-4EB0-B3F3-0417851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573A-CC11-4412-8536-DE616833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4992-F1FA-4510-8D98-7A5A3AC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2E8E-B3FB-40F4-8AF2-80897AA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27D1-6ED7-4A84-BBDD-14A30D5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AADC-54D3-4C53-A6ED-89C12EE1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E196-D668-4DD3-9D4D-6860302B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0CA2-3395-4296-ADD0-E45971A2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2A15-D726-4E90-B43A-9BBBE99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5014-0BC9-4986-A56E-1B124C1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3FC5-0810-4F4D-BC69-E299E28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782-CFE2-407B-BB07-C563406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F93E9-09E0-40D3-859B-3B350E7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B4FF-F3A4-477B-A251-DDE078F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E25B-BB8A-41F1-BD67-12B64CE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C3DA-6F6E-445F-A30D-D40DF83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3DB6-075F-4345-A6D5-5E56A58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49F6-8832-4C96-B1D8-DEA11B7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38B0-5C4A-42C7-B71C-4D082BCC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736C-A5EB-4D8C-8FD8-D6BE0DD9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6F26-D51E-4E91-B8BC-2BDA57E3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6E1-F10B-4378-A837-7B005DBD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B6B-F662-443F-B311-8BB8E014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7DF-95B3-41F0-BABF-8A66F65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FD7-1157-4AED-A9AD-3F4F43C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6C6-3221-4E17-BCDC-29025BB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841-CF0C-47FA-920E-A23D23057DC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DC2-7C74-4E7A-B57D-37D61FFA84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55F-E1CB-418A-8153-E4B05B07983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CCF-AA9F-4211-9A71-C8879567121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822240" y="1206360"/>
            <a:ext cx="77853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428760" y="150012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4114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И вот однажды они решили полететь в космос! К звездам! Прежде чем человек полетел в космос,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м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обывали животные.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Первой в космос отправилась  собака Лайка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786200" y="142920"/>
            <a:ext cx="4143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 В космосе они пробыли  всего один день и  удачно приземлились на Землю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14240" y="2786040"/>
            <a:ext cx="3143520" cy="342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286160" y="2786040"/>
            <a:ext cx="3838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785960"/>
            <a:ext cx="3943440" cy="473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1857240"/>
            <a:ext cx="4130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747960" cy="4749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500720" y="2492280"/>
            <a:ext cx="446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http://laertsky.com/talks/arch_for/for/1207736230.jpg"/>
          <p:cNvPicPr/>
          <p:nvPr/>
        </p:nvPicPr>
        <p:blipFill>
          <a:blip r:embed="rId1"/>
          <a:stretch/>
        </p:blipFill>
        <p:spPr>
          <a:xfrm>
            <a:off x="0" y="1928880"/>
            <a:ext cx="5238720" cy="4429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5219640" y="1643040"/>
            <a:ext cx="3567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857240"/>
            <a:ext cx="3674880" cy="471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928880"/>
            <a:ext cx="45748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714680"/>
            <a:ext cx="8526240" cy="488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857240"/>
            <a:ext cx="84628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Intel</cp:lastModifiedBy>
  <dcterms:modified xsi:type="dcterms:W3CDTF">2021-04-16T10:30:19Z</dcterms:modified>
  <cp:revision>21</cp:revision>
  <dc:subject/>
  <dc:title>Слайд 1</dc:title>
</cp:coreProperties>
</file>