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B62-4383-4B7A-A937-6BE50B46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598-35AD-4D62-81E2-127A01C3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BDA6-FAFD-4686-A15E-5F11BE33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D02-5F25-4DA6-AEA3-F3046AB1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ADE4-0CA0-4C0B-8F24-077C58EB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91B4-D7CA-472E-BC8D-7446E804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4779-A661-4E4A-9213-949D45B4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F1FC-CF65-4094-B503-E24C4D83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FD28-ADA5-4B73-9922-EC4A9B28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9888-FB0A-4F4D-8159-0ADA8FB4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50F6-1805-4750-AC00-FFAE320E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456-A08A-48F4-9FF5-BFA0EBDA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9196-083B-4BCA-96C4-21521ACF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403B-A058-47B5-AAA1-7B0AFC8A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30F6-7B83-4E0C-A79D-7867AA24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45EB-E7C7-433B-8AF3-B5CDBF4A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32FB-2A4B-45E4-AFDE-7EAC4FC9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9716-9511-4B92-9D2B-6F7A908E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1B13-A41F-4457-9CD6-6FC5BC7D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AFF8-AF91-42B6-B167-208C41B7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5B17-E9BC-4EE5-AD93-2B886067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8C54-8B44-4425-BDB3-97D7F168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940-C268-460B-B939-07339D7F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6425-0249-40A8-AAA5-D3B4AC2D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01A24-A761-4411-8D14-95998AEB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173B-8EC2-4167-8340-2DD7EE77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63E3B-FD19-4DC3-A4E4-1BE5E3DC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00900-57EF-451B-9314-DDB1F65C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927E-4ED5-4D1C-A226-D0411D90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FEFD-D412-4672-A3D2-39EA0FD0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401A4-E4A4-4907-8752-E3BD9565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76D9-4D9D-41EA-B2D4-D633A8C2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5670-9C29-46D1-957E-30C5C5EB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2E3-B3A0-47E1-BAC8-280EB394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0A835-CB90-49C0-AA16-0646C239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4265B-AE7B-4F65-BB36-1784624E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56B2-1C7D-482C-83BC-ED180DED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8E59D-B6E7-4DD0-9CE3-E4FB2AF1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8C39A-500F-465E-BAAA-C340B63E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7E3D6-46D8-4E1C-86D0-02260555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105C-426A-4E0D-9F17-390FFF69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8A2D-B212-4469-A2A8-4590A1C0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55E5-911D-4242-9186-582705DA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6D15E-4487-4274-A7D4-EAF52958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0D7-E20F-4935-990A-02309C1E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002DF-9875-4D8D-BA56-ED81224F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DD4CE-C07B-4A4C-AA31-4F2F7ED6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8444B-8116-41AD-9792-50085685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372A-EDDE-49FC-BEE4-BA07C98E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7B7E7-A326-43B5-AADE-BDBD91E3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F460D-55EB-446D-8E44-EFA51173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41EA4-0353-471A-B4F9-1A95AFC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7970B-D101-4690-8CDF-871E2DF5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DCA4C-9B70-43D8-B804-A1FAC86B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6A07-BE50-4F42-ACC5-639C0D15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74F-8F4C-40A7-8E87-3BAF7FAB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65D5C-4D55-4F61-BE94-6EEA722F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96A2-1DCC-4E29-BDE3-E224CF9E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BD7F9-9E5D-4BB3-BC6A-67C66945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C9C32-A186-4435-B72C-18A57CBD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E65F9-E8D4-4939-9B87-3213858B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365BD-B88A-4535-BD20-774EF6FB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A368-1570-4416-B4D4-95C756B7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A69E-BA57-4097-9C3E-108FDD50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9F2F7-3F67-4792-BEE7-16305005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F6BFE-8123-4E20-968D-A0FFEC81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1EC-3BC3-4F5D-A8CF-F664195A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1E99F-EC83-4B28-BAE8-5C8D0630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59BD0-6E95-4E7D-AF34-3EC0B05F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A0D33-378B-4EA7-AB9D-BB1A07B4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E2F12-9786-4435-907C-76BE116F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80EAD-23A9-4FB0-934F-599891A4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9611E-29EF-46DC-8CEA-6A88722E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12C43-7713-4FCC-B950-0F54720D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3681F-4906-4931-843A-90094008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C1BA5-DB48-4268-895A-18064B51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21F9F-F5FD-4E7D-AE2B-7A6A6FC0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F38-5EE3-4998-B87B-966CC7A5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9C825-EB88-4C3E-8B01-F69660A2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44B64-254C-4837-8E46-6DB93DC9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5F0F5-EDD2-4AC6-9196-FFAFD204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38927-21CF-47B9-9DF1-67158B3A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AE4A6-2214-4A4B-87B4-661D2ADB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9E83A-7143-4C6E-9800-DF5A827C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D49DF-34DD-41FC-88C8-3E1BDF55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248C8-58DC-410B-B44E-6BD25D1D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7B396-9BC5-47EA-8AFE-C8D8DBBC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75C21-5A4B-457C-AC75-3C54B1A1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8F2-5A1C-4E79-8C1E-3EC6589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21DD7-AF62-48B6-B6DF-497EC264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AC056-8CED-447A-8DA8-D4346CDB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54186-C64C-4FAE-A8CC-4A01373A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C9AC4-E1DA-4291-A619-B52F5F92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15380-57A8-4AB6-90D9-D90EB9EB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90888-A499-4E36-AC2A-067C470E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39F38-7236-477B-A0CF-AFB58C36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844F-7A2E-4901-B0BD-AB6F9287C0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AEFC-010C-463C-B400-0CE0C438F6C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B2FA-12F2-47D8-BAB3-9D187941C3E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4918-CEF8-47AE-A5E6-AB803DA5D85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4852-9FAD-4656-99C7-986AF98CC3E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0CD5-28FE-42C9-8044-48A73A10040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4A26-6EF2-41D8-93FD-5E5A442D037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CDED-4011-41D0-B16D-FFCF2B84A40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6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3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4"/>
          <p:cNvSpPr/>
          <p:nvPr/>
        </p:nvSpPr>
        <p:spPr>
          <a:xfrm>
            <a:off x="2627280" y="1825560"/>
            <a:ext cx="56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Возрастная периодиз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Д.Б. Элько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одзаголовок 2"/>
          <p:cNvSpPr/>
          <p:nvPr/>
        </p:nvSpPr>
        <p:spPr>
          <a:xfrm>
            <a:off x="2050920" y="47628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ЮДЖЕТНОЕ ПРОФЕССИОНА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ХАНТЫ-МАНСИЙСКОГО АВТОНОМНОГО ОКРУГА - ЮГР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«СУРГУТСКИЙ МУЗЫКАЛЬНЫЙ КОЛЛЕДЖ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одзаголовок 2"/>
          <p:cNvSpPr/>
          <p:nvPr/>
        </p:nvSpPr>
        <p:spPr>
          <a:xfrm>
            <a:off x="1979640" y="558972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Молчанова Наталья Георги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Педагог-псих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преподаватель перво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04040"/>
                </a:solidFill>
                <a:latin typeface="Arial"/>
                <a:ea typeface="Arial"/>
              </a:rPr>
              <a:t>БУ «Сургутский музыкальный колледж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Список литерату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08000" y="1125000"/>
            <a:ext cx="6778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бухова Л. Ф. Возрастная психология. Учебное пособие - М.: Педагогическое общество России. - 1999 - 442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3300"/>
                </a:solidFill>
                <a:latin typeface="Arial"/>
              </a:rPr>
              <a:t>Выготский Л. С. Вопросы детской психологии. — СПб., 1997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Эльконин Б. Д.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Детская психология. М., 19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сихология детей дошкольного возраста/Под ред. А. В. Запорожца, Д. Б. Эльконина. М., 196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сихология личности и деятельности дошкольника/Под ред. А. В. Запорожца, Д. Б. Эльконина. М., 196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озрастные особенности младших подростков/Под ред. Д. Б. Эльконина. М., 1967.</a:t>
            </a:r>
            <a:r>
              <a:rPr b="0" lang="ru-RU" sz="2400" spc="-1" strike="noStrike">
                <a:solidFill>
                  <a:srgbClr val="e45a1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48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6778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ериоды возрастн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195640" y="1409400"/>
            <a:ext cx="39607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Л.С. Выго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новорожд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младенческий возраст (2мес.-1г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аннее детство (1год-3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дошкольный возраст (3-7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школьный возраст (8-12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1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убертатный возраст (14-18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1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012000" y="1438200"/>
            <a:ext cx="3132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.Б. Элько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младший школьный возраст (6-1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11-12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дростковое детство (10-16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ризис 17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юношество (16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38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6778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Три основных показателя психического развития по Д.Б. Элькон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69948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аждый возраст, или период характеризуется следующими показател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пределённой социальной ситуацией развития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или той конкретной формой отношений, в которые вступает ребенок со взрослыми в данный пери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сновным и ведущим типом деятельности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(существует несколько разных типов деятельности, которые характеризуют определенные периоды детского развит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сновными психическими новообразованиями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(в каждом периоде они существуют от отдельных психических процессов до свойств лич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393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07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Ведущие виды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979280" y="1557000"/>
            <a:ext cx="698508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о характеру изменения ведущих типов деятельности ребенка в разных ситуациях его  развития, т.е. на деятельностной основе, Д.Б.Эльконин определил и возрастные периоды психического развития и шесть ведущих видов (типов)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епосредственно-эмоциональное общение со взросл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редметно-манипулятив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олевая иг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чеб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нтимно-личностное об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чебно-профессиональ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39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Системы отно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292360" y="1557360"/>
            <a:ext cx="34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груп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«ребенок - общественный предм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2) предметно-манипулятив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4) учебн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6) учебно-професс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2123640" y="1557360"/>
            <a:ext cx="30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«ребенок - общественный взросл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1) непосредственно-эмоциональное общ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3) ролевая иг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5) интимно-личностное общение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4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3300"/>
                </a:solidFill>
                <a:latin typeface="Arial"/>
              </a:rPr>
              <a:t>Кризи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08000" y="1773000"/>
            <a:ext cx="67788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ротиворечия, расхождения между тем, что усвоено в разных системах отно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41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Oval 4"/>
          <p:cNvSpPr/>
          <p:nvPr/>
        </p:nvSpPr>
        <p:spPr>
          <a:xfrm>
            <a:off x="2268360" y="1628640"/>
            <a:ext cx="4753080" cy="3745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3548160" y="1979640"/>
            <a:ext cx="21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ущ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9"/>
          <p:cNvSpPr/>
          <p:nvPr/>
        </p:nvSpPr>
        <p:spPr>
          <a:xfrm flipV="1">
            <a:off x="2411280" y="3141720"/>
            <a:ext cx="4449960" cy="1404720"/>
          </a:xfrm>
          <a:prstGeom prst="ellipse">
            <a:avLst/>
          </a:prstGeom>
          <a:solidFill>
            <a:srgbClr val="e45a1c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3132000" y="35002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5076720" y="3500280"/>
            <a:ext cx="12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туация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8"/>
          <p:cNvGrpSpPr/>
          <p:nvPr/>
        </p:nvGrpSpPr>
        <p:grpSpPr>
          <a:xfrm>
            <a:off x="826920" y="1413000"/>
            <a:ext cx="1009440" cy="863640"/>
            <a:chOff x="826920" y="1413000"/>
            <a:chExt cx="1009440" cy="863640"/>
          </a:xfrm>
        </p:grpSpPr>
        <p:sp>
          <p:nvSpPr>
            <p:cNvPr id="421" name="Oval 15"/>
            <p:cNvSpPr/>
            <p:nvPr/>
          </p:nvSpPr>
          <p:spPr>
            <a:xfrm>
              <a:off x="826920" y="141300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6"/>
            <p:cNvSpPr/>
            <p:nvPr/>
          </p:nvSpPr>
          <p:spPr>
            <a:xfrm>
              <a:off x="1044360" y="170028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19"/>
          <p:cNvGrpSpPr/>
          <p:nvPr/>
        </p:nvGrpSpPr>
        <p:grpSpPr>
          <a:xfrm>
            <a:off x="755640" y="4724280"/>
            <a:ext cx="1009440" cy="863640"/>
            <a:chOff x="755640" y="4724280"/>
            <a:chExt cx="1009440" cy="863640"/>
          </a:xfrm>
        </p:grpSpPr>
        <p:sp>
          <p:nvSpPr>
            <p:cNvPr id="424" name="Oval 20"/>
            <p:cNvSpPr/>
            <p:nvPr/>
          </p:nvSpPr>
          <p:spPr>
            <a:xfrm>
              <a:off x="755640" y="472428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1"/>
            <p:cNvSpPr/>
            <p:nvPr/>
          </p:nvSpPr>
          <p:spPr>
            <a:xfrm>
              <a:off x="973080" y="501156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22"/>
          <p:cNvGrpSpPr/>
          <p:nvPr/>
        </p:nvGrpSpPr>
        <p:grpSpPr>
          <a:xfrm>
            <a:off x="7164360" y="5157720"/>
            <a:ext cx="1009440" cy="863640"/>
            <a:chOff x="7164360" y="5157720"/>
            <a:chExt cx="1009440" cy="863640"/>
          </a:xfrm>
        </p:grpSpPr>
        <p:sp>
          <p:nvSpPr>
            <p:cNvPr id="427" name="Oval 23"/>
            <p:cNvSpPr/>
            <p:nvPr/>
          </p:nvSpPr>
          <p:spPr>
            <a:xfrm>
              <a:off x="7164360" y="515772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4"/>
            <p:cNvSpPr/>
            <p:nvPr/>
          </p:nvSpPr>
          <p:spPr>
            <a:xfrm>
              <a:off x="7381800" y="544500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25"/>
          <p:cNvGrpSpPr/>
          <p:nvPr/>
        </p:nvGrpSpPr>
        <p:grpSpPr>
          <a:xfrm>
            <a:off x="4140360" y="5805360"/>
            <a:ext cx="1009440" cy="863640"/>
            <a:chOff x="4140360" y="5805360"/>
            <a:chExt cx="1009440" cy="863640"/>
          </a:xfrm>
        </p:grpSpPr>
        <p:sp>
          <p:nvSpPr>
            <p:cNvPr id="430" name="Oval 26"/>
            <p:cNvSpPr/>
            <p:nvPr/>
          </p:nvSpPr>
          <p:spPr>
            <a:xfrm>
              <a:off x="4140360" y="580536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27"/>
            <p:cNvSpPr/>
            <p:nvPr/>
          </p:nvSpPr>
          <p:spPr>
            <a:xfrm>
              <a:off x="4357800" y="609264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8"/>
          <p:cNvGrpSpPr/>
          <p:nvPr/>
        </p:nvGrpSpPr>
        <p:grpSpPr>
          <a:xfrm>
            <a:off x="7380360" y="1268280"/>
            <a:ext cx="1009440" cy="863640"/>
            <a:chOff x="7380360" y="1268280"/>
            <a:chExt cx="1009440" cy="863640"/>
          </a:xfrm>
        </p:grpSpPr>
        <p:sp>
          <p:nvSpPr>
            <p:cNvPr id="433" name="Oval 29"/>
            <p:cNvSpPr/>
            <p:nvPr/>
          </p:nvSpPr>
          <p:spPr>
            <a:xfrm>
              <a:off x="7380360" y="126828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7597800" y="155556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31"/>
          <p:cNvGrpSpPr/>
          <p:nvPr/>
        </p:nvGrpSpPr>
        <p:grpSpPr>
          <a:xfrm>
            <a:off x="4140360" y="260280"/>
            <a:ext cx="1009440" cy="863640"/>
            <a:chOff x="4140360" y="260280"/>
            <a:chExt cx="1009440" cy="863640"/>
          </a:xfrm>
        </p:grpSpPr>
        <p:sp>
          <p:nvSpPr>
            <p:cNvPr id="436" name="Oval 32"/>
            <p:cNvSpPr/>
            <p:nvPr/>
          </p:nvSpPr>
          <p:spPr>
            <a:xfrm>
              <a:off x="4140360" y="260280"/>
              <a:ext cx="1009440" cy="863640"/>
            </a:xfrm>
            <a:prstGeom prst="ellipse">
              <a:avLst/>
            </a:prstGeom>
            <a:solidFill>
              <a:srgbClr val="d82b0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33"/>
            <p:cNvSpPr/>
            <p:nvPr/>
          </p:nvSpPr>
          <p:spPr>
            <a:xfrm>
              <a:off x="4357800" y="547560"/>
              <a:ext cx="576360" cy="368280"/>
            </a:xfrm>
            <a:prstGeom prst="rect">
              <a:avLst/>
            </a:prstGeom>
            <a:solidFill>
              <a:srgbClr val="d82b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AutoShape 34"/>
          <p:cNvSpPr/>
          <p:nvPr/>
        </p:nvSpPr>
        <p:spPr>
          <a:xfrm rot="19834800">
            <a:off x="1542960" y="4274640"/>
            <a:ext cx="1079640" cy="720720"/>
          </a:xfrm>
          <a:prstGeom prst="leftArrow">
            <a:avLst>
              <a:gd name="adj1" fmla="val 50000"/>
              <a:gd name="adj2" fmla="val 37450"/>
            </a:avLst>
          </a:prstGeom>
          <a:solidFill>
            <a:srgbClr val="bfe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5"/>
          <p:cNvSpPr/>
          <p:nvPr/>
        </p:nvSpPr>
        <p:spPr>
          <a:xfrm rot="5400000">
            <a:off x="4392360" y="1017360"/>
            <a:ext cx="50508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fe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36"/>
          <p:cNvSpPr/>
          <p:nvPr/>
        </p:nvSpPr>
        <p:spPr>
          <a:xfrm rot="13312200">
            <a:off x="6443280" y="4581360"/>
            <a:ext cx="1008000" cy="720720"/>
          </a:xfrm>
          <a:prstGeom prst="leftArrow">
            <a:avLst>
              <a:gd name="adj1" fmla="val 50000"/>
              <a:gd name="adj2" fmla="val 34965"/>
            </a:avLst>
          </a:prstGeom>
          <a:solidFill>
            <a:srgbClr val="bfe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37"/>
          <p:cNvSpPr/>
          <p:nvPr/>
        </p:nvSpPr>
        <p:spPr>
          <a:xfrm rot="8386800">
            <a:off x="6587280" y="1916280"/>
            <a:ext cx="1008360" cy="720720"/>
          </a:xfrm>
          <a:prstGeom prst="leftArrow">
            <a:avLst>
              <a:gd name="adj1" fmla="val 50000"/>
              <a:gd name="adj2" fmla="val 34978"/>
            </a:avLst>
          </a:prstGeom>
          <a:solidFill>
            <a:srgbClr val="bfe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8"/>
          <p:cNvSpPr/>
          <p:nvPr/>
        </p:nvSpPr>
        <p:spPr>
          <a:xfrm rot="16200000">
            <a:off x="4429080" y="5228640"/>
            <a:ext cx="43164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fe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39"/>
          <p:cNvSpPr/>
          <p:nvPr/>
        </p:nvSpPr>
        <p:spPr>
          <a:xfrm rot="2003400">
            <a:off x="1623600" y="1989000"/>
            <a:ext cx="1000080" cy="720720"/>
          </a:xfrm>
          <a:prstGeom prst="leftArrow">
            <a:avLst>
              <a:gd name="adj1" fmla="val 50000"/>
              <a:gd name="adj2" fmla="val 34690"/>
            </a:avLst>
          </a:prstGeom>
          <a:solidFill>
            <a:srgbClr val="bfeeb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Заголовок 1"/>
          <p:cNvGrpSpPr/>
          <p:nvPr/>
        </p:nvGrpSpPr>
        <p:grpSpPr>
          <a:xfrm>
            <a:off x="55440" y="-19080"/>
            <a:ext cx="1797120" cy="6889680"/>
            <a:chOff x="55440" y="-19080"/>
            <a:chExt cx="1797120" cy="6889680"/>
          </a:xfrm>
        </p:grpSpPr>
        <p:pic>
          <p:nvPicPr>
            <p:cNvPr id="44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9080"/>
              <a:ext cx="179712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73080" y="0"/>
              <a:ext cx="1763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08000" y="260280"/>
          <a:ext cx="6435720" cy="6122880"/>
        </p:xfrm>
        <a:graphic>
          <a:graphicData uri="http://schemas.openxmlformats.org/drawingml/2006/table">
            <a:tbl>
              <a:tblPr/>
              <a:tblGrid>
                <a:gridCol w="1574640"/>
                <a:gridCol w="1214640"/>
                <a:gridCol w="1216080"/>
                <a:gridCol w="1214280"/>
                <a:gridCol w="121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e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Ведущ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e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Криз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e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НО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e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eb4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Младенчество (0 – 1 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Раннее детство (1 – 3 год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Дошкольное 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(3 – 6 л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Младший шко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(6 – 10 л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Подростковый ( 10 – 16 л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Юноше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(16 – 21 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f94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9" name="Text Box 68"/>
          <p:cNvSpPr/>
          <p:nvPr/>
        </p:nvSpPr>
        <p:spPr>
          <a:xfrm>
            <a:off x="2700360" y="1197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9"/>
          <p:cNvSpPr/>
          <p:nvPr/>
        </p:nvSpPr>
        <p:spPr>
          <a:xfrm>
            <a:off x="1547640" y="1125360"/>
            <a:ext cx="14400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Непосредств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но эмоциональное 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0"/>
          <p:cNvSpPr/>
          <p:nvPr/>
        </p:nvSpPr>
        <p:spPr>
          <a:xfrm>
            <a:off x="347184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1"/>
          <p:cNvSpPr/>
          <p:nvPr/>
        </p:nvSpPr>
        <p:spPr>
          <a:xfrm>
            <a:off x="1763640" y="2205000"/>
            <a:ext cx="122400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Предметно-манипуля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2"/>
          <p:cNvSpPr/>
          <p:nvPr/>
        </p:nvSpPr>
        <p:spPr>
          <a:xfrm>
            <a:off x="1692360" y="3068640"/>
            <a:ext cx="1150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3"/>
          <p:cNvSpPr/>
          <p:nvPr/>
        </p:nvSpPr>
        <p:spPr>
          <a:xfrm>
            <a:off x="1476360" y="3716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4"/>
          <p:cNvSpPr/>
          <p:nvPr/>
        </p:nvSpPr>
        <p:spPr>
          <a:xfrm>
            <a:off x="1619280" y="3860640"/>
            <a:ext cx="1295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Учеб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5"/>
          <p:cNvSpPr/>
          <p:nvPr/>
        </p:nvSpPr>
        <p:spPr>
          <a:xfrm>
            <a:off x="1763640" y="4797360"/>
            <a:ext cx="100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Интимно-личностное 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6"/>
          <p:cNvSpPr/>
          <p:nvPr/>
        </p:nvSpPr>
        <p:spPr>
          <a:xfrm>
            <a:off x="1763640" y="566100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Учебно-профессиона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77"/>
          <p:cNvSpPr/>
          <p:nvPr/>
        </p:nvSpPr>
        <p:spPr>
          <a:xfrm>
            <a:off x="2916360" y="134136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Новорожд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8"/>
          <p:cNvSpPr/>
          <p:nvPr/>
        </p:nvSpPr>
        <p:spPr>
          <a:xfrm>
            <a:off x="2916360" y="220500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Детская эмансип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9"/>
          <p:cNvSpPr/>
          <p:nvPr/>
        </p:nvSpPr>
        <p:spPr>
          <a:xfrm>
            <a:off x="2844360" y="299736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Я – 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(кризис 3-х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0"/>
          <p:cNvSpPr/>
          <p:nvPr/>
        </p:nvSpPr>
        <p:spPr>
          <a:xfrm>
            <a:off x="2843280" y="3716280"/>
            <a:ext cx="115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Потеря натуральных форм 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1"/>
          <p:cNvSpPr/>
          <p:nvPr/>
        </p:nvSpPr>
        <p:spPr>
          <a:xfrm>
            <a:off x="2843280" y="4797360"/>
            <a:ext cx="12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Кризис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2"/>
          <p:cNvSpPr/>
          <p:nvPr/>
        </p:nvSpPr>
        <p:spPr>
          <a:xfrm>
            <a:off x="2987640" y="566100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Кризис само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3"/>
          <p:cNvSpPr/>
          <p:nvPr/>
        </p:nvSpPr>
        <p:spPr>
          <a:xfrm>
            <a:off x="4211640" y="1268280"/>
            <a:ext cx="9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Базовое доверие к мир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4"/>
          <p:cNvSpPr/>
          <p:nvPr/>
        </p:nvSpPr>
        <p:spPr>
          <a:xfrm>
            <a:off x="4067280" y="2133720"/>
            <a:ext cx="122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5"/>
          <p:cNvSpPr/>
          <p:nvPr/>
        </p:nvSpPr>
        <p:spPr>
          <a:xfrm>
            <a:off x="4140360" y="2924280"/>
            <a:ext cx="117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Инициатива, выбор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6"/>
          <p:cNvSpPr/>
          <p:nvPr/>
        </p:nvSpPr>
        <p:spPr>
          <a:xfrm>
            <a:off x="4067280" y="378936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Рефлексия, планирование,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7"/>
          <p:cNvSpPr/>
          <p:nvPr/>
        </p:nvSpPr>
        <p:spPr>
          <a:xfrm>
            <a:off x="4140360" y="4797360"/>
            <a:ext cx="1150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Онтологическая децен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8"/>
          <p:cNvSpPr/>
          <p:nvPr/>
        </p:nvSpPr>
        <p:spPr>
          <a:xfrm>
            <a:off x="4067280" y="55897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Способность к самоопред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9"/>
          <p:cNvSpPr/>
          <p:nvPr/>
        </p:nvSpPr>
        <p:spPr>
          <a:xfrm>
            <a:off x="5435640" y="1268280"/>
            <a:ext cx="10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Базовое недоверие к ми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0"/>
          <p:cNvSpPr/>
          <p:nvPr/>
        </p:nvSpPr>
        <p:spPr>
          <a:xfrm>
            <a:off x="5435640" y="206064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Стыд, сомнение, отсутствие в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1"/>
          <p:cNvSpPr/>
          <p:nvPr/>
        </p:nvSpPr>
        <p:spPr>
          <a:xfrm>
            <a:off x="5219640" y="2997360"/>
            <a:ext cx="136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Формирование постоянного чувства в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2"/>
          <p:cNvSpPr/>
          <p:nvPr/>
        </p:nvSpPr>
        <p:spPr>
          <a:xfrm>
            <a:off x="5292720" y="3716280"/>
            <a:ext cx="12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Чувство неполноценности, некомпетен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3"/>
          <p:cNvSpPr/>
          <p:nvPr/>
        </p:nvSpPr>
        <p:spPr>
          <a:xfrm>
            <a:off x="5364000" y="4724280"/>
            <a:ext cx="11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Речевое смешение, неприятие, не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4"/>
          <p:cNvSpPr/>
          <p:nvPr/>
        </p:nvSpPr>
        <p:spPr>
          <a:xfrm>
            <a:off x="5292720" y="551664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Неспособность к самоопред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Заголовок 1"/>
          <p:cNvGrpSpPr/>
          <p:nvPr/>
        </p:nvGrpSpPr>
        <p:grpSpPr>
          <a:xfrm>
            <a:off x="7291440" y="12600"/>
            <a:ext cx="1865160" cy="6888240"/>
            <a:chOff x="7291440" y="12600"/>
            <a:chExt cx="1865160" cy="6888240"/>
          </a:xfrm>
        </p:grpSpPr>
        <p:pic>
          <p:nvPicPr>
            <p:cNvPr id="47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291440" y="12600"/>
              <a:ext cx="186516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7308720" y="25560"/>
              <a:ext cx="1835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746604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1908000" y="475920"/>
            <a:ext cx="684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ризис – необходимый этап разви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 каждом этапе развития решаются свои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Эти задачи необходимы, чтобы определить и конкретизировать цели, предмет и результат педагогического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Заголовок 1"/>
          <p:cNvGrpSpPr/>
          <p:nvPr/>
        </p:nvGrpSpPr>
        <p:grpSpPr>
          <a:xfrm>
            <a:off x="55440" y="-12600"/>
            <a:ext cx="1865520" cy="6883200"/>
            <a:chOff x="55440" y="-12600"/>
            <a:chExt cx="1865520" cy="6883200"/>
          </a:xfrm>
        </p:grpSpPr>
        <p:pic>
          <p:nvPicPr>
            <p:cNvPr id="48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55440" y="-12600"/>
              <a:ext cx="18655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73080" y="0"/>
              <a:ext cx="1834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Picture 3" descr="D:\мероприятия\!логотип СМК\логотип (орган).png"/>
          <p:cNvPicPr/>
          <p:nvPr/>
        </p:nvPicPr>
        <p:blipFill>
          <a:blip r:embed="rId2"/>
          <a:stretch/>
        </p:blipFill>
        <p:spPr>
          <a:xfrm>
            <a:off x="250920" y="189000"/>
            <a:ext cx="1522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8:10Z</dcterms:created>
  <dc:creator>PC</dc:creator>
  <dc:description/>
  <dc:language>en-US</dc:language>
  <cp:lastModifiedBy>Молчанова Наталья</cp:lastModifiedBy>
  <dcterms:modified xsi:type="dcterms:W3CDTF">2021-03-26T09:05:05Z</dcterms:modified>
  <cp:revision>18</cp:revision>
  <dc:subject/>
  <dc:title>Возрастная периодизация Д.Б. Эльконина</dc:title>
</cp:coreProperties>
</file>