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5C2-5135-4DEB-9404-B0EF26E7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13E-95A7-4A45-8C55-070198B6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10E-C108-4D88-ACEF-C613C245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328-09EC-49F5-9EF5-6B7D25F7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0CAE-25BD-4F24-8CB0-19AAA8D0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B83C-2762-4B03-AC8B-3557171B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4A5F-29D9-4D2C-B51C-505EE9E4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7D60-4BDA-4B9B-9162-25F17DEE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F6D1-0BCD-4A07-AA1E-1CFE5686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CE63-8DBF-49B1-A25B-4FA8DD26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3526-E0C1-426B-8212-68C13777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8E5-E6AA-4291-AFAD-FF83DE7B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FFA1-7BED-4D1F-B0FC-0DE66B8A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5565-68D7-47E0-A986-C6E943C8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A3DE-16AF-4417-8F2B-3179C1EB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A2C3-C779-44FE-A900-6DD3727B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8FC0-2606-4E1F-8353-6169E9CA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43EB-1CDA-44C4-AB3E-4957E81C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CE4F-DD76-4AE5-89C0-B2ABB58E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A4D4-9E11-4B88-9501-7FDE939A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D7439-813E-4333-A11E-C137504A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B8B5-844D-4513-8A31-0ED2C4E6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548-1A05-4D89-B753-1C3D8493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2D78-9074-4177-93AE-34FADA82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3492-6555-4AA3-A5EC-30131FF7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04F0-77F9-4934-A511-94CDBC7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5A74-D7F9-4CC8-A054-A969EBD8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21B7-8FA8-4FF9-A4A5-75C40F8F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1F85-1469-470C-BF01-379B417D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5115-ECF3-4EB9-A401-0A2995C0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DE4B4-EBDC-4523-AE85-051BC2BD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69A4-5101-4C4E-8422-AF907A54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EC87C-89E1-4865-BAB8-162775A6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D8A-26F8-4282-A414-695CA351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C84E9-138C-489A-9B0F-EB4DA410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F9D14-636A-4134-9A95-EAE8886A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0C11-5CA0-48F5-B274-AF923233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1FE8-57A9-4B9E-BBE0-C6C5D799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79227-6788-422D-AE1A-AAA8FEAC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D674-063E-4D1D-B35E-096198C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5DC05-B617-48F5-9976-DBFDDBA7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213D-067A-484C-94B5-964B0269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6EEA-DF35-43BB-B102-94350B48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849F6-40BB-4365-98EC-5A14D13E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29D-CA26-40FD-9D61-79B037B4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933E6-70A5-4908-AB73-FCB4A17D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AFA7-5A29-44FB-9F14-F6D52115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904BB-7AC5-4E3B-AAB8-DE4255F8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0AFD5-A244-4ADB-9E3C-2B2D3BD9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389E3-1886-4EBB-A847-5AF9E503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40FE7-4EC6-42AB-B683-DB2788DA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9E860-F1C9-4625-A1C0-5CBBE8B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9205E-846A-42E7-8994-AB81E51D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67A74-7546-4E0F-8A3E-40E17414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17A77-03D8-45D8-A7DB-7998A9BA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42B-48C5-4FBE-B998-834349CD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5CE6-CF43-4AC0-843B-CF01D337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0CE8B-1A18-4BD6-8D68-4C296B23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22450-32F6-404A-842E-126FC039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4F413-92BD-4EFB-A186-CE6D8E96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B803A-CBB8-43D6-86EF-3F521C8B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09027-9560-4158-A7F1-2A48161C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D5745-E174-4589-BD85-E664339B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3733F-EAA4-4A62-A8E0-09795FC9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6454E-326D-4BBF-B0D9-C0DB5A0A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E04B4-E7FD-4010-97A2-ADF580F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71B-3F69-42BA-82F4-1AFC329C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CCF8E-3717-4865-8A78-4FD77ADC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492EC-52A3-4B2A-9CE0-6D9809BB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84217-3D2E-4FED-B99A-36B0DCA5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D1F9C-CC3A-4371-9EA3-83D325DA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13BC1-1279-4985-9E39-4F30130F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493FF-76FE-417F-90DF-E952B0A4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A565B-43EF-4681-AAF7-3DC8F028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0DC8B-E23E-43D5-892A-62251993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7833-7818-4528-95D0-C6497308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9699F-6BC0-4956-A4C2-C463A1F7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593-3D8E-49B9-B0BB-591E1C46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5E1A3-5EAA-48CB-9696-0C315C68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006B8-9D05-46E0-81CC-3D419B61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A9A31-29ED-4C7A-8709-9FB4AA33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86680-3AC8-4239-9102-6F9C107D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941E0-20F2-478F-97EA-008D7C60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35BD6-8206-4EA5-B2CF-EF3CAC0B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D38CD-F130-456F-9EE1-08C09E0E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8E4C6-3969-4A0D-B3B9-7C5CCC4C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91BB3-6AA2-4E89-8422-DED579A2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F7450-5C2C-451F-8E6E-04140186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245-D1A9-4875-A906-EB26FA6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782E6-FACE-4084-82C7-71F4CF0E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ECF82-9426-4B08-8A47-47EA0A3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7AA2C-BC0A-4A36-A07E-63BBEE76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29A17-1E12-47BF-82D6-985B9F8C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B220D-F01D-410F-9913-E3A6EE81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DBD7B-6C22-4B57-A01D-8277B6BB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5F02B-23A0-4003-82AC-CE88ACA0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AF81-2E35-4BD8-AF3F-AE972F8E50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D0E3-2145-4013-977F-03DB271B8C6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31F-6203-4C7F-B824-174F0F78DF8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11CB-EE35-4FC7-A8F8-6913C475F0A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6530-4446-4660-80CB-48C57117BBB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9AF3-7283-4EC3-B4C2-E2BD9C1A93E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6629-E03B-494D-A099-E8E134E3268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40AB-474C-4761-8762-311F4F571BB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6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3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4"/>
          <p:cNvSpPr/>
          <p:nvPr/>
        </p:nvSpPr>
        <p:spPr>
          <a:xfrm>
            <a:off x="2627280" y="1825560"/>
            <a:ext cx="56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Возрастная периодиз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Д.Б. Элько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одзаголовок 2"/>
          <p:cNvSpPr/>
          <p:nvPr/>
        </p:nvSpPr>
        <p:spPr>
          <a:xfrm>
            <a:off x="2050920" y="47628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НОЕ ПРОФЕССИОНА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ХАНТЫ-МАНСИЙСКОГО АВТОНОМНОГО ОКРУГА - ЮГР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«СУРГУТСКИЙ МУЗЫКАЛЬНЫЙ КОЛЛЕДЖ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одзаголовок 2"/>
          <p:cNvSpPr/>
          <p:nvPr/>
        </p:nvSpPr>
        <p:spPr>
          <a:xfrm>
            <a:off x="1979640" y="558972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Молчанова Наталья Георги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Педагог-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преподаватель перво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БУ «Сургутский музыкальный колледж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Список литерату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08000" y="1125000"/>
            <a:ext cx="6778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ухова Л. Ф. Возрастная психология. Учебное пособие - М.: Педагогическое общество России. - 1999 - 442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3300"/>
                </a:solidFill>
                <a:latin typeface="Arial"/>
              </a:rPr>
              <a:t>Выготский Л. С. Вопросы детской психологии. — СПб., 1997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Эльконин Б. Д.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Детская психология. М., 19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сихология детей дошкольного возраста/Под ред. А. В. Запорожца, Д. Б. Эльконина. М., 196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сихология личности и деятельности дошкольника/Под ред. А. В. Запорожца, Д. Б. Эльконина. М., 196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озрастные особенности младших подростков/Под ред. Д. Б. Эльконина. М., 1967.</a:t>
            </a:r>
            <a:r>
              <a:rPr b="0" lang="ru-RU" sz="2400" spc="-1" strike="noStrike">
                <a:solidFill>
                  <a:srgbClr val="e45a1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48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6778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ериоды возрастн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195640" y="1409400"/>
            <a:ext cx="39607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Л.С. Выго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новорожд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младенческий возраст (2мес.-1г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аннее детство (1год-3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дошкольный возраст (3-7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школьный возраст (8-12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1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убертатный возраст (14-18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1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012000" y="1438200"/>
            <a:ext cx="3132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.Б. Элько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младший школьный возраст (6-1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11-12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дростковое детство (10-16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17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юношество (16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38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6778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Три основных показателя психического развития по Д.Б. Элькон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69948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аждый возраст, или период характеризуется следующими показател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пределённой социальной ситуацией развития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или той конкретной формой отношений, в которые вступает ребенок со взрослыми в данный пери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сновным и ведущим типом деятельности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(существует несколько разных типов деятельности, которые характеризуют определенные периоды детского развит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сновными психическими новообразованиями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(в каждом периоде они существуют от отдельных психических процессов до свойств лич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3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07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Ведущие виды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979280" y="1557000"/>
            <a:ext cx="69850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о характеру изменения ведущих типов деятельности ребенка в разных ситуациях его  развития, т.е. на деятельностной основе, Д.Б.Эльконин определил и возрастные периоды психического развития и шесть ведущих видов (типов)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епосредственно-эмоциональное общение со взросл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редметно-манипулятив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олевая иг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чеб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нтимно-личностное об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чебно-профессиона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39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Системы отно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292360" y="1557360"/>
            <a:ext cx="34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груп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«ребенок - общественный предм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2) предметно-манипулятив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4) учеб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6) учебно-професс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123640" y="1557360"/>
            <a:ext cx="30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«ребенок - общественный взросл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1) непосредственно-эмоциональное общ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3) ролевая иг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5) интимно-личностное общение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4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3300"/>
                </a:solidFill>
                <a:latin typeface="Arial"/>
              </a:rPr>
              <a:t>Кризи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08000" y="1773000"/>
            <a:ext cx="67788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ротиворечия, расхождения между тем, что усвоено в разных системах отно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41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Oval 4"/>
          <p:cNvSpPr/>
          <p:nvPr/>
        </p:nvSpPr>
        <p:spPr>
          <a:xfrm>
            <a:off x="2268360" y="1628640"/>
            <a:ext cx="4753080" cy="3745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3548160" y="197964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ущ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9"/>
          <p:cNvSpPr/>
          <p:nvPr/>
        </p:nvSpPr>
        <p:spPr>
          <a:xfrm flipV="1">
            <a:off x="2411280" y="3141720"/>
            <a:ext cx="4449960" cy="1404720"/>
          </a:xfrm>
          <a:prstGeom prst="ellipse">
            <a:avLst/>
          </a:prstGeom>
          <a:solidFill>
            <a:srgbClr val="e45a1c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3132000" y="35002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5076720" y="3500280"/>
            <a:ext cx="12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туация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8"/>
          <p:cNvGrpSpPr/>
          <p:nvPr/>
        </p:nvGrpSpPr>
        <p:grpSpPr>
          <a:xfrm>
            <a:off x="826920" y="1413000"/>
            <a:ext cx="1009440" cy="863640"/>
            <a:chOff x="826920" y="1413000"/>
            <a:chExt cx="1009440" cy="863640"/>
          </a:xfrm>
        </p:grpSpPr>
        <p:sp>
          <p:nvSpPr>
            <p:cNvPr id="421" name="Oval 15"/>
            <p:cNvSpPr/>
            <p:nvPr/>
          </p:nvSpPr>
          <p:spPr>
            <a:xfrm>
              <a:off x="826920" y="141300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6"/>
            <p:cNvSpPr/>
            <p:nvPr/>
          </p:nvSpPr>
          <p:spPr>
            <a:xfrm>
              <a:off x="1044360" y="170028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19"/>
          <p:cNvGrpSpPr/>
          <p:nvPr/>
        </p:nvGrpSpPr>
        <p:grpSpPr>
          <a:xfrm>
            <a:off x="755640" y="4724280"/>
            <a:ext cx="1009440" cy="863640"/>
            <a:chOff x="755640" y="4724280"/>
            <a:chExt cx="1009440" cy="863640"/>
          </a:xfrm>
        </p:grpSpPr>
        <p:sp>
          <p:nvSpPr>
            <p:cNvPr id="424" name="Oval 20"/>
            <p:cNvSpPr/>
            <p:nvPr/>
          </p:nvSpPr>
          <p:spPr>
            <a:xfrm>
              <a:off x="755640" y="472428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1"/>
            <p:cNvSpPr/>
            <p:nvPr/>
          </p:nvSpPr>
          <p:spPr>
            <a:xfrm>
              <a:off x="973080" y="501156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2"/>
          <p:cNvGrpSpPr/>
          <p:nvPr/>
        </p:nvGrpSpPr>
        <p:grpSpPr>
          <a:xfrm>
            <a:off x="7164360" y="5157720"/>
            <a:ext cx="1009440" cy="863640"/>
            <a:chOff x="7164360" y="5157720"/>
            <a:chExt cx="1009440" cy="863640"/>
          </a:xfrm>
        </p:grpSpPr>
        <p:sp>
          <p:nvSpPr>
            <p:cNvPr id="427" name="Oval 23"/>
            <p:cNvSpPr/>
            <p:nvPr/>
          </p:nvSpPr>
          <p:spPr>
            <a:xfrm>
              <a:off x="7164360" y="515772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4"/>
            <p:cNvSpPr/>
            <p:nvPr/>
          </p:nvSpPr>
          <p:spPr>
            <a:xfrm>
              <a:off x="7381800" y="544500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25"/>
          <p:cNvGrpSpPr/>
          <p:nvPr/>
        </p:nvGrpSpPr>
        <p:grpSpPr>
          <a:xfrm>
            <a:off x="4140360" y="5805360"/>
            <a:ext cx="1009440" cy="863640"/>
            <a:chOff x="4140360" y="5805360"/>
            <a:chExt cx="1009440" cy="863640"/>
          </a:xfrm>
        </p:grpSpPr>
        <p:sp>
          <p:nvSpPr>
            <p:cNvPr id="430" name="Oval 26"/>
            <p:cNvSpPr/>
            <p:nvPr/>
          </p:nvSpPr>
          <p:spPr>
            <a:xfrm>
              <a:off x="4140360" y="580536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27"/>
            <p:cNvSpPr/>
            <p:nvPr/>
          </p:nvSpPr>
          <p:spPr>
            <a:xfrm>
              <a:off x="4357800" y="609264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8"/>
          <p:cNvGrpSpPr/>
          <p:nvPr/>
        </p:nvGrpSpPr>
        <p:grpSpPr>
          <a:xfrm>
            <a:off x="7380360" y="1268280"/>
            <a:ext cx="1009440" cy="863640"/>
            <a:chOff x="7380360" y="1268280"/>
            <a:chExt cx="1009440" cy="863640"/>
          </a:xfrm>
        </p:grpSpPr>
        <p:sp>
          <p:nvSpPr>
            <p:cNvPr id="433" name="Oval 29"/>
            <p:cNvSpPr/>
            <p:nvPr/>
          </p:nvSpPr>
          <p:spPr>
            <a:xfrm>
              <a:off x="7380360" y="126828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7597800" y="155556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31"/>
          <p:cNvGrpSpPr/>
          <p:nvPr/>
        </p:nvGrpSpPr>
        <p:grpSpPr>
          <a:xfrm>
            <a:off x="4140360" y="260280"/>
            <a:ext cx="1009440" cy="863640"/>
            <a:chOff x="4140360" y="260280"/>
            <a:chExt cx="1009440" cy="863640"/>
          </a:xfrm>
        </p:grpSpPr>
        <p:sp>
          <p:nvSpPr>
            <p:cNvPr id="436" name="Oval 32"/>
            <p:cNvSpPr/>
            <p:nvPr/>
          </p:nvSpPr>
          <p:spPr>
            <a:xfrm>
              <a:off x="4140360" y="26028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33"/>
            <p:cNvSpPr/>
            <p:nvPr/>
          </p:nvSpPr>
          <p:spPr>
            <a:xfrm>
              <a:off x="4357800" y="54756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AutoShape 34"/>
          <p:cNvSpPr/>
          <p:nvPr/>
        </p:nvSpPr>
        <p:spPr>
          <a:xfrm rot="19834800">
            <a:off x="1542960" y="4274640"/>
            <a:ext cx="1079640" cy="720720"/>
          </a:xfrm>
          <a:prstGeom prst="leftArrow">
            <a:avLst>
              <a:gd name="adj1" fmla="val 50000"/>
              <a:gd name="adj2" fmla="val 37450"/>
            </a:avLst>
          </a:prstGeom>
          <a:solidFill>
            <a:srgbClr val="bfe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5"/>
          <p:cNvSpPr/>
          <p:nvPr/>
        </p:nvSpPr>
        <p:spPr>
          <a:xfrm rot="5400000">
            <a:off x="4392360" y="1017360"/>
            <a:ext cx="50508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fe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36"/>
          <p:cNvSpPr/>
          <p:nvPr/>
        </p:nvSpPr>
        <p:spPr>
          <a:xfrm rot="13312200">
            <a:off x="6443280" y="4581360"/>
            <a:ext cx="1008000" cy="720720"/>
          </a:xfrm>
          <a:prstGeom prst="leftArrow">
            <a:avLst>
              <a:gd name="adj1" fmla="val 50000"/>
              <a:gd name="adj2" fmla="val 34965"/>
            </a:avLst>
          </a:prstGeom>
          <a:solidFill>
            <a:srgbClr val="bfe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37"/>
          <p:cNvSpPr/>
          <p:nvPr/>
        </p:nvSpPr>
        <p:spPr>
          <a:xfrm rot="8386800">
            <a:off x="6587280" y="1916280"/>
            <a:ext cx="1008360" cy="720720"/>
          </a:xfrm>
          <a:prstGeom prst="leftArrow">
            <a:avLst>
              <a:gd name="adj1" fmla="val 50000"/>
              <a:gd name="adj2" fmla="val 34978"/>
            </a:avLst>
          </a:prstGeom>
          <a:solidFill>
            <a:srgbClr val="bfe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8"/>
          <p:cNvSpPr/>
          <p:nvPr/>
        </p:nvSpPr>
        <p:spPr>
          <a:xfrm rot="16200000">
            <a:off x="4429080" y="5228640"/>
            <a:ext cx="43164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fe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39"/>
          <p:cNvSpPr/>
          <p:nvPr/>
        </p:nvSpPr>
        <p:spPr>
          <a:xfrm rot="2003400">
            <a:off x="1623600" y="1989000"/>
            <a:ext cx="1000080" cy="720720"/>
          </a:xfrm>
          <a:prstGeom prst="leftArrow">
            <a:avLst>
              <a:gd name="adj1" fmla="val 50000"/>
              <a:gd name="adj2" fmla="val 34690"/>
            </a:avLst>
          </a:prstGeom>
          <a:solidFill>
            <a:srgbClr val="bfeeb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Заголовок 1"/>
          <p:cNvGrpSpPr/>
          <p:nvPr/>
        </p:nvGrpSpPr>
        <p:grpSpPr>
          <a:xfrm>
            <a:off x="55440" y="-19080"/>
            <a:ext cx="1797120" cy="6889680"/>
            <a:chOff x="55440" y="-19080"/>
            <a:chExt cx="1797120" cy="6889680"/>
          </a:xfrm>
        </p:grpSpPr>
        <p:pic>
          <p:nvPicPr>
            <p:cNvPr id="44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9080"/>
              <a:ext cx="179712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73080" y="0"/>
              <a:ext cx="1763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08000" y="260280"/>
          <a:ext cx="6435720" cy="6122880"/>
        </p:xfrm>
        <a:graphic>
          <a:graphicData uri="http://schemas.openxmlformats.org/drawingml/2006/table">
            <a:tbl>
              <a:tblPr/>
              <a:tblGrid>
                <a:gridCol w="1574640"/>
                <a:gridCol w="1214640"/>
                <a:gridCol w="1216080"/>
                <a:gridCol w="1214280"/>
                <a:gridCol w="121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e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Ведущ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e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Криз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e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НО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e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eb4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Младенчество (0 – 1 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Раннее детство (1 – 3 год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Дошкольное 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(3 – 6 л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Младший шко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(6 – 10 л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одростковый ( 10 – 16 л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Юноше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(16 – 21 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9" name="Text Box 68"/>
          <p:cNvSpPr/>
          <p:nvPr/>
        </p:nvSpPr>
        <p:spPr>
          <a:xfrm>
            <a:off x="2700360" y="1197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9"/>
          <p:cNvSpPr/>
          <p:nvPr/>
        </p:nvSpPr>
        <p:spPr>
          <a:xfrm>
            <a:off x="1547640" y="1125360"/>
            <a:ext cx="14400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Непосредств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но эмоциональное 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0"/>
          <p:cNvSpPr/>
          <p:nvPr/>
        </p:nvSpPr>
        <p:spPr>
          <a:xfrm>
            <a:off x="347184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1"/>
          <p:cNvSpPr/>
          <p:nvPr/>
        </p:nvSpPr>
        <p:spPr>
          <a:xfrm>
            <a:off x="1763640" y="2205000"/>
            <a:ext cx="122400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Предметно-манипуля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2"/>
          <p:cNvSpPr/>
          <p:nvPr/>
        </p:nvSpPr>
        <p:spPr>
          <a:xfrm>
            <a:off x="1692360" y="3068640"/>
            <a:ext cx="1150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3"/>
          <p:cNvSpPr/>
          <p:nvPr/>
        </p:nvSpPr>
        <p:spPr>
          <a:xfrm>
            <a:off x="1476360" y="3716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4"/>
          <p:cNvSpPr/>
          <p:nvPr/>
        </p:nvSpPr>
        <p:spPr>
          <a:xfrm>
            <a:off x="1619280" y="3860640"/>
            <a:ext cx="1295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Учеб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5"/>
          <p:cNvSpPr/>
          <p:nvPr/>
        </p:nvSpPr>
        <p:spPr>
          <a:xfrm>
            <a:off x="1763640" y="4797360"/>
            <a:ext cx="100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Интимно-личностное 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6"/>
          <p:cNvSpPr/>
          <p:nvPr/>
        </p:nvSpPr>
        <p:spPr>
          <a:xfrm>
            <a:off x="1763640" y="566100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Учебно-профессиона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7"/>
          <p:cNvSpPr/>
          <p:nvPr/>
        </p:nvSpPr>
        <p:spPr>
          <a:xfrm>
            <a:off x="2916360" y="134136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Новорожд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8"/>
          <p:cNvSpPr/>
          <p:nvPr/>
        </p:nvSpPr>
        <p:spPr>
          <a:xfrm>
            <a:off x="2916360" y="220500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Детская эмансип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9"/>
          <p:cNvSpPr/>
          <p:nvPr/>
        </p:nvSpPr>
        <p:spPr>
          <a:xfrm>
            <a:off x="2844360" y="299736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Я – 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(кризис 3-х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0"/>
          <p:cNvSpPr/>
          <p:nvPr/>
        </p:nvSpPr>
        <p:spPr>
          <a:xfrm>
            <a:off x="2843280" y="3716280"/>
            <a:ext cx="115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Потеря натуральных форм 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1"/>
          <p:cNvSpPr/>
          <p:nvPr/>
        </p:nvSpPr>
        <p:spPr>
          <a:xfrm>
            <a:off x="2843280" y="479736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Кризис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2"/>
          <p:cNvSpPr/>
          <p:nvPr/>
        </p:nvSpPr>
        <p:spPr>
          <a:xfrm>
            <a:off x="2987640" y="566100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Кризис само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3"/>
          <p:cNvSpPr/>
          <p:nvPr/>
        </p:nvSpPr>
        <p:spPr>
          <a:xfrm>
            <a:off x="4211640" y="1268280"/>
            <a:ext cx="9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Базовое доверие к мир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4"/>
          <p:cNvSpPr/>
          <p:nvPr/>
        </p:nvSpPr>
        <p:spPr>
          <a:xfrm>
            <a:off x="4067280" y="2133720"/>
            <a:ext cx="122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5"/>
          <p:cNvSpPr/>
          <p:nvPr/>
        </p:nvSpPr>
        <p:spPr>
          <a:xfrm>
            <a:off x="4140360" y="2924280"/>
            <a:ext cx="117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Инициатива, выбор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6"/>
          <p:cNvSpPr/>
          <p:nvPr/>
        </p:nvSpPr>
        <p:spPr>
          <a:xfrm>
            <a:off x="4067280" y="378936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Рефлексия, планирование,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7"/>
          <p:cNvSpPr/>
          <p:nvPr/>
        </p:nvSpPr>
        <p:spPr>
          <a:xfrm>
            <a:off x="4140360" y="4797360"/>
            <a:ext cx="1150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Онтологическая децен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8"/>
          <p:cNvSpPr/>
          <p:nvPr/>
        </p:nvSpPr>
        <p:spPr>
          <a:xfrm>
            <a:off x="4067280" y="5589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Способность к самоопред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9"/>
          <p:cNvSpPr/>
          <p:nvPr/>
        </p:nvSpPr>
        <p:spPr>
          <a:xfrm>
            <a:off x="5435640" y="1268280"/>
            <a:ext cx="10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Базовое недоверие к ми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0"/>
          <p:cNvSpPr/>
          <p:nvPr/>
        </p:nvSpPr>
        <p:spPr>
          <a:xfrm>
            <a:off x="5435640" y="206064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Стыд, сомнение, отсутствие в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1"/>
          <p:cNvSpPr/>
          <p:nvPr/>
        </p:nvSpPr>
        <p:spPr>
          <a:xfrm>
            <a:off x="5219640" y="2997360"/>
            <a:ext cx="136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Формирование постоянного чувства в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2"/>
          <p:cNvSpPr/>
          <p:nvPr/>
        </p:nvSpPr>
        <p:spPr>
          <a:xfrm>
            <a:off x="5292720" y="3716280"/>
            <a:ext cx="12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Чувство неполноценности, некомпетен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3"/>
          <p:cNvSpPr/>
          <p:nvPr/>
        </p:nvSpPr>
        <p:spPr>
          <a:xfrm>
            <a:off x="5364000" y="4724280"/>
            <a:ext cx="11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Речевое смешение, неприятие, не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4"/>
          <p:cNvSpPr/>
          <p:nvPr/>
        </p:nvSpPr>
        <p:spPr>
          <a:xfrm>
            <a:off x="5292720" y="551664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Неспособность к самоопред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Заголовок 1"/>
          <p:cNvGrpSpPr/>
          <p:nvPr/>
        </p:nvGrpSpPr>
        <p:grpSpPr>
          <a:xfrm>
            <a:off x="7291440" y="12600"/>
            <a:ext cx="1865160" cy="6888240"/>
            <a:chOff x="7291440" y="12600"/>
            <a:chExt cx="1865160" cy="6888240"/>
          </a:xfrm>
        </p:grpSpPr>
        <p:pic>
          <p:nvPicPr>
            <p:cNvPr id="4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291440" y="12600"/>
              <a:ext cx="186516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7308720" y="2556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746604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1908000" y="475920"/>
            <a:ext cx="684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ризис – необходимый этап разви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 каждом этапе развития решаются свои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Эти задачи необходимы, чтобы определить и конкретизировать цели, предмет и результат педагогического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48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8:10Z</dcterms:created>
  <dc:creator>PC</dc:creator>
  <dc:description/>
  <dc:language>en-US</dc:language>
  <cp:lastModifiedBy>Молчанова Наталья</cp:lastModifiedBy>
  <dcterms:modified xsi:type="dcterms:W3CDTF">2021-03-26T09:05:05Z</dcterms:modified>
  <cp:revision>18</cp:revision>
  <dc:subject/>
  <dc:title>Возрастная периодизация Д.Б. Эльконина</dc:title>
</cp:coreProperties>
</file>